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F26E-A07D-4D47-AF28-201303B5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CDDA-04D8-47FA-8958-EB5C324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6682-0E67-4318-9140-1A7209DC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5360-EEDC-4F79-8E6A-F331E0C0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936-2712-42A5-8357-7137F72C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7FBB-5FCF-4418-BE87-9D16DEC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21D9-1514-4B07-B99A-C70BF2B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0387-F279-470B-94A0-C61194F0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18A-B9D2-4F1C-B379-8CD65EB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F2E6-9B69-4540-B91E-88C8F6B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C29-95BF-4F56-BB7E-64FA3E9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B59D-05CE-41ED-A849-BEFFDCFA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25E-E2F8-4129-BEC0-B165299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87FD-5060-4724-8B99-C2B2AA7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62C-3199-4AF7-9C19-E2C7157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8F0-25F2-430C-8E6F-2D4D27A3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3517-218D-4CFC-8451-E0B1359E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96D3-B140-4B86-9A3F-D862F0C5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7C95-32DC-451C-8E3D-91DEE51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4A16-C6A3-4175-A4A3-BC93EE5D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F45E-F6CD-485F-91C9-7B81E99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4000-8D8A-4791-81F5-56F5FA1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DEE8-8F89-4AC0-9130-D0B3D4A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B803-FF65-48A7-8688-1E291B1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0D66-57E1-49B4-BE83-4826F83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B555-BA40-4F65-908B-BE3C3F7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F192-E903-44AD-8973-6A8A062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DD16-ADF9-4377-8514-2CD623C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9123-D437-424F-817B-4C9202C2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6415-CE44-4FD5-979C-653A7E99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510B-36C1-4746-88BD-DF8A1D2D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F050-767B-4742-83B4-911816C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FFD6-1C64-43D5-B047-DBD5BB0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3F93-D483-4416-A852-164DC6C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1BD7-6517-451E-AD8E-5DC8938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9CF2-6256-42E6-A861-0D8CE4A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9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2b166e"/>
              </a:gs>
              <a:gs pos="100000">
                <a:srgbClr val="458f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" name="图片 1091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EB2-C4C5-4749-8EF6-5AA83B515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50844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8" name="直接连接符 1092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7D1D-2FFD-4125-8A5F-099B9FCB78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AE4-6B3D-4F85-B699-5E32CCB6DE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13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2b166e"/>
              </a:gs>
              <a:gs pos="100000">
                <a:srgbClr val="458f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" name="文本框 3135"/>
          <p:cNvSpPr/>
          <p:nvPr/>
        </p:nvSpPr>
        <p:spPr>
          <a:xfrm>
            <a:off x="30492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C71-50D4-4B37-BB4F-67E7B319C927}" type="slidenum">
              <a:rPr b="0" lang="en-US" sz="1400" spc="-1" strike="noStrike">
                <a:solidFill>
                  <a:srgbClr val="2b166e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343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欧美风格商务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2b166e"/>
                </a:solidFill>
                <a:latin typeface="Verdana"/>
              </a:rPr>
              <a:t>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53337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组合 70696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307" name="圆角矩形 70657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圆角矩形 70658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圆角矩形 70659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燕尾形 70661"/>
            <p:cNvSpPr/>
            <p:nvPr/>
          </p:nvSpPr>
          <p:spPr>
            <a:xfrm>
              <a:off x="3151080" y="207180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1" name="燕尾形 70662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2" name="椭圆 70663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3" name="椭圆 70664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4" name="椭圆 70665"/>
            <p:cNvSpPr/>
            <p:nvPr/>
          </p:nvSpPr>
          <p:spPr>
            <a:xfrm>
              <a:off x="633240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5" name="椭圆 70666"/>
            <p:cNvSpPr/>
            <p:nvPr/>
          </p:nvSpPr>
          <p:spPr>
            <a:xfrm>
              <a:off x="6357960" y="15717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6" name="椭圆 70667"/>
            <p:cNvSpPr/>
            <p:nvPr/>
          </p:nvSpPr>
          <p:spPr>
            <a:xfrm>
              <a:off x="6411960" y="163512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7" name="椭圆 70668"/>
            <p:cNvSpPr/>
            <p:nvPr/>
          </p:nvSpPr>
          <p:spPr>
            <a:xfrm>
              <a:off x="1295280" y="14479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c9bb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8" name="椭圆 70669"/>
            <p:cNvSpPr/>
            <p:nvPr/>
          </p:nvSpPr>
          <p:spPr>
            <a:xfrm>
              <a:off x="1295280" y="14479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9" name="椭圆 70670"/>
            <p:cNvSpPr/>
            <p:nvPr/>
          </p:nvSpPr>
          <p:spPr>
            <a:xfrm>
              <a:off x="1406520" y="15573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a5467"/>
                </a:gs>
                <a:gs pos="50000">
                  <a:srgbClr val="6c9bbe"/>
                </a:gs>
                <a:gs pos="100000">
                  <a:srgbClr val="3a54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0" name="椭圆 70671"/>
            <p:cNvSpPr/>
            <p:nvPr/>
          </p:nvSpPr>
          <p:spPr>
            <a:xfrm>
              <a:off x="1407960" y="15606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56279"/>
                </a:gs>
                <a:gs pos="100000">
                  <a:srgbClr val="6c9bb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1" name="椭圆 70672"/>
            <p:cNvSpPr/>
            <p:nvPr/>
          </p:nvSpPr>
          <p:spPr>
            <a:xfrm>
              <a:off x="1481040" y="163188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2" name="组合 70673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323" name="椭圆 70674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4" name="椭圆 70675"/>
              <p:cNvSpPr/>
              <p:nvPr/>
            </p:nvSpPr>
            <p:spPr>
              <a:xfrm>
                <a:off x="1518120" y="165780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5" name="椭圆 70676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6" name="椭圆 70677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27" name="椭圆 70678"/>
            <p:cNvSpPr/>
            <p:nvPr/>
          </p:nvSpPr>
          <p:spPr>
            <a:xfrm>
              <a:off x="3759120" y="145260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58f8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8" name="椭圆 70679"/>
            <p:cNvSpPr/>
            <p:nvPr/>
          </p:nvSpPr>
          <p:spPr>
            <a:xfrm>
              <a:off x="3759120" y="145260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32156"/>
                  </a:srgbClr>
                </a:gs>
                <a:gs pos="100000">
                  <a:srgbClr val="204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9" name="椭圆 70680"/>
            <p:cNvSpPr/>
            <p:nvPr/>
          </p:nvSpPr>
          <p:spPr>
            <a:xfrm>
              <a:off x="38703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0" name="椭圆 70681"/>
            <p:cNvSpPr/>
            <p:nvPr/>
          </p:nvSpPr>
          <p:spPr>
            <a:xfrm>
              <a:off x="3871800" y="15652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c5b5b"/>
                </a:gs>
                <a:gs pos="100000">
                  <a:srgbClr val="458f8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1" name="椭圆 70682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32" name="组合 70683"/>
            <p:cNvGrpSpPr/>
            <p:nvPr/>
          </p:nvGrpSpPr>
          <p:grpSpPr>
            <a:xfrm>
              <a:off x="3965400" y="1650960"/>
              <a:ext cx="1290960" cy="1278000"/>
              <a:chOff x="3965400" y="1650960"/>
              <a:chExt cx="1290960" cy="1278000"/>
            </a:xfrm>
          </p:grpSpPr>
          <p:sp>
            <p:nvSpPr>
              <p:cNvPr id="333" name="椭圆 70684"/>
              <p:cNvSpPr/>
              <p:nvPr/>
            </p:nvSpPr>
            <p:spPr>
              <a:xfrm>
                <a:off x="3965400" y="165096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4" name="椭圆 70685"/>
              <p:cNvSpPr/>
              <p:nvPr/>
            </p:nvSpPr>
            <p:spPr>
              <a:xfrm>
                <a:off x="3981600" y="165780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5" name="椭圆 70686"/>
              <p:cNvSpPr/>
              <p:nvPr/>
            </p:nvSpPr>
            <p:spPr>
              <a:xfrm>
                <a:off x="3995280" y="167040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6" name="椭圆 70687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70688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338" name="椭圆 70689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9" name="椭圆 70690"/>
              <p:cNvSpPr/>
              <p:nvPr/>
            </p:nvSpPr>
            <p:spPr>
              <a:xfrm>
                <a:off x="6451920" y="165780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40" name="椭圆 70691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41" name="椭圆 70692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42" name="文本框 70693"/>
            <p:cNvSpPr/>
            <p:nvPr/>
          </p:nvSpPr>
          <p:spPr>
            <a:xfrm>
              <a:off x="176508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文本框 70694"/>
            <p:cNvSpPr/>
            <p:nvPr/>
          </p:nvSpPr>
          <p:spPr>
            <a:xfrm>
              <a:off x="423360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文本框 70695"/>
            <p:cNvSpPr/>
            <p:nvPr/>
          </p:nvSpPr>
          <p:spPr>
            <a:xfrm>
              <a:off x="670032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4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组合 71710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49" name="矩形 71683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矩形 71684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矩形 71685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2" name="组合 71686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53" name="组合 71687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54" name="椭圆 71688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55" name="任意多边形 71689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文本框 71690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57" name="组合 71691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58" name="组合 71692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59" name="椭圆 71693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12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60" name="任意多边形 71694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文本框 71695"/>
              <p:cNvSpPr/>
              <p:nvPr/>
            </p:nvSpPr>
            <p:spPr>
              <a:xfrm>
                <a:off x="5105520" y="1494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71696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63" name="组合 71697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64" name="椭圆 71698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28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71699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71700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71701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68" name="组合 71702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69" name="椭圆 71703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70" name="任意多边形 71704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7170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72" name="椭圆 71706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椭圆 71707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椭圆 71708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椭圆 71709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7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组合 81952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79" name="右箭头 81922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0" name="右箭头 81923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1" name="右箭头 81924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右箭头 81925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右箭头 81926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4" name="右箭头 81927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椭圆 81928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文本框 81929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文本框 81930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文本框 81931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文本框 81932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文本框 81933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文本框 81934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椭圆 81935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椭圆 81936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椭圆 81937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椭圆 81938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椭圆 81939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7" name="椭圆 81940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8" name="椭圆 81941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椭圆 81942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椭圆 81943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椭圆 81944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2" name="椭圆 81945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3" name="组合 81946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04" name="椭圆 81947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椭圆 81948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椭圆 81949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椭圆 81950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8" name="文本框 81951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0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组合 73819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2" name="圆角矩形 73820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3" name="圆角矩形 73821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4" name="圆角矩形 73822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5" name="圆角矩形 73823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6" name="圆角矩形 73824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7" name="圆角矩形 73825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18" name="组合 73826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19" name="椭圆 73827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椭圆 73828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椭圆 73829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2" name="椭圆 73830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3" name="椭圆 73831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4" name="文本框 73832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5" name="文本框 73833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26" name="组合 73834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7" name="圆角矩形 73835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8" name="圆角矩形 73836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9" name="圆角矩形 73837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0" name="圆角矩形 73838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1" name="椭圆 73839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2" name="椭圆 73840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3" name="椭圆 73841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4" name="椭圆 73842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5" name="椭圆 73843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6" name="文本框 73844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7" name="文本框 73845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圆角矩形 73846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圆角矩形 73847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40" name="组合 73848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1" name="圆角矩形 73849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2" name="圆角矩形 73850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3" name="圆角矩形 73851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4" name="圆角矩形 73852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5" name="组合 73853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46" name="椭圆 73854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7" name="椭圆 73855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8" name="椭圆 73856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9" name="椭圆 73857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0" name="椭圆 73858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3859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2" name="文本框 73860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3" name="圆角矩形 73861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4" name="圆角矩形 73862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5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74848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58" name="组合 74754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59" name="矩形 74755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0" name="矩形 74756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7484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62" name="组合 7481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63" name="组合 7481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64" name="任意多边形 7481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任意多边形 7481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组合 7481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67" name="任意多边形 7481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任意多边形 7481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组合 7481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70" name="椭圆 7481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7481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7482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7482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7482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组合 7482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76" name="椭圆 7482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7482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7482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7482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文本框 7482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1" name="文本框 7482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7484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83" name="组合 7479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484" name="组合 7479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485" name="任意多边形 7479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任意多边形 7479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7479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88" name="任意多边形 7479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7479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7479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91" name="椭圆 7480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7480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7480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7480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7480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7480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497" name="椭圆 7480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7480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7480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7480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7483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文本框 7483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7484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04" name="组合 7475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05" name="组合 7475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06" name="任意多边形 7475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任意多边形 7476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7476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09" name="任意多边形 7476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7476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747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2" name="椭圆 747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747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7476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7476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7476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7477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18" name="椭圆 7477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7477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7477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7477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7483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3" name="文本框 7483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7484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25" name="组合 7477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26" name="组合 7477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27" name="任意多边形 7477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任意多边形 7477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7477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30" name="任意多边形 7478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7478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椭圆 7478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3" name="椭圆 7478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4" name="椭圆 7478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5" name="椭圆 7478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6" name="椭圆 7478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537" name="组合 7478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38" name="椭圆 7478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478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479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479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文本框 7483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3" name="文本框 7483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74836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45" name="文本框 74837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文本框 74838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文本框 74839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8" name="文本框 74840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49" name="直接箭头连接符 74841"/>
              <p:cNvCxnSpPr>
                <a:stCxn id="545" idx="3"/>
                <a:endCxn id="546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  <p:cxnSp>
            <p:nvCxnSpPr>
              <p:cNvPr id="550" name="直接箭头连接符 74842"/>
              <p:cNvCxnSpPr>
                <a:stCxn id="546" idx="3"/>
                <a:endCxn id="547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  <p:cxnSp>
            <p:nvCxnSpPr>
              <p:cNvPr id="551" name="直接箭头连接符 74843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75778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5" name="圆角矩形 75779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6" name="组合 75780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57" name="圆角矩形 75781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30646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8" name="任意多边形 75782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c2c2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ac2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9" name="文本框 75783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60" name="文本框 75784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61" name="组合 75785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2" name="圆角矩形 75786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63" name="组合 75787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64" name="圆角矩形 75788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5ff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5" name="任意多边形 75789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4ff"/>
                  </a:gs>
                  <a:gs pos="100000">
                    <a:srgbClr val="99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6" name="文本框 75790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67" name="文本框 75791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68" name="组合 75792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69" name="圆角矩形 75793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70" name="组合 75794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71" name="圆角矩形 75795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fdf5d"/>
                  </a:gs>
                  <a:gs pos="100000">
                    <a:srgbClr val="ccc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2" name="任意多边形 75796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83"/>
                  </a:gs>
                  <a:gs pos="100000">
                    <a:srgbClr val="cccc0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3" name="文本框 75797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74" name="文本框 75798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7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圆角矩形 76802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8" name="圆角矩形 76803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9" name="圆角矩形 76804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0" name="圆角矩形 76805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81" name="组合 76806"/>
          <p:cNvGrpSpPr/>
          <p:nvPr/>
        </p:nvGrpSpPr>
        <p:grpSpPr>
          <a:xfrm>
            <a:off x="1127520" y="1406520"/>
            <a:ext cx="6215040" cy="1324440"/>
            <a:chOff x="1127520" y="1406520"/>
            <a:chExt cx="6215040" cy="1324440"/>
          </a:xfrm>
        </p:grpSpPr>
        <p:sp>
          <p:nvSpPr>
            <p:cNvPr id="582" name="矩形 76807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3" name="组合 76808"/>
            <p:cNvGrpSpPr/>
            <p:nvPr/>
          </p:nvGrpSpPr>
          <p:grpSpPr>
            <a:xfrm>
              <a:off x="2258280" y="1787400"/>
              <a:ext cx="901440" cy="124200"/>
              <a:chOff x="2258280" y="1787400"/>
              <a:chExt cx="901440" cy="124200"/>
            </a:xfrm>
          </p:grpSpPr>
          <p:sp>
            <p:nvSpPr>
              <p:cNvPr id="584" name="椭圆 76809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5" name="矩形 76810"/>
              <p:cNvSpPr/>
              <p:nvPr/>
            </p:nvSpPr>
            <p:spPr>
              <a:xfrm>
                <a:off x="2344680" y="17881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6" name="椭圆 76811"/>
              <p:cNvSpPr/>
              <p:nvPr/>
            </p:nvSpPr>
            <p:spPr>
              <a:xfrm>
                <a:off x="3022920" y="17892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7" name="椭圆 76812"/>
              <p:cNvSpPr/>
              <p:nvPr/>
            </p:nvSpPr>
            <p:spPr>
              <a:xfrm>
                <a:off x="309636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8" name="矩形 76813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9" name="组合 76814"/>
            <p:cNvGrpSpPr/>
            <p:nvPr/>
          </p:nvGrpSpPr>
          <p:grpSpPr>
            <a:xfrm>
              <a:off x="3922920" y="1787400"/>
              <a:ext cx="901440" cy="124200"/>
              <a:chOff x="3922920" y="1787400"/>
              <a:chExt cx="901440" cy="124200"/>
            </a:xfrm>
          </p:grpSpPr>
          <p:sp>
            <p:nvSpPr>
              <p:cNvPr id="590" name="椭圆 76815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1" name="矩形 76816"/>
              <p:cNvSpPr/>
              <p:nvPr/>
            </p:nvSpPr>
            <p:spPr>
              <a:xfrm>
                <a:off x="4009320" y="17881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2" name="椭圆 76817"/>
              <p:cNvSpPr/>
              <p:nvPr/>
            </p:nvSpPr>
            <p:spPr>
              <a:xfrm>
                <a:off x="4687560" y="17892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3" name="椭圆 76818"/>
              <p:cNvSpPr/>
              <p:nvPr/>
            </p:nvSpPr>
            <p:spPr>
              <a:xfrm>
                <a:off x="4761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94" name="矩形 76819"/>
            <p:cNvSpPr/>
            <p:nvPr/>
          </p:nvSpPr>
          <p:spPr>
            <a:xfrm rot="3418800">
              <a:off x="4595400" y="15519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5" name="组合 76820"/>
            <p:cNvGrpSpPr/>
            <p:nvPr/>
          </p:nvGrpSpPr>
          <p:grpSpPr>
            <a:xfrm>
              <a:off x="5587920" y="1787400"/>
              <a:ext cx="1178280" cy="124200"/>
              <a:chOff x="5587920" y="1787400"/>
              <a:chExt cx="1178280" cy="124200"/>
            </a:xfrm>
          </p:grpSpPr>
          <p:sp>
            <p:nvSpPr>
              <p:cNvPr id="596" name="椭圆 76821"/>
              <p:cNvSpPr/>
              <p:nvPr/>
            </p:nvSpPr>
            <p:spPr>
              <a:xfrm>
                <a:off x="558792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7" name="矩形 76822"/>
              <p:cNvSpPr/>
              <p:nvPr/>
            </p:nvSpPr>
            <p:spPr>
              <a:xfrm>
                <a:off x="570096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8" name="椭圆 76823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9" name="椭圆 76824"/>
              <p:cNvSpPr/>
              <p:nvPr/>
            </p:nvSpPr>
            <p:spPr>
              <a:xfrm>
                <a:off x="668376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00" name="矩形 76825"/>
            <p:cNvSpPr/>
            <p:nvPr/>
          </p:nvSpPr>
          <p:spPr>
            <a:xfrm rot="3418800">
              <a:off x="6260040" y="1551960"/>
              <a:ext cx="874080" cy="970920"/>
            </a:xfrm>
            <a:prstGeom prst="rect">
              <a:avLst/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01" name="矩形 76826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2" name="矩形 76827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3" name="矩形 76828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4" name="矩形 76829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5" name="矩形 76830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6" name="矩形 76831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7" name="矩形 76832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8" name="矩形 76833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2397240"/>
          <a:ext cx="7467480" cy="299232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3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组合 78850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615" name="椭圆 78851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6" name="椭圆 78852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7" name="椭圆 78853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8" name="任意多边形 78854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bbbf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9" name="任意多边形 78855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2a575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0" name="任意多边形 78856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1" name="任意多边形 78857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6f6f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2" name="椭圆 78858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3" name="文本框 78859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4" name="文本框 78860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5" name="文本框 78861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26" name="组合 78862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627" name="任意多边形 78863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25e73"/>
                  </a:gs>
                  <a:gs pos="100000">
                    <a:srgbClr val="6c9b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8" name="任意多边形 78864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324858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9" name="任意多边形 78865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324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30" name="文本框 78866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31" name="文本框 78867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2" name="任意多边形 78868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3" name="椭圆 78869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3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组合 79904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637" name="上箭头 79874"/>
            <p:cNvSpPr/>
            <p:nvPr/>
          </p:nvSpPr>
          <p:spPr>
            <a:xfrm>
              <a:off x="1752480" y="2209680"/>
              <a:ext cx="553104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8" name="圆角矩形 79875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b166e"/>
                </a:gs>
                <a:gs pos="50000">
                  <a:srgbClr val="7769a2"/>
                </a:gs>
                <a:gs pos="100000">
                  <a:srgbClr val="2b166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9" name="文本框 79876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0" name="组合 79900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641" name="组合 7987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642" name="组合 79878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43" name="椭圆 79879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282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任意多边形 79880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5" name="文本框 79881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椭圆 79882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79903"/>
            <p:cNvGrpSpPr/>
            <p:nvPr/>
          </p:nvGrpSpPr>
          <p:grpSpPr>
            <a:xfrm>
              <a:off x="6781680" y="4038480"/>
              <a:ext cx="1524240" cy="2067120"/>
              <a:chOff x="6781680" y="4038480"/>
              <a:chExt cx="1524240" cy="2067120"/>
            </a:xfrm>
          </p:grpSpPr>
          <p:grpSp>
            <p:nvGrpSpPr>
              <p:cNvPr id="648" name="组合 7988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grpSp>
              <p:nvGrpSpPr>
                <p:cNvPr id="649" name="组合 79884"/>
                <p:cNvGrpSpPr/>
                <p:nvPr/>
              </p:nvGrpSpPr>
              <p:grpSpPr>
                <a:xfrm>
                  <a:off x="6781680" y="4038480"/>
                  <a:ext cx="1524240" cy="1532160"/>
                  <a:chOff x="6781680" y="4038480"/>
                  <a:chExt cx="1524240" cy="1532160"/>
                </a:xfrm>
              </p:grpSpPr>
              <p:sp>
                <p:nvSpPr>
                  <p:cNvPr id="650" name="椭圆 79885"/>
                  <p:cNvSpPr/>
                  <p:nvPr/>
                </p:nvSpPr>
                <p:spPr>
                  <a:xfrm>
                    <a:off x="6781680" y="4038480"/>
                    <a:ext cx="1524240" cy="153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6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任意多边形 79886"/>
                  <p:cNvSpPr/>
                  <p:nvPr/>
                </p:nvSpPr>
                <p:spPr>
                  <a:xfrm>
                    <a:off x="6955920" y="40636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文本框 79887"/>
                <p:cNvSpPr/>
                <p:nvPr/>
              </p:nvSpPr>
              <p:spPr>
                <a:xfrm>
                  <a:off x="6924960" y="47523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椭圆 79888"/>
              <p:cNvSpPr/>
              <p:nvPr/>
            </p:nvSpPr>
            <p:spPr>
              <a:xfrm>
                <a:off x="6781680" y="561816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7990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55" name="组合 79889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656" name="椭圆 79890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 79891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文本框 79892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9" name="椭圆 79893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60" name="组合 79902"/>
            <p:cNvGrpSpPr/>
            <p:nvPr/>
          </p:nvGrpSpPr>
          <p:grpSpPr>
            <a:xfrm>
              <a:off x="4876920" y="4038480"/>
              <a:ext cx="1523880" cy="2089440"/>
              <a:chOff x="4876920" y="4038480"/>
              <a:chExt cx="1523880" cy="2089440"/>
            </a:xfrm>
          </p:grpSpPr>
          <p:grpSp>
            <p:nvGrpSpPr>
              <p:cNvPr id="661" name="组合 7989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grpSp>
              <p:nvGrpSpPr>
                <p:cNvPr id="662" name="组合 79895"/>
                <p:cNvGrpSpPr/>
                <p:nvPr/>
              </p:nvGrpSpPr>
              <p:grpSpPr>
                <a:xfrm>
                  <a:off x="4876920" y="4038480"/>
                  <a:ext cx="1523880" cy="1521000"/>
                  <a:chOff x="4876920" y="4038480"/>
                  <a:chExt cx="1523880" cy="1521000"/>
                </a:xfrm>
              </p:grpSpPr>
              <p:sp>
                <p:nvSpPr>
                  <p:cNvPr id="663" name="椭圆 79896"/>
                  <p:cNvSpPr/>
                  <p:nvPr/>
                </p:nvSpPr>
                <p:spPr>
                  <a:xfrm>
                    <a:off x="4876920" y="403848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任意多边形 79897"/>
                  <p:cNvSpPr/>
                  <p:nvPr/>
                </p:nvSpPr>
                <p:spPr>
                  <a:xfrm>
                    <a:off x="5051160" y="406368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5" name="文本框 79898"/>
                <p:cNvSpPr/>
                <p:nvPr/>
              </p:nvSpPr>
              <p:spPr>
                <a:xfrm>
                  <a:off x="495288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椭圆 79899"/>
              <p:cNvSpPr/>
              <p:nvPr/>
            </p:nvSpPr>
            <p:spPr>
              <a:xfrm>
                <a:off x="4876920" y="5638680"/>
                <a:ext cx="1454040" cy="4892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圆角矩形 61442"/>
          <p:cNvSpPr/>
          <p:nvPr/>
        </p:nvSpPr>
        <p:spPr>
          <a:xfrm>
            <a:off x="2057400" y="18288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圆角矩形 61443"/>
          <p:cNvSpPr/>
          <p:nvPr/>
        </p:nvSpPr>
        <p:spPr>
          <a:xfrm>
            <a:off x="2057400" y="25909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858"/>
              </a:gs>
              <a:gs pos="50000">
                <a:srgbClr val="6c9bbe"/>
              </a:gs>
              <a:gs pos="100000">
                <a:srgbClr val="32485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7" name="圆角矩形 61444"/>
          <p:cNvSpPr/>
          <p:nvPr/>
        </p:nvSpPr>
        <p:spPr>
          <a:xfrm>
            <a:off x="2057400" y="33526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圆角矩形 61445"/>
          <p:cNvSpPr/>
          <p:nvPr/>
        </p:nvSpPr>
        <p:spPr>
          <a:xfrm>
            <a:off x="2057400" y="41148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" name="圆角矩形 61446"/>
          <p:cNvSpPr/>
          <p:nvPr/>
        </p:nvSpPr>
        <p:spPr>
          <a:xfrm>
            <a:off x="2057400" y="48769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CC3-B23E-497F-AA51-26DB499584E8}" type="slidenum">
              <a:rPr b="0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80897"/>
          <p:cNvSpPr txBox="1"/>
          <p:nvPr/>
        </p:nvSpPr>
        <p:spPr>
          <a:xfrm>
            <a:off x="1892160" y="2666880"/>
            <a:ext cx="5499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58f8f"/>
                    </a:gs>
                    <a:gs pos="100000">
                      <a:srgbClr val="33669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58f8f"/>
                  </a:gs>
                  <a:gs pos="100000">
                    <a:srgbClr val="336699"/>
                  </a:gs>
                </a:gsLst>
                <a:lin ang="0"/>
              </a:gradFill>
              <a:effectLst>
                <a:outerShdw dist="53966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4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447560" y="53337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3712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166e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2b166e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2b166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b166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453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6" name="圆角矩形 6451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" name="文本框 6451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48" name="任意多边形 6451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dfdf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9" name="矩形 6451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50" name="组合 6453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51" name="组合 6452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52" name="组合 6452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53" name="椭圆 6452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6452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椭圆 6452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04242"/>
                  </a:gs>
                  <a:gs pos="100000">
                    <a:srgbClr val="458f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6" name="椭圆 6452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0"/>
                    </a:srgbClr>
                  </a:gs>
                  <a:gs pos="100000">
                    <a:srgbClr val="be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7" name="椭圆 6452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77171"/>
                  </a:gs>
                  <a:gs pos="100000">
                    <a:srgbClr val="458f8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8" name="椭圆 6452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58f8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59" name="文本框 6452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60" name="组合 6453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1" name="圆角矩形 6451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文本框 6452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63" name="任意多边形 6451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组合 6553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67" name="任意多边形 6553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椭圆 6554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椭圆 6554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6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椭圆 6554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椭圆 6554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椭圆 6554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文本框 6554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文本框 6554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文本框 6554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文本框 6554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文本框 6554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文本框 6555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0" name="直接连接符 6555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cxnSp>
          <p:nvCxnSpPr>
            <p:cNvPr id="182" name="直接箭头连接符 6555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round/>
            </a:ln>
          </p:spPr>
        </p:cxnSp>
        <p:sp>
          <p:nvSpPr>
            <p:cNvPr id="183" name="文本框 6555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8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组合 6656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7" name="圆柱形 6656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圆柱形 6656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圆柱形 6656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0" name="文本框 6656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1" name="文本框 6656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2" name="文本框 6656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3" name="左箭头 6656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圆角矩形 6657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文本框 6657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圆角矩形 6657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文本框 6657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8" name="右箭头 6657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圆柱形 6657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上箭头 6657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文本框 6657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圆柱形 6657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文本框 6657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下箭头 6658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组合 67586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208" name="组合 67587"/>
            <p:cNvGrpSpPr/>
            <p:nvPr/>
          </p:nvGrpSpPr>
          <p:grpSpPr>
            <a:xfrm>
              <a:off x="3009240" y="1905120"/>
              <a:ext cx="2899800" cy="2705040"/>
              <a:chOff x="3009240" y="1905120"/>
              <a:chExt cx="2899800" cy="2705040"/>
            </a:xfrm>
          </p:grpSpPr>
          <p:sp>
            <p:nvSpPr>
              <p:cNvPr id="209" name="上箭头 67588"/>
              <p:cNvSpPr/>
              <p:nvPr/>
            </p:nvSpPr>
            <p:spPr>
              <a:xfrm flipH="1" rot="16200000">
                <a:off x="2928240" y="295200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0" name="上箭头 67589"/>
              <p:cNvSpPr/>
              <p:nvPr/>
            </p:nvSpPr>
            <p:spPr>
              <a:xfrm flipH="1" rot="5400000">
                <a:off x="5531040" y="290160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1" name="上箭头 67590"/>
              <p:cNvSpPr/>
              <p:nvPr/>
            </p:nvSpPr>
            <p:spPr>
              <a:xfrm flipH="1" rot="10800000">
                <a:off x="4240440" y="430452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2" name="椭圆 67591"/>
              <p:cNvSpPr/>
              <p:nvPr/>
            </p:nvSpPr>
            <p:spPr>
              <a:xfrm>
                <a:off x="3308400" y="1905120"/>
                <a:ext cx="232596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3" name="椭圆 67592"/>
              <p:cNvSpPr/>
              <p:nvPr/>
            </p:nvSpPr>
            <p:spPr>
              <a:xfrm>
                <a:off x="3441240" y="2040480"/>
                <a:ext cx="20592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4" name="椭圆 67593"/>
              <p:cNvSpPr/>
              <p:nvPr/>
            </p:nvSpPr>
            <p:spPr>
              <a:xfrm>
                <a:off x="356220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5" name="椭圆 67594"/>
              <p:cNvSpPr/>
              <p:nvPr/>
            </p:nvSpPr>
            <p:spPr>
              <a:xfrm>
                <a:off x="356220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6" name="椭圆 67595"/>
              <p:cNvSpPr/>
              <p:nvPr/>
            </p:nvSpPr>
            <p:spPr>
              <a:xfrm>
                <a:off x="3681720" y="228960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7" name="椭圆 67596"/>
              <p:cNvSpPr/>
              <p:nvPr/>
            </p:nvSpPr>
            <p:spPr>
              <a:xfrm>
                <a:off x="3681720" y="228960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18" name="圆柱形 67597"/>
            <p:cNvSpPr/>
            <p:nvPr/>
          </p:nvSpPr>
          <p:spPr>
            <a:xfrm>
              <a:off x="1143000" y="340272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圆柱形 67598"/>
            <p:cNvSpPr/>
            <p:nvPr/>
          </p:nvSpPr>
          <p:spPr>
            <a:xfrm>
              <a:off x="1143000" y="290376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圆柱形 67599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圆柱形 67600"/>
            <p:cNvSpPr/>
            <p:nvPr/>
          </p:nvSpPr>
          <p:spPr>
            <a:xfrm>
              <a:off x="6120360" y="340272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圆柱形 67601"/>
            <p:cNvSpPr/>
            <p:nvPr/>
          </p:nvSpPr>
          <p:spPr>
            <a:xfrm>
              <a:off x="6120360" y="290376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圆柱形 67602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文本框 67603"/>
            <p:cNvSpPr/>
            <p:nvPr/>
          </p:nvSpPr>
          <p:spPr>
            <a:xfrm>
              <a:off x="3775320" y="2903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圆角矩形 67604"/>
            <p:cNvSpPr/>
            <p:nvPr/>
          </p:nvSpPr>
          <p:spPr>
            <a:xfrm>
              <a:off x="2702520" y="475812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文本框 67605"/>
            <p:cNvSpPr/>
            <p:nvPr/>
          </p:nvSpPr>
          <p:spPr>
            <a:xfrm>
              <a:off x="1588320" y="2551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文本框 67606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文本框 67607"/>
            <p:cNvSpPr/>
            <p:nvPr/>
          </p:nvSpPr>
          <p:spPr>
            <a:xfrm>
              <a:off x="1588320" y="3549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文本框 67608"/>
            <p:cNvSpPr/>
            <p:nvPr/>
          </p:nvSpPr>
          <p:spPr>
            <a:xfrm>
              <a:off x="6685560" y="2551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0" name="文本框 67609"/>
            <p:cNvSpPr/>
            <p:nvPr/>
          </p:nvSpPr>
          <p:spPr>
            <a:xfrm>
              <a:off x="668556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1" name="文本框 67610"/>
            <p:cNvSpPr/>
            <p:nvPr/>
          </p:nvSpPr>
          <p:spPr>
            <a:xfrm>
              <a:off x="6685560" y="3549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3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组合 6863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35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36" name="直接连接符 6861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39" name="直接连接符 6861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42" name="直接连接符 6861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45" name="直接连接符 6861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48" name="直接连接符 6861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51" name="直接连接符 6861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54" name="直接连接符 6861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57" name="直接连接符 6861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60" name="直接连接符 6861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2" name="文本框 6861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文本框 6862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文本框 6862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文本框 6862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66" name="组合 6862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67" name="任意多边形 6862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8" name="任意多边形 6862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9" name="任意多边形 6862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76"/>
                  </a:gs>
                  <a:gs pos="50000">
                    <a:srgbClr val="9999ff"/>
                  </a:gs>
                  <a:gs pos="100000">
                    <a:srgbClr val="4747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0" name="任意多边形 6862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1" name="任意多边形 6862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50000">
                    <a:srgbClr val="6c9bbe"/>
                  </a:gs>
                  <a:gs pos="100000">
                    <a:srgbClr val="32485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2" name="任意多边形 6862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04242"/>
                  </a:gs>
                  <a:gs pos="50000">
                    <a:srgbClr val="458f8f"/>
                  </a:gs>
                  <a:gs pos="100000">
                    <a:srgbClr val="204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3" name="任意多边形 6863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4" name="任意多边形 6863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5" name="矩形 6863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9400"/>
                  </a:gs>
                  <a:gs pos="50000">
                    <a:srgbClr val="cccc00"/>
                  </a:gs>
                  <a:gs pos="100000">
                    <a:srgbClr val="94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6" name="矩形 6863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f6fb9"/>
                  </a:gs>
                  <a:gs pos="50000">
                    <a:srgbClr val="9999ff"/>
                  </a:gs>
                  <a:gs pos="100000">
                    <a:srgbClr val="6f6f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7" name="任意多边形 6863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8" name="矩形 6863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4e708a"/>
                  </a:gs>
                  <a:gs pos="50000">
                    <a:srgbClr val="6c9bbe"/>
                  </a:gs>
                  <a:gs pos="100000">
                    <a:srgbClr val="4e708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9" name="矩形 6863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26868"/>
                  </a:gs>
                  <a:gs pos="50000">
                    <a:srgbClr val="458f8f"/>
                  </a:gs>
                  <a:gs pos="100000">
                    <a:srgbClr val="3268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组合 6965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83" name="任意多边形 6963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2a2ff">
                    <a:alpha val="32156"/>
                  </a:srgbClr>
                </a:gs>
                <a:gs pos="100000">
                  <a:srgbClr val="99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圆角矩形 6963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圆角矩形 6963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八边形 6963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7" name="八边形 6963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8" name="圆角矩形 6963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圆角矩形 6964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八边形 6964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八边形 6964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任意多边形 6964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ac5da">
                    <a:alpha val="32156"/>
                  </a:srgbClr>
                </a:gs>
                <a:gs pos="100000">
                  <a:srgbClr val="6c9b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文本框 6964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文本框 6964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5" name="组合 6964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96" name="圆角矩形 6964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圆角矩形 6964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a"/>
                  </a:gs>
                  <a:gs pos="50000">
                    <a:srgbClr val="6c9bbe"/>
                  </a:gs>
                  <a:gs pos="100000">
                    <a:srgbClr val="2a3c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8" name="八边形 6964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9" name="八边形 6965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0" name="文本框 6965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文本框 6965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2" name="文本框 6965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文本框 6965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0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2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