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306-1E55-43CC-8EED-B022EE76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304-9259-4B24-AF88-B126C414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F09-960D-490C-A9E6-4F93C9D8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CB8-CA18-4C98-BA8B-92305E4A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933D-4B63-48AB-9057-DC77CE29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500B-A993-481D-8C46-B692A750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C923-8347-47F1-AE76-17A6808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5FC2-D696-4C33-AB6A-474A94CF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E810-CC4C-499F-8C9F-8CC5B55F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833B-BCDB-48FA-8294-79041C5C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96BE-5DAC-4212-90AE-2D3E6F7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416-0DA9-412E-AD29-C8365443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16F5-104B-4E34-B16A-FB30244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B81-54C5-470C-B165-300D03B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AC93-C709-497B-BD33-C59EA196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E57-B2C6-47DC-A787-1B3AA7C1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03FE-CAAC-4D38-A436-F3B70C87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8C91-B93B-40A2-BBF4-205A6F11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A29B-E235-4981-9784-97A3A15E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8788-8E0C-4D20-ABA2-0B3D085B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100E-8034-440F-86A5-B3F023A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BEE1-D7C3-40A8-BF13-5EED47C2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E76-F7D0-42CE-92F3-CDBEEE27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E2C4-ED4A-4426-9077-11EF2CE9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1F7B-376E-4BB9-A126-252B7F7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328B-7866-4509-846E-DB15A676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9724-4ED2-45D7-A10A-54EBB3C5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FE92-7161-41A1-B6E6-D867A62D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121B-9B2F-4981-A2B5-8E8BE7FD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C477-3AD7-419A-B90B-5F1EB7DE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B72-7268-40E5-97CA-6B07B9C1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913-266A-4EA2-A1B2-C4C2A9BE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DDC-E840-407A-9A59-7E60B6D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3AC-8DE5-4C92-87F3-40E457A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8F1-C090-402F-AB84-D3356BB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8AB-C1BA-471E-A070-33384B3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Eras Bold ITC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6E33-6C4B-4873-8E8B-8AAABD72400A}" type="slidenum">
              <a:rPr b="0" lang="en-US" sz="1400" spc="-1" strike="noStrike">
                <a:solidFill>
                  <a:srgbClr val="000000"/>
                </a:solidFill>
                <a:latin typeface="Eras Bold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797040"/>
            <a:ext cx="9144000" cy="360"/>
            <a:chOff x="6480" y="797040"/>
            <a:chExt cx="9144000" cy="360"/>
          </a:xfrm>
        </p:grpSpPr>
        <p:sp>
          <p:nvSpPr>
            <p:cNvPr id="6" name="直接连接符 1030"/>
            <p:cNvSpPr/>
            <p:nvPr/>
          </p:nvSpPr>
          <p:spPr>
            <a:xfrm>
              <a:off x="6480" y="7970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6480" y="797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8A8A-6E3C-4492-BEA8-984ADA9E19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E667-4485-4A39-8CA0-AE57C7D45E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2819520"/>
            <a:ext cx="9144000" cy="360"/>
            <a:chOff x="0" y="2819520"/>
            <a:chExt cx="9144000" cy="360"/>
          </a:xfrm>
        </p:grpSpPr>
        <p:sp>
          <p:nvSpPr>
            <p:cNvPr id="86" name="直接连接符 7174"/>
            <p:cNvSpPr/>
            <p:nvPr/>
          </p:nvSpPr>
          <p:spPr>
            <a:xfrm>
              <a:off x="0" y="281952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0" y="2819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0137-91B2-48CC-9BAD-93C544C5FB8D}" type="slidenum">
              <a:rPr b="0" lang="en-US" sz="1400" spc="-1" strike="noStrike">
                <a:solidFill>
                  <a:srgbClr val="ffffff"/>
                </a:solidFill>
                <a:latin typeface="Franklin Gothic Heavy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40" y="2133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Microscopic Detai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Heavy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055" descr="Z:\newtek\_backgrounds_1.02\Tim\powerpoint templates\21-40\microscopic_details\elements\amoeba.png"/>
          <p:cNvPicPr/>
          <p:nvPr/>
        </p:nvPicPr>
        <p:blipFill>
          <a:blip r:embed="rId1"/>
          <a:stretch/>
        </p:blipFill>
        <p:spPr>
          <a:xfrm>
            <a:off x="257040" y="662040"/>
            <a:ext cx="126684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056" descr="Z:\newtek\_backgrounds_1.02\Tim\powerpoint templates\21-40\microscopic_details\elements\arcella.png"/>
          <p:cNvPicPr/>
          <p:nvPr/>
        </p:nvPicPr>
        <p:blipFill>
          <a:blip r:embed="rId2"/>
          <a:stretch/>
        </p:blipFill>
        <p:spPr>
          <a:xfrm>
            <a:off x="2009880" y="766800"/>
            <a:ext cx="1266840" cy="1081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057" descr="Z:\newtek\_backgrounds_1.02\Tim\powerpoint templates\21-40\microscopic_details\elements\keckleball.png"/>
          <p:cNvPicPr/>
          <p:nvPr/>
        </p:nvPicPr>
        <p:blipFill>
          <a:blip r:embed="rId3"/>
          <a:stretch/>
        </p:blipFill>
        <p:spPr>
          <a:xfrm>
            <a:off x="3938760" y="609480"/>
            <a:ext cx="1266480" cy="12668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058" descr="Z:\newtek\_backgrounds_1.02\Tim\powerpoint templates\21-40\microscopic_details\elements\mite.png"/>
          <p:cNvPicPr/>
          <p:nvPr/>
        </p:nvPicPr>
        <p:blipFill>
          <a:blip r:embed="rId4"/>
          <a:stretch/>
        </p:blipFill>
        <p:spPr>
          <a:xfrm>
            <a:off x="5715000" y="657360"/>
            <a:ext cx="1322280" cy="13222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059" descr="Z:\newtek\_backgrounds_1.02\Tim\powerpoint templates\21-40\microscopic_details\elements\particle.png"/>
          <p:cNvPicPr/>
          <p:nvPr/>
        </p:nvPicPr>
        <p:blipFill>
          <a:blip r:embed="rId5"/>
          <a:stretch/>
        </p:blipFill>
        <p:spPr>
          <a:xfrm>
            <a:off x="7696080" y="65736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1146240" y="3564000"/>
            <a:ext cx="62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欧美公司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3075" descr="Z:\newtek\_backgrounds_1.02\Tim\powerpoint templates\21-40\microscopic_details\elements\amoeba.png"/>
          <p:cNvPicPr/>
          <p:nvPr/>
        </p:nvPicPr>
        <p:blipFill>
          <a:blip r:embed="rId1"/>
          <a:stretch/>
        </p:blipFill>
        <p:spPr>
          <a:xfrm>
            <a:off x="7696080" y="152280"/>
            <a:ext cx="1266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40" y="2133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6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Heavy"/>
            </a:endParaRPr>
          </a:p>
        </p:txBody>
      </p:sp>
      <p:pic>
        <p:nvPicPr>
          <p:cNvPr id="143" name="图片 4099" descr="Z:\newtek\_backgrounds_1.02\Tim\powerpoint templates\21-40\microscopic_details\elements\arcella.png"/>
          <p:cNvPicPr/>
          <p:nvPr/>
        </p:nvPicPr>
        <p:blipFill>
          <a:blip r:embed="rId2"/>
          <a:stretch/>
        </p:blipFill>
        <p:spPr>
          <a:xfrm>
            <a:off x="2362320" y="3076560"/>
            <a:ext cx="1266840" cy="1081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100" descr="Z:\newtek\_backgrounds_1.02\Tim\powerpoint templates\21-40\microscopic_details\elements\keckleball.png"/>
          <p:cNvPicPr/>
          <p:nvPr/>
        </p:nvPicPr>
        <p:blipFill>
          <a:blip r:embed="rId3"/>
          <a:stretch/>
        </p:blipFill>
        <p:spPr>
          <a:xfrm>
            <a:off x="5486400" y="300024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4101" descr="Z:\newtek\_backgrounds_1.02\Tim\powerpoint templates\21-40\microscopic_details\elements\mite.png"/>
          <p:cNvPicPr/>
          <p:nvPr/>
        </p:nvPicPr>
        <p:blipFill>
          <a:blip r:embed="rId4"/>
          <a:stretch/>
        </p:blipFill>
        <p:spPr>
          <a:xfrm>
            <a:off x="3909960" y="2924280"/>
            <a:ext cx="1322280" cy="132228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D197-546B-425A-A546-6C6EA445BB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ext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126" descr="Z:\newtek\_backgrounds_1.02\Tim\powerpoint templates\21-40\microscopic_details\elements\particle.png"/>
          <p:cNvPicPr/>
          <p:nvPr/>
        </p:nvPicPr>
        <p:blipFill>
          <a:blip r:embed="rId2"/>
          <a:stretch/>
        </p:blipFill>
        <p:spPr>
          <a:xfrm>
            <a:off x="76960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5:22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9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