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B4084-4CA5-4213-90F5-5887D07F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7444D-6623-48C5-9787-0121EF90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6AE29-F848-4619-9778-DE68FA15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61428-43D2-40F6-AA95-1EBAE581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007B3-FBB1-467E-A025-D73A2240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F3B50-DFCE-40C8-99E7-7A53D4D6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CA46B-1420-427C-B8A3-35157355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B91D3-F9FF-400A-9D7C-B15C6C9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DC66E-4673-441C-BBAA-EC5A8FD6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0F6D3-1B10-4E6A-B549-488192C1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C004E-FA70-485D-9447-D3F3102A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C60E5-E86C-4BAB-9575-A9A985C7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2DF5-8F7B-41AE-8677-AA2279971A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7241-27B8-48ED-A9C5-9C3EEEEF0C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9EA8-ADD6-494E-83D9-52792FE449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DE02-2CFB-46F5-8B32-F9EA54D790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D2F1-CFFA-4407-986C-71BBAD141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4085-0528-4079-B7D6-9BD1E7F884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1DF5-BA42-4EAC-A9D7-2BB72FBBAB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0791-3A20-44E8-9630-4F659CBB49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C670-ADAC-4773-B7BB-36F2D75A17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226A-8B43-4A31-85FE-3889449AAC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67DD-CF5A-4D3C-82FA-9431FD5F8A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6718-41D2-49F3-99E0-CEAC018AF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321"/>
          <p:cNvSpPr/>
          <p:nvPr/>
        </p:nvSpPr>
        <p:spPr>
          <a:xfrm>
            <a:off x="0" y="0"/>
            <a:ext cx="5740560" cy="927000"/>
          </a:xfrm>
          <a:prstGeom prst="rect">
            <a:avLst/>
          </a:prstGeom>
          <a:solidFill>
            <a:srgbClr val="bc9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组合 12324"/>
          <p:cNvGrpSpPr/>
          <p:nvPr/>
        </p:nvGrpSpPr>
        <p:grpSpPr>
          <a:xfrm>
            <a:off x="0" y="6566040"/>
            <a:ext cx="9144000" cy="291960"/>
            <a:chOff x="0" y="6566040"/>
            <a:chExt cx="9144000" cy="291960"/>
          </a:xfrm>
        </p:grpSpPr>
        <p:sp>
          <p:nvSpPr>
            <p:cNvPr id="2" name="矩形 12323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矩形 12322"/>
            <p:cNvSpPr/>
            <p:nvPr/>
          </p:nvSpPr>
          <p:spPr>
            <a:xfrm>
              <a:off x="495360" y="6566040"/>
              <a:ext cx="8204040" cy="291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34560" y="656604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6248160" y="6540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12320"/>
          <p:cNvSpPr/>
          <p:nvPr/>
        </p:nvSpPr>
        <p:spPr>
          <a:xfrm>
            <a:off x="2286000" y="0"/>
            <a:ext cx="6858000" cy="9270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2348"/>
          <p:cNvGrpSpPr/>
          <p:nvPr/>
        </p:nvGrpSpPr>
        <p:grpSpPr>
          <a:xfrm>
            <a:off x="8040600" y="50760"/>
            <a:ext cx="1103400" cy="1087560"/>
            <a:chOff x="8040600" y="50760"/>
            <a:chExt cx="1103400" cy="1087560"/>
          </a:xfrm>
        </p:grpSpPr>
        <p:sp>
          <p:nvSpPr>
            <p:cNvPr id="8" name="任意多边形 12343"/>
            <p:cNvSpPr/>
            <p:nvPr/>
          </p:nvSpPr>
          <p:spPr>
            <a:xfrm>
              <a:off x="8040600" y="50760"/>
              <a:ext cx="688320" cy="464040"/>
            </a:xfrm>
            <a:custGeom>
              <a:avLst/>
              <a:gdLst/>
              <a:ahLst/>
              <a:rect l="l" t="t" r="r" b="b"/>
              <a:pathLst>
                <a:path w="1276" h="860">
                  <a:moveTo>
                    <a:pt x="504" y="860"/>
                  </a:moveTo>
                  <a:lnTo>
                    <a:pt x="1276" y="512"/>
                  </a:lnTo>
                  <a:lnTo>
                    <a:pt x="736" y="0"/>
                  </a:lnTo>
                  <a:lnTo>
                    <a:pt x="0" y="344"/>
                  </a:lnTo>
                  <a:lnTo>
                    <a:pt x="504" y="86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任意多边形 12344"/>
            <p:cNvSpPr/>
            <p:nvPr/>
          </p:nvSpPr>
          <p:spPr>
            <a:xfrm>
              <a:off x="8308080" y="324360"/>
              <a:ext cx="835920" cy="389160"/>
            </a:xfrm>
            <a:custGeom>
              <a:avLst/>
              <a:gdLst/>
              <a:ahLst/>
              <a:rect l="l" t="t" r="r" b="b"/>
              <a:pathLst>
                <a:path w="1056" h="480">
                  <a:moveTo>
                    <a:pt x="532" y="0"/>
                  </a:moveTo>
                  <a:lnTo>
                    <a:pt x="1056" y="236"/>
                  </a:lnTo>
                  <a:lnTo>
                    <a:pt x="532" y="480"/>
                  </a:lnTo>
                  <a:lnTo>
                    <a:pt x="0" y="236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椭圆 12345"/>
            <p:cNvSpPr/>
            <p:nvPr/>
          </p:nvSpPr>
          <p:spPr>
            <a:xfrm>
              <a:off x="8465400" y="568440"/>
              <a:ext cx="522360" cy="522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12346"/>
            <p:cNvSpPr/>
            <p:nvPr/>
          </p:nvSpPr>
          <p:spPr>
            <a:xfrm>
              <a:off x="8726040" y="513000"/>
              <a:ext cx="41652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3f3307"/>
                </a:gs>
                <a:gs pos="100000">
                  <a:srgbClr val="896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任意多边形 12347"/>
            <p:cNvSpPr/>
            <p:nvPr/>
          </p:nvSpPr>
          <p:spPr>
            <a:xfrm flipH="1">
              <a:off x="8310960" y="513000"/>
              <a:ext cx="41688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726632"/>
                </a:gs>
                <a:gs pos="100000">
                  <a:srgbClr val="f7d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组合 12349"/>
          <p:cNvGrpSpPr/>
          <p:nvPr/>
        </p:nvGrpSpPr>
        <p:grpSpPr>
          <a:xfrm>
            <a:off x="8434440" y="298440"/>
            <a:ext cx="264960" cy="264960"/>
            <a:chOff x="8434440" y="298440"/>
            <a:chExt cx="264960" cy="264960"/>
          </a:xfrm>
        </p:grpSpPr>
        <p:sp>
          <p:nvSpPr>
            <p:cNvPr id="14" name="椭圆 12350"/>
            <p:cNvSpPr/>
            <p:nvPr/>
          </p:nvSpPr>
          <p:spPr>
            <a:xfrm>
              <a:off x="8434440" y="298440"/>
              <a:ext cx="264960" cy="2649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椭圆 12351"/>
            <p:cNvSpPr/>
            <p:nvPr/>
          </p:nvSpPr>
          <p:spPr>
            <a:xfrm>
              <a:off x="8507520" y="383760"/>
              <a:ext cx="146520" cy="14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椭圆 12352"/>
            <p:cNvSpPr/>
            <p:nvPr/>
          </p:nvSpPr>
          <p:spPr>
            <a:xfrm rot="19033200">
              <a:off x="8456400" y="338760"/>
              <a:ext cx="111600" cy="6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组合 12353"/>
          <p:cNvGrpSpPr/>
          <p:nvPr/>
        </p:nvGrpSpPr>
        <p:grpSpPr>
          <a:xfrm>
            <a:off x="8728200" y="12600"/>
            <a:ext cx="390240" cy="390600"/>
            <a:chOff x="8728200" y="12600"/>
            <a:chExt cx="390240" cy="390600"/>
          </a:xfrm>
        </p:grpSpPr>
        <p:sp>
          <p:nvSpPr>
            <p:cNvPr id="18" name="椭圆 12354"/>
            <p:cNvSpPr/>
            <p:nvPr/>
          </p:nvSpPr>
          <p:spPr>
            <a:xfrm>
              <a:off x="8728200" y="12600"/>
              <a:ext cx="390240" cy="39060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椭圆 12355"/>
            <p:cNvSpPr/>
            <p:nvPr/>
          </p:nvSpPr>
          <p:spPr>
            <a:xfrm>
              <a:off x="8835480" y="13896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椭圆 12356"/>
            <p:cNvSpPr/>
            <p:nvPr/>
          </p:nvSpPr>
          <p:spPr>
            <a:xfrm rot="19033200">
              <a:off x="8760960" y="72720"/>
              <a:ext cx="16380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E472-2596-4F1A-8F96-5812B4A06F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1F56-35CF-494A-A18E-945F939387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334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3539"/>
          <p:cNvSpPr/>
          <p:nvPr/>
        </p:nvSpPr>
        <p:spPr>
          <a:xfrm>
            <a:off x="1308240" y="469800"/>
            <a:ext cx="6032520" cy="6032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537"/>
          <p:cNvSpPr/>
          <p:nvPr/>
        </p:nvSpPr>
        <p:spPr>
          <a:xfrm>
            <a:off x="0" y="3543480"/>
            <a:ext cx="9144000" cy="3314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爆炸形 1 13585"/>
          <p:cNvSpPr/>
          <p:nvPr/>
        </p:nvSpPr>
        <p:spPr>
          <a:xfrm>
            <a:off x="2879640" y="4373640"/>
            <a:ext cx="3432240" cy="2014560"/>
          </a:xfrm>
          <a:prstGeom prst="irregularSeal1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13531"/>
          <p:cNvSpPr/>
          <p:nvPr/>
        </p:nvSpPr>
        <p:spPr>
          <a:xfrm>
            <a:off x="2217600" y="2077920"/>
            <a:ext cx="2365560" cy="1595520"/>
          </a:xfrm>
          <a:custGeom>
            <a:avLst/>
            <a:gdLst/>
            <a:ahLst/>
            <a:rect l="l" t="t" r="r" b="b"/>
            <a:pathLst>
              <a:path w="1276" h="860">
                <a:moveTo>
                  <a:pt x="504" y="860"/>
                </a:moveTo>
                <a:lnTo>
                  <a:pt x="1276" y="512"/>
                </a:lnTo>
                <a:lnTo>
                  <a:pt x="736" y="0"/>
                </a:lnTo>
                <a:lnTo>
                  <a:pt x="0" y="344"/>
                </a:lnTo>
                <a:lnTo>
                  <a:pt x="504" y="86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13524"/>
          <p:cNvSpPr/>
          <p:nvPr/>
        </p:nvSpPr>
        <p:spPr>
          <a:xfrm>
            <a:off x="3137040" y="3019320"/>
            <a:ext cx="2873160" cy="133848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532" y="0"/>
                </a:moveTo>
                <a:lnTo>
                  <a:pt x="1056" y="236"/>
                </a:lnTo>
                <a:lnTo>
                  <a:pt x="532" y="480"/>
                </a:lnTo>
                <a:lnTo>
                  <a:pt x="0" y="236"/>
                </a:lnTo>
                <a:lnTo>
                  <a:pt x="53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51360" y="2408040"/>
            <a:ext cx="1741680" cy="1757160"/>
            <a:chOff x="4851360" y="2408040"/>
            <a:chExt cx="1741680" cy="1757160"/>
          </a:xfrm>
        </p:grpSpPr>
        <p:sp>
          <p:nvSpPr>
            <p:cNvPr id="105" name="直接连接符 13544"/>
            <p:cNvSpPr/>
            <p:nvPr/>
          </p:nvSpPr>
          <p:spPr>
            <a:xfrm flipV="1">
              <a:off x="4851360" y="2408040"/>
              <a:ext cx="1741680" cy="1757160"/>
            </a:xfrm>
            <a:prstGeom prst="line">
              <a:avLst/>
            </a:prstGeom>
            <a:ln w="76320">
              <a:solidFill>
                <a:srgbClr val="0066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0800000">
              <a:off x="4851360" y="2408040"/>
              <a:ext cx="1741680" cy="17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右箭头 13546"/>
          <p:cNvSpPr/>
          <p:nvPr/>
        </p:nvSpPr>
        <p:spPr>
          <a:xfrm rot="17448000">
            <a:off x="4230360" y="1950120"/>
            <a:ext cx="2469960" cy="451080"/>
          </a:xfrm>
          <a:prstGeom prst="rightArrow">
            <a:avLst>
              <a:gd name="adj1" fmla="val 29491"/>
              <a:gd name="adj2" fmla="val 136841"/>
            </a:avLst>
          </a:prstGeom>
          <a:gradFill rotWithShape="0">
            <a:gsLst>
              <a:gs pos="0">
                <a:srgbClr val="000099"/>
              </a:gs>
              <a:gs pos="100000">
                <a:srgbClr val="f7dd6d"/>
              </a:gs>
            </a:gsLst>
            <a:lin ang="41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波形 13587"/>
          <p:cNvSpPr/>
          <p:nvPr/>
        </p:nvSpPr>
        <p:spPr>
          <a:xfrm rot="4136400">
            <a:off x="1589040" y="2820600"/>
            <a:ext cx="4013280" cy="412560"/>
          </a:xfrm>
          <a:custGeom>
            <a:avLst/>
            <a:gdLst>
              <a:gd name="textAreaLeft" fmla="*/ 802440 w 4013280"/>
              <a:gd name="textAreaRight" fmla="*/ 4816080 w 4013280"/>
              <a:gd name="textAreaTop" fmla="*/ 170280 h 412560"/>
              <a:gd name="textAreaBottom" fmla="*/ 242280 h 41256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896f0f"/>
              </a:gs>
              <a:gs pos="100000">
                <a:srgbClr val="000099"/>
              </a:gs>
            </a:gsLst>
            <a:lin ang="174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波形 13586"/>
          <p:cNvSpPr/>
          <p:nvPr/>
        </p:nvSpPr>
        <p:spPr>
          <a:xfrm rot="2916600">
            <a:off x="1654200" y="2974680"/>
            <a:ext cx="2941560" cy="519120"/>
          </a:xfrm>
          <a:custGeom>
            <a:avLst/>
            <a:gdLst>
              <a:gd name="textAreaLeft" fmla="*/ 588240 w 2941560"/>
              <a:gd name="textAreaRight" fmla="*/ 3530160 w 2941560"/>
              <a:gd name="textAreaTop" fmla="*/ 214200 h 519120"/>
              <a:gd name="textAreaBottom" fmla="*/ 304920 h 51912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0066ff"/>
              </a:gs>
            </a:gsLst>
            <a:lin ang="18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3526"/>
          <p:cNvSpPr/>
          <p:nvPr/>
        </p:nvSpPr>
        <p:spPr>
          <a:xfrm>
            <a:off x="3678120" y="3857760"/>
            <a:ext cx="1795680" cy="17953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3567"/>
          <p:cNvGrpSpPr/>
          <p:nvPr/>
        </p:nvGrpSpPr>
        <p:grpSpPr>
          <a:xfrm>
            <a:off x="3824280" y="2800440"/>
            <a:ext cx="844560" cy="844560"/>
            <a:chOff x="3824280" y="2800440"/>
            <a:chExt cx="844560" cy="844560"/>
          </a:xfrm>
        </p:grpSpPr>
        <p:sp>
          <p:nvSpPr>
            <p:cNvPr id="112" name="椭圆 13568"/>
            <p:cNvSpPr/>
            <p:nvPr/>
          </p:nvSpPr>
          <p:spPr>
            <a:xfrm>
              <a:off x="3824280" y="2800440"/>
              <a:ext cx="844560" cy="8445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13569"/>
            <p:cNvSpPr/>
            <p:nvPr/>
          </p:nvSpPr>
          <p:spPr>
            <a:xfrm>
              <a:off x="4057200" y="3072240"/>
              <a:ext cx="467280" cy="46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3570"/>
            <p:cNvSpPr/>
            <p:nvPr/>
          </p:nvSpPr>
          <p:spPr>
            <a:xfrm rot="19033200">
              <a:off x="3894480" y="2930400"/>
              <a:ext cx="355320" cy="19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上弧形箭头 13548"/>
          <p:cNvSpPr/>
          <p:nvPr/>
        </p:nvSpPr>
        <p:spPr>
          <a:xfrm flipV="1" rot="19657200">
            <a:off x="3371760" y="3762360"/>
            <a:ext cx="2024280" cy="759240"/>
          </a:xfrm>
          <a:custGeom>
            <a:avLst/>
            <a:gdLst>
              <a:gd name="textAreaLeft" fmla="*/ 354240 w 2024280"/>
              <a:gd name="textAreaRight" fmla="*/ 1534320 w 2024280"/>
              <a:gd name="textAreaTop" fmla="*/ 101520 h 759240"/>
              <a:gd name="textAreaBottom" fmla="*/ 657720 h 75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2589" y="0"/>
                </a:lnTo>
                <a:arcTo wR="7561" hR="21600" stAng="-5400000" swAng="2683402"/>
                <a:lnTo>
                  <a:pt x="21168" y="14402"/>
                </a:lnTo>
                <a:lnTo>
                  <a:pt x="17636" y="21600"/>
                </a:lnTo>
                <a:lnTo>
                  <a:pt x="13240" y="14402"/>
                </a:lnTo>
                <a:lnTo>
                  <a:pt x="14690" y="14402"/>
                </a:lnTo>
                <a:arcTo wR="7561" hR="21600" stAng="-2716598" swAng="-2261283"/>
                <a:lnTo>
                  <a:pt x="10075" y="1229"/>
                </a:lnTo>
                <a:arcTo wR="7561" hR="21600" stAng="-5822119" swAng="-4977881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422119"/>
                <a:lnTo>
                  <a:pt x="10075" y="1229"/>
                </a:lnTo>
                <a:arcTo wR="7561" hR="21600" stAng="-5822119" swAng="-4977881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34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3581"/>
          <p:cNvGrpSpPr/>
          <p:nvPr/>
        </p:nvGrpSpPr>
        <p:grpSpPr>
          <a:xfrm>
            <a:off x="5081760" y="2114640"/>
            <a:ext cx="1187280" cy="1187280"/>
            <a:chOff x="5081760" y="2114640"/>
            <a:chExt cx="1187280" cy="1187280"/>
          </a:xfrm>
        </p:grpSpPr>
        <p:sp>
          <p:nvSpPr>
            <p:cNvPr id="117" name="椭圆 13573"/>
            <p:cNvSpPr/>
            <p:nvPr/>
          </p:nvSpPr>
          <p:spPr>
            <a:xfrm>
              <a:off x="5081760" y="2114640"/>
              <a:ext cx="1187280" cy="118728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3574"/>
            <p:cNvSpPr/>
            <p:nvPr/>
          </p:nvSpPr>
          <p:spPr>
            <a:xfrm>
              <a:off x="5408640" y="2498760"/>
              <a:ext cx="657360" cy="6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13575"/>
            <p:cNvSpPr/>
            <p:nvPr/>
          </p:nvSpPr>
          <p:spPr>
            <a:xfrm rot="19033200">
              <a:off x="5181120" y="2298240"/>
              <a:ext cx="498600" cy="27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3588"/>
          <p:cNvGrpSpPr/>
          <p:nvPr/>
        </p:nvGrpSpPr>
        <p:grpSpPr>
          <a:xfrm>
            <a:off x="3470400" y="230040"/>
            <a:ext cx="1949400" cy="1949760"/>
            <a:chOff x="3470400" y="230040"/>
            <a:chExt cx="1949400" cy="1949760"/>
          </a:xfrm>
        </p:grpSpPr>
        <p:sp>
          <p:nvSpPr>
            <p:cNvPr id="121" name="椭圆 13564"/>
            <p:cNvSpPr/>
            <p:nvPr/>
          </p:nvSpPr>
          <p:spPr>
            <a:xfrm>
              <a:off x="3470400" y="230040"/>
              <a:ext cx="1949400" cy="1949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3580"/>
            <p:cNvSpPr/>
            <p:nvPr/>
          </p:nvSpPr>
          <p:spPr>
            <a:xfrm>
              <a:off x="3495960" y="243000"/>
              <a:ext cx="1898640" cy="18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3340"/>
          <p:cNvSpPr/>
          <p:nvPr/>
        </p:nvSpPr>
        <p:spPr>
          <a:xfrm>
            <a:off x="3876840" y="10238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13527"/>
          <p:cNvSpPr/>
          <p:nvPr/>
        </p:nvSpPr>
        <p:spPr>
          <a:xfrm>
            <a:off x="4573440" y="3666960"/>
            <a:ext cx="143208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3f3307"/>
              </a:gs>
              <a:gs pos="100000">
                <a:srgbClr val="896f0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13528"/>
          <p:cNvSpPr/>
          <p:nvPr/>
        </p:nvSpPr>
        <p:spPr>
          <a:xfrm flipH="1">
            <a:off x="3147840" y="3666960"/>
            <a:ext cx="143352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726632"/>
              </a:gs>
              <a:gs pos="100000">
                <a:srgbClr val="f7dd6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514F-FD58-4B54-9E4B-BCD8BBF6B23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6f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bc9a0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0840" y="53082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Power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59000" y="594000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d6d"/>
                </a:solidFill>
                <a:latin typeface="Arial"/>
                <a:ea typeface="굴림"/>
              </a:rPr>
              <a:t>Add Your Company Slogan</a:t>
            </a:r>
            <a:endParaRPr b="1" lang="en-US" sz="20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155"/>
          <p:cNvSpPr/>
          <p:nvPr/>
        </p:nvSpPr>
        <p:spPr>
          <a:xfrm>
            <a:off x="139680" y="6138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"/>
          <p:cNvSpPr/>
          <p:nvPr/>
        </p:nvSpPr>
        <p:spPr>
          <a:xfrm>
            <a:off x="647640" y="198360"/>
            <a:ext cx="735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潘多拉魔盒企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E133-83FF-499A-AD50-525E3955E2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52956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9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c9a0a"/>
                </a:solidFill>
                <a:latin typeface="Arial"/>
                <a:ea typeface="굴림"/>
              </a:rPr>
              <a:t>Strengths </a:t>
            </a: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73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46111"/>
          <p:cNvGrpSpPr/>
          <p:nvPr/>
        </p:nvGrpSpPr>
        <p:grpSpPr>
          <a:xfrm>
            <a:off x="1549440" y="2182680"/>
            <a:ext cx="4651200" cy="623880"/>
            <a:chOff x="1549440" y="2182680"/>
            <a:chExt cx="4651200" cy="623880"/>
          </a:xfrm>
        </p:grpSpPr>
        <p:sp>
          <p:nvSpPr>
            <p:cNvPr id="177" name="圆角矩形 46085"/>
            <p:cNvSpPr/>
            <p:nvPr/>
          </p:nvSpPr>
          <p:spPr>
            <a:xfrm>
              <a:off x="1549440" y="22082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圆角矩形 46086"/>
            <p:cNvSpPr/>
            <p:nvPr/>
          </p:nvSpPr>
          <p:spPr>
            <a:xfrm>
              <a:off x="1549440" y="21826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7470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46087"/>
            <p:cNvSpPr/>
            <p:nvPr/>
          </p:nvSpPr>
          <p:spPr>
            <a:xfrm rot="19033200">
              <a:off x="1574640" y="227772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46113"/>
          <p:cNvGrpSpPr/>
          <p:nvPr/>
        </p:nvGrpSpPr>
        <p:grpSpPr>
          <a:xfrm>
            <a:off x="1562040" y="3021120"/>
            <a:ext cx="4651560" cy="623880"/>
            <a:chOff x="1562040" y="3021120"/>
            <a:chExt cx="4651560" cy="623880"/>
          </a:xfrm>
        </p:grpSpPr>
        <p:sp>
          <p:nvSpPr>
            <p:cNvPr id="181" name="圆角矩形 46089"/>
            <p:cNvSpPr/>
            <p:nvPr/>
          </p:nvSpPr>
          <p:spPr>
            <a:xfrm>
              <a:off x="1562040" y="304632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46090"/>
            <p:cNvSpPr/>
            <p:nvPr/>
          </p:nvSpPr>
          <p:spPr>
            <a:xfrm>
              <a:off x="1562040" y="302112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46091"/>
            <p:cNvSpPr/>
            <p:nvPr/>
          </p:nvSpPr>
          <p:spPr>
            <a:xfrm rot="19033200">
              <a:off x="1587600" y="3115800"/>
              <a:ext cx="22680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46112"/>
          <p:cNvGrpSpPr/>
          <p:nvPr/>
        </p:nvGrpSpPr>
        <p:grpSpPr>
          <a:xfrm>
            <a:off x="1549440" y="3884760"/>
            <a:ext cx="4651200" cy="623880"/>
            <a:chOff x="1549440" y="3884760"/>
            <a:chExt cx="4651200" cy="623880"/>
          </a:xfrm>
        </p:grpSpPr>
        <p:sp>
          <p:nvSpPr>
            <p:cNvPr id="185" name="圆角矩形 46093"/>
            <p:cNvSpPr/>
            <p:nvPr/>
          </p:nvSpPr>
          <p:spPr>
            <a:xfrm>
              <a:off x="1549440" y="390996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 46094"/>
            <p:cNvSpPr/>
            <p:nvPr/>
          </p:nvSpPr>
          <p:spPr>
            <a:xfrm>
              <a:off x="1549440" y="38847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7470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46095"/>
            <p:cNvSpPr/>
            <p:nvPr/>
          </p:nvSpPr>
          <p:spPr>
            <a:xfrm rot="19033200">
              <a:off x="1574640" y="3979440"/>
              <a:ext cx="2271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46114"/>
          <p:cNvGrpSpPr/>
          <p:nvPr/>
        </p:nvGrpSpPr>
        <p:grpSpPr>
          <a:xfrm>
            <a:off x="1562040" y="4722840"/>
            <a:ext cx="4651560" cy="623880"/>
            <a:chOff x="1562040" y="4722840"/>
            <a:chExt cx="4651560" cy="623880"/>
          </a:xfrm>
        </p:grpSpPr>
        <p:sp>
          <p:nvSpPr>
            <p:cNvPr id="189" name="圆角矩形 46097"/>
            <p:cNvSpPr/>
            <p:nvPr/>
          </p:nvSpPr>
          <p:spPr>
            <a:xfrm>
              <a:off x="1562040" y="474804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圆角矩形 46098"/>
            <p:cNvSpPr/>
            <p:nvPr/>
          </p:nvSpPr>
          <p:spPr>
            <a:xfrm>
              <a:off x="1562040" y="472284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46099"/>
            <p:cNvSpPr/>
            <p:nvPr/>
          </p:nvSpPr>
          <p:spPr>
            <a:xfrm rot="19033200">
              <a:off x="1587600" y="48178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46100"/>
          <p:cNvSpPr/>
          <p:nvPr/>
        </p:nvSpPr>
        <p:spPr>
          <a:xfrm>
            <a:off x="1994040" y="22892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6101"/>
          <p:cNvSpPr/>
          <p:nvPr/>
        </p:nvSpPr>
        <p:spPr>
          <a:xfrm>
            <a:off x="2006640" y="311472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6102"/>
          <p:cNvSpPr/>
          <p:nvPr/>
        </p:nvSpPr>
        <p:spPr>
          <a:xfrm>
            <a:off x="2019240" y="3978360"/>
            <a:ext cx="388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6103"/>
          <p:cNvSpPr/>
          <p:nvPr/>
        </p:nvSpPr>
        <p:spPr>
          <a:xfrm>
            <a:off x="2031840" y="481644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五边形 47107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7" y="0"/>
                </a:lnTo>
                <a:lnTo>
                  <a:pt x="21600" y="10800"/>
                </a:lnTo>
                <a:lnTo>
                  <a:pt x="201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47108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96f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47121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202" name="圆角矩形 47110"/>
            <p:cNvSpPr/>
            <p:nvPr/>
          </p:nvSpPr>
          <p:spPr>
            <a:xfrm>
              <a:off x="952560" y="148752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圆角矩形 47111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6f0f"/>
                </a:gs>
                <a:gs pos="100000">
                  <a:srgbClr val="3f33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47112"/>
            <p:cNvSpPr/>
            <p:nvPr/>
          </p:nvSpPr>
          <p:spPr>
            <a:xfrm rot="19033200">
              <a:off x="977760" y="155700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6f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47113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47114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47122"/>
          <p:cNvGrpSpPr/>
          <p:nvPr/>
        </p:nvGrpSpPr>
        <p:grpSpPr>
          <a:xfrm>
            <a:off x="4913280" y="1457280"/>
            <a:ext cx="3137040" cy="623880"/>
            <a:chOff x="4913280" y="1457280"/>
            <a:chExt cx="3137040" cy="623880"/>
          </a:xfrm>
        </p:grpSpPr>
        <p:sp>
          <p:nvSpPr>
            <p:cNvPr id="208" name="圆角矩形 47116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圆角矩形 47117"/>
            <p:cNvSpPr/>
            <p:nvPr/>
          </p:nvSpPr>
          <p:spPr>
            <a:xfrm>
              <a:off x="4913280" y="145728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47118"/>
            <p:cNvSpPr/>
            <p:nvPr/>
          </p:nvSpPr>
          <p:spPr>
            <a:xfrm rot="19033200">
              <a:off x="4938840" y="15523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47119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椭圆 68624"/>
          <p:cNvSpPr/>
          <p:nvPr/>
        </p:nvSpPr>
        <p:spPr>
          <a:xfrm rot="1198200">
            <a:off x="1679040" y="2233440"/>
            <a:ext cx="5577120" cy="3129120"/>
          </a:xfrm>
          <a:prstGeom prst="ellipse">
            <a:avLst/>
          </a:pr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1500000"/>
          </a:gradFill>
          <a:ln w="19080">
            <a:solidFill>
              <a:srgbClr val="f7dd6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68625"/>
          <p:cNvSpPr/>
          <p:nvPr/>
        </p:nvSpPr>
        <p:spPr>
          <a:xfrm rot="1198200">
            <a:off x="1847880" y="2320560"/>
            <a:ext cx="4946760" cy="27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c9a0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椭圆 68620"/>
          <p:cNvSpPr/>
          <p:nvPr/>
        </p:nvSpPr>
        <p:spPr>
          <a:xfrm>
            <a:off x="3824280" y="13716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68621"/>
          <p:cNvSpPr/>
          <p:nvPr/>
        </p:nvSpPr>
        <p:spPr>
          <a:xfrm>
            <a:off x="2643120" y="43434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bc9a0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bc9a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68622"/>
          <p:cNvSpPr/>
          <p:nvPr/>
        </p:nvSpPr>
        <p:spPr>
          <a:xfrm>
            <a:off x="592200" y="224316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f7dd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8623"/>
          <p:cNvSpPr/>
          <p:nvPr/>
        </p:nvSpPr>
        <p:spPr>
          <a:xfrm>
            <a:off x="6103800" y="38178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896f0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96f0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49189"/>
          <p:cNvGrpSpPr/>
          <p:nvPr/>
        </p:nvGrpSpPr>
        <p:grpSpPr>
          <a:xfrm>
            <a:off x="3666960" y="2658960"/>
            <a:ext cx="4694400" cy="836640"/>
            <a:chOff x="3666960" y="2658960"/>
            <a:chExt cx="4694400" cy="836640"/>
          </a:xfrm>
        </p:grpSpPr>
        <p:sp>
          <p:nvSpPr>
            <p:cNvPr id="225" name="矩形 49155"/>
            <p:cNvSpPr/>
            <p:nvPr/>
          </p:nvSpPr>
          <p:spPr>
            <a:xfrm>
              <a:off x="7759800" y="2658960"/>
              <a:ext cx="60156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9159"/>
            <p:cNvSpPr/>
            <p:nvPr/>
          </p:nvSpPr>
          <p:spPr>
            <a:xfrm>
              <a:off x="3666960" y="2658960"/>
              <a:ext cx="410076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9194"/>
          <p:cNvGrpSpPr/>
          <p:nvPr/>
        </p:nvGrpSpPr>
        <p:grpSpPr>
          <a:xfrm>
            <a:off x="3679920" y="3776760"/>
            <a:ext cx="4707000" cy="836640"/>
            <a:chOff x="3679920" y="3776760"/>
            <a:chExt cx="4707000" cy="836640"/>
          </a:xfrm>
        </p:grpSpPr>
        <p:sp>
          <p:nvSpPr>
            <p:cNvPr id="228" name="矩形 49156"/>
            <p:cNvSpPr/>
            <p:nvPr/>
          </p:nvSpPr>
          <p:spPr>
            <a:xfrm>
              <a:off x="7746840" y="3776760"/>
              <a:ext cx="64008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9160"/>
            <p:cNvSpPr/>
            <p:nvPr/>
          </p:nvSpPr>
          <p:spPr>
            <a:xfrm>
              <a:off x="3679920" y="37767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9190"/>
          <p:cNvGrpSpPr/>
          <p:nvPr/>
        </p:nvGrpSpPr>
        <p:grpSpPr>
          <a:xfrm>
            <a:off x="3692520" y="4894200"/>
            <a:ext cx="4694400" cy="836640"/>
            <a:chOff x="3692520" y="4894200"/>
            <a:chExt cx="4694400" cy="836640"/>
          </a:xfrm>
        </p:grpSpPr>
        <p:sp>
          <p:nvSpPr>
            <p:cNvPr id="231" name="矩形 49157"/>
            <p:cNvSpPr/>
            <p:nvPr/>
          </p:nvSpPr>
          <p:spPr>
            <a:xfrm>
              <a:off x="7785000" y="489420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9161"/>
            <p:cNvSpPr/>
            <p:nvPr/>
          </p:nvSpPr>
          <p:spPr>
            <a:xfrm>
              <a:off x="3692520" y="489420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9193"/>
          <p:cNvGrpSpPr/>
          <p:nvPr/>
        </p:nvGrpSpPr>
        <p:grpSpPr>
          <a:xfrm>
            <a:off x="3654360" y="1541520"/>
            <a:ext cx="4707000" cy="836640"/>
            <a:chOff x="3654360" y="1541520"/>
            <a:chExt cx="4707000" cy="836640"/>
          </a:xfrm>
        </p:grpSpPr>
        <p:sp>
          <p:nvSpPr>
            <p:cNvPr id="234" name="矩形 49158"/>
            <p:cNvSpPr/>
            <p:nvPr/>
          </p:nvSpPr>
          <p:spPr>
            <a:xfrm>
              <a:off x="7721640" y="154152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9162"/>
            <p:cNvSpPr/>
            <p:nvPr/>
          </p:nvSpPr>
          <p:spPr>
            <a:xfrm>
              <a:off x="3654360" y="154152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任意多边形 49163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49164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49165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49166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49167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49168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bc9a0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49169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49170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49171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49172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49173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bc9a0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9174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9175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9176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9177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  <a:ea typeface="굴림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矩形 50180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0181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0182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50183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50184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50185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0186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0187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0188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0189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0190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0191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0192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0193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0194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0195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0196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574705"/>
              </a:gs>
              <a:gs pos="100000">
                <a:srgbClr val="bc9a0a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0197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574705"/>
              </a:gs>
              <a:gs pos="100000">
                <a:srgbClr val="bc9a0a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0198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574705"/>
              </a:gs>
              <a:gs pos="100000">
                <a:srgbClr val="bc9a0a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50199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574705"/>
              </a:gs>
              <a:gs pos="100000">
                <a:srgbClr val="bc9a0a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50200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0201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0202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50203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50204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内容占位符 51203" descr=""/>
          <p:cNvPicPr/>
          <p:nvPr/>
        </p:nvPicPr>
        <p:blipFill>
          <a:blip r:embed="rId1"/>
          <a:stretch/>
        </p:blipFill>
        <p:spPr>
          <a:xfrm>
            <a:off x="1392120" y="1376280"/>
            <a:ext cx="6267600" cy="49690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内容占位符 53251" descr=""/>
          <p:cNvPicPr/>
          <p:nvPr/>
        </p:nvPicPr>
        <p:blipFill>
          <a:blip r:embed="rId1"/>
          <a:stretch/>
        </p:blipFill>
        <p:spPr>
          <a:xfrm>
            <a:off x="1031760" y="1447920"/>
            <a:ext cx="6775560" cy="4952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8Z</dcterms:modified>
  <cp:revision>4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