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B8D-01F1-489C-B411-37452DB5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9A7-A1ED-4E30-8309-FAEFCF7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80A-F0BD-4B81-AF2D-03F91D82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74F-781F-4692-BCF2-C6E9EC7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F27E-B9CC-4A6E-A6EF-6C063E6A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61E1-3969-4E0E-90C4-3424295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5FBB-C426-4294-B15F-F12256FA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5673-7EAD-48CE-83D0-C0DFC03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0F7-282A-4EB4-BD93-D999B006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FA73-77D5-4164-B399-44EE8968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81C6-5671-47DC-B66A-E5FC2C4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9EF-7D7C-45B2-BB3C-7942D4B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14F-446D-4F76-B6EF-0ACDA3D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1B1-315B-49FA-A2BA-9A9D698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699-52DE-4A89-AB7C-85CA980E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E89E-179C-41AE-A1F1-3C955931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29C-B8E8-4448-8616-6E433968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AFA0-91AF-42DF-9D61-84710CA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FB76-46DC-47EA-BAA1-894B759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F514-382E-4BC1-ABAE-D7A9AB6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2EF3-D4CD-4AA7-A1A1-F496796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9865-62CC-4FC3-91F1-21A1F0D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AF1-D434-4421-9106-D5EFF77A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48C0-AC1D-46E8-9E3F-9BB52D11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4DD1-9EFE-45DB-971E-DF7D182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5D49-7AD7-4C0D-BBB5-58E1C6E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75D1-ACAE-4753-8876-8976A39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BF93-6507-4ACA-9BAD-A8524015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7637-5CA2-417B-8845-7965A078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07D3-78B6-419A-B9CB-DFEAA0FF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61A-B519-4FD2-AF75-0BD1795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FFE-FBC1-41C3-B292-E81D5E3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9D8-27F0-4D06-9F6B-A8162D81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7A8-26A8-47AF-B70F-7A90D63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7F5-BFD2-4F0C-9F02-81ABAAD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90A-E4D2-4794-9A35-25F222F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CC9-F835-439D-991F-5ADC9A83BB0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12C-49DA-4DD2-B1A3-F2333AEBF6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A78-F876-4FF0-8EC5-1C344BC6F5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7461-58E3-4EDF-BFE8-10754CC1434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10"/>
          <p:cNvSpPr txBox="1"/>
          <p:nvPr/>
        </p:nvSpPr>
        <p:spPr>
          <a:xfrm>
            <a:off x="250920" y="1197000"/>
            <a:ext cx="75056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454545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黑体"/>
              </a:rPr>
              <a:t>漂亮的六一儿童节卡通幻灯片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454545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585880" y="4383000"/>
            <a:ext cx="23767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c0c0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46040" y="16128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修改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格式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设计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编辑配色方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的添加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内页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添加修改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视图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首页直接选择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图片删除或修改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字体格式的设置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括标题和文本格式的设置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视图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9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8848-D15D-4D97-955E-2D9D44DDEF59}" type="slidenum">
              <a:rPr b="0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135400" y="3032280"/>
            <a:ext cx="2189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黑体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6Z</dcterms:modified>
  <cp:revision>1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