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2CC-E139-4232-89DC-06D2871E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2BF-52B1-4D3E-9EEB-7F95A83E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209B2-9311-42FE-927A-98B225D1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CDEDF-8229-4A50-8F96-D990ED7D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E5576-C8A5-40C9-8B98-D32D6CBF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1C41C-7A84-4E2C-AF60-15D6EC83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C63E1-E02A-4872-BB92-40296AE3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F7229-519E-4205-A2E6-F9586387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4BED8-DC36-43BB-9DC5-AC025A38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023BF-B2F5-4C00-A2E7-C2125DDB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05348-D38B-4124-83E1-4C84C576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9367C-177B-4697-A7E4-F0C2E3D9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543F-2D9C-4311-A59F-6882FC90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4F1AC-324B-4D7E-A7C2-1A949CDD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1D646-9BCC-481E-AEDE-6F69ED4A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7569A-67BD-4883-844E-4AF9B686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7F1AC-9692-44DC-848D-E144DB20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D3E95-CC8E-4CED-BEE5-67EDAB68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3326F-D2E4-4951-B763-399BE184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2F348-41C8-428D-AC8F-D25A13B6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FDB3C-59F8-471A-AE8E-31D94402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C8469-CCFD-4318-BD4D-1C19CF9C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8C807-71B4-4A72-9E03-4FD30685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6CD-E7B8-4EAC-8D6A-F7874FA8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EFBF6-7A1F-4871-9E75-3730BAFD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C282F-4F4A-4652-8351-6A4CB538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8C8CB-0738-4BA5-BB14-EF3B270A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920C7-5FCB-41F2-9EF2-6E790BC5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D3822-DCCA-49D4-9F7A-F3ACB8CF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207B7-6E3B-4E13-9338-8B4E0168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A87D4-182D-4454-AEC4-F14A6AB9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FF9B5-54DB-4040-BC4A-8E2906B1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34662-EF1C-4A43-8720-5489BE1A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FFBF4-C388-4760-A242-E047D43E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DFE6-1B0B-4A31-B5C9-8A35AB39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27FE2-E429-4F0B-9B56-0EA2F7D5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4EC6B-8527-43F4-8E8F-080FB1B6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5D1B5-6A08-453A-8030-EC25B254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4671E-0586-4006-ABBD-FB75D9AA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7C875-8F24-4456-9314-F2303566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1820B-70E8-470C-8119-0525F2A2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21D81-A84F-4872-9BAD-CA99CD20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75849-7D95-4C1B-AA8F-037B564E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ABAFC-7267-4C1E-8DB1-4E9213AF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890AD-CC08-4AA3-B94F-5410A566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E9D0-E601-430F-9D67-6BB3F0B6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D038E-BD30-482E-8D72-6B31EEBC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BC1B2-DA5D-4A95-BE82-F131012F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4FB67-8773-4D3D-B311-C5C45D60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9D327-A762-408B-94C4-2F6C1557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A5910-8EFD-40EB-922D-21110196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0F057-FBE8-4388-8A35-77D6AC72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A5B70-A5B1-4593-8603-5B90FFBD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118D9-DD30-4A39-986D-7A15D13E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8217C-B0CF-4661-ABFB-B401D1C7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96E03-DED6-46AE-B05F-06C03CCB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BA55-7D76-464A-BE33-7798528E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7ABEC-7233-4865-85C0-B9F47FA7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5EA88-97E7-4A42-8B11-371E33DE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62C54-CF47-48C6-905A-C7F56AC7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B8422-8EAF-45BB-8113-861F3C6C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30B19-1BD1-4F1D-8DF5-EB6E4594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2A676-E887-4DFA-9803-5F8A1694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E2B234-9FB1-4F68-BA5D-E21803B2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01EE-FE4D-4447-B428-CC496050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249C-D7E6-41F5-AD29-E744FCFB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425E-ED16-46FB-B941-D469D2A7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D144-314B-48D6-B1C2-AAAD9543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2DF8-5339-4F24-A2BD-A1F0AD58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5CCF-F8CC-42AB-A206-F5426D64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1A65-52FF-46A1-8BB6-6C18A273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28FC-0204-4716-AFD9-C4A455B2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DA44-FE70-49C8-BA5E-6F9182FE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366D-E4D5-431E-ABB4-0331D39C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46C17-8266-49DB-A5D6-AEAB9C41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E89B5-DEAB-4BD2-9164-3A086C01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832DD-E7B0-45A8-AE0F-CB9F3D2A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1C3E1-7544-4589-9D03-BE892BCE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655DB-3163-41AC-8B57-24DEA4F2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4B9-27D1-49AE-B741-1D7B4131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2B076-08C6-4969-86DB-56C55BE0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7CA0-A317-45B3-ADD5-15CC0902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BD1C-8279-4EFC-8C50-2568AF3E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C3CEE-B134-4F9C-8ACD-2C51A59C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EB5C-B95D-46C7-B23C-FEF24062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71BC7-52CD-48C8-A293-1C9B385D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67897-3D64-4A70-9860-43992EA3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A4712-704D-41CF-8461-D2C693D3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E311A-AD71-4F22-BF91-E77E53D7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F1176-28D5-4E22-8960-4BE6661B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CEF-7C9F-416B-80BC-53870BC9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7B86C-BD49-474E-8F71-6D47F4CA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54990-C400-4603-B17F-CCDA4973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F078-641A-48B2-8F82-3AFBC483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6AA69-DB94-44C9-9DB7-DB0F599B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9BD3C-D9F2-4499-95EB-77091F65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DB5DE-3482-4CCE-9BC8-8150E9F0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B9B17-1709-4281-B4A5-A41D0FC2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428C8-63CD-475D-A2C9-C4003129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FFA9A-06E3-42AA-979C-9EB0E0D0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1C7E0-C683-4257-AAD4-D2FAA66D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FAD-608D-494F-BF24-63D4A37D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C3376-9455-467A-BB69-0D54925F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FAFC9-9CEE-4AF9-ABA5-199A5C4C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F608D-8C93-408D-B055-C834D7A2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C2FA2-A296-4207-BA5D-A7E30B56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43B1E-1B54-4D5B-A570-BB93247A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6498F-0CBB-4373-9A99-6B361EF1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F8579-E1A8-4840-8EEE-362F1541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E12F5-25A6-4A82-97AC-93ED0401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4161A-4900-4925-9A10-3E359D15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7B880-8D9F-41DA-A7A2-A4DB463C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9A4-5066-4BC0-B0C2-A1D21DB9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2D02D-9BD2-4430-B018-1DC3CC77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C8CE4-D13A-4C27-BF09-6276E06F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97AB1-5537-478D-92CA-3AC24C32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C7E5B-5218-45FB-8685-B808E35F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58F29-E12F-46A9-91C3-87A0F8D3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77481-EC7D-47DE-B4C6-798B32D5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8C793-A9CA-4A5B-BF19-4EDC8E6F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3A940-40F5-48FE-B29D-BDC56DD0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D7DE4-1D07-414A-A1E6-2DD0245B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F3265-ED20-4884-9C5F-7E078C00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A8A-6545-49A9-AC36-7490122D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E23B8-5BD7-4DF2-A252-3A7AFC6E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A2D9F-4E8D-4E49-B230-129401DC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50EBC-B039-4677-90DF-C6A8AC69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25A2A-BC9D-4F24-AE33-F7D9A71E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4B896-4215-4153-8FAF-1EFE04DB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24B44-EFD8-43F9-9B77-31F6228D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E843B-7FB9-4E30-9346-AD1F0AB4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1F928-FD53-43D5-867F-1F2C6EBE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9C6E-361F-4276-B768-206A2FB9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23123-F4C3-4513-990E-65341C33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A6B-D480-492B-B295-9EF845BE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DA54F-BE73-462D-8A8D-B10D2C90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E4B89-88F6-4C5F-B1AC-8609667E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B793B-3E44-4004-BF5A-985F0DE8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B1092-FB80-4655-A723-59C39EE0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B6DD4-32B6-45E4-90B8-0510B4F4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20BDC-8CB5-4D68-8AB2-57BAD1F0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7A9D6-DDC7-4D5B-801F-83809D8A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BBFA7-6AD3-4D44-82B9-2C7C5D58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A82CE-8326-4029-8342-1D9CDDAC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E37CC-F46B-4A83-8D3C-A80C90F8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47D-F47F-4CEA-8A64-E84BA4A9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6899D-D193-42DF-BA74-99CFDA52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4F1C6-3582-4CCF-A396-0C384A6A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83669-CC23-40B9-B545-E0E1027A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376EF-A6D3-44E3-A502-4A0CDFC2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09E8D-2E6F-42C5-829E-267CE116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6E6E2-D779-4219-877A-EB912565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7EEC6-4772-4A20-98D2-D1AB3556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D3B05-DDE4-4C0E-85D0-1E3B2B76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57E95-C347-4A2D-9BB2-A78D22B0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A51D2-8EC5-4927-80EF-B316BCAB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Even-1920_1200.jpg"/>
          <p:cNvPicPr/>
          <p:nvPr/>
        </p:nvPicPr>
        <p:blipFill>
          <a:blip r:embed="rId2"/>
          <a:srcRect l="0" t="0" r="0" b="15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2D03-2004-4275-BBAF-ACD466B058E1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图片 6" descr="Even-1920_1200.jpg"/>
          <p:cNvPicPr/>
          <p:nvPr/>
        </p:nvPicPr>
        <p:blipFill>
          <a:blip r:embed="rId2"/>
          <a:srcRect l="0" t="0" r="0" b="15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6123-812A-4645-BF05-5756F23215AD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图片 6" descr="Even-1920_1200.jpg"/>
          <p:cNvPicPr/>
          <p:nvPr/>
        </p:nvPicPr>
        <p:blipFill>
          <a:blip r:embed="rId2"/>
          <a:srcRect l="0" t="0" r="0" b="15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26CA-8FF5-4B97-A9CF-56024CCC67AC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图片 6" descr="Even-1920_1200.jpg"/>
          <p:cNvPicPr/>
          <p:nvPr/>
        </p:nvPicPr>
        <p:blipFill>
          <a:blip r:embed="rId2"/>
          <a:srcRect l="0" t="0" r="0" b="15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8E73-33BE-4F2E-892F-C1535F597E2B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6" descr="Even-1920_1200.jpg"/>
          <p:cNvPicPr/>
          <p:nvPr/>
        </p:nvPicPr>
        <p:blipFill>
          <a:blip r:embed="rId2"/>
          <a:srcRect l="0" t="0" r="0" b="15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6B61-5B32-4525-84E3-359F77B62F33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26CD-ACF8-4110-B8E5-0B0623E429B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6BC6-0C80-42ED-B92E-A2DCDBDADB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Even-1920_1200.jpg"/>
          <p:cNvPicPr/>
          <p:nvPr/>
        </p:nvPicPr>
        <p:blipFill>
          <a:blip r:embed="rId2"/>
          <a:srcRect l="0" t="0" r="0" b="15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85C6-F685-4FC1-846C-5B4E274E7F5A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6" descr="Even-1920_1200.jpg"/>
          <p:cNvPicPr/>
          <p:nvPr/>
        </p:nvPicPr>
        <p:blipFill>
          <a:blip r:embed="rId2"/>
          <a:srcRect l="0" t="0" r="0" b="15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577B-740F-4F0B-9C9A-768E71702881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6" descr="Even-1920_1200.jpg"/>
          <p:cNvPicPr/>
          <p:nvPr/>
        </p:nvPicPr>
        <p:blipFill>
          <a:blip r:embed="rId2"/>
          <a:srcRect l="0" t="0" r="0" b="15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CE1D-DA27-4302-8AF1-CC49E5A19A6F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6" descr="Even-1920_1200.jpg"/>
          <p:cNvPicPr/>
          <p:nvPr/>
        </p:nvPicPr>
        <p:blipFill>
          <a:blip r:embed="rId2"/>
          <a:srcRect l="0" t="0" r="0" b="15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44C8-1382-499C-9AC4-12B1570BD728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6" descr="Even-1920_1200.jpg"/>
          <p:cNvPicPr/>
          <p:nvPr/>
        </p:nvPicPr>
        <p:blipFill>
          <a:blip r:embed="rId2"/>
          <a:srcRect l="0" t="0" r="0" b="15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EDD5-80C7-4700-B384-E116D7CF4484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图片 6" descr="Even-1920_1200.jpg"/>
          <p:cNvPicPr/>
          <p:nvPr/>
        </p:nvPicPr>
        <p:blipFill>
          <a:blip r:embed="rId2"/>
          <a:srcRect l="0" t="0" r="0" b="15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5785-F028-480B-AD05-B6F241E0AEF8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6" descr="Even-1920_1200.jpg"/>
          <p:cNvPicPr/>
          <p:nvPr/>
        </p:nvPicPr>
        <p:blipFill>
          <a:blip r:embed="rId2"/>
          <a:srcRect l="0" t="0" r="0" b="15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5FF3-9D73-4EF2-B350-AD4181BC1B2C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http://www.lpxx.com/dynamic/UploadDynamics/200711/20071127093316917.jpg"/>
          <p:cNvPicPr/>
          <p:nvPr/>
        </p:nvPicPr>
        <p:blipFill>
          <a:blip r:embed="rId1"/>
          <a:stretch/>
        </p:blipFill>
        <p:spPr>
          <a:xfrm>
            <a:off x="5425920" y="4286160"/>
            <a:ext cx="3789360" cy="257184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"/>
          <p:cNvSpPr/>
          <p:nvPr/>
        </p:nvSpPr>
        <p:spPr>
          <a:xfrm>
            <a:off x="2598120" y="186228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我们能给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贫穷者</a:t>
            </a: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什么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希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2571840" y="384480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Franklin Gothic Book"/>
                <a:ea typeface="黑体"/>
              </a:rPr>
              <a:t>『</a:t>
            </a:r>
            <a:r>
              <a:rPr b="0" lang="zh-CN" sz="3200" spc="-1" strike="noStrike">
                <a:solidFill>
                  <a:srgbClr val="00b0f0"/>
                </a:solidFill>
                <a:latin typeface="Franklin Gothic Book"/>
                <a:ea typeface="黑体"/>
              </a:rPr>
              <a:t>原文作者</a:t>
            </a:r>
            <a:r>
              <a:rPr b="0" lang="en-US" sz="3200" spc="-1" strike="noStrike">
                <a:solidFill>
                  <a:srgbClr val="00b0f0"/>
                </a:solidFill>
                <a:latin typeface="Franklin Gothic Book"/>
                <a:ea typeface="黑体"/>
              </a:rPr>
              <a:t>』</a:t>
            </a:r>
            <a:r>
              <a:rPr b="0" lang="zh-CN" sz="3200" spc="-1" strike="noStrike">
                <a:solidFill>
                  <a:srgbClr val="00b0f0"/>
                </a:solidFill>
                <a:latin typeface="Franklin Gothic Book"/>
                <a:ea typeface="黑体"/>
              </a:rPr>
              <a:t>郎咸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6155"/>
          <p:cNvSpPr/>
          <p:nvPr/>
        </p:nvSpPr>
        <p:spPr>
          <a:xfrm>
            <a:off x="34920" y="6093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6"/>
          <p:cNvSpPr/>
          <p:nvPr/>
        </p:nvSpPr>
        <p:spPr>
          <a:xfrm>
            <a:off x="2127240" y="907920"/>
            <a:ext cx="53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贫穷者统计报告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9E31-1A81-4E0D-AC5A-99BE1C8C45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3"/>
          <p:cNvSpPr/>
          <p:nvPr/>
        </p:nvSpPr>
        <p:spPr>
          <a:xfrm>
            <a:off x="876960" y="67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免责声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7"/>
          <p:cNvSpPr/>
          <p:nvPr/>
        </p:nvSpPr>
        <p:spPr>
          <a:xfrm>
            <a:off x="857160" y="1822320"/>
            <a:ext cx="58579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原文出自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1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日</a:t>
            </a:r>
            <a:r>
              <a:rPr b="0" lang="zh-CN" sz="2800" spc="-1" strike="noStrike">
                <a:solidFill>
                  <a:srgbClr val="00b0f0"/>
                </a:solidFill>
                <a:latin typeface="黑体"/>
                <a:ea typeface="黑体"/>
              </a:rPr>
              <a:t>腾讯财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原文作者</a:t>
            </a:r>
            <a:r>
              <a:rPr b="0" lang="zh-CN" sz="2800" spc="-1" strike="noStrike">
                <a:solidFill>
                  <a:srgbClr val="00b0f0"/>
                </a:solidFill>
                <a:latin typeface="黑体"/>
                <a:ea typeface="黑体"/>
              </a:rPr>
              <a:t>郎咸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容与本人无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本人只负责版面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6062760" y="5143680"/>
            <a:ext cx="3081240" cy="863280"/>
          </a:xfrm>
          <a:prstGeom prst="rect">
            <a:avLst/>
          </a:prstGeom>
          <a:ln w="0">
            <a:noFill/>
          </a:ln>
        </p:spPr>
      </p:pic>
      <p:sp>
        <p:nvSpPr>
          <p:cNvPr id="618" name="TextBox 10"/>
          <p:cNvSpPr/>
          <p:nvPr/>
        </p:nvSpPr>
        <p:spPr>
          <a:xfrm>
            <a:off x="1260360" y="51595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谢观赏！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页脚占位符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1"/>
          <p:cNvSpPr/>
          <p:nvPr/>
        </p:nvSpPr>
        <p:spPr>
          <a:xfrm>
            <a:off x="1157760" y="6764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强烈质疑！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2"/>
          <p:cNvSpPr/>
          <p:nvPr/>
        </p:nvSpPr>
        <p:spPr>
          <a:xfrm>
            <a:off x="4071960" y="1841400"/>
            <a:ext cx="4714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报告称：“中国居民家庭收入自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2004</a:t>
            </a: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年以来，至少</a:t>
            </a:r>
            <a:r>
              <a:rPr b="1" lang="zh-CN" sz="2800" spc="-1" strike="noStrike">
                <a:solidFill>
                  <a:srgbClr val="00b0f0"/>
                </a:solidFill>
                <a:latin typeface="Franklin Gothic Book"/>
                <a:ea typeface="黑体"/>
              </a:rPr>
              <a:t>增长了</a:t>
            </a:r>
            <a:r>
              <a:rPr b="1" lang="en-US" sz="2800" spc="-1" strike="noStrike">
                <a:solidFill>
                  <a:srgbClr val="00b0f0"/>
                </a:solidFill>
                <a:latin typeface="Franklin Gothic Book"/>
                <a:ea typeface="黑体"/>
              </a:rPr>
              <a:t>50%</a:t>
            </a: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折角形 3" descr=""/>
          <p:cNvPicPr/>
          <p:nvPr/>
        </p:nvPicPr>
        <p:blipFill>
          <a:blip r:embed="rId1"/>
          <a:stretch/>
        </p:blipFill>
        <p:spPr>
          <a:xfrm>
            <a:off x="477720" y="1873080"/>
            <a:ext cx="3624480" cy="4484880"/>
          </a:xfrm>
          <a:prstGeom prst="rect">
            <a:avLst/>
          </a:prstGeom>
          <a:ln w="0">
            <a:noFill/>
          </a:ln>
        </p:spPr>
      </p:pic>
      <p:sp>
        <p:nvSpPr>
          <p:cNvPr id="532" name="TextBox 4"/>
          <p:cNvSpPr/>
          <p:nvPr/>
        </p:nvSpPr>
        <p:spPr>
          <a:xfrm rot="21120000">
            <a:off x="1015560" y="29224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中国消费者调查报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5"/>
          <p:cNvSpPr/>
          <p:nvPr/>
        </p:nvSpPr>
        <p:spPr>
          <a:xfrm rot="573000">
            <a:off x="4845240" y="4721400"/>
            <a:ext cx="2654640" cy="916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被增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6"/>
          <p:cNvSpPr/>
          <p:nvPr/>
        </p:nvSpPr>
        <p:spPr>
          <a:xfrm rot="21120000">
            <a:off x="1166760" y="3956040"/>
            <a:ext cx="25718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国际投行瑞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8"/>
          <p:cNvSpPr/>
          <p:nvPr/>
        </p:nvSpPr>
        <p:spPr>
          <a:xfrm flipV="1">
            <a:off x="1142640" y="3223440"/>
            <a:ext cx="2247120" cy="314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页脚占位符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Box 3"/>
          <p:cNvSpPr/>
          <p:nvPr/>
        </p:nvSpPr>
        <p:spPr>
          <a:xfrm>
            <a:off x="794160" y="676440"/>
            <a:ext cx="20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最长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最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4"/>
          <p:cNvSpPr/>
          <p:nvPr/>
        </p:nvSpPr>
        <p:spPr>
          <a:xfrm>
            <a:off x="3742560" y="15001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长的工作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8"/>
          <p:cNvGrpSpPr/>
          <p:nvPr/>
        </p:nvGrpSpPr>
        <p:grpSpPr>
          <a:xfrm>
            <a:off x="1260720" y="2071800"/>
            <a:ext cx="6097320" cy="4357440"/>
            <a:chOff x="1260720" y="2071800"/>
            <a:chExt cx="6097320" cy="4357440"/>
          </a:xfrm>
        </p:grpSpPr>
        <p:pic>
          <p:nvPicPr>
            <p:cNvPr id="540" name="图表 6" descr=""/>
            <p:cNvPicPr/>
            <p:nvPr/>
          </p:nvPicPr>
          <p:blipFill>
            <a:blip r:embed="rId1"/>
            <a:stretch/>
          </p:blipFill>
          <p:spPr>
            <a:xfrm>
              <a:off x="1928880" y="2071800"/>
              <a:ext cx="5429160" cy="43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7"/>
            <p:cNvSpPr/>
            <p:nvPr/>
          </p:nvSpPr>
          <p:spPr>
            <a:xfrm>
              <a:off x="1260720" y="2128680"/>
              <a:ext cx="729360" cy="41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5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Franklin Gothic Book"/>
                  <a:ea typeface="黑体"/>
                </a:rPr>
                <a:t>荷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Franklin Gothic Book"/>
                  <a:ea typeface="黑体"/>
                </a:rPr>
                <a:t>美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Franklin Gothic Book"/>
                  <a:ea typeface="黑体"/>
                </a:rPr>
                <a:t>日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Franklin Gothic Book"/>
                  <a:ea typeface="黑体"/>
                </a:rPr>
                <a:t>阿根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Franklin Gothic Book"/>
                  <a:ea typeface="黑体"/>
                </a:rPr>
                <a:t>巴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5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Franklin Gothic Book"/>
                  <a:ea typeface="黑体"/>
                </a:rPr>
                <a:t>中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Box 9"/>
          <p:cNvSpPr/>
          <p:nvPr/>
        </p:nvSpPr>
        <p:spPr>
          <a:xfrm>
            <a:off x="5104800" y="232416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1389</a:t>
            </a:r>
            <a:r>
              <a:rPr b="0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0"/>
          <p:cNvSpPr/>
          <p:nvPr/>
        </p:nvSpPr>
        <p:spPr>
          <a:xfrm>
            <a:off x="5518080" y="299556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1610</a:t>
            </a:r>
            <a:r>
              <a:rPr b="0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1"/>
          <p:cNvSpPr/>
          <p:nvPr/>
        </p:nvSpPr>
        <p:spPr>
          <a:xfrm>
            <a:off x="5809320" y="366696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1758</a:t>
            </a:r>
            <a:r>
              <a:rPr b="0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2"/>
          <p:cNvSpPr/>
          <p:nvPr/>
        </p:nvSpPr>
        <p:spPr>
          <a:xfrm>
            <a:off x="6024600" y="433872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1841</a:t>
            </a:r>
            <a:r>
              <a:rPr b="0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3"/>
          <p:cNvSpPr/>
          <p:nvPr/>
        </p:nvSpPr>
        <p:spPr>
          <a:xfrm>
            <a:off x="6103800" y="501012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1903</a:t>
            </a:r>
            <a:r>
              <a:rPr b="0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4"/>
          <p:cNvSpPr/>
          <p:nvPr/>
        </p:nvSpPr>
        <p:spPr>
          <a:xfrm>
            <a:off x="6676920" y="568152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2200</a:t>
            </a:r>
            <a:r>
              <a:rPr b="0" lang="zh-CN" sz="24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15"/>
          <p:cNvSpPr/>
          <p:nvPr/>
        </p:nvSpPr>
        <p:spPr>
          <a:xfrm flipV="1">
            <a:off x="2049480" y="2330280"/>
            <a:ext cx="1440" cy="3851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页脚占位符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Box 3"/>
          <p:cNvSpPr/>
          <p:nvPr/>
        </p:nvSpPr>
        <p:spPr>
          <a:xfrm>
            <a:off x="794160" y="676440"/>
            <a:ext cx="20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最长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最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"/>
          <p:cNvSpPr/>
          <p:nvPr/>
        </p:nvSpPr>
        <p:spPr>
          <a:xfrm>
            <a:off x="3742560" y="15001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低的人均工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9"/>
          <p:cNvGrpSpPr/>
          <p:nvPr/>
        </p:nvGrpSpPr>
        <p:grpSpPr>
          <a:xfrm>
            <a:off x="1341000" y="2357280"/>
            <a:ext cx="6112440" cy="3571920"/>
            <a:chOff x="1341000" y="2357280"/>
            <a:chExt cx="6112440" cy="3571920"/>
          </a:xfrm>
        </p:grpSpPr>
        <p:pic>
          <p:nvPicPr>
            <p:cNvPr id="553" name="图表 8" descr=""/>
            <p:cNvPicPr/>
            <p:nvPr/>
          </p:nvPicPr>
          <p:blipFill>
            <a:blip r:embed="rId1"/>
            <a:stretch/>
          </p:blipFill>
          <p:spPr>
            <a:xfrm>
              <a:off x="1928520" y="2357280"/>
              <a:ext cx="5524920" cy="35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Box 7"/>
            <p:cNvSpPr/>
            <p:nvPr/>
          </p:nvSpPr>
          <p:spPr>
            <a:xfrm>
              <a:off x="1341000" y="2405880"/>
              <a:ext cx="546480" cy="33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6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Franklin Gothic Book"/>
                  <a:ea typeface="黑体"/>
                </a:rPr>
                <a:t>中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6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Franklin Gothic Book"/>
                  <a:ea typeface="黑体"/>
                </a:rPr>
                <a:t>泰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6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Franklin Gothic Book"/>
                  <a:ea typeface="黑体"/>
                </a:rPr>
                <a:t>美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6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Franklin Gothic Book"/>
                  <a:ea typeface="黑体"/>
                </a:rPr>
                <a:t>德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TextBox 10"/>
          <p:cNvSpPr/>
          <p:nvPr/>
        </p:nvSpPr>
        <p:spPr>
          <a:xfrm>
            <a:off x="2691720" y="26812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0.8</a:t>
            </a:r>
            <a:r>
              <a:rPr b="0" lang="zh-CN" sz="24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美元每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2805480" y="3500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美元每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6095520" y="435780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22</a:t>
            </a:r>
            <a:r>
              <a:rPr b="0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美元每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6381000" y="514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30</a:t>
            </a:r>
            <a:r>
              <a:rPr b="0" lang="zh-CN" sz="2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美元每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直接连接符 14"/>
          <p:cNvSpPr/>
          <p:nvPr/>
        </p:nvSpPr>
        <p:spPr>
          <a:xfrm flipV="1">
            <a:off x="2054160" y="2612520"/>
            <a:ext cx="1800" cy="309564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8196"/>
          <p:cNvSpPr/>
          <p:nvPr/>
        </p:nvSpPr>
        <p:spPr>
          <a:xfrm>
            <a:off x="826920" y="220500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9"/>
          <p:cNvSpPr/>
          <p:nvPr/>
        </p:nvSpPr>
        <p:spPr>
          <a:xfrm>
            <a:off x="3429000" y="1973160"/>
            <a:ext cx="5429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拿的是全世界</a:t>
            </a:r>
            <a:r>
              <a:rPr b="1" lang="zh-CN" sz="2800" spc="-1" strike="noStrike">
                <a:solidFill>
                  <a:srgbClr val="00b0f0"/>
                </a:solidFill>
                <a:latin typeface="Franklin Gothic Book"/>
                <a:ea typeface="黑体"/>
              </a:rPr>
              <a:t>最少</a:t>
            </a: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的工资，但工作时间却是全世界</a:t>
            </a:r>
            <a:r>
              <a:rPr b="1" lang="zh-CN" sz="2800" spc="-1" strike="noStrike">
                <a:solidFill>
                  <a:srgbClr val="00b0f0"/>
                </a:solidFill>
                <a:latin typeface="Franklin Gothic Book"/>
                <a:ea typeface="黑体"/>
              </a:rPr>
              <a:t>最长</a:t>
            </a: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10"/>
          <p:cNvSpPr/>
          <p:nvPr/>
        </p:nvSpPr>
        <p:spPr>
          <a:xfrm>
            <a:off x="1797480" y="49053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多么勤劳的民族，多么可怜的民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6357960" y="3933720"/>
            <a:ext cx="2714760" cy="2995560"/>
          </a:xfrm>
          <a:prstGeom prst="rect">
            <a:avLst/>
          </a:prstGeom>
          <a:ln w="0">
            <a:noFill/>
          </a:ln>
        </p:spPr>
      </p:pic>
      <p:sp>
        <p:nvSpPr>
          <p:cNvPr id="565" name="TextBox 11"/>
          <p:cNvSpPr/>
          <p:nvPr/>
        </p:nvSpPr>
        <p:spPr>
          <a:xfrm>
            <a:off x="794160" y="676440"/>
            <a:ext cx="20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最长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最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http://img.blshe.com/resserver.php?blogId=11303&amp;resource=nEO_IMG_DSC_3690%E5%89%AF%E6%9C%AC%20(1).jpg&amp;mode=medium"/>
          <p:cNvPicPr/>
          <p:nvPr/>
        </p:nvPicPr>
        <p:blipFill>
          <a:blip r:embed="rId2"/>
          <a:srcRect l="10500" t="11293" r="16003" b="5123"/>
          <a:stretch/>
        </p:blipFill>
        <p:spPr>
          <a:xfrm>
            <a:off x="-187200" y="1571760"/>
            <a:ext cx="3973320" cy="300024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8"/>
          <p:cNvSpPr/>
          <p:nvPr/>
        </p:nvSpPr>
        <p:spPr>
          <a:xfrm>
            <a:off x="2453760" y="3246480"/>
            <a:ext cx="37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彩网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c115.com-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页脚占位符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5686560" y="328608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570" name="TextBox 3"/>
          <p:cNvSpPr/>
          <p:nvPr/>
        </p:nvSpPr>
        <p:spPr>
          <a:xfrm>
            <a:off x="1532160" y="6764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奢侈品的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消费大国</a:t>
            </a: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却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4"/>
          <p:cNvSpPr/>
          <p:nvPr/>
        </p:nvSpPr>
        <p:spPr>
          <a:xfrm>
            <a:off x="2310840" y="19051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中国成为了奢侈品消费的第二大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5"/>
          <p:cNvSpPr/>
          <p:nvPr/>
        </p:nvSpPr>
        <p:spPr>
          <a:xfrm>
            <a:off x="639000" y="2719440"/>
            <a:ext cx="15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odoni MT Black"/>
                <a:ea typeface="Arial Unicode MS"/>
              </a:rPr>
              <a:t>B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"/>
          <p:cNvSpPr/>
          <p:nvPr/>
        </p:nvSpPr>
        <p:spPr>
          <a:xfrm>
            <a:off x="1875600" y="3762360"/>
            <a:ext cx="42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它的消费占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GDP</a:t>
            </a: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的比率却只有</a:t>
            </a:r>
            <a:r>
              <a:rPr b="1" lang="en-US" sz="2800" spc="-1" strike="noStrike">
                <a:solidFill>
                  <a:srgbClr val="00b0f0"/>
                </a:solidFill>
                <a:latin typeface="Franklin Gothic Book"/>
                <a:ea typeface="黑体"/>
              </a:rPr>
              <a:t>2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7"/>
          <p:cNvSpPr/>
          <p:nvPr/>
        </p:nvSpPr>
        <p:spPr>
          <a:xfrm>
            <a:off x="1799640" y="5715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消费力严重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8"/>
          <p:cNvSpPr/>
          <p:nvPr/>
        </p:nvSpPr>
        <p:spPr>
          <a:xfrm>
            <a:off x="606240" y="4643280"/>
            <a:ext cx="109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odoni MT Black"/>
                <a:ea typeface="Arial Unicode MS"/>
              </a:rPr>
              <a:t>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页脚占位符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Box 3"/>
          <p:cNvSpPr/>
          <p:nvPr/>
        </p:nvSpPr>
        <p:spPr>
          <a:xfrm>
            <a:off x="1532160" y="6764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奢侈品的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消费大国</a:t>
            </a: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却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430200" y="1500120"/>
            <a:ext cx="9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把该国家的薪资收入加在一起，除以这个国家的</a:t>
            </a:r>
            <a:r>
              <a:rPr b="1" lang="en-US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图表 10" descr=""/>
          <p:cNvPicPr/>
          <p:nvPr/>
        </p:nvPicPr>
        <p:blipFill>
          <a:blip r:embed="rId1"/>
          <a:stretch/>
        </p:blipFill>
        <p:spPr>
          <a:xfrm>
            <a:off x="1071720" y="2039760"/>
            <a:ext cx="6929280" cy="4246920"/>
          </a:xfrm>
          <a:prstGeom prst="rect">
            <a:avLst/>
          </a:prstGeom>
          <a:ln w="0">
            <a:noFill/>
          </a:ln>
        </p:spPr>
      </p:pic>
      <p:sp>
        <p:nvSpPr>
          <p:cNvPr id="581" name="TextBox 11"/>
          <p:cNvSpPr/>
          <p:nvPr/>
        </p:nvSpPr>
        <p:spPr>
          <a:xfrm>
            <a:off x="2343600" y="6072120"/>
            <a:ext cx="4499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欧美  日本 </a:t>
            </a: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澳大利亚</a:t>
            </a:r>
            <a:r>
              <a:rPr b="1" lang="zh-CN" sz="2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 韩国   南美  东南亚  中东   非洲    </a:t>
            </a:r>
            <a:r>
              <a:rPr b="1" lang="zh-CN" sz="20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中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1198440" y="2000160"/>
            <a:ext cx="70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3"/>
          <p:cNvSpPr/>
          <p:nvPr/>
        </p:nvSpPr>
        <p:spPr>
          <a:xfrm>
            <a:off x="1957320" y="2143080"/>
            <a:ext cx="70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5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4"/>
          <p:cNvSpPr/>
          <p:nvPr/>
        </p:nvSpPr>
        <p:spPr>
          <a:xfrm>
            <a:off x="2690640" y="2571840"/>
            <a:ext cx="70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4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5"/>
          <p:cNvSpPr/>
          <p:nvPr/>
        </p:nvSpPr>
        <p:spPr>
          <a:xfrm>
            <a:off x="3403440" y="2714760"/>
            <a:ext cx="70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4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6"/>
          <p:cNvSpPr/>
          <p:nvPr/>
        </p:nvSpPr>
        <p:spPr>
          <a:xfrm>
            <a:off x="4199040" y="3429000"/>
            <a:ext cx="70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3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7"/>
          <p:cNvSpPr/>
          <p:nvPr/>
        </p:nvSpPr>
        <p:spPr>
          <a:xfrm>
            <a:off x="4913280" y="3714840"/>
            <a:ext cx="70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2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8"/>
          <p:cNvSpPr/>
          <p:nvPr/>
        </p:nvSpPr>
        <p:spPr>
          <a:xfrm>
            <a:off x="5627520" y="3929040"/>
            <a:ext cx="70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9"/>
          <p:cNvSpPr/>
          <p:nvPr/>
        </p:nvSpPr>
        <p:spPr>
          <a:xfrm>
            <a:off x="6413400" y="4286160"/>
            <a:ext cx="70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20"/>
          <p:cNvSpPr/>
          <p:nvPr/>
        </p:nvSpPr>
        <p:spPr>
          <a:xfrm>
            <a:off x="7201800" y="5000760"/>
            <a:ext cx="555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Franklin Gothic Book"/>
                <a:ea typeface="黑体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直接连接符 22"/>
          <p:cNvSpPr/>
          <p:nvPr/>
        </p:nvSpPr>
        <p:spPr>
          <a:xfrm>
            <a:off x="1233360" y="6143760"/>
            <a:ext cx="6624720" cy="144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页脚占位符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Box 3"/>
          <p:cNvSpPr/>
          <p:nvPr/>
        </p:nvSpPr>
        <p:spPr>
          <a:xfrm>
            <a:off x="1532160" y="6764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既然有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盐</a:t>
            </a: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，要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酱油</a:t>
            </a: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何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4"/>
          <p:cNvSpPr/>
          <p:nvPr/>
        </p:nvSpPr>
        <p:spPr>
          <a:xfrm>
            <a:off x="642960" y="1401840"/>
            <a:ext cx="828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贵州农民家庭的生活账单，账单上有一句话：“</a:t>
            </a:r>
            <a:r>
              <a:rPr b="1" lang="zh-CN" sz="2800" spc="-1" strike="noStrike">
                <a:solidFill>
                  <a:srgbClr val="00b0f0"/>
                </a:solidFill>
                <a:latin typeface="Franklin Gothic Book"/>
                <a:ea typeface="黑体"/>
              </a:rPr>
              <a:t>既然有盐，还要酱油干啥</a:t>
            </a: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21"/>
          <p:cNvSpPr/>
          <p:nvPr/>
        </p:nvSpPr>
        <p:spPr>
          <a:xfrm rot="777600">
            <a:off x="6071040" y="2589120"/>
            <a:ext cx="2100960" cy="6426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生活何其苦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22"/>
          <p:cNvSpPr/>
          <p:nvPr/>
        </p:nvSpPr>
        <p:spPr>
          <a:xfrm>
            <a:off x="127800" y="1066680"/>
            <a:ext cx="704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“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23"/>
          <p:cNvSpPr/>
          <p:nvPr/>
        </p:nvSpPr>
        <p:spPr>
          <a:xfrm>
            <a:off x="642960" y="4143240"/>
            <a:ext cx="6643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5760" indent="-10857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f0"/>
                </a:solidFill>
                <a:latin typeface="Franklin Gothic Book"/>
                <a:ea typeface="黑体"/>
              </a:rPr>
              <a:t>一方面</a:t>
            </a: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是我们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80%</a:t>
            </a: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以上家庭的收入没有显    著增加</a:t>
            </a: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5760" indent="-10857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f0"/>
                </a:solidFill>
                <a:latin typeface="Franklin Gothic Book"/>
                <a:ea typeface="黑体"/>
              </a:rPr>
              <a:t>另一方面</a:t>
            </a: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贫富差距越来越严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24"/>
          <p:cNvSpPr/>
          <p:nvPr/>
        </p:nvSpPr>
        <p:spPr>
          <a:xfrm>
            <a:off x="755280" y="314784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odoni MT Black"/>
                <a:ea typeface="Arial Unicode MS"/>
              </a:rPr>
              <a:t>REAS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页脚占位符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8196"/>
          <p:cNvSpPr/>
          <p:nvPr/>
        </p:nvSpPr>
        <p:spPr>
          <a:xfrm>
            <a:off x="826920" y="278136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Box 3"/>
          <p:cNvSpPr/>
          <p:nvPr/>
        </p:nvSpPr>
        <p:spPr>
          <a:xfrm>
            <a:off x="1345320" y="6764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开始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望</a:t>
            </a:r>
            <a:r>
              <a:rPr b="1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的穷苦人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13"/>
          <p:cNvGrpSpPr/>
          <p:nvPr/>
        </p:nvGrpSpPr>
        <p:grpSpPr>
          <a:xfrm>
            <a:off x="4643280" y="1405080"/>
            <a:ext cx="4214880" cy="5505840"/>
            <a:chOff x="4643280" y="1405080"/>
            <a:chExt cx="4214880" cy="5505840"/>
          </a:xfrm>
        </p:grpSpPr>
        <p:sp>
          <p:nvSpPr>
            <p:cNvPr id="603" name="矩形 7"/>
            <p:cNvSpPr/>
            <p:nvPr/>
          </p:nvSpPr>
          <p:spPr>
            <a:xfrm>
              <a:off x="4643280" y="1405080"/>
              <a:ext cx="42148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一个城市打工者的收支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组合 10"/>
            <p:cNvGrpSpPr/>
            <p:nvPr/>
          </p:nvGrpSpPr>
          <p:grpSpPr>
            <a:xfrm>
              <a:off x="4643280" y="2287080"/>
              <a:ext cx="4143600" cy="4623840"/>
              <a:chOff x="4643280" y="2287080"/>
              <a:chExt cx="4143600" cy="4623840"/>
            </a:xfrm>
          </p:grpSpPr>
          <p:pic>
            <p:nvPicPr>
              <p:cNvPr id="605" name="矩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643280" y="2287080"/>
                <a:ext cx="4143600" cy="89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TextBox 9"/>
              <p:cNvSpPr/>
              <p:nvPr/>
            </p:nvSpPr>
            <p:spPr>
              <a:xfrm>
                <a:off x="4655880" y="3159360"/>
                <a:ext cx="4118400" cy="375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Franklin Gothic Book"/>
                    <a:ea typeface="黑体"/>
                  </a:rPr>
                  <a:t>收    入              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Franklin Gothic Book"/>
                    <a:ea typeface="黑体"/>
                  </a:rPr>
                  <a:t>1200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Franklin Gothic Book"/>
                    <a:ea typeface="黑体"/>
                  </a:rPr>
                  <a:t>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Franklin Gothic Book"/>
                    <a:ea typeface="黑体"/>
                  </a:rPr>
                  <a:t>租房子                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Franklin Gothic Book"/>
                    <a:ea typeface="黑体"/>
                  </a:rPr>
                  <a:t>300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Franklin Gothic Book"/>
                    <a:ea typeface="黑体"/>
                  </a:rPr>
                  <a:t>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Franklin Gothic Book"/>
                    <a:ea typeface="黑体"/>
                  </a:rPr>
                  <a:t>物业费                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Franklin Gothic Book"/>
                    <a:ea typeface="黑体"/>
                  </a:rPr>
                  <a:t>300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Franklin Gothic Book"/>
                    <a:ea typeface="黑体"/>
                  </a:rPr>
                  <a:t>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Franklin Gothic Book"/>
                    <a:ea typeface="黑体"/>
                  </a:rPr>
                  <a:t>吃    饭                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Franklin Gothic Book"/>
                    <a:ea typeface="黑体"/>
                  </a:rPr>
                  <a:t>300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Franklin Gothic Book"/>
                    <a:ea typeface="黑体"/>
                  </a:rPr>
                  <a:t>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b0f0"/>
                    </a:solidFill>
                    <a:latin typeface="Franklin Gothic Book"/>
                    <a:ea typeface="黑体"/>
                  </a:rPr>
                  <a:t>结    余                      </a:t>
                </a:r>
                <a:r>
                  <a:rPr b="0" lang="en-US" sz="2400" spc="-1" strike="noStrike">
                    <a:solidFill>
                      <a:srgbClr val="00b0f0"/>
                    </a:solidFill>
                    <a:latin typeface="Franklin Gothic Book"/>
                    <a:ea typeface="黑体"/>
                  </a:rPr>
                  <a:t>300</a:t>
                </a:r>
                <a:r>
                  <a:rPr b="0" lang="zh-CN" sz="2400" spc="-1" strike="noStrike">
                    <a:solidFill>
                      <a:srgbClr val="00b0f0"/>
                    </a:solidFill>
                    <a:latin typeface="Franklin Gothic Book"/>
                    <a:ea typeface="黑体"/>
                  </a:rPr>
                  <a:t>元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TextBox 11"/>
          <p:cNvSpPr/>
          <p:nvPr/>
        </p:nvSpPr>
        <p:spPr>
          <a:xfrm rot="21324600">
            <a:off x="2364120" y="1978200"/>
            <a:ext cx="414000" cy="703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剩下的买房、结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2"/>
          <a:stretch/>
        </p:blipFill>
        <p:spPr>
          <a:xfrm>
            <a:off x="214200" y="3071880"/>
            <a:ext cx="4524480" cy="335268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13"/>
          <p:cNvSpPr/>
          <p:nvPr/>
        </p:nvSpPr>
        <p:spPr>
          <a:xfrm>
            <a:off x="2453760" y="3246480"/>
            <a:ext cx="37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彩网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c115.com-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1T04:28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12Z</dcterms:modified>
  <cp:revision>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