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C9A0-DA27-441D-A161-CD885ABF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639-E300-485A-927F-95239A67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D68-E425-46F9-A548-9B801D13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F10-A175-4C49-B938-2137843D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C22F-C25C-43E7-A46E-08D06328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4170-55FD-41D8-AF95-183F44E5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651D-4E3D-47F8-9952-CDDDE79B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FE89-375D-41BA-AE5B-7D9BD371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7F24-B218-4CEA-AFEE-3EFF866E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613A-B8F9-4244-8964-8F5E616A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9AFE-87E6-4788-A9DE-75F665F0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06E0-13C6-4885-8324-4160BF32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5123-25AD-4215-8AA1-569C65F4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B862-6854-41C5-A668-0B7A2A7B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08F0-EAC2-405A-AA2B-C9E07E30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D26B-727E-43A3-B9DD-E2039F64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2C69-6A60-4EC3-94C8-8D3D2043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2C7-7C73-4237-B784-7FD4A9C7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0F4-8259-440A-ACCF-5E1102DF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8A63-55D6-47A6-9F84-2D5D8094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F52-E581-46EF-8B6E-F97660CE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1809-16C9-402B-ADC2-4BBF16B1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F4B-E6D4-4A02-8F7A-747491D8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080-3265-49D5-80AD-90D2A029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0AE6-70B5-4D2D-B42A-EB0BCC52FD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E275-5F63-4583-BB93-9F73686BA3D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8624-0108-43B5-8094-7EB7AC1033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企业办公日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000080" y="3500280"/>
            <a:ext cx="485784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6"/>
          <p:cNvSpPr/>
          <p:nvPr/>
        </p:nvSpPr>
        <p:spPr>
          <a:xfrm>
            <a:off x="1071720" y="400068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021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组合 9" descr=""/>
          <p:cNvPicPr/>
          <p:nvPr/>
        </p:nvPicPr>
        <p:blipFill>
          <a:blip r:embed="rId2"/>
          <a:stretch/>
        </p:blipFill>
        <p:spPr>
          <a:xfrm>
            <a:off x="2813040" y="1428840"/>
            <a:ext cx="3902040" cy="857160"/>
          </a:xfrm>
          <a:prstGeom prst="rect">
            <a:avLst/>
          </a:prstGeom>
          <a:ln w="0">
            <a:noFill/>
          </a:ln>
        </p:spPr>
      </p:pic>
      <p:pic>
        <p:nvPicPr>
          <p:cNvPr id="94" name="组合 13" descr=""/>
          <p:cNvPicPr/>
          <p:nvPr/>
        </p:nvPicPr>
        <p:blipFill>
          <a:blip r:embed="rId3"/>
          <a:stretch/>
        </p:blipFill>
        <p:spPr>
          <a:xfrm>
            <a:off x="2793960" y="2357280"/>
            <a:ext cx="3903840" cy="858960"/>
          </a:xfrm>
          <a:prstGeom prst="rect">
            <a:avLst/>
          </a:prstGeom>
          <a:ln w="0">
            <a:noFill/>
          </a:ln>
        </p:spPr>
      </p:pic>
      <p:pic>
        <p:nvPicPr>
          <p:cNvPr id="95" name="组合 16" descr=""/>
          <p:cNvPicPr/>
          <p:nvPr/>
        </p:nvPicPr>
        <p:blipFill>
          <a:blip r:embed="rId4"/>
          <a:stretch/>
        </p:blipFill>
        <p:spPr>
          <a:xfrm>
            <a:off x="2813040" y="3286080"/>
            <a:ext cx="3902040" cy="857160"/>
          </a:xfrm>
          <a:prstGeom prst="rect">
            <a:avLst/>
          </a:prstGeom>
          <a:ln w="0">
            <a:noFill/>
          </a:ln>
        </p:spPr>
      </p:pic>
      <p:pic>
        <p:nvPicPr>
          <p:cNvPr id="96" name="组合 19" descr=""/>
          <p:cNvPicPr/>
          <p:nvPr/>
        </p:nvPicPr>
        <p:blipFill>
          <a:blip r:embed="rId5"/>
          <a:stretch/>
        </p:blipFill>
        <p:spPr>
          <a:xfrm>
            <a:off x="2813040" y="4214880"/>
            <a:ext cx="3902040" cy="858600"/>
          </a:xfrm>
          <a:prstGeom prst="rect">
            <a:avLst/>
          </a:prstGeom>
          <a:ln w="0">
            <a:noFill/>
          </a:ln>
        </p:spPr>
      </p:pic>
      <p:sp>
        <p:nvSpPr>
          <p:cNvPr id="97" name="矩形 20"/>
          <p:cNvSpPr/>
          <p:nvPr/>
        </p:nvSpPr>
        <p:spPr>
          <a:xfrm>
            <a:off x="44978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1"/>
          <p:cNvSpPr/>
          <p:nvPr/>
        </p:nvSpPr>
        <p:spPr>
          <a:xfrm>
            <a:off x="44978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2"/>
          <p:cNvSpPr/>
          <p:nvPr/>
        </p:nvSpPr>
        <p:spPr>
          <a:xfrm>
            <a:off x="4497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2"/>
          <p:cNvSpPr/>
          <p:nvPr/>
        </p:nvSpPr>
        <p:spPr>
          <a:xfrm>
            <a:off x="44978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5"/>
          <p:cNvSpPr/>
          <p:nvPr/>
        </p:nvSpPr>
        <p:spPr>
          <a:xfrm>
            <a:off x="1806480" y="1285920"/>
            <a:ext cx="1803600" cy="4479840"/>
          </a:xfrm>
          <a:custGeom>
            <a:avLst/>
            <a:gdLst/>
            <a:ahLst/>
            <a:rect l="l" t="t" r="r" b="b"/>
            <a:pathLst>
              <a:path w="2088232" h="4968552">
                <a:moveTo>
                  <a:pt x="348046" y="0"/>
                </a:moveTo>
                <a:lnTo>
                  <a:pt x="1740186" y="0"/>
                </a:lnTo>
                <a:cubicBezTo>
                  <a:pt x="1932406" y="0"/>
                  <a:pt x="2088232" y="155826"/>
                  <a:pt x="2088232" y="348046"/>
                </a:cubicBezTo>
                <a:lnTo>
                  <a:pt x="2088232" y="4965280"/>
                </a:lnTo>
                <a:lnTo>
                  <a:pt x="2014428" y="4838031"/>
                </a:lnTo>
                <a:lnTo>
                  <a:pt x="1938726" y="4968552"/>
                </a:lnTo>
                <a:lnTo>
                  <a:pt x="1872033" y="4968552"/>
                </a:lnTo>
                <a:lnTo>
                  <a:pt x="1796331" y="4838031"/>
                </a:lnTo>
                <a:lnTo>
                  <a:pt x="1720629" y="4968552"/>
                </a:lnTo>
                <a:lnTo>
                  <a:pt x="1653936" y="4968552"/>
                </a:lnTo>
                <a:lnTo>
                  <a:pt x="1578234" y="4838031"/>
                </a:lnTo>
                <a:lnTo>
                  <a:pt x="1502532" y="4968552"/>
                </a:lnTo>
                <a:lnTo>
                  <a:pt x="1435839" y="4968552"/>
                </a:lnTo>
                <a:lnTo>
                  <a:pt x="1360137" y="4838031"/>
                </a:lnTo>
                <a:lnTo>
                  <a:pt x="1284435" y="4968552"/>
                </a:lnTo>
                <a:lnTo>
                  <a:pt x="1217742" y="4968552"/>
                </a:lnTo>
                <a:lnTo>
                  <a:pt x="1142040" y="4838031"/>
                </a:lnTo>
                <a:lnTo>
                  <a:pt x="1066338" y="4968552"/>
                </a:lnTo>
                <a:lnTo>
                  <a:pt x="999645" y="4968552"/>
                </a:lnTo>
                <a:lnTo>
                  <a:pt x="923943" y="4838031"/>
                </a:lnTo>
                <a:lnTo>
                  <a:pt x="848241" y="4968552"/>
                </a:lnTo>
                <a:lnTo>
                  <a:pt x="781548" y="4968552"/>
                </a:lnTo>
                <a:lnTo>
                  <a:pt x="705846" y="4838031"/>
                </a:lnTo>
                <a:lnTo>
                  <a:pt x="630144" y="4968552"/>
                </a:lnTo>
                <a:lnTo>
                  <a:pt x="563451" y="4968552"/>
                </a:lnTo>
                <a:lnTo>
                  <a:pt x="487749" y="4838031"/>
                </a:lnTo>
                <a:lnTo>
                  <a:pt x="412047" y="4968552"/>
                </a:lnTo>
                <a:lnTo>
                  <a:pt x="345354" y="4968552"/>
                </a:lnTo>
                <a:lnTo>
                  <a:pt x="269652" y="4838031"/>
                </a:lnTo>
                <a:lnTo>
                  <a:pt x="193950" y="4968552"/>
                </a:lnTo>
                <a:lnTo>
                  <a:pt x="127257" y="4968552"/>
                </a:lnTo>
                <a:lnTo>
                  <a:pt x="51555" y="4838031"/>
                </a:lnTo>
                <a:lnTo>
                  <a:pt x="0" y="4926919"/>
                </a:lnTo>
                <a:lnTo>
                  <a:pt x="0" y="348046"/>
                </a:lnTo>
                <a:cubicBezTo>
                  <a:pt x="0" y="155826"/>
                  <a:pt x="155826" y="0"/>
                  <a:pt x="348046" y="0"/>
                </a:cubicBezTo>
                <a:close/>
              </a:path>
            </a:pathLst>
          </a:custGeom>
          <a:solidFill>
            <a:srgbClr val="528138"/>
          </a:solidFill>
          <a:ln w="0">
            <a:noFill/>
          </a:ln>
          <a:effectLst>
            <a:outerShdw dist="76184" dir="11993435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extBox 11" descr=""/>
          <p:cNvPicPr/>
          <p:nvPr/>
        </p:nvPicPr>
        <p:blipFill>
          <a:blip r:embed="rId1"/>
          <a:stretch/>
        </p:blipFill>
        <p:spPr>
          <a:xfrm>
            <a:off x="2065320" y="1216080"/>
            <a:ext cx="1762200" cy="1958760"/>
          </a:xfrm>
          <a:prstGeom prst="rect">
            <a:avLst/>
          </a:prstGeom>
          <a:ln w="0">
            <a:noFill/>
          </a:ln>
        </p:spPr>
      </p:pic>
      <p:pic>
        <p:nvPicPr>
          <p:cNvPr id="108" name="椭圆 12" descr=""/>
          <p:cNvPicPr/>
          <p:nvPr/>
        </p:nvPicPr>
        <p:blipFill>
          <a:blip r:embed="rId2"/>
          <a:stretch/>
        </p:blipFill>
        <p:spPr>
          <a:xfrm>
            <a:off x="2614680" y="1521000"/>
            <a:ext cx="181080" cy="277560"/>
          </a:xfrm>
          <a:prstGeom prst="rect">
            <a:avLst/>
          </a:prstGeom>
          <a:ln w="0">
            <a:noFill/>
          </a:ln>
        </p:spPr>
      </p:pic>
      <p:sp>
        <p:nvSpPr>
          <p:cNvPr id="109" name="矩形 13"/>
          <p:cNvSpPr/>
          <p:nvPr/>
        </p:nvSpPr>
        <p:spPr>
          <a:xfrm>
            <a:off x="2678040" y="1285920"/>
            <a:ext cx="77760" cy="376200"/>
          </a:xfrm>
          <a:prstGeom prst="rect">
            <a:avLst/>
          </a:prstGeom>
          <a:gradFill rotWithShape="0">
            <a:gsLst>
              <a:gs pos="0">
                <a:srgbClr val="623f11"/>
              </a:gs>
              <a:gs pos="100000">
                <a:srgbClr val="ab71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5"/>
          <p:cNvSpPr/>
          <p:nvPr/>
        </p:nvSpPr>
        <p:spPr>
          <a:xfrm>
            <a:off x="3894120" y="1285920"/>
            <a:ext cx="1805040" cy="4479840"/>
          </a:xfrm>
          <a:custGeom>
            <a:avLst/>
            <a:gdLst/>
            <a:ahLst/>
            <a:rect l="l" t="t" r="r" b="b"/>
            <a:pathLst>
              <a:path w="2088232" h="4968552">
                <a:moveTo>
                  <a:pt x="348046" y="0"/>
                </a:moveTo>
                <a:lnTo>
                  <a:pt x="1740186" y="0"/>
                </a:lnTo>
                <a:cubicBezTo>
                  <a:pt x="1932406" y="0"/>
                  <a:pt x="2088232" y="155826"/>
                  <a:pt x="2088232" y="348046"/>
                </a:cubicBezTo>
                <a:lnTo>
                  <a:pt x="2088232" y="4965280"/>
                </a:lnTo>
                <a:lnTo>
                  <a:pt x="2014428" y="4838031"/>
                </a:lnTo>
                <a:lnTo>
                  <a:pt x="1938726" y="4968552"/>
                </a:lnTo>
                <a:lnTo>
                  <a:pt x="1872033" y="4968552"/>
                </a:lnTo>
                <a:lnTo>
                  <a:pt x="1796331" y="4838031"/>
                </a:lnTo>
                <a:lnTo>
                  <a:pt x="1720629" y="4968552"/>
                </a:lnTo>
                <a:lnTo>
                  <a:pt x="1653936" y="4968552"/>
                </a:lnTo>
                <a:lnTo>
                  <a:pt x="1578234" y="4838031"/>
                </a:lnTo>
                <a:lnTo>
                  <a:pt x="1502532" y="4968552"/>
                </a:lnTo>
                <a:lnTo>
                  <a:pt x="1435839" y="4968552"/>
                </a:lnTo>
                <a:lnTo>
                  <a:pt x="1360137" y="4838031"/>
                </a:lnTo>
                <a:lnTo>
                  <a:pt x="1284435" y="4968552"/>
                </a:lnTo>
                <a:lnTo>
                  <a:pt x="1217742" y="4968552"/>
                </a:lnTo>
                <a:lnTo>
                  <a:pt x="1142040" y="4838031"/>
                </a:lnTo>
                <a:lnTo>
                  <a:pt x="1066338" y="4968552"/>
                </a:lnTo>
                <a:lnTo>
                  <a:pt x="999645" y="4968552"/>
                </a:lnTo>
                <a:lnTo>
                  <a:pt x="923943" y="4838031"/>
                </a:lnTo>
                <a:lnTo>
                  <a:pt x="848241" y="4968552"/>
                </a:lnTo>
                <a:lnTo>
                  <a:pt x="781548" y="4968552"/>
                </a:lnTo>
                <a:lnTo>
                  <a:pt x="705846" y="4838031"/>
                </a:lnTo>
                <a:lnTo>
                  <a:pt x="630144" y="4968552"/>
                </a:lnTo>
                <a:lnTo>
                  <a:pt x="563451" y="4968552"/>
                </a:lnTo>
                <a:lnTo>
                  <a:pt x="487749" y="4838031"/>
                </a:lnTo>
                <a:lnTo>
                  <a:pt x="412047" y="4968552"/>
                </a:lnTo>
                <a:lnTo>
                  <a:pt x="345354" y="4968552"/>
                </a:lnTo>
                <a:lnTo>
                  <a:pt x="269652" y="4838031"/>
                </a:lnTo>
                <a:lnTo>
                  <a:pt x="193950" y="4968552"/>
                </a:lnTo>
                <a:lnTo>
                  <a:pt x="127257" y="4968552"/>
                </a:lnTo>
                <a:lnTo>
                  <a:pt x="51555" y="4838031"/>
                </a:lnTo>
                <a:lnTo>
                  <a:pt x="0" y="4926919"/>
                </a:lnTo>
                <a:lnTo>
                  <a:pt x="0" y="348046"/>
                </a:lnTo>
                <a:cubicBezTo>
                  <a:pt x="0" y="155826"/>
                  <a:pt x="155826" y="0"/>
                  <a:pt x="348046" y="0"/>
                </a:cubicBezTo>
                <a:close/>
              </a:path>
            </a:pathLst>
          </a:custGeom>
          <a:solidFill>
            <a:srgbClr val="d17355"/>
          </a:solidFill>
          <a:ln w="0">
            <a:noFill/>
          </a:ln>
          <a:effectLst>
            <a:outerShdw dist="76184" dir="11993435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TextBox 15" descr=""/>
          <p:cNvPicPr/>
          <p:nvPr/>
        </p:nvPicPr>
        <p:blipFill>
          <a:blip r:embed="rId3"/>
          <a:stretch/>
        </p:blipFill>
        <p:spPr>
          <a:xfrm>
            <a:off x="4162320" y="1216080"/>
            <a:ext cx="1752840" cy="2022480"/>
          </a:xfrm>
          <a:prstGeom prst="rect">
            <a:avLst/>
          </a:prstGeom>
          <a:ln w="0">
            <a:noFill/>
          </a:ln>
        </p:spPr>
      </p:pic>
      <p:pic>
        <p:nvPicPr>
          <p:cNvPr id="112" name="椭圆 16" descr=""/>
          <p:cNvPicPr/>
          <p:nvPr/>
        </p:nvPicPr>
        <p:blipFill>
          <a:blip r:embed="rId4"/>
          <a:stretch/>
        </p:blipFill>
        <p:spPr>
          <a:xfrm>
            <a:off x="4378320" y="1521000"/>
            <a:ext cx="181080" cy="277560"/>
          </a:xfrm>
          <a:prstGeom prst="rect">
            <a:avLst/>
          </a:prstGeom>
          <a:ln w="0">
            <a:noFill/>
          </a:ln>
        </p:spPr>
      </p:pic>
      <p:sp>
        <p:nvSpPr>
          <p:cNvPr id="113" name="矩形 17"/>
          <p:cNvSpPr/>
          <p:nvPr/>
        </p:nvSpPr>
        <p:spPr>
          <a:xfrm>
            <a:off x="4440240" y="1285920"/>
            <a:ext cx="77760" cy="376200"/>
          </a:xfrm>
          <a:prstGeom prst="rect">
            <a:avLst/>
          </a:prstGeom>
          <a:gradFill rotWithShape="0">
            <a:gsLst>
              <a:gs pos="0">
                <a:srgbClr val="623f11"/>
              </a:gs>
              <a:gs pos="100000">
                <a:srgbClr val="ab71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5"/>
          <p:cNvSpPr/>
          <p:nvPr/>
        </p:nvSpPr>
        <p:spPr>
          <a:xfrm>
            <a:off x="5981760" y="1285920"/>
            <a:ext cx="1805040" cy="4479840"/>
          </a:xfrm>
          <a:custGeom>
            <a:avLst/>
            <a:gdLst/>
            <a:ahLst/>
            <a:rect l="l" t="t" r="r" b="b"/>
            <a:pathLst>
              <a:path w="2088232" h="4968552">
                <a:moveTo>
                  <a:pt x="348046" y="0"/>
                </a:moveTo>
                <a:lnTo>
                  <a:pt x="1740186" y="0"/>
                </a:lnTo>
                <a:cubicBezTo>
                  <a:pt x="1932406" y="0"/>
                  <a:pt x="2088232" y="155826"/>
                  <a:pt x="2088232" y="348046"/>
                </a:cubicBezTo>
                <a:lnTo>
                  <a:pt x="2088232" y="4965280"/>
                </a:lnTo>
                <a:lnTo>
                  <a:pt x="2014428" y="4838031"/>
                </a:lnTo>
                <a:lnTo>
                  <a:pt x="1938726" y="4968552"/>
                </a:lnTo>
                <a:lnTo>
                  <a:pt x="1872033" y="4968552"/>
                </a:lnTo>
                <a:lnTo>
                  <a:pt x="1796331" y="4838031"/>
                </a:lnTo>
                <a:lnTo>
                  <a:pt x="1720629" y="4968552"/>
                </a:lnTo>
                <a:lnTo>
                  <a:pt x="1653936" y="4968552"/>
                </a:lnTo>
                <a:lnTo>
                  <a:pt x="1578234" y="4838031"/>
                </a:lnTo>
                <a:lnTo>
                  <a:pt x="1502532" y="4968552"/>
                </a:lnTo>
                <a:lnTo>
                  <a:pt x="1435839" y="4968552"/>
                </a:lnTo>
                <a:lnTo>
                  <a:pt x="1360137" y="4838031"/>
                </a:lnTo>
                <a:lnTo>
                  <a:pt x="1284435" y="4968552"/>
                </a:lnTo>
                <a:lnTo>
                  <a:pt x="1217742" y="4968552"/>
                </a:lnTo>
                <a:lnTo>
                  <a:pt x="1142040" y="4838031"/>
                </a:lnTo>
                <a:lnTo>
                  <a:pt x="1066338" y="4968552"/>
                </a:lnTo>
                <a:lnTo>
                  <a:pt x="999645" y="4968552"/>
                </a:lnTo>
                <a:lnTo>
                  <a:pt x="923943" y="4838031"/>
                </a:lnTo>
                <a:lnTo>
                  <a:pt x="848241" y="4968552"/>
                </a:lnTo>
                <a:lnTo>
                  <a:pt x="781548" y="4968552"/>
                </a:lnTo>
                <a:lnTo>
                  <a:pt x="705846" y="4838031"/>
                </a:lnTo>
                <a:lnTo>
                  <a:pt x="630144" y="4968552"/>
                </a:lnTo>
                <a:lnTo>
                  <a:pt x="563451" y="4968552"/>
                </a:lnTo>
                <a:lnTo>
                  <a:pt x="487749" y="4838031"/>
                </a:lnTo>
                <a:lnTo>
                  <a:pt x="412047" y="4968552"/>
                </a:lnTo>
                <a:lnTo>
                  <a:pt x="345354" y="4968552"/>
                </a:lnTo>
                <a:lnTo>
                  <a:pt x="269652" y="4838031"/>
                </a:lnTo>
                <a:lnTo>
                  <a:pt x="193950" y="4968552"/>
                </a:lnTo>
                <a:lnTo>
                  <a:pt x="127257" y="4968552"/>
                </a:lnTo>
                <a:lnTo>
                  <a:pt x="51555" y="4838031"/>
                </a:lnTo>
                <a:lnTo>
                  <a:pt x="0" y="4926919"/>
                </a:lnTo>
                <a:lnTo>
                  <a:pt x="0" y="348046"/>
                </a:lnTo>
                <a:cubicBezTo>
                  <a:pt x="0" y="155826"/>
                  <a:pt x="155826" y="0"/>
                  <a:pt x="348046" y="0"/>
                </a:cubicBezTo>
                <a:close/>
              </a:path>
            </a:pathLst>
          </a:custGeom>
          <a:solidFill>
            <a:srgbClr val="528138"/>
          </a:solidFill>
          <a:ln w="0">
            <a:noFill/>
          </a:ln>
          <a:effectLst>
            <a:outerShdw dist="76184" dir="11993435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extBox 19" descr=""/>
          <p:cNvPicPr/>
          <p:nvPr/>
        </p:nvPicPr>
        <p:blipFill>
          <a:blip r:embed="rId5"/>
          <a:stretch/>
        </p:blipFill>
        <p:spPr>
          <a:xfrm>
            <a:off x="6251400" y="1216080"/>
            <a:ext cx="1752840" cy="2022480"/>
          </a:xfrm>
          <a:prstGeom prst="rect">
            <a:avLst/>
          </a:prstGeom>
          <a:ln w="0">
            <a:noFill/>
          </a:ln>
        </p:spPr>
      </p:pic>
      <p:pic>
        <p:nvPicPr>
          <p:cNvPr id="116" name="椭圆 20" descr=""/>
          <p:cNvPicPr/>
          <p:nvPr/>
        </p:nvPicPr>
        <p:blipFill>
          <a:blip r:embed="rId6"/>
          <a:stretch/>
        </p:blipFill>
        <p:spPr>
          <a:xfrm>
            <a:off x="6692760" y="1521000"/>
            <a:ext cx="181080" cy="277560"/>
          </a:xfrm>
          <a:prstGeom prst="rect">
            <a:avLst/>
          </a:prstGeom>
          <a:ln w="0">
            <a:noFill/>
          </a:ln>
        </p:spPr>
      </p:pic>
      <p:sp>
        <p:nvSpPr>
          <p:cNvPr id="117" name="矩形 21"/>
          <p:cNvSpPr/>
          <p:nvPr/>
        </p:nvSpPr>
        <p:spPr>
          <a:xfrm>
            <a:off x="6756480" y="1285920"/>
            <a:ext cx="77760" cy="376200"/>
          </a:xfrm>
          <a:prstGeom prst="rect">
            <a:avLst/>
          </a:prstGeom>
          <a:gradFill rotWithShape="0">
            <a:gsLst>
              <a:gs pos="0">
                <a:srgbClr val="623f11"/>
              </a:gs>
              <a:gs pos="100000">
                <a:srgbClr val="ab71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2"/>
          <p:cNvSpPr/>
          <p:nvPr/>
        </p:nvSpPr>
        <p:spPr>
          <a:xfrm>
            <a:off x="22132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2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2"/>
          <p:cNvSpPr/>
          <p:nvPr/>
        </p:nvSpPr>
        <p:spPr>
          <a:xfrm>
            <a:off x="6356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平行四边形 6"/>
          <p:cNvSpPr/>
          <p:nvPr/>
        </p:nvSpPr>
        <p:spPr>
          <a:xfrm>
            <a:off x="1200240" y="1959120"/>
            <a:ext cx="1420560" cy="1187280"/>
          </a:xfrm>
          <a:prstGeom prst="parallelogram">
            <a:avLst>
              <a:gd name="adj" fmla="val 52252"/>
            </a:avLst>
          </a:pr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平行四边形 7"/>
          <p:cNvSpPr/>
          <p:nvPr/>
        </p:nvSpPr>
        <p:spPr>
          <a:xfrm>
            <a:off x="1687680" y="2552760"/>
            <a:ext cx="1419120" cy="1187280"/>
          </a:xfrm>
          <a:prstGeom prst="parallelogram">
            <a:avLst>
              <a:gd name="adj" fmla="val 52254"/>
            </a:avLst>
          </a:pr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平行四边形 8"/>
          <p:cNvSpPr/>
          <p:nvPr/>
        </p:nvSpPr>
        <p:spPr>
          <a:xfrm>
            <a:off x="2165400" y="3146400"/>
            <a:ext cx="1420920" cy="1189080"/>
          </a:xfrm>
          <a:prstGeom prst="parallelogram">
            <a:avLst>
              <a:gd name="adj" fmla="val 52252"/>
            </a:avLst>
          </a:pr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平行四边形 9"/>
          <p:cNvSpPr/>
          <p:nvPr/>
        </p:nvSpPr>
        <p:spPr>
          <a:xfrm>
            <a:off x="2655720" y="3740040"/>
            <a:ext cx="1419480" cy="1189080"/>
          </a:xfrm>
          <a:prstGeom prst="parallelogram">
            <a:avLst>
              <a:gd name="adj" fmla="val 52260"/>
            </a:avLst>
          </a:pr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rcRect l="7212" t="0" r="2768" b="57688"/>
          <a:stretch/>
        </p:blipFill>
        <p:spPr>
          <a:xfrm>
            <a:off x="571680" y="2457360"/>
            <a:ext cx="7792920" cy="95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rcRect l="7212" t="0" r="2768" b="57688"/>
          <a:stretch/>
        </p:blipFill>
        <p:spPr>
          <a:xfrm>
            <a:off x="644400" y="3052800"/>
            <a:ext cx="7791480" cy="93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3"/>
          <a:srcRect l="7212" t="0" r="2768" b="57688"/>
          <a:stretch/>
        </p:blipFill>
        <p:spPr>
          <a:xfrm>
            <a:off x="1111320" y="2502000"/>
            <a:ext cx="2914560" cy="50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4"/>
          <a:srcRect l="7212" t="0" r="2768" b="57688"/>
          <a:stretch/>
        </p:blipFill>
        <p:spPr>
          <a:xfrm>
            <a:off x="716040" y="3646440"/>
            <a:ext cx="7792920" cy="93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5"/>
          <a:srcRect l="7212" t="0" r="2768" b="57688"/>
          <a:stretch/>
        </p:blipFill>
        <p:spPr>
          <a:xfrm>
            <a:off x="500040" y="1863720"/>
            <a:ext cx="7792920" cy="95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6"/>
          <a:srcRect l="7212" t="0" r="2768" b="57688"/>
          <a:stretch/>
        </p:blipFill>
        <p:spPr>
          <a:xfrm>
            <a:off x="681120" y="1911240"/>
            <a:ext cx="2916000" cy="50760"/>
          </a:xfrm>
          <a:prstGeom prst="rect">
            <a:avLst/>
          </a:prstGeom>
          <a:ln w="0">
            <a:noFill/>
          </a:ln>
        </p:spPr>
      </p:pic>
      <p:sp>
        <p:nvSpPr>
          <p:cNvPr id="136" name="矩形 12"/>
          <p:cNvSpPr/>
          <p:nvPr/>
        </p:nvSpPr>
        <p:spPr>
          <a:xfrm>
            <a:off x="3140640" y="2006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4926600" y="393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426560" y="322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3711960" y="263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"/>
          <p:cNvSpPr/>
          <p:nvPr/>
        </p:nvSpPr>
        <p:spPr>
          <a:xfrm>
            <a:off x="928800" y="1744560"/>
            <a:ext cx="2657520" cy="1967040"/>
          </a:xfrm>
          <a:prstGeom prst="downArrowCallout">
            <a:avLst>
              <a:gd name="adj1" fmla="val 49880"/>
              <a:gd name="adj2" fmla="val 24938"/>
              <a:gd name="adj3" fmla="val 15250"/>
              <a:gd name="adj4" fmla="val 84745"/>
            </a:avLst>
          </a:pr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8"/>
          <p:cNvSpPr/>
          <p:nvPr/>
        </p:nvSpPr>
        <p:spPr>
          <a:xfrm>
            <a:off x="1692360" y="4048200"/>
            <a:ext cx="1128600" cy="1133280"/>
          </a:xfrm>
          <a:prstGeom prst="ellipse">
            <a:avLst/>
          </a:pr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"/>
          <p:cNvSpPr/>
          <p:nvPr/>
        </p:nvSpPr>
        <p:spPr>
          <a:xfrm>
            <a:off x="5602320" y="1714680"/>
            <a:ext cx="2657520" cy="1966680"/>
          </a:xfrm>
          <a:prstGeom prst="downArrowCallout">
            <a:avLst>
              <a:gd name="adj1" fmla="val 49889"/>
              <a:gd name="adj2" fmla="val 24942"/>
              <a:gd name="adj3" fmla="val 15250"/>
              <a:gd name="adj4" fmla="val 84745"/>
            </a:avLst>
          </a:pr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8"/>
          <p:cNvSpPr/>
          <p:nvPr/>
        </p:nvSpPr>
        <p:spPr>
          <a:xfrm>
            <a:off x="6365880" y="4017960"/>
            <a:ext cx="1128600" cy="1131840"/>
          </a:xfrm>
          <a:prstGeom prst="ellipse">
            <a:avLst/>
          </a:pr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65696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1783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7" descr=""/>
          <p:cNvPicPr/>
          <p:nvPr/>
        </p:nvPicPr>
        <p:blipFill>
          <a:blip r:embed="rId1"/>
          <a:stretch/>
        </p:blipFill>
        <p:spPr>
          <a:xfrm>
            <a:off x="1000080" y="2114640"/>
            <a:ext cx="2862360" cy="1490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48"/>
          <p:cNvSpPr/>
          <p:nvPr/>
        </p:nvSpPr>
        <p:spPr>
          <a:xfrm>
            <a:off x="1020600" y="1482840"/>
            <a:ext cx="2791080" cy="717480"/>
          </a:xfrm>
          <a:prstGeom prst="roundRect">
            <a:avLst>
              <a:gd name="adj" fmla="val 5630"/>
            </a:avLst>
          </a:prstGeom>
          <a:solidFill>
            <a:srgbClr val="528138"/>
          </a:soli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7" descr=""/>
          <p:cNvPicPr/>
          <p:nvPr/>
        </p:nvPicPr>
        <p:blipFill>
          <a:blip r:embed="rId2"/>
          <a:stretch/>
        </p:blipFill>
        <p:spPr>
          <a:xfrm>
            <a:off x="1000080" y="3767040"/>
            <a:ext cx="2862360" cy="15084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48"/>
          <p:cNvSpPr/>
          <p:nvPr/>
        </p:nvSpPr>
        <p:spPr>
          <a:xfrm>
            <a:off x="1020600" y="3135240"/>
            <a:ext cx="2791080" cy="717480"/>
          </a:xfrm>
          <a:prstGeom prst="roundRect">
            <a:avLst>
              <a:gd name="adj" fmla="val 5630"/>
            </a:avLst>
          </a:prstGeom>
          <a:solidFill>
            <a:srgbClr val="528138"/>
          </a:soli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7" descr=""/>
          <p:cNvPicPr/>
          <p:nvPr/>
        </p:nvPicPr>
        <p:blipFill>
          <a:blip r:embed="rId3"/>
          <a:stretch/>
        </p:blipFill>
        <p:spPr>
          <a:xfrm>
            <a:off x="1000080" y="5421240"/>
            <a:ext cx="2862360" cy="1508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48"/>
          <p:cNvSpPr/>
          <p:nvPr/>
        </p:nvSpPr>
        <p:spPr>
          <a:xfrm>
            <a:off x="1020600" y="4789440"/>
            <a:ext cx="2791080" cy="717480"/>
          </a:xfrm>
          <a:prstGeom prst="roundRect">
            <a:avLst>
              <a:gd name="adj" fmla="val 5630"/>
            </a:avLst>
          </a:prstGeom>
          <a:solidFill>
            <a:srgbClr val="528138"/>
          </a:soli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7" descr=""/>
          <p:cNvPicPr/>
          <p:nvPr/>
        </p:nvPicPr>
        <p:blipFill>
          <a:blip r:embed="rId4"/>
          <a:stretch/>
        </p:blipFill>
        <p:spPr>
          <a:xfrm>
            <a:off x="5402160" y="2114640"/>
            <a:ext cx="2862360" cy="14904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48"/>
          <p:cNvSpPr/>
          <p:nvPr/>
        </p:nvSpPr>
        <p:spPr>
          <a:xfrm>
            <a:off x="5421240" y="1482840"/>
            <a:ext cx="2792520" cy="717480"/>
          </a:xfrm>
          <a:prstGeom prst="roundRect">
            <a:avLst>
              <a:gd name="adj" fmla="val 5630"/>
            </a:avLst>
          </a:prstGeom>
          <a:solidFill>
            <a:srgbClr val="d17355"/>
          </a:soli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7" descr=""/>
          <p:cNvPicPr/>
          <p:nvPr/>
        </p:nvPicPr>
        <p:blipFill>
          <a:blip r:embed="rId5"/>
          <a:stretch/>
        </p:blipFill>
        <p:spPr>
          <a:xfrm>
            <a:off x="5411880" y="3767040"/>
            <a:ext cx="2862000" cy="15084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48"/>
          <p:cNvSpPr/>
          <p:nvPr/>
        </p:nvSpPr>
        <p:spPr>
          <a:xfrm>
            <a:off x="5432400" y="3135240"/>
            <a:ext cx="2790720" cy="717480"/>
          </a:xfrm>
          <a:prstGeom prst="roundRect">
            <a:avLst>
              <a:gd name="adj" fmla="val 5630"/>
            </a:avLst>
          </a:prstGeom>
          <a:solidFill>
            <a:srgbClr val="d17355"/>
          </a:soli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7" descr=""/>
          <p:cNvPicPr/>
          <p:nvPr/>
        </p:nvPicPr>
        <p:blipFill>
          <a:blip r:embed="rId6"/>
          <a:stretch/>
        </p:blipFill>
        <p:spPr>
          <a:xfrm>
            <a:off x="5411880" y="5421240"/>
            <a:ext cx="2862000" cy="15084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48"/>
          <p:cNvSpPr/>
          <p:nvPr/>
        </p:nvSpPr>
        <p:spPr>
          <a:xfrm>
            <a:off x="5432400" y="4789440"/>
            <a:ext cx="2790720" cy="717480"/>
          </a:xfrm>
          <a:prstGeom prst="roundRect">
            <a:avLst>
              <a:gd name="adj" fmla="val 5630"/>
            </a:avLst>
          </a:prstGeom>
          <a:solidFill>
            <a:srgbClr val="d17355"/>
          </a:soli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直接箭头连接符 194"/>
          <p:cNvCxnSpPr>
            <a:stCxn id="158" idx="2"/>
            <a:endCxn id="160" idx="0"/>
          </p:cNvCxnSpPr>
          <p:nvPr/>
        </p:nvCxnSpPr>
        <p:spPr>
          <a:xfrm>
            <a:off x="2416320" y="2199960"/>
            <a:ext cx="2160" cy="935640"/>
          </a:xfrm>
          <a:prstGeom prst="straightConnector1">
            <a:avLst/>
          </a:prstGeom>
          <a:ln w="57240">
            <a:solidFill>
              <a:srgbClr val="bfbfbf"/>
            </a:solidFill>
            <a:round/>
            <a:tailEnd len="med" type="arrow" w="med"/>
          </a:ln>
        </p:spPr>
      </p:cxnSp>
      <p:cxnSp>
        <p:nvCxnSpPr>
          <p:cNvPr id="170" name="直接箭头连接符 198"/>
          <p:cNvCxnSpPr>
            <a:stCxn id="160" idx="2"/>
            <a:endCxn id="162" idx="0"/>
          </p:cNvCxnSpPr>
          <p:nvPr/>
        </p:nvCxnSpPr>
        <p:spPr>
          <a:xfrm>
            <a:off x="2416320" y="3854160"/>
            <a:ext cx="2160" cy="935640"/>
          </a:xfrm>
          <a:prstGeom prst="straightConnector1">
            <a:avLst/>
          </a:prstGeom>
          <a:ln w="57240">
            <a:solidFill>
              <a:srgbClr val="bfbfbf"/>
            </a:solidFill>
            <a:round/>
            <a:tailEnd len="med" type="arrow" w="med"/>
          </a:ln>
        </p:spPr>
      </p:cxnSp>
      <p:cxnSp>
        <p:nvCxnSpPr>
          <p:cNvPr id="171" name="肘形连接符 200"/>
          <p:cNvCxnSpPr>
            <a:stCxn id="162" idx="3"/>
            <a:endCxn id="164" idx="1"/>
          </p:cNvCxnSpPr>
          <p:nvPr/>
        </p:nvCxnSpPr>
        <p:spPr>
          <a:xfrm flipV="1">
            <a:off x="3811320" y="1841040"/>
            <a:ext cx="1610280" cy="3307680"/>
          </a:xfrm>
          <a:prstGeom prst="straightConnector1">
            <a:avLst/>
          </a:prstGeom>
          <a:ln w="57240">
            <a:solidFill>
              <a:srgbClr val="bfbfbf"/>
            </a:solidFill>
            <a:miter/>
            <a:tailEnd len="med" type="arrow" w="med"/>
          </a:ln>
        </p:spPr>
      </p:cxnSp>
      <p:cxnSp>
        <p:nvCxnSpPr>
          <p:cNvPr id="172" name="直接箭头连接符 202"/>
          <p:cNvCxnSpPr>
            <a:stCxn id="164" idx="2"/>
            <a:endCxn id="166" idx="0"/>
          </p:cNvCxnSpPr>
          <p:nvPr/>
        </p:nvCxnSpPr>
        <p:spPr>
          <a:xfrm>
            <a:off x="6816240" y="2199960"/>
            <a:ext cx="11880" cy="935640"/>
          </a:xfrm>
          <a:prstGeom prst="straightConnector1">
            <a:avLst/>
          </a:prstGeom>
          <a:ln w="57240">
            <a:solidFill>
              <a:srgbClr val="bfbfbf"/>
            </a:solidFill>
            <a:round/>
            <a:tailEnd len="med" type="arrow" w="med"/>
          </a:ln>
        </p:spPr>
      </p:cxnSp>
      <p:cxnSp>
        <p:nvCxnSpPr>
          <p:cNvPr id="173" name="直接箭头连接符 204"/>
          <p:cNvCxnSpPr>
            <a:stCxn id="166" idx="2"/>
            <a:endCxn id="168" idx="0"/>
          </p:cNvCxnSpPr>
          <p:nvPr/>
        </p:nvCxnSpPr>
        <p:spPr>
          <a:xfrm>
            <a:off x="6827400" y="3854160"/>
            <a:ext cx="1080" cy="935640"/>
          </a:xfrm>
          <a:prstGeom prst="straightConnector1">
            <a:avLst/>
          </a:prstGeom>
          <a:ln w="57240">
            <a:solidFill>
              <a:srgbClr val="bfbfbf"/>
            </a:solidFill>
            <a:round/>
            <a:tailEnd len="med" type="arrow" w="med"/>
          </a:ln>
        </p:spPr>
      </p:cxnSp>
      <p:sp>
        <p:nvSpPr>
          <p:cNvPr id="174" name="矩形 12"/>
          <p:cNvSpPr/>
          <p:nvPr/>
        </p:nvSpPr>
        <p:spPr>
          <a:xfrm>
            <a:off x="1984680" y="3324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3"/>
          <p:cNvSpPr/>
          <p:nvPr/>
        </p:nvSpPr>
        <p:spPr>
          <a:xfrm>
            <a:off x="6342480" y="496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4"/>
          <p:cNvSpPr/>
          <p:nvPr/>
        </p:nvSpPr>
        <p:spPr>
          <a:xfrm>
            <a:off x="6342480" y="3311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5"/>
          <p:cNvSpPr/>
          <p:nvPr/>
        </p:nvSpPr>
        <p:spPr>
          <a:xfrm>
            <a:off x="1984680" y="502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2"/>
          <p:cNvSpPr/>
          <p:nvPr/>
        </p:nvSpPr>
        <p:spPr>
          <a:xfrm>
            <a:off x="1913400" y="1681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2"/>
          <p:cNvSpPr/>
          <p:nvPr/>
        </p:nvSpPr>
        <p:spPr>
          <a:xfrm>
            <a:off x="6342480" y="1609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FB17-AE8E-4037-A892-A9150F30AD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梯形 6"/>
          <p:cNvSpPr/>
          <p:nvPr/>
        </p:nvSpPr>
        <p:spPr>
          <a:xfrm>
            <a:off x="1643040" y="1357200"/>
            <a:ext cx="3429000" cy="3929040"/>
          </a:xfrm>
          <a:custGeom>
            <a:avLst/>
            <a:gdLst/>
            <a:ahLst/>
            <a:rect l="l" t="t" r="r" b="b"/>
            <a:pathLst>
              <a:path w="3429000" h="3929062">
                <a:moveTo>
                  <a:pt x="0" y="3929062"/>
                </a:moveTo>
                <a:lnTo>
                  <a:pt x="857250" y="0"/>
                </a:lnTo>
                <a:lnTo>
                  <a:pt x="2571750" y="0"/>
                </a:lnTo>
                <a:lnTo>
                  <a:pt x="3429000" y="3929062"/>
                </a:lnTo>
                <a:close/>
              </a:path>
            </a:pathLst>
          </a:cu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梯形 7"/>
          <p:cNvSpPr/>
          <p:nvPr/>
        </p:nvSpPr>
        <p:spPr>
          <a:xfrm flipV="1">
            <a:off x="4357800" y="1356840"/>
            <a:ext cx="3429000" cy="3929040"/>
          </a:xfrm>
          <a:custGeom>
            <a:avLst/>
            <a:gdLst/>
            <a:ahLst/>
            <a:rect l="l" t="t" r="r" b="b"/>
            <a:pathLst>
              <a:path w="3429000" h="3929062">
                <a:moveTo>
                  <a:pt x="0" y="3929062"/>
                </a:moveTo>
                <a:lnTo>
                  <a:pt x="857250" y="0"/>
                </a:lnTo>
                <a:lnTo>
                  <a:pt x="2571750" y="0"/>
                </a:lnTo>
                <a:lnTo>
                  <a:pt x="3429000" y="3929062"/>
                </a:lnTo>
                <a:close/>
              </a:path>
            </a:pathLst>
          </a:cu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3"/>
          <p:cNvSpPr/>
          <p:nvPr/>
        </p:nvSpPr>
        <p:spPr>
          <a:xfrm>
            <a:off x="56408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4"/>
          <p:cNvSpPr/>
          <p:nvPr/>
        </p:nvSpPr>
        <p:spPr>
          <a:xfrm>
            <a:off x="2997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2:17Z</dcterms:modified>
  <cp:revision>28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