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C84-5F86-4DE6-AA3F-3CFF32A1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8E8-D99C-470E-8B29-4033A4B4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D90-75C1-4561-BC2A-F5089ADE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1FD-021B-4043-8FA6-E043DDCE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5249-0104-4274-9E85-6F0CD7D5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309A-25B3-48F5-B199-60547EA3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7728-9FE6-4C52-A949-996CBF49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E44C-FC95-4341-95F1-1AAA3757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C01C-C143-409D-8FD2-EAA0C70E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36E4-7882-47DC-B4ED-2023BFEC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0CDF-8611-481B-AB54-97329511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24A-EA7E-4F70-86BD-C1D53F7D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2C81-AAF7-4FCC-B09D-67682A4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6371-7B53-42D7-ABFB-FD23220B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ADAF-BCD4-4B1B-9C87-83416941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A512-ADB3-422D-9048-D7B1C2DD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9D00-4D22-446E-94A7-5EF8D1E0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DD60-4B33-4D5D-9DBD-EB47589B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E194-9F4F-4CBA-A7DA-560BA244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8CF3-910B-4956-8C28-D391AB1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8346-D242-47CB-B6A8-35047C4A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4857-4401-4817-9188-936C9A0D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219-DBBB-4343-B2A8-13E5D324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F3DD-B393-48A7-B8E2-46DE1EB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FB40-A93C-4683-8DC6-24868116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DF14-5B72-4415-9C29-1EFC334F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AC55-79E7-4D9A-8985-34DDDD0F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B3C4-C2E2-4EA1-AF66-907D661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00F2-10BA-4D8C-8323-60D02E2D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C6F9-8ADC-4D02-8F49-2853ED37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A6A-295E-4A47-8E3C-CC75957C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8C6-C1AA-4D32-8879-B28E16A6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282-48BE-4140-8B8D-74F22851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4ED-FF3A-4F05-835F-8472A76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A26-20A1-41C1-BB54-5261D41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7E8-6954-4EF2-B88C-28996273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81" descr="03_back_b"/>
          <p:cNvPicPr/>
          <p:nvPr/>
        </p:nvPicPr>
        <p:blipFill>
          <a:blip r:embed="rId2"/>
          <a:stretch/>
        </p:blipFill>
        <p:spPr>
          <a:xfrm>
            <a:off x="6246720" y="609480"/>
            <a:ext cx="2630520" cy="2543400"/>
          </a:xfrm>
          <a:prstGeom prst="rect">
            <a:avLst/>
          </a:prstGeom>
          <a:ln w="0">
            <a:noFill/>
          </a:ln>
        </p:spPr>
      </p:pic>
      <p:sp>
        <p:nvSpPr>
          <p:cNvPr id="1" name="矩形 1076"/>
          <p:cNvSpPr/>
          <p:nvPr/>
        </p:nvSpPr>
        <p:spPr>
          <a:xfrm>
            <a:off x="228600" y="590400"/>
            <a:ext cx="8686800" cy="5943600"/>
          </a:xfrm>
          <a:prstGeom prst="rect">
            <a:avLst/>
          </a:prstGeom>
          <a:noFill/>
          <a:ln w="38160">
            <a:solidFill>
              <a:srgbClr val="4cb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矩形 1078"/>
          <p:cNvSpPr/>
          <p:nvPr/>
        </p:nvSpPr>
        <p:spPr>
          <a:xfrm>
            <a:off x="5715000" y="6229440"/>
            <a:ext cx="3009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矩形 1077"/>
          <p:cNvSpPr/>
          <p:nvPr/>
        </p:nvSpPr>
        <p:spPr>
          <a:xfrm>
            <a:off x="609480" y="190440"/>
            <a:ext cx="5562720" cy="10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f5f5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  <a:ea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66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83FD-94F6-4E33-A47A-7986CA55E260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图片 1082" descr="03_icon"/>
          <p:cNvPicPr/>
          <p:nvPr/>
        </p:nvPicPr>
        <p:blipFill>
          <a:blip r:embed="rId3"/>
          <a:stretch/>
        </p:blipFill>
        <p:spPr>
          <a:xfrm>
            <a:off x="5376960" y="166680"/>
            <a:ext cx="74916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A58-FAF8-4B4D-8818-7E968DFFB16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D7CB-230B-4EB2-A7B8-772D2B80D4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3095"/>
          <p:cNvSpPr/>
          <p:nvPr/>
        </p:nvSpPr>
        <p:spPr>
          <a:xfrm>
            <a:off x="357120" y="1171440"/>
            <a:ext cx="8406000" cy="4772160"/>
          </a:xfrm>
          <a:prstGeom prst="rect">
            <a:avLst/>
          </a:prstGeom>
          <a:solidFill>
            <a:srgbClr val="ffffff"/>
          </a:solidFill>
          <a:ln w="38160">
            <a:solidFill>
              <a:srgbClr val="4cb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8" name="图片 3101" descr="03_back"/>
          <p:cNvPicPr/>
          <p:nvPr/>
        </p:nvPicPr>
        <p:blipFill>
          <a:blip r:embed="rId3"/>
          <a:stretch/>
        </p:blipFill>
        <p:spPr>
          <a:xfrm>
            <a:off x="374760" y="1197000"/>
            <a:ext cx="8346960" cy="47037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3085"/>
          <p:cNvSpPr/>
          <p:nvPr/>
        </p:nvSpPr>
        <p:spPr>
          <a:xfrm>
            <a:off x="7467480" y="6858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" name="图片 3102" descr="03_icon"/>
          <p:cNvPicPr/>
          <p:nvPr/>
        </p:nvPicPr>
        <p:blipFill>
          <a:blip r:embed="rId4"/>
          <a:stretch/>
        </p:blipFill>
        <p:spPr>
          <a:xfrm>
            <a:off x="2895480" y="4648320"/>
            <a:ext cx="749520" cy="9270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635280" y="5029200"/>
            <a:ext cx="5105520" cy="360"/>
            <a:chOff x="3635280" y="5029200"/>
            <a:chExt cx="5105520" cy="360"/>
          </a:xfrm>
        </p:grpSpPr>
        <p:sp>
          <p:nvSpPr>
            <p:cNvPr id="92" name="直接连接符 3103"/>
            <p:cNvSpPr/>
            <p:nvPr/>
          </p:nvSpPr>
          <p:spPr>
            <a:xfrm>
              <a:off x="3635280" y="5029200"/>
              <a:ext cx="5105520" cy="0"/>
            </a:xfrm>
            <a:prstGeom prst="line">
              <a:avLst/>
            </a:prstGeom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635280" y="502920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80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6229-2748-45DD-847F-F8A680A29EC9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733560" y="457200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werPoi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37221"/>
          <p:cNvSpPr/>
          <p:nvPr/>
        </p:nvSpPr>
        <p:spPr>
          <a:xfrm>
            <a:off x="3962520" y="42670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your company slogan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矩形 137222"/>
          <p:cNvSpPr/>
          <p:nvPr/>
        </p:nvSpPr>
        <p:spPr>
          <a:xfrm>
            <a:off x="3871800" y="4313160"/>
            <a:ext cx="76320" cy="228600"/>
          </a:xfrm>
          <a:prstGeom prst="rect">
            <a:avLst/>
          </a:prstGeom>
          <a:solidFill>
            <a:srgbClr val="4cb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页脚占位符 2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9880" y="5044320"/>
            <a:ext cx="4572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"/>
          <p:cNvSpPr/>
          <p:nvPr/>
        </p:nvSpPr>
        <p:spPr>
          <a:xfrm>
            <a:off x="285840" y="152280"/>
            <a:ext cx="77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Arial"/>
              </a:rPr>
              <a:t>企业工作计划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127016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31" name="圆角矩形 126977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2" name="圆角矩形 126978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3" name="圆角矩形 126979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4" name="燕尾形 126981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5" name="燕尾形 126982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7b9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6" name="椭圆 126983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9cb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7" name="椭圆 126984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b9cb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8" name="椭圆 126985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35462"/>
                </a:gs>
                <a:gs pos="50000">
                  <a:srgbClr val="7b9cb5"/>
                </a:gs>
                <a:gs pos="100000">
                  <a:srgbClr val="4354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9" name="椭圆 126986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e6373"/>
                </a:gs>
                <a:gs pos="100000">
                  <a:srgbClr val="7b9cb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0" name="椭圆 126987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1" name="椭圆 126988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3c1a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2" name="椭圆 126989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b3c1a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3" name="椭圆 126990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16857"/>
                </a:gs>
                <a:gs pos="50000">
                  <a:srgbClr val="b3c1a1"/>
                </a:gs>
                <a:gs pos="100000">
                  <a:srgbClr val="61685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4" name="椭圆 126991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727b66"/>
                </a:gs>
                <a:gs pos="100000">
                  <a:srgbClr val="b3c1a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5" name="椭圆 126992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46" name="组合 126993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47" name="椭圆 126994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8" name="椭圆 126995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9" name="椭圆 126996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0" name="椭圆 126997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51" name="椭圆 126998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4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2" name="椭圆 126999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bb44e">
                    <a:alpha val="32156"/>
                  </a:srgbClr>
                </a:gs>
                <a:gs pos="100000">
                  <a:srgbClr val="40532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3" name="椭圆 127000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b612a"/>
                </a:gs>
                <a:gs pos="50000">
                  <a:srgbClr val="8bb44e"/>
                </a:gs>
                <a:gs pos="100000">
                  <a:srgbClr val="4b61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4" name="椭圆 127001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87232"/>
                </a:gs>
                <a:gs pos="100000">
                  <a:srgbClr val="8bb4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5" name="椭圆 127002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56" name="组合 127003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57" name="椭圆 127004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8" name="椭圆 127005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9" name="椭圆 127006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0" name="椭圆 127007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61" name="组合 127008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62" name="椭圆 127009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3" name="椭圆 127010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4" name="椭圆 127011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65" name="椭圆 127012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66" name="文本框 127013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7" name="文本框 127014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8" name="文本框 127015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69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128030"/>
          <p:cNvGrpSpPr/>
          <p:nvPr/>
        </p:nvGrpSpPr>
        <p:grpSpPr>
          <a:xfrm>
            <a:off x="1752480" y="1447920"/>
            <a:ext cx="5181480" cy="4495680"/>
            <a:chOff x="1752480" y="1447920"/>
            <a:chExt cx="5181480" cy="4495680"/>
          </a:xfrm>
        </p:grpSpPr>
        <p:sp>
          <p:nvSpPr>
            <p:cNvPr id="372" name="矩形 128031"/>
            <p:cNvSpPr/>
            <p:nvPr/>
          </p:nvSpPr>
          <p:spPr>
            <a:xfrm rot="13770000">
              <a:off x="4805640" y="362160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3" name="矩形 128032"/>
            <p:cNvSpPr/>
            <p:nvPr/>
          </p:nvSpPr>
          <p:spPr>
            <a:xfrm rot="20856000">
              <a:off x="2938680" y="3223440"/>
              <a:ext cx="938880" cy="1537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0e0e0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4" name="矩形 128033"/>
            <p:cNvSpPr/>
            <p:nvPr/>
          </p:nvSpPr>
          <p:spPr>
            <a:xfrm rot="18394200">
              <a:off x="4916160" y="2241360"/>
              <a:ext cx="532440" cy="1231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75" name="组合 128034"/>
            <p:cNvGrpSpPr/>
            <p:nvPr/>
          </p:nvGrpSpPr>
          <p:grpSpPr>
            <a:xfrm>
              <a:off x="3812400" y="2276280"/>
              <a:ext cx="1498320" cy="1420200"/>
              <a:chOff x="3812400" y="2276280"/>
              <a:chExt cx="1498320" cy="1420200"/>
            </a:xfrm>
          </p:grpSpPr>
          <p:grpSp>
            <p:nvGrpSpPr>
              <p:cNvPr id="376" name="组合 128035"/>
              <p:cNvGrpSpPr/>
              <p:nvPr/>
            </p:nvGrpSpPr>
            <p:grpSpPr>
              <a:xfrm>
                <a:off x="3812400" y="2276280"/>
                <a:ext cx="1498320" cy="1420200"/>
                <a:chOff x="3812400" y="2276280"/>
                <a:chExt cx="1498320" cy="1420200"/>
              </a:xfrm>
            </p:grpSpPr>
            <p:sp>
              <p:nvSpPr>
                <p:cNvPr id="377" name="椭圆 128036"/>
                <p:cNvSpPr/>
                <p:nvPr/>
              </p:nvSpPr>
              <p:spPr>
                <a:xfrm>
                  <a:off x="3812400" y="227628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3c1a1"/>
                    </a:gs>
                    <a:gs pos="100000">
                      <a:srgbClr val="2c2f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78" name="任意多边形 128037"/>
                <p:cNvSpPr/>
                <p:nvPr/>
              </p:nvSpPr>
              <p:spPr>
                <a:xfrm>
                  <a:off x="3983400" y="229968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3c1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文本框 128038"/>
              <p:cNvSpPr/>
              <p:nvPr/>
            </p:nvSpPr>
            <p:spPr>
              <a:xfrm>
                <a:off x="3844800" y="28936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80" name="组合 128039"/>
            <p:cNvGrpSpPr/>
            <p:nvPr/>
          </p:nvGrpSpPr>
          <p:grpSpPr>
            <a:xfrm>
              <a:off x="5097240" y="1447920"/>
              <a:ext cx="909360" cy="768960"/>
              <a:chOff x="5097240" y="1447920"/>
              <a:chExt cx="909360" cy="768960"/>
            </a:xfrm>
          </p:grpSpPr>
          <p:grpSp>
            <p:nvGrpSpPr>
              <p:cNvPr id="381" name="组合 128040"/>
              <p:cNvGrpSpPr/>
              <p:nvPr/>
            </p:nvGrpSpPr>
            <p:grpSpPr>
              <a:xfrm>
                <a:off x="5123520" y="1447920"/>
                <a:ext cx="811440" cy="768960"/>
                <a:chOff x="5123520" y="1447920"/>
                <a:chExt cx="811440" cy="768960"/>
              </a:xfrm>
            </p:grpSpPr>
            <p:sp>
              <p:nvSpPr>
                <p:cNvPr id="382" name="椭圆 128041"/>
                <p:cNvSpPr/>
                <p:nvPr/>
              </p:nvSpPr>
              <p:spPr>
                <a:xfrm>
                  <a:off x="5123520" y="1447920"/>
                  <a:ext cx="811440" cy="76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44e"/>
                    </a:gs>
                    <a:gs pos="100000">
                      <a:srgbClr val="222c1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3" name="任意多边形 128042"/>
                <p:cNvSpPr/>
                <p:nvPr/>
              </p:nvSpPr>
              <p:spPr>
                <a:xfrm>
                  <a:off x="5216040" y="146052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4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文本框 128043"/>
              <p:cNvSpPr/>
              <p:nvPr/>
            </p:nvSpPr>
            <p:spPr>
              <a:xfrm>
                <a:off x="5097240" y="17449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85" name="组合 128044"/>
            <p:cNvGrpSpPr/>
            <p:nvPr/>
          </p:nvGrpSpPr>
          <p:grpSpPr>
            <a:xfrm>
              <a:off x="1752480" y="2572200"/>
              <a:ext cx="1623240" cy="1597680"/>
              <a:chOff x="1752480" y="2572200"/>
              <a:chExt cx="1623240" cy="1597680"/>
            </a:xfrm>
          </p:grpSpPr>
          <p:grpSp>
            <p:nvGrpSpPr>
              <p:cNvPr id="386" name="组合 128045"/>
              <p:cNvGrpSpPr/>
              <p:nvPr/>
            </p:nvGrpSpPr>
            <p:grpSpPr>
              <a:xfrm>
                <a:off x="1752480" y="2572200"/>
                <a:ext cx="1623240" cy="1597680"/>
                <a:chOff x="1752480" y="2572200"/>
                <a:chExt cx="1623240" cy="1597680"/>
              </a:xfrm>
            </p:grpSpPr>
            <p:sp>
              <p:nvSpPr>
                <p:cNvPr id="387" name="椭圆 128046"/>
                <p:cNvSpPr/>
                <p:nvPr/>
              </p:nvSpPr>
              <p:spPr>
                <a:xfrm>
                  <a:off x="1752480" y="2572200"/>
                  <a:ext cx="162324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b06d"/>
                    </a:gs>
                    <a:gs pos="100000">
                      <a:srgbClr val="30704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8" name="任意多边形 128047"/>
                <p:cNvSpPr/>
                <p:nvPr/>
              </p:nvSpPr>
              <p:spPr>
                <a:xfrm>
                  <a:off x="1937880" y="259848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b06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文本框 128048"/>
              <p:cNvSpPr/>
              <p:nvPr/>
            </p:nvSpPr>
            <p:spPr>
              <a:xfrm>
                <a:off x="178596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90" name="组合 128049"/>
            <p:cNvGrpSpPr/>
            <p:nvPr/>
          </p:nvGrpSpPr>
          <p:grpSpPr>
            <a:xfrm>
              <a:off x="5061240" y="3755880"/>
              <a:ext cx="1872720" cy="1775520"/>
              <a:chOff x="5061240" y="3755880"/>
              <a:chExt cx="1872720" cy="1775520"/>
            </a:xfrm>
          </p:grpSpPr>
          <p:grpSp>
            <p:nvGrpSpPr>
              <p:cNvPr id="391" name="组合 128050"/>
              <p:cNvGrpSpPr/>
              <p:nvPr/>
            </p:nvGrpSpPr>
            <p:grpSpPr>
              <a:xfrm>
                <a:off x="5061240" y="3755880"/>
                <a:ext cx="1872720" cy="1775520"/>
                <a:chOff x="5061240" y="3755880"/>
                <a:chExt cx="1872720" cy="1775520"/>
              </a:xfrm>
            </p:grpSpPr>
            <p:sp>
              <p:nvSpPr>
                <p:cNvPr id="392" name="椭圆 128051"/>
                <p:cNvSpPr/>
                <p:nvPr/>
              </p:nvSpPr>
              <p:spPr>
                <a:xfrm>
                  <a:off x="5061240" y="375588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9cb5"/>
                    </a:gs>
                    <a:gs pos="100000">
                      <a:srgbClr val="3f50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93" name="任意多边形 128052"/>
                <p:cNvSpPr/>
                <p:nvPr/>
              </p:nvSpPr>
              <p:spPr>
                <a:xfrm>
                  <a:off x="5275080" y="378504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b9c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文本框 128053"/>
              <p:cNvSpPr/>
              <p:nvPr/>
            </p:nvSpPr>
            <p:spPr>
              <a:xfrm>
                <a:off x="5274720" y="45252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95" name="椭圆 128054"/>
            <p:cNvSpPr/>
            <p:nvPr/>
          </p:nvSpPr>
          <p:spPr>
            <a:xfrm>
              <a:off x="1939680" y="422928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6" name="椭圆 128055"/>
            <p:cNvSpPr/>
            <p:nvPr/>
          </p:nvSpPr>
          <p:spPr>
            <a:xfrm>
              <a:off x="3937680" y="369936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7" name="椭圆 128056"/>
            <p:cNvSpPr/>
            <p:nvPr/>
          </p:nvSpPr>
          <p:spPr>
            <a:xfrm>
              <a:off x="5373360" y="55317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8" name="椭圆 128057"/>
            <p:cNvSpPr/>
            <p:nvPr/>
          </p:nvSpPr>
          <p:spPr>
            <a:xfrm>
              <a:off x="5248440" y="2276280"/>
              <a:ext cx="604440" cy="205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99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40320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402" name="右箭头 140290"/>
            <p:cNvSpPr/>
            <p:nvPr/>
          </p:nvSpPr>
          <p:spPr>
            <a:xfrm rot="17973000">
              <a:off x="4561560" y="2534040"/>
              <a:ext cx="792360" cy="289080"/>
            </a:xfrm>
            <a:prstGeom prst="rightArrow">
              <a:avLst>
                <a:gd name="adj1" fmla="val 35167"/>
                <a:gd name="adj2" fmla="val 110971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3" name="右箭头 140291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4" name="右箭头 140292"/>
            <p:cNvSpPr/>
            <p:nvPr/>
          </p:nvSpPr>
          <p:spPr>
            <a:xfrm rot="14368800">
              <a:off x="3393000" y="2556360"/>
              <a:ext cx="792000" cy="288720"/>
            </a:xfrm>
            <a:prstGeom prst="rightArrow">
              <a:avLst>
                <a:gd name="adj1" fmla="val 35167"/>
                <a:gd name="adj2" fmla="val 111059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5" name="右箭头 140293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09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6" name="右箭头 140294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21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7" name="右箭头 140295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54"/>
              </a:avLst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8" name="椭圆 140296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9" name="文本框 140297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0" name="文本框 140298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1" name="文本框 140299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2" name="文本框 140300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3" name="文本框 140301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4" name="文本框 140302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5" name="椭圆 140303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6" name="椭圆 140304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7" name="椭圆 140305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8" name="椭圆 140306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9" name="椭圆 140307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0" name="椭圆 140308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8d9b8"/>
                </a:gs>
                <a:gs pos="100000">
                  <a:srgbClr val="4cb06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1" name="椭圆 140309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9cb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2" name="椭圆 140310"/>
            <p:cNvSpPr/>
            <p:nvPr/>
          </p:nvSpPr>
          <p:spPr>
            <a:xfrm>
              <a:off x="354816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b9cb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3" name="椭圆 140311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35462"/>
                </a:gs>
                <a:gs pos="50000">
                  <a:srgbClr val="7b9cb5"/>
                </a:gs>
                <a:gs pos="100000">
                  <a:srgbClr val="4354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4" name="椭圆 140312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e6373"/>
                </a:gs>
                <a:gs pos="100000">
                  <a:srgbClr val="7b9cb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5" name="椭圆 140313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26" name="组合 140314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27" name="椭圆 140315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8" name="椭圆 140316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9" name="椭圆 140317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30" name="椭圆 140318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31" name="文本框 140319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2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30139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35" name="圆角矩形 130140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6" name="圆角矩形 130141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7" name="圆角矩形 130142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8" name="圆角矩形 130143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9" name="圆角矩形 130144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0" name="圆角矩形 130145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41" name="组合 130146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42" name="椭圆 130147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3" name="椭圆 130148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4" name="椭圆 130149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5" name="椭圆 130150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6" name="椭圆 130151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47" name="文本框 130152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8" name="文本框 130153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49" name="组合 130154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50" name="圆角矩形 130155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1" name="圆角矩形 130156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2" name="圆角矩形 130157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3" name="圆角矩形 130158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4" name="椭圆 130159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5" name="椭圆 130160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6" name="椭圆 130161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7" name="椭圆 130162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8" name="椭圆 130163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9" name="文本框 130164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0" name="文本框 130165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1" name="圆角矩形 130166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2" name="圆角矩形 130167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63" name="组合 130168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64" name="圆角矩形 130169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5" name="圆角矩形 130170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6" name="圆角矩形 130171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7" name="圆角矩形 130172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68" name="组合 130173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69" name="椭圆 130174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0" name="椭圆 130175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1" name="椭圆 130176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2" name="椭圆 130177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3" name="椭圆 130178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74" name="文本框 130179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5" name="文本框 130180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6" name="圆角矩形 130181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7" name="圆角矩形 130182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78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131168"/>
          <p:cNvGrpSpPr/>
          <p:nvPr/>
        </p:nvGrpSpPr>
        <p:grpSpPr>
          <a:xfrm>
            <a:off x="241200" y="2031840"/>
            <a:ext cx="8664840" cy="3985920"/>
            <a:chOff x="241200" y="2031840"/>
            <a:chExt cx="8664840" cy="3985920"/>
          </a:xfrm>
        </p:grpSpPr>
        <p:grpSp>
          <p:nvGrpSpPr>
            <p:cNvPr id="481" name="组合 131074"/>
            <p:cNvGrpSpPr/>
            <p:nvPr/>
          </p:nvGrpSpPr>
          <p:grpSpPr>
            <a:xfrm>
              <a:off x="241200" y="3238560"/>
              <a:ext cx="8664840" cy="142560"/>
              <a:chOff x="241200" y="3238560"/>
              <a:chExt cx="8664840" cy="142560"/>
            </a:xfrm>
          </p:grpSpPr>
          <p:sp>
            <p:nvSpPr>
              <p:cNvPr id="482" name="矩形 131075"/>
              <p:cNvSpPr/>
              <p:nvPr/>
            </p:nvSpPr>
            <p:spPr>
              <a:xfrm>
                <a:off x="241200" y="3238560"/>
                <a:ext cx="866484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3" name="矩形 131076"/>
              <p:cNvSpPr/>
              <p:nvPr/>
            </p:nvSpPr>
            <p:spPr>
              <a:xfrm>
                <a:off x="241200" y="3293280"/>
                <a:ext cx="866484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84" name="组合 131164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85" name="组合 131130"/>
              <p:cNvGrpSpPr/>
              <p:nvPr/>
            </p:nvGrpSpPr>
            <p:grpSpPr>
              <a:xfrm>
                <a:off x="1167840" y="3526560"/>
                <a:ext cx="1526760" cy="2424600"/>
                <a:chOff x="1167840" y="3526560"/>
                <a:chExt cx="1526760" cy="2424600"/>
              </a:xfrm>
            </p:grpSpPr>
            <p:grpSp>
              <p:nvGrpSpPr>
                <p:cNvPr id="486" name="组合 131131"/>
                <p:cNvGrpSpPr/>
                <p:nvPr/>
              </p:nvGrpSpPr>
              <p:grpSpPr>
                <a:xfrm>
                  <a:off x="1167840" y="3684240"/>
                  <a:ext cx="1420560" cy="2266920"/>
                  <a:chOff x="1167840" y="3684240"/>
                  <a:chExt cx="1420560" cy="2266920"/>
                </a:xfrm>
              </p:grpSpPr>
              <p:sp>
                <p:nvSpPr>
                  <p:cNvPr id="487" name="任意多边形 131132"/>
                  <p:cNvSpPr/>
                  <p:nvPr/>
                </p:nvSpPr>
                <p:spPr>
                  <a:xfrm rot="3876600">
                    <a:off x="740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任意多边形 131133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组合 131134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490" name="任意多边形 131135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任意多边形 131136"/>
                  <p:cNvSpPr/>
                  <p:nvPr/>
                </p:nvSpPr>
                <p:spPr>
                  <a:xfrm flipV="1" rot="3876600">
                    <a:off x="2309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组合 131137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93" name="椭圆 131138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131139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131140"/>
                <p:cNvSpPr/>
                <p:nvPr/>
              </p:nvSpPr>
              <p:spPr>
                <a:xfrm>
                  <a:off x="845640" y="277092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131141"/>
                <p:cNvSpPr/>
                <p:nvPr/>
              </p:nvSpPr>
              <p:spPr>
                <a:xfrm>
                  <a:off x="845640" y="2773800"/>
                  <a:ext cx="110268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7" name="椭圆 131142"/>
                <p:cNvSpPr/>
                <p:nvPr/>
              </p:nvSpPr>
              <p:spPr>
                <a:xfrm>
                  <a:off x="900360" y="2828520"/>
                  <a:ext cx="99324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组合 131143"/>
                <p:cNvGrpSpPr/>
                <p:nvPr/>
              </p:nvGrpSpPr>
              <p:grpSpPr>
                <a:xfrm>
                  <a:off x="916200" y="2844720"/>
                  <a:ext cx="962280" cy="993240"/>
                  <a:chOff x="916200" y="2844720"/>
                  <a:chExt cx="962280" cy="993240"/>
                </a:xfrm>
              </p:grpSpPr>
              <p:sp>
                <p:nvSpPr>
                  <p:cNvPr id="499" name="椭圆 131144"/>
                  <p:cNvSpPr/>
                  <p:nvPr/>
                </p:nvSpPr>
                <p:spPr>
                  <a:xfrm>
                    <a:off x="916200" y="2844720"/>
                    <a:ext cx="96228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131145"/>
                  <p:cNvSpPr/>
                  <p:nvPr/>
                </p:nvSpPr>
                <p:spPr>
                  <a:xfrm>
                    <a:off x="928080" y="2850120"/>
                    <a:ext cx="93924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椭圆 131146"/>
                  <p:cNvSpPr/>
                  <p:nvPr/>
                </p:nvSpPr>
                <p:spPr>
                  <a:xfrm>
                    <a:off x="938160" y="2859480"/>
                    <a:ext cx="89316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椭圆 131147"/>
                  <p:cNvSpPr/>
                  <p:nvPr/>
                </p:nvSpPr>
                <p:spPr>
                  <a:xfrm>
                    <a:off x="990720" y="288504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" name="文本框 131148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4" name="文本框 131149"/>
              <p:cNvSpPr/>
              <p:nvPr/>
            </p:nvSpPr>
            <p:spPr>
              <a:xfrm rot="3925800">
                <a:off x="15908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05" name="组合 13116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06" name="组合 131112"/>
              <p:cNvGrpSpPr/>
              <p:nvPr/>
            </p:nvGrpSpPr>
            <p:grpSpPr>
              <a:xfrm>
                <a:off x="2913840" y="3526560"/>
                <a:ext cx="1526760" cy="2424600"/>
                <a:chOff x="2913840" y="3526560"/>
                <a:chExt cx="1526760" cy="2424600"/>
              </a:xfrm>
            </p:grpSpPr>
            <p:grpSp>
              <p:nvGrpSpPr>
                <p:cNvPr id="507" name="组合 131113"/>
                <p:cNvGrpSpPr/>
                <p:nvPr/>
              </p:nvGrpSpPr>
              <p:grpSpPr>
                <a:xfrm>
                  <a:off x="2913840" y="3684240"/>
                  <a:ext cx="1420560" cy="2266920"/>
                  <a:chOff x="2913840" y="3684240"/>
                  <a:chExt cx="1420560" cy="2266920"/>
                </a:xfrm>
              </p:grpSpPr>
              <p:sp>
                <p:nvSpPr>
                  <p:cNvPr id="508" name="任意多边形 131114"/>
                  <p:cNvSpPr/>
                  <p:nvPr/>
                </p:nvSpPr>
                <p:spPr>
                  <a:xfrm rot="3876600">
                    <a:off x="2486160" y="45712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任意多边形 131115"/>
                  <p:cNvSpPr/>
                  <p:nvPr/>
                </p:nvSpPr>
                <p:spPr>
                  <a:xfrm rot="3876600">
                    <a:off x="3853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组合 131116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11" name="任意多边形 131117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任意多边形 131118"/>
                  <p:cNvSpPr/>
                  <p:nvPr/>
                </p:nvSpPr>
                <p:spPr>
                  <a:xfrm flipV="1" rot="3876600">
                    <a:off x="405576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3" name="组合 131119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14" name="椭圆 131120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5" name="椭圆 131121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6" name="椭圆 131122"/>
                <p:cNvSpPr/>
                <p:nvPr/>
              </p:nvSpPr>
              <p:spPr>
                <a:xfrm>
                  <a:off x="2593440" y="277092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7" name="椭圆 131123"/>
                <p:cNvSpPr/>
                <p:nvPr/>
              </p:nvSpPr>
              <p:spPr>
                <a:xfrm>
                  <a:off x="2593440" y="2773800"/>
                  <a:ext cx="11023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8" name="椭圆 131124"/>
                <p:cNvSpPr/>
                <p:nvPr/>
              </p:nvSpPr>
              <p:spPr>
                <a:xfrm>
                  <a:off x="2648160" y="2828520"/>
                  <a:ext cx="9928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组合 131125"/>
                <p:cNvGrpSpPr/>
                <p:nvPr/>
              </p:nvGrpSpPr>
              <p:grpSpPr>
                <a:xfrm>
                  <a:off x="2663640" y="2844720"/>
                  <a:ext cx="961920" cy="993240"/>
                  <a:chOff x="2663640" y="2844720"/>
                  <a:chExt cx="961920" cy="993240"/>
                </a:xfrm>
              </p:grpSpPr>
              <p:sp>
                <p:nvSpPr>
                  <p:cNvPr id="520" name="椭圆 131126"/>
                  <p:cNvSpPr/>
                  <p:nvPr/>
                </p:nvSpPr>
                <p:spPr>
                  <a:xfrm>
                    <a:off x="2663640" y="2844720"/>
                    <a:ext cx="96192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椭圆 131127"/>
                  <p:cNvSpPr/>
                  <p:nvPr/>
                </p:nvSpPr>
                <p:spPr>
                  <a:xfrm>
                    <a:off x="2675520" y="2850120"/>
                    <a:ext cx="93888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椭圆 131128"/>
                  <p:cNvSpPr/>
                  <p:nvPr/>
                </p:nvSpPr>
                <p:spPr>
                  <a:xfrm>
                    <a:off x="2685600" y="2859480"/>
                    <a:ext cx="89280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椭圆 131129"/>
                  <p:cNvSpPr/>
                  <p:nvPr/>
                </p:nvSpPr>
                <p:spPr>
                  <a:xfrm>
                    <a:off x="2738160" y="288504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文本框 131150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5" name="文本框 131151"/>
              <p:cNvSpPr/>
              <p:nvPr/>
            </p:nvSpPr>
            <p:spPr>
              <a:xfrm rot="3925800">
                <a:off x="333144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26" name="组合 131166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527" name="组合 131077"/>
              <p:cNvGrpSpPr/>
              <p:nvPr/>
            </p:nvGrpSpPr>
            <p:grpSpPr>
              <a:xfrm>
                <a:off x="4719240" y="3526560"/>
                <a:ext cx="1526040" cy="2424600"/>
                <a:chOff x="4719240" y="3526560"/>
                <a:chExt cx="1526040" cy="2424600"/>
              </a:xfrm>
            </p:grpSpPr>
            <p:grpSp>
              <p:nvGrpSpPr>
                <p:cNvPr id="528" name="组合 131078"/>
                <p:cNvGrpSpPr/>
                <p:nvPr/>
              </p:nvGrpSpPr>
              <p:grpSpPr>
                <a:xfrm>
                  <a:off x="4719240" y="3684240"/>
                  <a:ext cx="1420200" cy="2266920"/>
                  <a:chOff x="4719240" y="3684240"/>
                  <a:chExt cx="1420200" cy="2266920"/>
                </a:xfrm>
              </p:grpSpPr>
              <p:sp>
                <p:nvSpPr>
                  <p:cNvPr id="529" name="任意多边形 131079"/>
                  <p:cNvSpPr/>
                  <p:nvPr/>
                </p:nvSpPr>
                <p:spPr>
                  <a:xfrm rot="3876600">
                    <a:off x="42915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任意多边形 131080"/>
                  <p:cNvSpPr/>
                  <p:nvPr/>
                </p:nvSpPr>
                <p:spPr>
                  <a:xfrm rot="3876600">
                    <a:off x="5658840" y="5450760"/>
                    <a:ext cx="357480" cy="40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组合 131081"/>
                <p:cNvGrpSpPr/>
                <p:nvPr/>
              </p:nvGrpSpPr>
              <p:grpSpPr>
                <a:xfrm>
                  <a:off x="5155200" y="3526560"/>
                  <a:ext cx="1090080" cy="1739520"/>
                  <a:chOff x="5155200" y="3526560"/>
                  <a:chExt cx="1090080" cy="1739520"/>
                </a:xfrm>
              </p:grpSpPr>
              <p:sp>
                <p:nvSpPr>
                  <p:cNvPr id="532" name="任意多边形 131082"/>
                  <p:cNvSpPr/>
                  <p:nvPr/>
                </p:nvSpPr>
                <p:spPr>
                  <a:xfrm flipV="1" rot="3876600">
                    <a:off x="482688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任意多边形 131083"/>
                  <p:cNvSpPr/>
                  <p:nvPr/>
                </p:nvSpPr>
                <p:spPr>
                  <a:xfrm flipV="1" rot="3876600">
                    <a:off x="586080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组合 13108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35" name="椭圆 13108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6" name="椭圆 13108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131087"/>
                <p:cNvSpPr/>
                <p:nvPr/>
              </p:nvSpPr>
              <p:spPr>
                <a:xfrm>
                  <a:off x="4397040" y="277092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131088"/>
                <p:cNvSpPr/>
                <p:nvPr/>
              </p:nvSpPr>
              <p:spPr>
                <a:xfrm>
                  <a:off x="4397040" y="2773800"/>
                  <a:ext cx="110412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31089"/>
                <p:cNvSpPr/>
                <p:nvPr/>
              </p:nvSpPr>
              <p:spPr>
                <a:xfrm>
                  <a:off x="4451760" y="2828520"/>
                  <a:ext cx="994680" cy="1023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40" name="组合 131090"/>
                <p:cNvGrpSpPr/>
                <p:nvPr/>
              </p:nvGrpSpPr>
              <p:grpSpPr>
                <a:xfrm>
                  <a:off x="4467240" y="2844720"/>
                  <a:ext cx="963360" cy="993240"/>
                  <a:chOff x="4467240" y="2844720"/>
                  <a:chExt cx="963360" cy="993240"/>
                </a:xfrm>
              </p:grpSpPr>
              <p:sp>
                <p:nvSpPr>
                  <p:cNvPr id="541" name="椭圆 131091"/>
                  <p:cNvSpPr/>
                  <p:nvPr/>
                </p:nvSpPr>
                <p:spPr>
                  <a:xfrm>
                    <a:off x="4467240" y="2844720"/>
                    <a:ext cx="963360" cy="993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椭圆 131092"/>
                  <p:cNvSpPr/>
                  <p:nvPr/>
                </p:nvSpPr>
                <p:spPr>
                  <a:xfrm>
                    <a:off x="4479120" y="2850120"/>
                    <a:ext cx="940320" cy="968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椭圆 131093"/>
                  <p:cNvSpPr/>
                  <p:nvPr/>
                </p:nvSpPr>
                <p:spPr>
                  <a:xfrm>
                    <a:off x="4489560" y="2859480"/>
                    <a:ext cx="894240" cy="90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椭圆 131094"/>
                  <p:cNvSpPr/>
                  <p:nvPr/>
                </p:nvSpPr>
                <p:spPr>
                  <a:xfrm>
                    <a:off x="4541760" y="2885040"/>
                    <a:ext cx="79488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文本框 131152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6" name="文本框 131153"/>
              <p:cNvSpPr/>
              <p:nvPr/>
            </p:nvSpPr>
            <p:spPr>
              <a:xfrm rot="3925800">
                <a:off x="51447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47" name="组合 131167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48" name="组合 131095"/>
              <p:cNvGrpSpPr/>
              <p:nvPr/>
            </p:nvGrpSpPr>
            <p:grpSpPr>
              <a:xfrm>
                <a:off x="6685920" y="3593160"/>
                <a:ext cx="1526760" cy="2424600"/>
                <a:chOff x="6685920" y="3593160"/>
                <a:chExt cx="1526760" cy="2424600"/>
              </a:xfrm>
            </p:grpSpPr>
            <p:grpSp>
              <p:nvGrpSpPr>
                <p:cNvPr id="549" name="组合 131096"/>
                <p:cNvGrpSpPr/>
                <p:nvPr/>
              </p:nvGrpSpPr>
              <p:grpSpPr>
                <a:xfrm>
                  <a:off x="6685920" y="3750840"/>
                  <a:ext cx="1420560" cy="2266920"/>
                  <a:chOff x="6685920" y="3750840"/>
                  <a:chExt cx="1420560" cy="2266920"/>
                </a:xfrm>
              </p:grpSpPr>
              <p:sp>
                <p:nvSpPr>
                  <p:cNvPr id="550" name="任意多边形 131097"/>
                  <p:cNvSpPr/>
                  <p:nvPr/>
                </p:nvSpPr>
                <p:spPr>
                  <a:xfrm rot="3876600">
                    <a:off x="6258240" y="4637880"/>
                    <a:ext cx="227556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任意多边形 131098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组合 131099"/>
                <p:cNvGrpSpPr/>
                <p:nvPr/>
              </p:nvGrpSpPr>
              <p:grpSpPr>
                <a:xfrm>
                  <a:off x="7122600" y="3593160"/>
                  <a:ext cx="1090080" cy="1739520"/>
                  <a:chOff x="7122600" y="3593160"/>
                  <a:chExt cx="1090080" cy="1739520"/>
                </a:xfrm>
              </p:grpSpPr>
              <p:sp>
                <p:nvSpPr>
                  <p:cNvPr id="553" name="任意多边形 131100"/>
                  <p:cNvSpPr/>
                  <p:nvPr/>
                </p:nvSpPr>
                <p:spPr>
                  <a:xfrm flipV="1" rot="3876600">
                    <a:off x="6794280" y="42739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任意多边形 131101"/>
                  <p:cNvSpPr/>
                  <p:nvPr/>
                </p:nvSpPr>
                <p:spPr>
                  <a:xfrm flipV="1" rot="3876600">
                    <a:off x="7827840" y="49557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5" name="椭圆 131102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6" name="椭圆 131103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7" name="椭圆 131104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8" name="椭圆 131105"/>
              <p:cNvSpPr/>
              <p:nvPr/>
            </p:nvSpPr>
            <p:spPr>
              <a:xfrm>
                <a:off x="6192720" y="2647800"/>
                <a:ext cx="132624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9" name="椭圆 131106"/>
              <p:cNvSpPr/>
              <p:nvPr/>
            </p:nvSpPr>
            <p:spPr>
              <a:xfrm>
                <a:off x="6256440" y="2712960"/>
                <a:ext cx="119376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60" name="组合 131107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61" name="椭圆 131108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131109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131110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4" name="椭圆 131111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文本框 131154"/>
              <p:cNvSpPr/>
              <p:nvPr/>
            </p:nvSpPr>
            <p:spPr>
              <a:xfrm rot="3925800">
                <a:off x="663516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6" name="文本框 131155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67" name="组合 131156"/>
            <p:cNvGrpSpPr/>
            <p:nvPr/>
          </p:nvGrpSpPr>
          <p:grpSpPr>
            <a:xfrm>
              <a:off x="1098360" y="2031840"/>
              <a:ext cx="6057000" cy="407880"/>
              <a:chOff x="1098360" y="2031840"/>
              <a:chExt cx="6057000" cy="407880"/>
            </a:xfrm>
          </p:grpSpPr>
          <p:sp>
            <p:nvSpPr>
              <p:cNvPr id="568" name="文本框 131157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9" name="文本框 131158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0" name="文本框 131159"/>
              <p:cNvSpPr/>
              <p:nvPr/>
            </p:nvSpPr>
            <p:spPr>
              <a:xfrm>
                <a:off x="459900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1" name="文本框 131160"/>
              <p:cNvSpPr/>
              <p:nvPr/>
            </p:nvSpPr>
            <p:spPr>
              <a:xfrm>
                <a:off x="638928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d4d4d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cxnSp>
            <p:nvCxnSpPr>
              <p:cNvPr id="572" name="直接箭头连接符 131161"/>
              <p:cNvCxnSpPr>
                <a:stCxn id="568" idx="3"/>
                <a:endCxn id="569" idx="1"/>
              </p:cNvCxnSpPr>
              <p:nvPr/>
            </p:nvCxnSpPr>
            <p:spPr>
              <a:xfrm>
                <a:off x="1835280" y="2255400"/>
                <a:ext cx="986400" cy="1080"/>
              </a:xfrm>
              <a:prstGeom prst="straightConnector1">
                <a:avLst/>
              </a:prstGeom>
              <a:ln w="9360">
                <a:solidFill>
                  <a:srgbClr val="0d8797"/>
                </a:solidFill>
                <a:round/>
                <a:tailEnd len="med" type="triangle" w="med"/>
              </a:ln>
            </p:spPr>
          </p:cxnSp>
          <p:cxnSp>
            <p:nvCxnSpPr>
              <p:cNvPr id="573" name="直接箭头连接符 131162"/>
              <p:cNvCxnSpPr>
                <a:stCxn id="569" idx="3"/>
                <a:endCxn id="570" idx="1"/>
              </p:cNvCxnSpPr>
              <p:nvPr/>
            </p:nvCxnSpPr>
            <p:spPr>
              <a:xfrm>
                <a:off x="3588840" y="2255400"/>
                <a:ext cx="978840" cy="1080"/>
              </a:xfrm>
              <a:prstGeom prst="straightConnector1">
                <a:avLst/>
              </a:prstGeom>
              <a:ln w="9360">
                <a:solidFill>
                  <a:srgbClr val="0d8797"/>
                </a:solidFill>
                <a:round/>
                <a:tailEnd len="med" type="triangle" w="med"/>
              </a:ln>
            </p:spPr>
          </p:cxnSp>
          <p:cxnSp>
            <p:nvCxnSpPr>
              <p:cNvPr id="574" name="直接箭头连接符 131163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d8797"/>
                </a:solidFill>
                <a:round/>
                <a:tailEnd len="med" type="triangle" w="med"/>
              </a:ln>
            </p:spPr>
          </p:cxnSp>
        </p:grpSp>
      </p:grpSp>
      <p:sp>
        <p:nvSpPr>
          <p:cNvPr id="575" name="页脚占位符 2"/>
          <p:cNvSpPr/>
          <p:nvPr/>
        </p:nvSpPr>
        <p:spPr>
          <a:xfrm>
            <a:off x="5791320" y="624852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b9cb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132119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79" name="组合 132098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80" name="圆角矩形 132099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81" name="组合 132100"/>
              <p:cNvGrpSpPr/>
              <p:nvPr/>
            </p:nvGrpSpPr>
            <p:grpSpPr>
              <a:xfrm>
                <a:off x="1801080" y="1638360"/>
                <a:ext cx="1101600" cy="1020600"/>
                <a:chOff x="1801080" y="1638360"/>
                <a:chExt cx="1101600" cy="1020600"/>
              </a:xfrm>
            </p:grpSpPr>
            <p:sp>
              <p:nvSpPr>
                <p:cNvPr id="582" name="圆角矩形 132101"/>
                <p:cNvSpPr/>
                <p:nvPr/>
              </p:nvSpPr>
              <p:spPr>
                <a:xfrm>
                  <a:off x="1801080" y="1638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bb44e"/>
                    </a:gs>
                    <a:gs pos="100000">
                      <a:srgbClr val="617e36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 132102"/>
                <p:cNvSpPr/>
                <p:nvPr/>
              </p:nvSpPr>
              <p:spPr>
                <a:xfrm>
                  <a:off x="1869840" y="170388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d69f"/>
                    </a:gs>
                    <a:gs pos="50000">
                      <a:srgbClr val="8bb44e">
                        <a:alpha val="0"/>
                      </a:srgbClr>
                    </a:gs>
                    <a:gs pos="100000">
                      <a:srgbClr val="c0d69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84" name="文本框 132103"/>
                <p:cNvSpPr/>
                <p:nvPr/>
              </p:nvSpPr>
              <p:spPr>
                <a:xfrm>
                  <a:off x="1913760" y="19162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文本框 132104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86" name="组合 132105"/>
            <p:cNvGrpSpPr/>
            <p:nvPr/>
          </p:nvGrpSpPr>
          <p:grpSpPr>
            <a:xfrm>
              <a:off x="1676520" y="2990520"/>
              <a:ext cx="5715000" cy="1247760"/>
              <a:chOff x="1676520" y="2990520"/>
              <a:chExt cx="5715000" cy="1247760"/>
            </a:xfrm>
          </p:grpSpPr>
          <p:sp>
            <p:nvSpPr>
              <p:cNvPr id="587" name="圆角矩形 132106"/>
              <p:cNvSpPr/>
              <p:nvPr/>
            </p:nvSpPr>
            <p:spPr>
              <a:xfrm>
                <a:off x="1676520" y="299052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88" name="组合 132107"/>
              <p:cNvGrpSpPr/>
              <p:nvPr/>
            </p:nvGrpSpPr>
            <p:grpSpPr>
              <a:xfrm>
                <a:off x="1801080" y="3105000"/>
                <a:ext cx="1101600" cy="1020600"/>
                <a:chOff x="1801080" y="3105000"/>
                <a:chExt cx="1101600" cy="1020600"/>
              </a:xfrm>
            </p:grpSpPr>
            <p:sp>
              <p:nvSpPr>
                <p:cNvPr id="589" name="圆角矩形 132108"/>
                <p:cNvSpPr/>
                <p:nvPr/>
              </p:nvSpPr>
              <p:spPr>
                <a:xfrm>
                  <a:off x="1801080" y="310500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9fb7c9"/>
                    </a:gs>
                    <a:gs pos="100000">
                      <a:srgbClr val="7b9cb5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90" name="任意多边形 132109"/>
                <p:cNvSpPr/>
                <p:nvPr/>
              </p:nvSpPr>
              <p:spPr>
                <a:xfrm>
                  <a:off x="1869840" y="317052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d5e0"/>
                    </a:gs>
                    <a:gs pos="100000">
                      <a:srgbClr val="7b9cb5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91" name="文本框 132110"/>
                <p:cNvSpPr/>
                <p:nvPr/>
              </p:nvSpPr>
              <p:spPr>
                <a:xfrm>
                  <a:off x="1913760" y="33840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文本框 132111"/>
              <p:cNvSpPr/>
              <p:nvPr/>
            </p:nvSpPr>
            <p:spPr>
              <a:xfrm>
                <a:off x="3052080" y="316116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4d4d4d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132112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94" name="圆角矩形 132113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round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95" name="组合 132114"/>
              <p:cNvGrpSpPr/>
              <p:nvPr/>
            </p:nvGrpSpPr>
            <p:grpSpPr>
              <a:xfrm>
                <a:off x="1801080" y="4581360"/>
                <a:ext cx="1101600" cy="1020600"/>
                <a:chOff x="1801080" y="4581360"/>
                <a:chExt cx="1101600" cy="1020600"/>
              </a:xfrm>
            </p:grpSpPr>
            <p:sp>
              <p:nvSpPr>
                <p:cNvPr id="596" name="圆角矩形 132115"/>
                <p:cNvSpPr/>
                <p:nvPr/>
              </p:nvSpPr>
              <p:spPr>
                <a:xfrm>
                  <a:off x="1801080" y="4581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cfd8c3"/>
                    </a:gs>
                    <a:gs pos="100000">
                      <a:srgbClr val="b3c1a1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97" name="任意多边形 132116"/>
                <p:cNvSpPr/>
                <p:nvPr/>
              </p:nvSpPr>
              <p:spPr>
                <a:xfrm>
                  <a:off x="1869840" y="4646880"/>
                  <a:ext cx="549000" cy="510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ae1d1"/>
                    </a:gs>
                    <a:gs pos="100000">
                      <a:srgbClr val="b3c1a1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98" name="文本框 132117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文本框 132118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圆角矩形 133122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圆角矩形 133123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圆角矩形 133124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5" name="圆角矩形 133125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606" name="组合 133126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607" name="矩形 133127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7b9cb5"/>
                </a:gs>
                <a:gs pos="100000">
                  <a:srgbClr val="394854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08" name="组合 133128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609" name="椭圆 133129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0" name="矩形 133130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1" name="椭圆 133131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2" name="椭圆 133132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13" name="矩形 133133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14" name="组合 133134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615" name="椭圆 133135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6" name="矩形 133136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7" name="椭圆 133137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18" name="椭圆 133138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19" name="矩形 133139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7b9cb5"/>
                </a:gs>
                <a:gs pos="100000">
                  <a:srgbClr val="394854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20" name="组合 133140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621" name="椭圆 133141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2" name="矩形 133142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3" name="椭圆 133143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4" name="椭圆 133144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25" name="矩形 133145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8bb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26" name="矩形 133146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7" name="矩形 133147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8" name="矩形 133148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9" name="矩形 133149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矩形 133150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1" name="矩形 133151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2" name="矩形 133152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矩形 133153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4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838080" y="2414520"/>
          <a:ext cx="7315200" cy="284796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28600"/>
                <a:gridCol w="1127160"/>
                <a:gridCol w="1133640"/>
                <a:gridCol w="1125360"/>
              </a:tblGrid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d8797"/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0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8bb44e">
                        <a:alpha val="7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37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135190"/>
          <p:cNvGrpSpPr/>
          <p:nvPr/>
        </p:nvGrpSpPr>
        <p:grpSpPr>
          <a:xfrm>
            <a:off x="1349280" y="1509120"/>
            <a:ext cx="6575400" cy="4666320"/>
            <a:chOff x="1349280" y="1509120"/>
            <a:chExt cx="6575400" cy="4666320"/>
          </a:xfrm>
        </p:grpSpPr>
        <p:sp>
          <p:nvSpPr>
            <p:cNvPr id="640" name="椭圆 135171"/>
            <p:cNvSpPr/>
            <p:nvPr/>
          </p:nvSpPr>
          <p:spPr>
            <a:xfrm>
              <a:off x="2362320" y="45194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1" name="椭圆 135172"/>
            <p:cNvSpPr/>
            <p:nvPr/>
          </p:nvSpPr>
          <p:spPr>
            <a:xfrm rot="20601600">
              <a:off x="1672920" y="24084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2" name="椭圆 135173"/>
            <p:cNvSpPr/>
            <p:nvPr/>
          </p:nvSpPr>
          <p:spPr>
            <a:xfrm rot="20601600">
              <a:off x="1692000" y="22446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3" name="任意多边形 135174"/>
            <p:cNvSpPr/>
            <p:nvPr/>
          </p:nvSpPr>
          <p:spPr>
            <a:xfrm rot="20601600">
              <a:off x="4349880" y="2133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b9cb5"/>
                </a:gs>
                <a:gs pos="100000">
                  <a:srgbClr val="a7bdce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4" name="任意多边形 135175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d4964a"/>
                </a:gs>
                <a:gs pos="100000">
                  <a:srgbClr val="815b2d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5" name="任意多边形 135176"/>
            <p:cNvSpPr/>
            <p:nvPr/>
          </p:nvSpPr>
          <p:spPr>
            <a:xfrm rot="20601600">
              <a:off x="2823840" y="2224080"/>
              <a:ext cx="3184560" cy="14158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0d8797"/>
                </a:gs>
                <a:gs pos="100000">
                  <a:srgbClr val="07474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6" name="任意多边形 135177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4cb06d"/>
                </a:gs>
                <a:gs pos="100000">
                  <a:srgbClr val="29603b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7" name="椭圆 135178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0f0f0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8" name="文本框 135179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49" name="文本框 135180"/>
            <p:cNvSpPr/>
            <p:nvPr/>
          </p:nvSpPr>
          <p:spPr>
            <a:xfrm>
              <a:off x="4050360" y="2419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0" name="文本框 135181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51" name="组合 135182"/>
            <p:cNvGrpSpPr/>
            <p:nvPr/>
          </p:nvGrpSpPr>
          <p:grpSpPr>
            <a:xfrm>
              <a:off x="4514400" y="2694960"/>
              <a:ext cx="3164760" cy="2769120"/>
              <a:chOff x="4514400" y="2694960"/>
              <a:chExt cx="3164760" cy="2769120"/>
            </a:xfrm>
          </p:grpSpPr>
          <p:sp>
            <p:nvSpPr>
              <p:cNvPr id="652" name="任意多边形 135183"/>
              <p:cNvSpPr/>
              <p:nvPr/>
            </p:nvSpPr>
            <p:spPr>
              <a:xfrm>
                <a:off x="5668920" y="36766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d7562"/>
                  </a:gs>
                  <a:gs pos="100000">
                    <a:srgbClr val="b3c1a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3" name="任意多边形 135184"/>
              <p:cNvSpPr/>
              <p:nvPr/>
            </p:nvSpPr>
            <p:spPr>
              <a:xfrm rot="20539200">
                <a:off x="4732200" y="30650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c1a1"/>
                  </a:gs>
                  <a:gs pos="100000">
                    <a:srgbClr val="53594b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4" name="任意多边形 135185"/>
              <p:cNvSpPr/>
              <p:nvPr/>
            </p:nvSpPr>
            <p:spPr>
              <a:xfrm>
                <a:off x="4803840" y="41529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c1a1"/>
                  </a:gs>
                  <a:gs pos="100000">
                    <a:srgbClr val="53594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5" name="文本框 135186"/>
              <p:cNvSpPr/>
              <p:nvPr/>
            </p:nvSpPr>
            <p:spPr>
              <a:xfrm>
                <a:off x="5574240" y="39434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56" name="文本框 135187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7" name="任意多边形 135188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58" name="椭圆 135189"/>
            <p:cNvSpPr/>
            <p:nvPr/>
          </p:nvSpPr>
          <p:spPr>
            <a:xfrm rot="20601600">
              <a:off x="3257640" y="32097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59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组合 136223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62" name="上箭头 136194"/>
            <p:cNvSpPr/>
            <p:nvPr/>
          </p:nvSpPr>
          <p:spPr>
            <a:xfrm>
              <a:off x="2127960" y="2440800"/>
              <a:ext cx="5074200" cy="2477520"/>
            </a:xfrm>
            <a:prstGeom prst="upArrow">
              <a:avLst>
                <a:gd name="adj1" fmla="val 57824"/>
                <a:gd name="adj2" fmla="val 54389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3" name="圆角矩形 136195"/>
            <p:cNvSpPr/>
            <p:nvPr/>
          </p:nvSpPr>
          <p:spPr>
            <a:xfrm>
              <a:off x="1918440" y="1752480"/>
              <a:ext cx="531288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b9cb5"/>
                </a:gs>
                <a:gs pos="50000">
                  <a:srgbClr val="aabfcf"/>
                </a:gs>
                <a:gs pos="100000">
                  <a:srgbClr val="7b9cb5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64" name="文本框 136196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d4d4d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65" name="组合 136197"/>
            <p:cNvGrpSpPr/>
            <p:nvPr/>
          </p:nvGrpSpPr>
          <p:grpSpPr>
            <a:xfrm>
              <a:off x="1219320" y="4132440"/>
              <a:ext cx="1363320" cy="1796400"/>
              <a:chOff x="1219320" y="4132440"/>
              <a:chExt cx="1363320" cy="1796400"/>
            </a:xfrm>
          </p:grpSpPr>
          <p:grpSp>
            <p:nvGrpSpPr>
              <p:cNvPr id="666" name="组合 136198"/>
              <p:cNvGrpSpPr/>
              <p:nvPr/>
            </p:nvGrpSpPr>
            <p:grpSpPr>
              <a:xfrm>
                <a:off x="1219320" y="4132440"/>
                <a:ext cx="1363320" cy="1368000"/>
                <a:chOff x="1219320" y="4132440"/>
                <a:chExt cx="1363320" cy="1368000"/>
              </a:xfrm>
            </p:grpSpPr>
            <p:grpSp>
              <p:nvGrpSpPr>
                <p:cNvPr id="667" name="组合 136199"/>
                <p:cNvGrpSpPr/>
                <p:nvPr/>
              </p:nvGrpSpPr>
              <p:grpSpPr>
                <a:xfrm>
                  <a:off x="1219320" y="4132440"/>
                  <a:ext cx="1363320" cy="1368000"/>
                  <a:chOff x="1219320" y="4132440"/>
                  <a:chExt cx="1363320" cy="1368000"/>
                </a:xfrm>
              </p:grpSpPr>
              <p:sp>
                <p:nvSpPr>
                  <p:cNvPr id="668" name="椭圆 136200"/>
                  <p:cNvSpPr/>
                  <p:nvPr/>
                </p:nvSpPr>
                <p:spPr>
                  <a:xfrm>
                    <a:off x="1219320" y="413244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cb06d"/>
                      </a:gs>
                      <a:gs pos="100000">
                        <a:srgbClr val="30704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任意多边形 136201"/>
                  <p:cNvSpPr/>
                  <p:nvPr/>
                </p:nvSpPr>
                <p:spPr>
                  <a:xfrm>
                    <a:off x="1375200" y="415512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cb06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0" name="文本框 136202"/>
                <p:cNvSpPr/>
                <p:nvPr/>
              </p:nvSpPr>
              <p:spPr>
                <a:xfrm>
                  <a:off x="1316160" y="48279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椭圆 136203"/>
              <p:cNvSpPr/>
              <p:nvPr/>
            </p:nvSpPr>
            <p:spPr>
              <a:xfrm>
                <a:off x="1359000" y="5577840"/>
                <a:ext cx="1106640" cy="3510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72" name="组合 136204"/>
            <p:cNvGrpSpPr/>
            <p:nvPr/>
          </p:nvGrpSpPr>
          <p:grpSpPr>
            <a:xfrm>
              <a:off x="6602400" y="4092480"/>
              <a:ext cx="1398240" cy="1866240"/>
              <a:chOff x="6602400" y="4092480"/>
              <a:chExt cx="1398240" cy="1866240"/>
            </a:xfrm>
          </p:grpSpPr>
          <p:grpSp>
            <p:nvGrpSpPr>
              <p:cNvPr id="673" name="组合 136205"/>
              <p:cNvGrpSpPr/>
              <p:nvPr/>
            </p:nvGrpSpPr>
            <p:grpSpPr>
              <a:xfrm>
                <a:off x="6602400" y="4092480"/>
                <a:ext cx="1398240" cy="1383120"/>
                <a:chOff x="6602400" y="4092480"/>
                <a:chExt cx="1398240" cy="1383120"/>
              </a:xfrm>
            </p:grpSpPr>
            <p:grpSp>
              <p:nvGrpSpPr>
                <p:cNvPr id="674" name="组合 136206"/>
                <p:cNvGrpSpPr/>
                <p:nvPr/>
              </p:nvGrpSpPr>
              <p:grpSpPr>
                <a:xfrm>
                  <a:off x="6602400" y="4092480"/>
                  <a:ext cx="1398240" cy="1383120"/>
                  <a:chOff x="6602400" y="4092480"/>
                  <a:chExt cx="1398240" cy="1383120"/>
                </a:xfrm>
              </p:grpSpPr>
              <p:sp>
                <p:nvSpPr>
                  <p:cNvPr id="675" name="椭圆 136207"/>
                  <p:cNvSpPr/>
                  <p:nvPr/>
                </p:nvSpPr>
                <p:spPr>
                  <a:xfrm>
                    <a:off x="6602400" y="409248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3c1a1"/>
                      </a:gs>
                      <a:gs pos="100000">
                        <a:srgbClr val="2c2f2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任意多边形 136208"/>
                  <p:cNvSpPr/>
                  <p:nvPr/>
                </p:nvSpPr>
                <p:spPr>
                  <a:xfrm>
                    <a:off x="6762240" y="411516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3c1a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" name="文本框 136209"/>
                <p:cNvSpPr/>
                <p:nvPr/>
              </p:nvSpPr>
              <p:spPr>
                <a:xfrm>
                  <a:off x="6684120" y="47358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椭圆 136210"/>
              <p:cNvSpPr/>
              <p:nvPr/>
            </p:nvSpPr>
            <p:spPr>
              <a:xfrm>
                <a:off x="6641640" y="5518800"/>
                <a:ext cx="1335240" cy="439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79" name="组合 136211"/>
            <p:cNvGrpSpPr/>
            <p:nvPr/>
          </p:nvGrpSpPr>
          <p:grpSpPr>
            <a:xfrm>
              <a:off x="2967120" y="4132440"/>
              <a:ext cx="1397880" cy="1886760"/>
              <a:chOff x="2967120" y="4132440"/>
              <a:chExt cx="1397880" cy="1886760"/>
            </a:xfrm>
          </p:grpSpPr>
          <p:grpSp>
            <p:nvGrpSpPr>
              <p:cNvPr id="680" name="组合 136212"/>
              <p:cNvGrpSpPr/>
              <p:nvPr/>
            </p:nvGrpSpPr>
            <p:grpSpPr>
              <a:xfrm>
                <a:off x="2967120" y="4132440"/>
                <a:ext cx="1397880" cy="1373400"/>
                <a:chOff x="2967120" y="4132440"/>
                <a:chExt cx="1397880" cy="1373400"/>
              </a:xfrm>
            </p:grpSpPr>
            <p:sp>
              <p:nvSpPr>
                <p:cNvPr id="681" name="椭圆 136213"/>
                <p:cNvSpPr/>
                <p:nvPr/>
              </p:nvSpPr>
              <p:spPr>
                <a:xfrm>
                  <a:off x="2967120" y="4132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9cb5"/>
                    </a:gs>
                    <a:gs pos="100000">
                      <a:srgbClr val="3f50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82" name="任意多边形 136214"/>
                <p:cNvSpPr/>
                <p:nvPr/>
              </p:nvSpPr>
              <p:spPr>
                <a:xfrm>
                  <a:off x="3126960" y="41551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b9c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文本框 136215"/>
              <p:cNvSpPr/>
              <p:nvPr/>
            </p:nvSpPr>
            <p:spPr>
              <a:xfrm>
                <a:off x="3036960" y="479160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84" name="椭圆 136216"/>
              <p:cNvSpPr/>
              <p:nvPr/>
            </p:nvSpPr>
            <p:spPr>
              <a:xfrm>
                <a:off x="2967120" y="55778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85" name="组合 136217"/>
            <p:cNvGrpSpPr/>
            <p:nvPr/>
          </p:nvGrpSpPr>
          <p:grpSpPr>
            <a:xfrm>
              <a:off x="4854600" y="4092480"/>
              <a:ext cx="1397880" cy="1886400"/>
              <a:chOff x="4854600" y="4092480"/>
              <a:chExt cx="1397880" cy="1886400"/>
            </a:xfrm>
          </p:grpSpPr>
          <p:grpSp>
            <p:nvGrpSpPr>
              <p:cNvPr id="686" name="组合 136218"/>
              <p:cNvGrpSpPr/>
              <p:nvPr/>
            </p:nvGrpSpPr>
            <p:grpSpPr>
              <a:xfrm>
                <a:off x="4854600" y="4092480"/>
                <a:ext cx="1397880" cy="1373040"/>
                <a:chOff x="4854600" y="4092480"/>
                <a:chExt cx="1397880" cy="1373040"/>
              </a:xfrm>
            </p:grpSpPr>
            <p:sp>
              <p:nvSpPr>
                <p:cNvPr id="687" name="椭圆 136219"/>
                <p:cNvSpPr/>
                <p:nvPr/>
              </p:nvSpPr>
              <p:spPr>
                <a:xfrm>
                  <a:off x="4854600" y="4092480"/>
                  <a:ext cx="1397880" cy="137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b44e"/>
                    </a:gs>
                    <a:gs pos="100000">
                      <a:srgbClr val="475c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88" name="任意多边形 136220"/>
                <p:cNvSpPr/>
                <p:nvPr/>
              </p:nvSpPr>
              <p:spPr>
                <a:xfrm>
                  <a:off x="5014440" y="4115160"/>
                  <a:ext cx="1078200" cy="518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b4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文本框 136221"/>
              <p:cNvSpPr/>
              <p:nvPr/>
            </p:nvSpPr>
            <p:spPr>
              <a:xfrm>
                <a:off x="4924440" y="475164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90" name="椭圆 136222"/>
              <p:cNvSpPr/>
              <p:nvPr/>
            </p:nvSpPr>
            <p:spPr>
              <a:xfrm>
                <a:off x="4854600" y="553752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6560" y="33156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18786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4" name="组合 118787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5" name="圆角矩形 118788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b06d"/>
                </a:gs>
                <a:gs pos="50000">
                  <a:srgbClr val="d9eee0"/>
                </a:gs>
                <a:gs pos="100000">
                  <a:srgbClr val="4cb06d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" name="菱形 118789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4cb06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7" name="文本框 118790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8" name="文本框 118791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" name="组合 118792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50" name="圆角矩形 118793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bb44e"/>
                </a:gs>
                <a:gs pos="50000">
                  <a:srgbClr val="e6efda"/>
                </a:gs>
                <a:gs pos="100000">
                  <a:srgbClr val="8bb44e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菱形 118794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bb44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2" name="文本框 118795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3" name="文本框 118796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4" name="组合 118797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5" name="圆角矩形 118798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b9cb5"/>
                </a:gs>
                <a:gs pos="50000">
                  <a:srgbClr val="e3eaef"/>
                </a:gs>
                <a:gs pos="100000">
                  <a:srgbClr val="7b9cb5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菱形 118799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7b9cb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文本框 118800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8" name="文本框 118801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9" name="组合 118802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60" name="圆角矩形 118803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3c1a1"/>
                </a:gs>
                <a:gs pos="50000">
                  <a:srgbClr val="eff2eb"/>
                </a:gs>
                <a:gs pos="100000">
                  <a:srgbClr val="b3c1a1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1" name="菱形 118804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b3c1a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文本框 118805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文本框 118806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E2F9-35CC-4872-AAB2-914F6F2F8484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86020"/>
          <p:cNvSpPr txBox="1"/>
          <p:nvPr/>
        </p:nvSpPr>
        <p:spPr>
          <a:xfrm>
            <a:off x="3809880" y="434340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d8797"/>
                    </a:gs>
                    <a:gs pos="100000">
                      <a:srgbClr val="8bb44e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d8797"/>
                  </a:gs>
                  <a:gs pos="100000">
                    <a:srgbClr val="8bb44e"/>
                  </a:gs>
                </a:gsLst>
                <a:lin ang="0"/>
              </a:gradFill>
              <a:effectLst>
                <a:outerShdw dist="53966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7" name="页脚占位符 2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809880" y="5044320"/>
            <a:ext cx="4572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8520" y="1447920"/>
            <a:ext cx="7318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4cb06d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4cb06d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4cb06d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4cb06d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8bb44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矩形 119811"/>
          <p:cNvSpPr/>
          <p:nvPr/>
        </p:nvSpPr>
        <p:spPr>
          <a:xfrm>
            <a:off x="1523880" y="55627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12085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69" name="圆角矩形 120835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" name="文本框 120836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1" name="任意多边形 12083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cb06d"/>
              </a:gs>
              <a:gs pos="100000">
                <a:srgbClr val="8dcda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矩形 12083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3" name="组合 120852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74" name="组合 120840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75" name="组合 120841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76" name="椭圆 120842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9cb5"/>
                    </a:gs>
                    <a:gs pos="100000">
                      <a:srgbClr val="3c4c58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77" name="椭圆 120843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5d3de"/>
                    </a:gs>
                    <a:gs pos="100000">
                      <a:srgbClr val="7b9cb5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椭圆 120844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05324"/>
                  </a:gs>
                  <a:gs pos="100000">
                    <a:srgbClr val="8bb44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9" name="椭圆 120845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8bb44e">
                      <a:alpha val="0"/>
                    </a:srgbClr>
                  </a:gs>
                  <a:gs pos="100000">
                    <a:srgbClr val="d7e5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0" name="椭圆 120846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6e8f3e"/>
                  </a:gs>
                  <a:gs pos="100000">
                    <a:srgbClr val="8bb44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1" name="椭圆 120847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bb44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2" name="文本框 120848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" name="组合 120851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4" name="圆角矩形 120834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文本框 120849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6" name="任意多边形 12083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b9cb5"/>
              </a:gs>
              <a:gs pos="100000">
                <a:srgbClr val="d5e0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121858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90" name="任意多边形 121859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" name="椭圆 12186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b9cb5"/>
                </a:gs>
                <a:gs pos="100000">
                  <a:srgbClr val="2a36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椭圆 12186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bb44e"/>
                </a:gs>
                <a:gs pos="100000">
                  <a:srgbClr val="2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椭圆 12186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cb06d"/>
                </a:gs>
                <a:gs pos="100000">
                  <a:srgbClr val="1b3f2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椭圆 12186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椭圆 12186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b3c1a1"/>
                </a:gs>
                <a:gs pos="100000">
                  <a:srgbClr val="3e43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" name="文本框 121865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" name="文本框 121866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" name="文本框 121867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9" name="文本框 121868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0" name="文本框 121869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" name="文本框 12187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03" name="直接连接符 12187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cxnSp>
          <p:nvCxnSpPr>
            <p:cNvPr id="205" name="直接箭头连接符 12187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4d4d4d"/>
              </a:solidFill>
              <a:round/>
            </a:ln>
          </p:spPr>
        </p:cxnSp>
        <p:sp>
          <p:nvSpPr>
            <p:cNvPr id="206" name="文本框 12187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7" name="页脚占位符 2"/>
          <p:cNvSpPr/>
          <p:nvPr/>
        </p:nvSpPr>
        <p:spPr>
          <a:xfrm>
            <a:off x="5791320" y="632448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22882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0" name="圆柱形 122883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圆柱形 122884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圆柱形 122885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" name="文本框 122886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文本框 122887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文本框 122888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左箭头 122889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圆角矩形 122890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文本框 122891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圆角矩形 122892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" name="文本框 122893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4d4d4d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右箭头 122894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圆柱形 122895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05324"/>
                </a:gs>
                <a:gs pos="50000">
                  <a:srgbClr val="8bb44e"/>
                </a:gs>
                <a:gs pos="100000">
                  <a:srgbClr val="405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上箭头 122896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文本框 122897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圆柱形 122898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94854"/>
                </a:gs>
                <a:gs pos="50000">
                  <a:srgbClr val="7b9cb5"/>
                </a:gs>
                <a:gs pos="100000">
                  <a:srgbClr val="3948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文本框 122899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" name="下箭头 122900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8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123906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1" name="组合 123907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32" name="上箭头 123908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d8797"/>
                  </a:gs>
                  <a:gs pos="100000">
                    <a:srgbClr val="a0d0d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3" name="上箭头 123909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d8797"/>
                  </a:gs>
                  <a:gs pos="100000">
                    <a:srgbClr val="a0d0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4" name="上箭头 123910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d8797"/>
                  </a:gs>
                  <a:gs pos="100000">
                    <a:srgbClr val="a0d0d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5" name="椭圆 123911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6" name="椭圆 123912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7" name="椭圆 123913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9cb5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8" name="椭圆 123914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9" name="椭圆 123915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435462"/>
                  </a:gs>
                  <a:gs pos="50000">
                    <a:srgbClr val="7b9cb5"/>
                  </a:gs>
                  <a:gs pos="100000">
                    <a:srgbClr val="43546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0" name="椭圆 123916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1" name="圆柱形 123917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圆柱形 123918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圆柱形 123919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3594b"/>
                </a:gs>
                <a:gs pos="50000">
                  <a:srgbClr val="b3c1a1"/>
                </a:gs>
                <a:gs pos="100000">
                  <a:srgbClr val="5359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圆柱形 123920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324"/>
                </a:gs>
                <a:gs pos="50000">
                  <a:srgbClr val="8bb44e"/>
                </a:gs>
                <a:gs pos="100000">
                  <a:srgbClr val="405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圆柱形 123921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324"/>
                </a:gs>
                <a:gs pos="50000">
                  <a:srgbClr val="8bb44e"/>
                </a:gs>
                <a:gs pos="100000">
                  <a:srgbClr val="405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圆柱形 123922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5324"/>
                </a:gs>
                <a:gs pos="50000">
                  <a:srgbClr val="8bb44e"/>
                </a:gs>
                <a:gs pos="100000">
                  <a:srgbClr val="4053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文本框 123923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圆角矩形 123924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文本框 123925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文本框 123926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" name="文本框 123927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2" name="文本框 123928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3" name="文本框 123929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4" name="文本框 123930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5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24957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grpSp>
          <p:nvGrpSpPr>
            <p:cNvPr id="258" name=""/>
            <p:cNvGrpSpPr/>
            <p:nvPr/>
          </p:nvGrpSpPr>
          <p:grpSpPr>
            <a:xfrm>
              <a:off x="873000" y="5621400"/>
              <a:ext cx="1657440" cy="1440"/>
              <a:chOff x="873000" y="5621400"/>
              <a:chExt cx="1657440" cy="1440"/>
            </a:xfrm>
          </p:grpSpPr>
          <p:sp>
            <p:nvSpPr>
              <p:cNvPr id="259" name="直接连接符 124930"/>
              <p:cNvSpPr/>
              <p:nvPr/>
            </p:nvSpPr>
            <p:spPr>
              <a:xfrm flipH="1">
                <a:off x="873000" y="5621400"/>
                <a:ext cx="1657440" cy="144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873000" y="5621400"/>
                <a:ext cx="1657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262" name="直接连接符 124931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265" name="直接连接符 124932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268" name="直接连接符 124933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271" name="直接连接符 124934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274" name="直接连接符 124935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277" name="直接连接符 124936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280" name="直接连接符 124937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283" name="直接连接符 124938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4d4d4d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85" name="文本框 124939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文本框 124940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文本框 124941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8" name="文本框 124942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89" name="组合 124943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90" name="任意多边形 124944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35132"/>
                  </a:gs>
                  <a:gs pos="50000">
                    <a:srgbClr val="4cb06d"/>
                  </a:gs>
                  <a:gs pos="100000">
                    <a:srgbClr val="2351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1" name="任意多边形 124945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4cb0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2" name="任意多边形 124946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854"/>
                  </a:gs>
                  <a:gs pos="50000">
                    <a:srgbClr val="7b9cb5"/>
                  </a:gs>
                  <a:gs pos="100000">
                    <a:srgbClr val="39485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3" name="任意多边形 124947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7b9c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4" name="任意多边形 124948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94b"/>
                  </a:gs>
                  <a:gs pos="50000">
                    <a:srgbClr val="b3c1a1"/>
                  </a:gs>
                  <a:gs pos="100000">
                    <a:srgbClr val="53594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5" name="任意多边形 124949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324"/>
                  </a:gs>
                  <a:gs pos="50000">
                    <a:srgbClr val="8bb44e"/>
                  </a:gs>
                  <a:gs pos="100000">
                    <a:srgbClr val="40532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6" name="任意多边形 124950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bb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7" name="任意多边形 124951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8" name="矩形 124952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37804f"/>
                  </a:gs>
                  <a:gs pos="50000">
                    <a:srgbClr val="4cb06d"/>
                  </a:gs>
                  <a:gs pos="100000">
                    <a:srgbClr val="3780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9" name="矩形 124953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97183"/>
                  </a:gs>
                  <a:gs pos="50000">
                    <a:srgbClr val="7b9cb5"/>
                  </a:gs>
                  <a:gs pos="100000">
                    <a:srgbClr val="59718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0" name="任意多边形 124954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b3c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" name="矩形 124955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828c75"/>
                  </a:gs>
                  <a:gs pos="50000">
                    <a:srgbClr val="b3c1a1"/>
                  </a:gs>
                  <a:gs pos="100000">
                    <a:srgbClr val="828c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2" name="矩形 124956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658339"/>
                  </a:gs>
                  <a:gs pos="50000">
                    <a:srgbClr val="8bb44e"/>
                  </a:gs>
                  <a:gs pos="100000">
                    <a:srgbClr val="65833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页脚占位符 2"/>
          <p:cNvSpPr/>
          <p:nvPr/>
        </p:nvSpPr>
        <p:spPr>
          <a:xfrm>
            <a:off x="5791320" y="624852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b9cb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125976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307" name="任意多边形 125954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7a5bc">
                    <a:alpha val="32156"/>
                  </a:srgbClr>
                </a:gs>
                <a:gs pos="100000">
                  <a:srgbClr val="7b9c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" name="圆角矩形 125955"/>
            <p:cNvSpPr/>
            <p:nvPr/>
          </p:nvSpPr>
          <p:spPr>
            <a:xfrm>
              <a:off x="329580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cb06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9" name="圆角矩形 125956"/>
            <p:cNvSpPr/>
            <p:nvPr/>
          </p:nvSpPr>
          <p:spPr>
            <a:xfrm>
              <a:off x="352440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5132"/>
                </a:gs>
                <a:gs pos="50000">
                  <a:srgbClr val="4cb06d"/>
                </a:gs>
                <a:gs pos="100000">
                  <a:srgbClr val="2351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0" name="八边形 125957"/>
            <p:cNvSpPr/>
            <p:nvPr/>
          </p:nvSpPr>
          <p:spPr>
            <a:xfrm flipH="1">
              <a:off x="5164920" y="2698920"/>
              <a:ext cx="716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1" name="八边形 12595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2" name="圆角矩形 12595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b9c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3" name="圆角矩形 125960"/>
            <p:cNvSpPr/>
            <p:nvPr/>
          </p:nvSpPr>
          <p:spPr>
            <a:xfrm>
              <a:off x="5964120" y="2135160"/>
              <a:ext cx="182592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4854"/>
                </a:gs>
                <a:gs pos="50000">
                  <a:srgbClr val="7b9cb5"/>
                </a:gs>
                <a:gs pos="100000">
                  <a:srgbClr val="3948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八边形 12596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八边形 125962"/>
            <p:cNvSpPr/>
            <p:nvPr/>
          </p:nvSpPr>
          <p:spPr>
            <a:xfrm flipH="1">
              <a:off x="606600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" name="任意多边形 125963"/>
            <p:cNvSpPr/>
            <p:nvPr/>
          </p:nvSpPr>
          <p:spPr>
            <a:xfrm>
              <a:off x="2382840" y="185724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d3dbc9">
                    <a:alpha val="32156"/>
                  </a:srgbClr>
                </a:gs>
                <a:gs pos="100000">
                  <a:srgbClr val="b3c1a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7" name="文本框 125964"/>
            <p:cNvSpPr/>
            <p:nvPr/>
          </p:nvSpPr>
          <p:spPr>
            <a:xfrm>
              <a:off x="376092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8" name="文本框 12596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19" name="组合 125966"/>
            <p:cNvGrpSpPr/>
            <p:nvPr/>
          </p:nvGrpSpPr>
          <p:grpSpPr>
            <a:xfrm>
              <a:off x="838080" y="2994120"/>
              <a:ext cx="2248200" cy="2949120"/>
              <a:chOff x="838080" y="2994120"/>
              <a:chExt cx="2248200" cy="2949120"/>
            </a:xfrm>
          </p:grpSpPr>
          <p:sp>
            <p:nvSpPr>
              <p:cNvPr id="320" name="圆角矩形 125967"/>
              <p:cNvSpPr/>
              <p:nvPr/>
            </p:nvSpPr>
            <p:spPr>
              <a:xfrm>
                <a:off x="838080" y="3143520"/>
                <a:ext cx="2248200" cy="2799720"/>
              </a:xfrm>
              <a:custGeom>
                <a:avLst/>
                <a:gdLst>
                  <a:gd name="textAreaLeft" fmla="*/ 30600 w 2248200"/>
                  <a:gd name="textAreaRight" fmla="*/ 2217600 w 2248200"/>
                  <a:gd name="textAreaTop" fmla="*/ 30600 h 2799720"/>
                  <a:gd name="textAreaBottom" fmla="*/ 2769120 h 2799720"/>
                </a:gdLst>
                <a:ahLst/>
                <a:rect l="textAreaLeft" t="textAreaTop" r="textAreaRight" b="textAreaBottom"/>
                <a:pathLst>
                  <a:path w="21600" h="26898">
                    <a:moveTo>
                      <a:pt x="1013" y="0"/>
                    </a:moveTo>
                    <a:arcTo wR="1013" hR="1013" stAng="16200000" swAng="-5400000"/>
                    <a:lnTo>
                      <a:pt x="0" y="25885"/>
                    </a:lnTo>
                    <a:arcTo wR="1013" hR="1013" stAng="10800000" swAng="-5400000"/>
                    <a:lnTo>
                      <a:pt x="20587" y="26898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b3c1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1" name="圆角矩形 125968"/>
              <p:cNvSpPr/>
              <p:nvPr/>
            </p:nvSpPr>
            <p:spPr>
              <a:xfrm>
                <a:off x="1049400" y="3016440"/>
                <a:ext cx="182520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4b3f"/>
                  </a:gs>
                  <a:gs pos="50000">
                    <a:srgbClr val="b3c1a1"/>
                  </a:gs>
                  <a:gs pos="100000">
                    <a:srgbClr val="454b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2" name="八边形 125969"/>
              <p:cNvSpPr/>
              <p:nvPr/>
            </p:nvSpPr>
            <p:spPr>
              <a:xfrm flipH="1">
                <a:off x="2698920" y="3079800"/>
                <a:ext cx="6984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3" name="八边形 125970"/>
              <p:cNvSpPr/>
              <p:nvPr/>
            </p:nvSpPr>
            <p:spPr>
              <a:xfrm flipH="1">
                <a:off x="1148760" y="3079800"/>
                <a:ext cx="7128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" name="文本框 125971"/>
              <p:cNvSpPr/>
              <p:nvPr/>
            </p:nvSpPr>
            <p:spPr>
              <a:xfrm>
                <a:off x="130032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5" name="文本框 125972"/>
              <p:cNvSpPr/>
              <p:nvPr/>
            </p:nvSpPr>
            <p:spPr>
              <a:xfrm>
                <a:off x="912600" y="3374280"/>
                <a:ext cx="20894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6" name="文本框 125973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" name="文本框 125974"/>
            <p:cNvSpPr/>
            <p:nvPr/>
          </p:nvSpPr>
          <p:spPr>
            <a:xfrm>
              <a:off x="583740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28" name="页脚占位符 2"/>
          <p:cNvSpPr/>
          <p:nvPr/>
        </p:nvSpPr>
        <p:spPr>
          <a:xfrm>
            <a:off x="5791320" y="6276960"/>
            <a:ext cx="28954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31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