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7CA-DED9-4395-983C-76E794D0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60" y="37540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3296-6932-4BEE-A542-2F483EE5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43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536-D0E2-4DB1-8E59-58BFC0F0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060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524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6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060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524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DF3-69E6-4A33-82B4-1736CBB9E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C7C1-8D40-4589-9E91-1034FF1A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DAA2-06EE-487D-A02C-0A42C68A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9700-18E4-442B-A010-99F35F7C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266B-A28B-49DE-B3B4-BF87A31D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7AA-BA2D-4855-83D5-B27CF228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EFA07-DAEE-4B8A-B4DF-35948FF6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4DF0-B5F2-430B-9FA3-43BDC186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AB05-A2CE-4CA2-B227-27B1B1C4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43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31C7-9F0F-46D6-80E5-82B0B1E1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D45CE-7804-4B7E-853A-F446345B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60" y="37540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640A-614F-4E31-B83C-AC665617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43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2F99-F9F4-44BE-8AA2-AFB9D7FE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060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524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6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060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524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434A-BAC3-4149-9D67-0147D3C5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BA488-99B4-4365-B479-AD72D62E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F7948-DA69-4B15-B5FD-BAF62705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C83D9-5672-4E97-8EC4-FDA4DC91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17C7E-D7D9-4FBA-A06A-615273C9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EB847-531A-4934-BA90-FE580587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5332-40B6-4798-AFB2-DBC52545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F673-4AC0-473C-B081-05FBEBCC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7F4D-ADC6-48DF-845B-2B296235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443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21E02-CA9D-4B73-9310-994E2A4C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D533-D7EF-4EB4-A5F9-C05A6EBE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5960" y="37540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A0313-07BE-4D91-977F-2C750CD5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443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5E39-C8C4-45BE-9266-29AEC921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9060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5240" y="6094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596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9060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5240" y="3754080"/>
            <a:ext cx="287064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059D-E8B4-4988-978D-38373C5C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B65-707B-46B0-BBDF-2E1874DA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136-AE8A-4E30-926C-EE09E50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8458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27F8-E951-4016-B431-11391A82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B76B-2E0F-4454-AF77-96DA137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4360" y="37540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67D-B609-4A98-A521-D2C57C37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960" y="21240"/>
            <a:ext cx="8458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609480"/>
            <a:ext cx="43506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60" y="3754080"/>
            <a:ext cx="89154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AA9-0C2D-4513-BB6D-C6AD97F0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C61C-7022-467D-B061-A4E868258E9F}" type="slidenum">
              <a:rPr b="1" lang="zh-CN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0FB79-78B2-4155-8F31-3F1D68626B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0159-F11D-4370-B2E7-62A5400439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75FF7-85C5-40A3-B993-C0AEAF623435}" type="slidenum">
              <a:rPr b="1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企业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打包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8745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6e8e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406e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6e8e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EFEC4-746B-41CC-B58D-0FE8A826A2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7169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文本框 7170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文本框 7171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文本框 7172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文本框 7174">
            <a:hlinkClick r:id="rId1"/>
          </p:cNvPr>
          <p:cNvSpPr/>
          <p:nvPr/>
        </p:nvSpPr>
        <p:spPr>
          <a:xfrm>
            <a:off x="1057320" y="685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2590920"/>
            <a:ext cx="6629400" cy="360"/>
            <a:chOff x="457200" y="2590920"/>
            <a:chExt cx="6629400" cy="360"/>
          </a:xfrm>
        </p:grpSpPr>
        <p:sp>
          <p:nvSpPr>
            <p:cNvPr id="142" name="直接连接符 7175"/>
            <p:cNvSpPr/>
            <p:nvPr/>
          </p:nvSpPr>
          <p:spPr>
            <a:xfrm>
              <a:off x="457200" y="2590920"/>
              <a:ext cx="6629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457200" y="2590920"/>
              <a:ext cx="662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文本框 7176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文本框 7210"/>
          <p:cNvSpPr/>
          <p:nvPr/>
        </p:nvSpPr>
        <p:spPr>
          <a:xfrm>
            <a:off x="7293240" y="94464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图片 7231" descr="boohbah_prt"/>
          <p:cNvPicPr/>
          <p:nvPr/>
        </p:nvPicPr>
        <p:blipFill>
          <a:blip r:embed="rId2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7" name="图片 7232" descr="boohbah_qx"/>
          <p:cNvPicPr/>
          <p:nvPr/>
        </p:nvPicPr>
        <p:blipFill>
          <a:blip r:embed="rId3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图片 7233" descr="boohbah_sld"/>
          <p:cNvPicPr/>
          <p:nvPr/>
        </p:nvPicPr>
        <p:blipFill>
          <a:blip r:embed="rId4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9" name="图片 7234" descr="boohbah_trs"/>
          <p:cNvPicPr/>
          <p:nvPr/>
        </p:nvPicPr>
        <p:blipFill>
          <a:blip r:embed="rId5"/>
          <a:stretch/>
        </p:blipFill>
        <p:spPr>
          <a:xfrm>
            <a:off x="74674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08:54:3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1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