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F6C-ED46-4AA1-B31C-9A4815ED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4BD-FF5C-40C6-92DB-CB2080C9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D22-6B40-4E0C-BF01-BC08538F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9076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2468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684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9076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2468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AE5-8696-4ABE-9F25-14C20892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2E26-3DBA-45A7-A9D9-38C7480E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A4C7-BD5A-43E6-99DA-3404E0B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66BA-DC62-4D3C-82C7-3F4474CD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AB33-220B-48DD-9022-CCB3537C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B792-7B13-43C6-8589-42353000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862000" y="151920"/>
            <a:ext cx="6095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2F19-FFAB-4265-A29D-488491F2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D2B6-3045-458E-A305-B0C6491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EE0-3162-41F7-853C-EEA57D95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CDE6-3E17-43AC-A629-76420C3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5F22-1727-4029-98A8-BAFAE2A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D354-08E5-4148-956A-43854AB2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6296-5641-4775-8042-E70B90BA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9076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2468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9076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2468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C69-6C63-4631-94A0-F408B82A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E03-28DC-4B22-AE05-DEA182CB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862000" y="151920"/>
            <a:ext cx="6095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9076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468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684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9076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468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FD4-F4FB-4CD1-90E0-4CCFC18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D36-EBA1-42D2-9F2E-6B592F34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862000" y="151920"/>
            <a:ext cx="6095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DEC-3149-4372-9F1F-617DBDB1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C44-9CC4-4516-ABD6-4CCB4E7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126-CF8D-4091-AA70-E4721F9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5B8-0D11-4358-95A6-4F7DA992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66" descr=""/>
          <p:cNvPicPr/>
          <p:nvPr/>
        </p:nvPicPr>
        <p:blipFill>
          <a:blip r:embed="rId2"/>
          <a:stretch/>
        </p:blipFill>
        <p:spPr>
          <a:xfrm>
            <a:off x="3708360" y="3024360"/>
            <a:ext cx="5435640" cy="3833640"/>
          </a:xfrm>
          <a:prstGeom prst="rect">
            <a:avLst/>
          </a:prstGeom>
          <a:ln w="0">
            <a:noFill/>
          </a:ln>
        </p:spPr>
      </p:pic>
      <p:sp>
        <p:nvSpPr>
          <p:cNvPr id="1" name="矩形 1067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矩形 1068"/>
          <p:cNvSpPr/>
          <p:nvPr/>
        </p:nvSpPr>
        <p:spPr>
          <a:xfrm>
            <a:off x="0" y="1125360"/>
            <a:ext cx="2843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矩形 1069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组合 1070"/>
          <p:cNvGrpSpPr/>
          <p:nvPr/>
        </p:nvGrpSpPr>
        <p:grpSpPr>
          <a:xfrm>
            <a:off x="0" y="907920"/>
            <a:ext cx="9143640" cy="144720"/>
            <a:chOff x="0" y="907920"/>
            <a:chExt cx="9143640" cy="144720"/>
          </a:xfrm>
        </p:grpSpPr>
        <p:grpSp>
          <p:nvGrpSpPr>
            <p:cNvPr id="5" name=""/>
            <p:cNvGrpSpPr/>
            <p:nvPr/>
          </p:nvGrpSpPr>
          <p:grpSpPr>
            <a:xfrm>
              <a:off x="0" y="907920"/>
              <a:ext cx="9143640" cy="360"/>
              <a:chOff x="0" y="907920"/>
              <a:chExt cx="9143640" cy="360"/>
            </a:xfrm>
          </p:grpSpPr>
          <p:sp>
            <p:nvSpPr>
              <p:cNvPr id="6" name="直接连接符 1071"/>
              <p:cNvSpPr/>
              <p:nvPr/>
            </p:nvSpPr>
            <p:spPr>
              <a:xfrm>
                <a:off x="0" y="90792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 txBox="1"/>
              <p:nvPr/>
            </p:nvSpPr>
            <p:spPr>
              <a:xfrm>
                <a:off x="0" y="90792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0" y="979200"/>
              <a:ext cx="9143640" cy="360"/>
              <a:chOff x="0" y="979200"/>
              <a:chExt cx="9143640" cy="360"/>
            </a:xfrm>
          </p:grpSpPr>
          <p:sp>
            <p:nvSpPr>
              <p:cNvPr id="9" name="直接连接符 1072"/>
              <p:cNvSpPr/>
              <p:nvPr/>
            </p:nvSpPr>
            <p:spPr>
              <a:xfrm>
                <a:off x="0" y="97920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 txBox="1"/>
              <p:nvPr/>
            </p:nvSpPr>
            <p:spPr>
              <a:xfrm>
                <a:off x="0" y="97920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0" y="1052280"/>
              <a:ext cx="9143640" cy="360"/>
              <a:chOff x="0" y="1052280"/>
              <a:chExt cx="9143640" cy="360"/>
            </a:xfrm>
          </p:grpSpPr>
          <p:sp>
            <p:nvSpPr>
              <p:cNvPr id="12" name="直接连接符 1073"/>
              <p:cNvSpPr/>
              <p:nvPr/>
            </p:nvSpPr>
            <p:spPr>
              <a:xfrm>
                <a:off x="0" y="1052280"/>
                <a:ext cx="914364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 txBox="1"/>
              <p:nvPr/>
            </p:nvSpPr>
            <p:spPr>
              <a:xfrm>
                <a:off x="0" y="105228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对象 1074" descr=""/>
          <p:cNvPicPr/>
          <p:nvPr/>
        </p:nvPicPr>
        <p:blipFill>
          <a:blip r:embed="rId3"/>
          <a:stretch/>
        </p:blipFill>
        <p:spPr>
          <a:xfrm>
            <a:off x="-9360" y="-9360"/>
            <a:ext cx="2852640" cy="11048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"/>
          <p:cNvSpPr>
            <a:spLocks noGrp="1"/>
          </p:cNvSpPr>
          <p:nvPr>
            <p:ph type="body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1"/>
          </p:nvPr>
        </p:nvSpPr>
        <p:spPr>
          <a:xfrm>
            <a:off x="0" y="1131840"/>
            <a:ext cx="28195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936-2E3B-422C-B972-B8C929410424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E3EE-3D4E-401D-B26F-A56446C405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6512-FB8E-435A-9CEE-1D5F4717EA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115"/>
          <p:cNvSpPr/>
          <p:nvPr/>
        </p:nvSpPr>
        <p:spPr>
          <a:xfrm>
            <a:off x="0" y="2660760"/>
            <a:ext cx="9144000" cy="120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矩形 3116"/>
          <p:cNvSpPr/>
          <p:nvPr/>
        </p:nvSpPr>
        <p:spPr>
          <a:xfrm>
            <a:off x="1835280" y="2741760"/>
            <a:ext cx="7308720" cy="657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文本框 3117"/>
          <p:cNvSpPr/>
          <p:nvPr/>
        </p:nvSpPr>
        <p:spPr>
          <a:xfrm>
            <a:off x="353880" y="304920"/>
            <a:ext cx="1204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1d528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1523880" y="1371600"/>
            <a:ext cx="69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企业</a:t>
            </a:r>
            <a:r>
              <a:rPr b="1" lang="en-US" sz="4000" spc="-1" strike="noStrike">
                <a:solidFill>
                  <a:srgbClr val="1d528d"/>
                </a:solidFill>
                <a:latin typeface="Arial"/>
                <a:ea typeface="Arial"/>
              </a:rPr>
              <a:t>PPT</a:t>
            </a:r>
            <a:r>
              <a:rPr b="1" lang="zh-CN" sz="4000" spc="-1" strike="noStrike">
                <a:solidFill>
                  <a:srgbClr val="1d528d"/>
                </a:solidFill>
                <a:latin typeface="Arial"/>
                <a:ea typeface="Arial"/>
              </a:rPr>
              <a:t>模板免费下载</a:t>
            </a:r>
            <a:endParaRPr b="1" lang="en-US" sz="4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组合 73768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2" name="圆角矩形 73729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圆角矩形 73730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圆角矩形 73731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燕尾形 73733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燕尾形 73734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椭圆 73735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椭圆 73736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椭圆 73737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椭圆 73738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椭圆 73739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椭圆 73740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椭圆 73741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椭圆 73742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椭圆 73743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椭圆 73744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组合 73745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48" name="椭圆 73746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椭圆 73747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椭圆 73748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椭圆 73749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2" name="椭圆 73750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b14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椭圆 73751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32156"/>
                  </a:srgbClr>
                </a:gs>
                <a:gs pos="100000">
                  <a:srgbClr val="3552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4" name="椭圆 73752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e6024"/>
                </a:gs>
                <a:gs pos="50000">
                  <a:srgbClr val="72b143"/>
                </a:gs>
                <a:gs pos="100000">
                  <a:srgbClr val="3e602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椭圆 73753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8702b"/>
                </a:gs>
                <a:gs pos="100000">
                  <a:srgbClr val="72b14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椭圆 73754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组合 73755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58" name="椭圆 73756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椭圆 73757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椭圆 73758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椭圆 73759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73760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3" name="椭圆 73761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椭圆 73762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椭圆 73763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6" name="椭圆 73764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7" name="文本框 73765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文本框 73766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文本框 73767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文本框 8199"/>
          <p:cNvSpPr/>
          <p:nvPr/>
        </p:nvSpPr>
        <p:spPr>
          <a:xfrm>
            <a:off x="2895480" y="114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74783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373" name="矩形 74754"/>
            <p:cNvSpPr/>
            <p:nvPr/>
          </p:nvSpPr>
          <p:spPr>
            <a:xfrm rot="13770000">
              <a:off x="4782960" y="3993480"/>
              <a:ext cx="1015920" cy="1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矩形 74755"/>
            <p:cNvSpPr/>
            <p:nvPr/>
          </p:nvSpPr>
          <p:spPr>
            <a:xfrm rot="20856000">
              <a:off x="2755440" y="3511080"/>
              <a:ext cx="103680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5" name="矩形 74756"/>
            <p:cNvSpPr/>
            <p:nvPr/>
          </p:nvSpPr>
          <p:spPr>
            <a:xfrm rot="18394200">
              <a:off x="491796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组合 74757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377" name="组合 74758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378" name="椭圆 74759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79" name="任意多边形 74760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文本框 74761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1" name="组合 74762"/>
            <p:cNvGrpSpPr/>
            <p:nvPr/>
          </p:nvGrpSpPr>
          <p:grpSpPr>
            <a:xfrm>
              <a:off x="5166000" y="1406520"/>
              <a:ext cx="924840" cy="912960"/>
              <a:chOff x="5166000" y="1406520"/>
              <a:chExt cx="924840" cy="912960"/>
            </a:xfrm>
          </p:grpSpPr>
          <p:grpSp>
            <p:nvGrpSpPr>
              <p:cNvPr id="382" name="组合 74763"/>
              <p:cNvGrpSpPr/>
              <p:nvPr/>
            </p:nvGrpSpPr>
            <p:grpSpPr>
              <a:xfrm>
                <a:off x="5166000" y="1406520"/>
                <a:ext cx="894240" cy="912960"/>
                <a:chOff x="5166000" y="1406520"/>
                <a:chExt cx="894240" cy="912960"/>
              </a:xfrm>
            </p:grpSpPr>
            <p:sp>
              <p:nvSpPr>
                <p:cNvPr id="383" name="椭圆 74764"/>
                <p:cNvSpPr/>
                <p:nvPr/>
              </p:nvSpPr>
              <p:spPr>
                <a:xfrm>
                  <a:off x="5166000" y="1406520"/>
                  <a:ext cx="89424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c2b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84" name="任意多边形 74765"/>
                <p:cNvSpPr/>
                <p:nvPr/>
              </p:nvSpPr>
              <p:spPr>
                <a:xfrm>
                  <a:off x="5268240" y="1421640"/>
                  <a:ext cx="68976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文本框 74766"/>
              <p:cNvSpPr/>
              <p:nvPr/>
            </p:nvSpPr>
            <p:spPr>
              <a:xfrm>
                <a:off x="5181480" y="17575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组合 74767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387" name="组合 74768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388" name="椭圆 74769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89" name="任意多边形 74770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文本框 74771"/>
              <p:cNvSpPr/>
              <p:nvPr/>
            </p:nvSpPr>
            <p:spPr>
              <a:xfrm>
                <a:off x="156420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1" name="组合 74772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392" name="组合 74773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393" name="椭圆 74774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94" name="任意多边形 74775"/>
                <p:cNvSpPr/>
                <p:nvPr/>
              </p:nvSpPr>
              <p:spPr>
                <a:xfrm>
                  <a:off x="5333400" y="41781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文本框 74776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85024"/>
          <p:cNvGrpSpPr/>
          <p:nvPr/>
        </p:nvGrpSpPr>
        <p:grpSpPr>
          <a:xfrm>
            <a:off x="943200" y="1944720"/>
            <a:ext cx="7282800" cy="3770280"/>
            <a:chOff x="943200" y="1944720"/>
            <a:chExt cx="7282800" cy="3770280"/>
          </a:xfrm>
        </p:grpSpPr>
        <p:sp>
          <p:nvSpPr>
            <p:cNvPr id="400" name="右箭头 84994"/>
            <p:cNvSpPr/>
            <p:nvPr/>
          </p:nvSpPr>
          <p:spPr>
            <a:xfrm rot="17973000">
              <a:off x="4752000" y="264996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右箭头 84995"/>
            <p:cNvSpPr/>
            <p:nvPr/>
          </p:nvSpPr>
          <p:spPr>
            <a:xfrm rot="3465600">
              <a:off x="4802760" y="476028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右箭头 84996"/>
            <p:cNvSpPr/>
            <p:nvPr/>
          </p:nvSpPr>
          <p:spPr>
            <a:xfrm rot="14368800">
              <a:off x="3583440" y="267228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右箭头 84997"/>
            <p:cNvSpPr/>
            <p:nvPr/>
          </p:nvSpPr>
          <p:spPr>
            <a:xfrm rot="7534800">
              <a:off x="3545280" y="472644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右箭头 84998"/>
            <p:cNvSpPr/>
            <p:nvPr/>
          </p:nvSpPr>
          <p:spPr>
            <a:xfrm>
              <a:off x="5384880" y="372744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右箭头 84999"/>
            <p:cNvSpPr/>
            <p:nvPr/>
          </p:nvSpPr>
          <p:spPr>
            <a:xfrm rot="10800000">
              <a:off x="2974680" y="372060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椭圆 85000"/>
            <p:cNvSpPr/>
            <p:nvPr/>
          </p:nvSpPr>
          <p:spPr>
            <a:xfrm>
              <a:off x="2695680" y="1969920"/>
              <a:ext cx="3743280" cy="374508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文本框 85001"/>
            <p:cNvSpPr/>
            <p:nvPr/>
          </p:nvSpPr>
          <p:spPr>
            <a:xfrm>
              <a:off x="574704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文本框 85002"/>
            <p:cNvSpPr/>
            <p:nvPr/>
          </p:nvSpPr>
          <p:spPr>
            <a:xfrm>
              <a:off x="185760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文本框 85003"/>
            <p:cNvSpPr/>
            <p:nvPr/>
          </p:nvSpPr>
          <p:spPr>
            <a:xfrm>
              <a:off x="666144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文本框 85004"/>
            <p:cNvSpPr/>
            <p:nvPr/>
          </p:nvSpPr>
          <p:spPr>
            <a:xfrm>
              <a:off x="5747040" y="52974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文本框 85005"/>
            <p:cNvSpPr/>
            <p:nvPr/>
          </p:nvSpPr>
          <p:spPr>
            <a:xfrm>
              <a:off x="94320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文本框 85006"/>
            <p:cNvSpPr/>
            <p:nvPr/>
          </p:nvSpPr>
          <p:spPr>
            <a:xfrm>
              <a:off x="1781640" y="5235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椭圆 85007"/>
            <p:cNvSpPr/>
            <p:nvPr/>
          </p:nvSpPr>
          <p:spPr>
            <a:xfrm>
              <a:off x="2552760" y="37479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椭圆 85008"/>
            <p:cNvSpPr/>
            <p:nvPr/>
          </p:nvSpPr>
          <p:spPr>
            <a:xfrm>
              <a:off x="346716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椭圆 85009"/>
            <p:cNvSpPr/>
            <p:nvPr/>
          </p:nvSpPr>
          <p:spPr>
            <a:xfrm>
              <a:off x="5372280" y="20970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椭圆 85010"/>
            <p:cNvSpPr/>
            <p:nvPr/>
          </p:nvSpPr>
          <p:spPr>
            <a:xfrm>
              <a:off x="3390840" y="529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椭圆 85011"/>
            <p:cNvSpPr/>
            <p:nvPr/>
          </p:nvSpPr>
          <p:spPr>
            <a:xfrm>
              <a:off x="5372280" y="52974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椭圆 85012"/>
            <p:cNvSpPr/>
            <p:nvPr/>
          </p:nvSpPr>
          <p:spPr>
            <a:xfrm>
              <a:off x="6286680" y="3735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椭圆 85013"/>
            <p:cNvSpPr/>
            <p:nvPr/>
          </p:nvSpPr>
          <p:spPr>
            <a:xfrm>
              <a:off x="3735360" y="300024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椭圆 85014"/>
            <p:cNvSpPr/>
            <p:nvPr/>
          </p:nvSpPr>
          <p:spPr>
            <a:xfrm>
              <a:off x="3740040" y="299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椭圆 85015"/>
            <p:cNvSpPr/>
            <p:nvPr/>
          </p:nvSpPr>
          <p:spPr>
            <a:xfrm>
              <a:off x="3846600" y="3110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椭圆 85016"/>
            <p:cNvSpPr/>
            <p:nvPr/>
          </p:nvSpPr>
          <p:spPr>
            <a:xfrm>
              <a:off x="3843360" y="311292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椭圆 85017"/>
            <p:cNvSpPr/>
            <p:nvPr/>
          </p:nvSpPr>
          <p:spPr>
            <a:xfrm>
              <a:off x="3921120" y="318456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4" name="组合 85018"/>
            <p:cNvGrpSpPr/>
            <p:nvPr/>
          </p:nvGrpSpPr>
          <p:grpSpPr>
            <a:xfrm>
              <a:off x="3941640" y="3203640"/>
              <a:ext cx="1290600" cy="1278000"/>
              <a:chOff x="3941640" y="3203640"/>
              <a:chExt cx="1290600" cy="1278000"/>
            </a:xfrm>
          </p:grpSpPr>
          <p:sp>
            <p:nvSpPr>
              <p:cNvPr id="425" name="椭圆 85019"/>
              <p:cNvSpPr/>
              <p:nvPr/>
            </p:nvSpPr>
            <p:spPr>
              <a:xfrm>
                <a:off x="3941640" y="32036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椭圆 85020"/>
              <p:cNvSpPr/>
              <p:nvPr/>
            </p:nvSpPr>
            <p:spPr>
              <a:xfrm>
                <a:off x="3957840" y="32104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椭圆 85021"/>
              <p:cNvSpPr/>
              <p:nvPr/>
            </p:nvSpPr>
            <p:spPr>
              <a:xfrm>
                <a:off x="3971520" y="32230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8" name="椭圆 85022"/>
              <p:cNvSpPr/>
              <p:nvPr/>
            </p:nvSpPr>
            <p:spPr>
              <a:xfrm>
                <a:off x="4041360" y="3255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文本框 85023"/>
            <p:cNvSpPr/>
            <p:nvPr/>
          </p:nvSpPr>
          <p:spPr>
            <a:xfrm>
              <a:off x="4204800" y="3676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组合 76898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433" name="圆角矩形 76852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圆角矩形 76853"/>
            <p:cNvSpPr/>
            <p:nvPr/>
          </p:nvSpPr>
          <p:spPr>
            <a:xfrm>
              <a:off x="1252440" y="21477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圆角矩形 76854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圆角矩形 76855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组合 76858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438" name="椭圆 76859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椭圆 76860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0" name="椭圆 76861"/>
              <p:cNvSpPr/>
              <p:nvPr/>
            </p:nvSpPr>
            <p:spPr>
              <a:xfrm>
                <a:off x="197820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椭圆 76862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椭圆 76863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3" name="文本框 76864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文本框 76865"/>
            <p:cNvSpPr/>
            <p:nvPr/>
          </p:nvSpPr>
          <p:spPr>
            <a:xfrm>
              <a:off x="1295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5" name="组合 76899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446" name="圆角矩形 76881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圆角矩形 76882"/>
            <p:cNvSpPr/>
            <p:nvPr/>
          </p:nvSpPr>
          <p:spPr>
            <a:xfrm>
              <a:off x="5977080" y="214776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圆角矩形 76883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圆角矩形 76884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0" name="组合 76885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451" name="椭圆 76886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椭圆 76887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3" name="椭圆 76888"/>
              <p:cNvSpPr/>
              <p:nvPr/>
            </p:nvSpPr>
            <p:spPr>
              <a:xfrm>
                <a:off x="670248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椭圆 76889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椭圆 76890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6" name="文本框 76891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文本框 76892"/>
            <p:cNvSpPr/>
            <p:nvPr/>
          </p:nvSpPr>
          <p:spPr>
            <a:xfrm>
              <a:off x="60199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58" name="组合 76896"/>
          <p:cNvGrpSpPr/>
          <p:nvPr/>
        </p:nvGrpSpPr>
        <p:grpSpPr>
          <a:xfrm>
            <a:off x="3581280" y="1832040"/>
            <a:ext cx="2163960" cy="3165480"/>
            <a:chOff x="3581280" y="1832040"/>
            <a:chExt cx="2163960" cy="3165480"/>
          </a:xfrm>
        </p:grpSpPr>
        <p:sp>
          <p:nvSpPr>
            <p:cNvPr id="459" name="圆角矩形 76867"/>
            <p:cNvSpPr/>
            <p:nvPr/>
          </p:nvSpPr>
          <p:spPr>
            <a:xfrm>
              <a:off x="3581280" y="21398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圆角矩形 76868"/>
            <p:cNvSpPr/>
            <p:nvPr/>
          </p:nvSpPr>
          <p:spPr>
            <a:xfrm>
              <a:off x="3614760" y="21477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圆角矩形 76869"/>
            <p:cNvSpPr/>
            <p:nvPr/>
          </p:nvSpPr>
          <p:spPr>
            <a:xfrm>
              <a:off x="3632040" y="42116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圆角矩形 76870"/>
            <p:cNvSpPr/>
            <p:nvPr/>
          </p:nvSpPr>
          <p:spPr>
            <a:xfrm>
              <a:off x="3632040" y="21700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椭圆 76871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椭圆 76872"/>
            <p:cNvSpPr/>
            <p:nvPr/>
          </p:nvSpPr>
          <p:spPr>
            <a:xfrm>
              <a:off x="4332240" y="18367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椭圆 76873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椭圆 76874"/>
            <p:cNvSpPr/>
            <p:nvPr/>
          </p:nvSpPr>
          <p:spPr>
            <a:xfrm>
              <a:off x="4346640" y="18464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椭圆 76875"/>
            <p:cNvSpPr/>
            <p:nvPr/>
          </p:nvSpPr>
          <p:spPr>
            <a:xfrm>
              <a:off x="4381560" y="186228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文本框 76876"/>
            <p:cNvSpPr/>
            <p:nvPr/>
          </p:nvSpPr>
          <p:spPr>
            <a:xfrm>
              <a:off x="446616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文本框 76877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组合 7792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73" name="组合 77826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74" name="矩形 77827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矩形 77828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77916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77" name="组合 77882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78" name="组合 77883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79" name="任意多边形 77884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任意多边形 77885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组合 77886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82" name="任意多边形 77887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任意多边形 77888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组合 77889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85" name="椭圆 77890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6" name="椭圆 77891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7" name="椭圆 77892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8" name="椭圆 77893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9" name="椭圆 77894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组合 77895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491" name="椭圆 77896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椭圆 77897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椭圆 77898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椭圆 77899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文本框 77900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文本框 77901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7" name="组合 77917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98" name="组合 77864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499" name="组合 77865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00" name="任意多边形 77866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任意多边形 77867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组合 77868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03" name="任意多边形 77869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任意多边形 77870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5" name="组合 77871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06" name="椭圆 77872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7" name="椭圆 77873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8" name="椭圆 77874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77875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77876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组合 77877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12" name="椭圆 77878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椭圆 77879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椭圆 77880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椭圆 77881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文本框 77902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文本框 77903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8" name="组合 77918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19" name="组合 77829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20" name="组合 77830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21" name="任意多边形 77831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任意多边形 77832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组合 77833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24" name="任意多边形 77834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任意多边形 77835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6" name="组合 77836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27" name="椭圆 77837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28" name="椭圆 77838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29" name="椭圆 77839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0" name="椭圆 77840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椭圆 77841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532" name="组合 77842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33" name="椭圆 77843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椭圆 77844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椭圆 77845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椭圆 77846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文本框 77904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8" name="文本框 77905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77919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40" name="组合 77847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41" name="组合 77848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42" name="任意多边形 77849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任意多边形 77850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组合 77851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45" name="任意多边形 77852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任意多边形 77853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7" name="椭圆 77854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椭圆 7785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椭圆 77856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0" name="椭圆 77857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1" name="椭圆 77858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2" name="组合 77859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53" name="椭圆 77860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4" name="椭圆 77861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5" name="椭圆 77862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6" name="椭圆 77863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文本框 77906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8" name="文本框 77907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组合 77908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60" name="文本框 77909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文本框 77910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文本框 77911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文本框 77912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564" name="直接箭头连接符 77913"/>
              <p:cNvCxnSpPr>
                <a:stCxn id="560" idx="3"/>
                <a:endCxn id="561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65" name="直接箭头连接符 77914"/>
              <p:cNvCxnSpPr>
                <a:stCxn id="561" idx="3"/>
                <a:endCxn id="562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66" name="直接箭头连接符 77915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67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组合 78850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70" name="圆角矩形 78851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组合 78852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72" name="圆角矩形 78853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507c2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任意多边形 78854"/>
              <p:cNvSpPr/>
              <p:nvPr/>
            </p:nvSpPr>
            <p:spPr>
              <a:xfrm>
                <a:off x="1874880" y="171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d499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2d4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文本框 78855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5" name="文本框 78856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76" name="组合 78857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77" name="圆角矩形 78858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8" name="组合 78859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79" name="圆角矩形 78860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0a3"/>
                  </a:gs>
                  <a:gs pos="100000">
                    <a:srgbClr val="ff7c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任意多边形 78861"/>
              <p:cNvSpPr/>
              <p:nvPr/>
            </p:nvSpPr>
            <p:spPr>
              <a:xfrm>
                <a:off x="1874880" y="32421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8c9"/>
                  </a:gs>
                  <a:gs pos="100000">
                    <a:srgbClr val="ff7c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1" name="文本框 78862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文本框 78863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3" name="组合 78864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84" name="圆角矩形 78865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5" name="组合 78866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86" name="圆角矩形 78867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7" name="任意多边形 78868"/>
              <p:cNvSpPr/>
              <p:nvPr/>
            </p:nvSpPr>
            <p:spPr>
              <a:xfrm>
                <a:off x="1874880" y="47822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8" name="文本框 78869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9" name="文本框 78870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文本框 8199"/>
          <p:cNvSpPr/>
          <p:nvPr/>
        </p:nvSpPr>
        <p:spPr>
          <a:xfrm>
            <a:off x="2971800" y="114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圆角矩形 79874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圆角矩形 79875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圆角矩形 79876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圆角矩形 79877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组合 79878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98" name="矩形 79879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9" name="组合 79880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00" name="椭圆 79881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矩形 79882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椭圆 79883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3" name="椭圆 79884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4" name="矩形 79885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组合 79886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06" name="椭圆 79887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矩形 79888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椭圆 79889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椭圆 79890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10" name="矩形 79891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1" name="组合 79892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12" name="椭圆 79893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矩形 79894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椭圆 79895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椭圆 79896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16" name="矩形 79897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7" name="矩形 79898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矩形 79899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9" name="矩形 79900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矩形 79901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矩形 79902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2" name="矩形 79903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3" name="矩形 79904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4" name="矩形 79905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5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846000" y="2498760"/>
          <a:ext cx="7604280" cy="2919240"/>
        </p:xfrm>
        <a:graphic>
          <a:graphicData uri="http://schemas.openxmlformats.org/drawingml/2006/table">
            <a:tbl>
              <a:tblPr/>
              <a:tblGrid>
                <a:gridCol w="1714680"/>
                <a:gridCol w="1196640"/>
                <a:gridCol w="1173240"/>
                <a:gridCol w="1170000"/>
                <a:gridCol w="1179720"/>
                <a:gridCol w="1170000"/>
              </a:tblGrid>
              <a:tr h="434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1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5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组合 81922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631" name="椭圆 81923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椭圆 81924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椭圆 81925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任意多边形 81926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ffa8a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任意多边形 81927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72b143"/>
                </a:gs>
                <a:gs pos="100000">
                  <a:srgbClr val="456c2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任意多边形 81928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任意多边形 81929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536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椭圆 81930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文本框 81931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0" name="文本框 81932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1" name="文本框 81933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2" name="组合 81934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643" name="任意多边形 81935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4" name="任意多边形 81936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5" name="任意多边形 81937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6" name="文本框 81938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7" name="文本框 81939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任意多边形 81940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椭圆 81941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5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组合 82973"/>
          <p:cNvGrpSpPr/>
          <p:nvPr/>
        </p:nvGrpSpPr>
        <p:grpSpPr>
          <a:xfrm>
            <a:off x="914400" y="1863720"/>
            <a:ext cx="7391520" cy="4156200"/>
            <a:chOff x="914400" y="1863720"/>
            <a:chExt cx="7391520" cy="4156200"/>
          </a:xfrm>
        </p:grpSpPr>
        <p:sp>
          <p:nvSpPr>
            <p:cNvPr id="653" name="上箭头 82946"/>
            <p:cNvSpPr/>
            <p:nvPr/>
          </p:nvSpPr>
          <p:spPr>
            <a:xfrm>
              <a:off x="1905120" y="2625840"/>
              <a:ext cx="5530680" cy="274320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圆角矩形 82947"/>
            <p:cNvSpPr/>
            <p:nvPr/>
          </p:nvSpPr>
          <p:spPr>
            <a:xfrm>
              <a:off x="2438280" y="18637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ddecd1"/>
                </a:gs>
                <a:gs pos="100000">
                  <a:srgbClr val="72b14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文本框 82948"/>
            <p:cNvSpPr/>
            <p:nvPr/>
          </p:nvSpPr>
          <p:spPr>
            <a:xfrm>
              <a:off x="3642480" y="32353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6" name="组合 82949"/>
            <p:cNvGrpSpPr/>
            <p:nvPr/>
          </p:nvGrpSpPr>
          <p:grpSpPr>
            <a:xfrm>
              <a:off x="914400" y="4498920"/>
              <a:ext cx="1486080" cy="1514520"/>
              <a:chOff x="914400" y="4498920"/>
              <a:chExt cx="1486080" cy="1514520"/>
            </a:xfrm>
          </p:grpSpPr>
          <p:grpSp>
            <p:nvGrpSpPr>
              <p:cNvPr id="657" name="组合 82950"/>
              <p:cNvGrpSpPr/>
              <p:nvPr/>
            </p:nvGrpSpPr>
            <p:grpSpPr>
              <a:xfrm>
                <a:off x="914400" y="4498920"/>
                <a:ext cx="1486080" cy="1514520"/>
                <a:chOff x="914400" y="4498920"/>
                <a:chExt cx="1486080" cy="1514520"/>
              </a:xfrm>
            </p:grpSpPr>
            <p:sp>
              <p:nvSpPr>
                <p:cNvPr id="658" name="椭圆 82951"/>
                <p:cNvSpPr/>
                <p:nvPr/>
              </p:nvSpPr>
              <p:spPr>
                <a:xfrm>
                  <a:off x="914400" y="44989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 82952"/>
                <p:cNvSpPr/>
                <p:nvPr/>
              </p:nvSpPr>
              <p:spPr>
                <a:xfrm>
                  <a:off x="1084320" y="45237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文本框 82953"/>
              <p:cNvSpPr/>
              <p:nvPr/>
            </p:nvSpPr>
            <p:spPr>
              <a:xfrm>
                <a:off x="1072440" y="5270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82955"/>
            <p:cNvGrpSpPr/>
            <p:nvPr/>
          </p:nvGrpSpPr>
          <p:grpSpPr>
            <a:xfrm>
              <a:off x="6781680" y="4454640"/>
              <a:ext cx="1524240" cy="1531800"/>
              <a:chOff x="6781680" y="4454640"/>
              <a:chExt cx="1524240" cy="1531800"/>
            </a:xfrm>
          </p:grpSpPr>
          <p:grpSp>
            <p:nvGrpSpPr>
              <p:cNvPr id="662" name="组合 82956"/>
              <p:cNvGrpSpPr/>
              <p:nvPr/>
            </p:nvGrpSpPr>
            <p:grpSpPr>
              <a:xfrm>
                <a:off x="6781680" y="4454640"/>
                <a:ext cx="1524240" cy="1531800"/>
                <a:chOff x="6781680" y="4454640"/>
                <a:chExt cx="1524240" cy="1531800"/>
              </a:xfrm>
            </p:grpSpPr>
            <p:sp>
              <p:nvSpPr>
                <p:cNvPr id="663" name="椭圆 82957"/>
                <p:cNvSpPr/>
                <p:nvPr/>
              </p:nvSpPr>
              <p:spPr>
                <a:xfrm>
                  <a:off x="6781680" y="4454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64" name="任意多边形 82958"/>
                <p:cNvSpPr/>
                <p:nvPr/>
              </p:nvSpPr>
              <p:spPr>
                <a:xfrm>
                  <a:off x="6955920" y="4479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文本框 82959"/>
              <p:cNvSpPr/>
              <p:nvPr/>
            </p:nvSpPr>
            <p:spPr>
              <a:xfrm>
                <a:off x="6924960" y="51685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66" name="组合 82972"/>
            <p:cNvGrpSpPr/>
            <p:nvPr/>
          </p:nvGrpSpPr>
          <p:grpSpPr>
            <a:xfrm>
              <a:off x="2819520" y="4498920"/>
              <a:ext cx="1523880" cy="1521000"/>
              <a:chOff x="2819520" y="4498920"/>
              <a:chExt cx="1523880" cy="1521000"/>
            </a:xfrm>
          </p:grpSpPr>
          <p:grpSp>
            <p:nvGrpSpPr>
              <p:cNvPr id="667" name="组合 82961"/>
              <p:cNvGrpSpPr/>
              <p:nvPr/>
            </p:nvGrpSpPr>
            <p:grpSpPr>
              <a:xfrm>
                <a:off x="2819520" y="4498920"/>
                <a:ext cx="1523880" cy="1521000"/>
                <a:chOff x="2819520" y="4498920"/>
                <a:chExt cx="1523880" cy="1521000"/>
              </a:xfrm>
            </p:grpSpPr>
            <p:sp>
              <p:nvSpPr>
                <p:cNvPr id="668" name="椭圆 82962"/>
                <p:cNvSpPr/>
                <p:nvPr/>
              </p:nvSpPr>
              <p:spPr>
                <a:xfrm>
                  <a:off x="2819520" y="44989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 82963"/>
                <p:cNvSpPr/>
                <p:nvPr/>
              </p:nvSpPr>
              <p:spPr>
                <a:xfrm>
                  <a:off x="2993760" y="45241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文本框 82964"/>
              <p:cNvSpPr/>
              <p:nvPr/>
            </p:nvSpPr>
            <p:spPr>
              <a:xfrm>
                <a:off x="2895480" y="5229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82966"/>
            <p:cNvGrpSpPr/>
            <p:nvPr/>
          </p:nvGrpSpPr>
          <p:grpSpPr>
            <a:xfrm>
              <a:off x="4876920" y="4454640"/>
              <a:ext cx="1523880" cy="1520640"/>
              <a:chOff x="4876920" y="4454640"/>
              <a:chExt cx="1523880" cy="1520640"/>
            </a:xfrm>
          </p:grpSpPr>
          <p:grpSp>
            <p:nvGrpSpPr>
              <p:cNvPr id="672" name="组合 82967"/>
              <p:cNvGrpSpPr/>
              <p:nvPr/>
            </p:nvGrpSpPr>
            <p:grpSpPr>
              <a:xfrm>
                <a:off x="4876920" y="4454640"/>
                <a:ext cx="1523880" cy="1520640"/>
                <a:chOff x="4876920" y="4454640"/>
                <a:chExt cx="1523880" cy="1520640"/>
              </a:xfrm>
            </p:grpSpPr>
            <p:sp>
              <p:nvSpPr>
                <p:cNvPr id="673" name="椭圆 82968"/>
                <p:cNvSpPr/>
                <p:nvPr/>
              </p:nvSpPr>
              <p:spPr>
                <a:xfrm>
                  <a:off x="4876920" y="44546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b5b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74" name="任意多边形 82969"/>
                <p:cNvSpPr/>
                <p:nvPr/>
              </p:nvSpPr>
              <p:spPr>
                <a:xfrm>
                  <a:off x="5051160" y="44798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文本框 82970"/>
              <p:cNvSpPr/>
              <p:nvPr/>
            </p:nvSpPr>
            <p:spPr>
              <a:xfrm>
                <a:off x="4952880" y="51847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76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55600" y="163440"/>
            <a:ext cx="6002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框 65538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4" name="组合 65539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5" name="圆角矩形 65540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9e9f4"/>
                </a:gs>
                <a:gs pos="100000">
                  <a:srgbClr val="0099cc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菱形 65541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文本框 65542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文本框 65543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9" name="组合 65544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50" name="圆角矩形 65545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e1eed7"/>
                </a:gs>
                <a:gs pos="100000">
                  <a:srgbClr val="72b143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菱形 65546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2b14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文本框 65547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文本框 65548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组合 65549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5" name="圆角矩形 65550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fe3e4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菱形 65551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ff7c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文本框 65552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文本框 65553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组合 65554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60" name="圆角矩形 65555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菱形 65556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文本框 65557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文本框 65558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4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619-B245-467F-9C4A-F00A622E39D9}" type="slidenum">
              <a:rPr b="0" lang="zh-CN" sz="14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83969"/>
          <p:cNvSpPr txBox="1"/>
          <p:nvPr/>
        </p:nvSpPr>
        <p:spPr>
          <a:xfrm>
            <a:off x="2438280" y="2743200"/>
            <a:ext cx="4953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cc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2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3200" y="1740960"/>
            <a:ext cx="78440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组合 67602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0" name="圆角矩形 67587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文本框 67588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72" name="任意多边形 67589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矩形 67590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74" name="组合 67604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75" name="组合 67592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76" name="组合 67593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77" name="椭圆 67594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a6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67595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d2e8"/>
                    </a:gs>
                    <a:gs pos="100000">
                      <a:srgbClr val="0099c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椭圆 67596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5521f"/>
                  </a:gs>
                  <a:gs pos="100000">
                    <a:srgbClr val="72b14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椭圆 67597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0"/>
                    </a:srgbClr>
                  </a:gs>
                  <a:gs pos="100000">
                    <a:srgbClr val="cee4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椭圆 67598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5a8c35"/>
                  </a:gs>
                  <a:gs pos="100000">
                    <a:srgbClr val="72b14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椭圆 67599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b14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3" name="文本框 67600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84" name="组合 67603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5" name="圆角矩形 675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文本框 67601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任意多边形 67591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2b143"/>
              </a:gs>
              <a:gs pos="100000">
                <a:srgbClr val="d2e6c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组合 68610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91" name="任意多边形 68611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椭圆 68612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82b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椭圆 68613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438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椭圆 68614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椭圆 68615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椭圆 68616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文本框 68617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文本框 68618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文本框 68619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文本框 68620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文本框 68621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文本框 68622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4" name="直接连接符 68623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cxnSp>
          <p:nvCxnSpPr>
            <p:cNvPr id="206" name="直接箭头连接符 68624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round/>
            </a:ln>
          </p:spPr>
        </p:cxnSp>
        <p:sp>
          <p:nvSpPr>
            <p:cNvPr id="207" name="文本框 68625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文本框 8199"/>
          <p:cNvSpPr/>
          <p:nvPr/>
        </p:nvSpPr>
        <p:spPr>
          <a:xfrm>
            <a:off x="289548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组合 69634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2" name="圆柱形 69635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圆柱形 69636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圆柱形 69637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文本框 69638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文本框 69639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文本框 69640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左箭头 69641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圆角矩形 69642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文本框 69643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圆角矩形 69644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文本框 69645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右箭头 69646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圆柱形 69647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上箭头 69648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文本框 69649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圆柱形 69650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文本框 69651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下箭头 69652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0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组合 70658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3" name="组合 70659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34" name="上箭头 70660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5" name="上箭头 70661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6" name="上箭头 70662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7" name="椭圆 70663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8" name="椭圆 70664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9" name="椭圆 70665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7c8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0" name="椭圆 70666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1" name="椭圆 70667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4345"/>
                  </a:gs>
                  <a:gs pos="50000">
                    <a:srgbClr val="ff7c80"/>
                  </a:gs>
                  <a:gs pos="100000">
                    <a:srgbClr val="8a434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2" name="椭圆 70668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43" name="圆柱形 70669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圆柱形 70670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圆柱形 70671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圆柱形 70672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圆柱形 70673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圆柱形 70674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9" name="文本框 70675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圆角矩形 70676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文本框 70677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文本框 70678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3" name="文本框 70679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文本框 70680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文本框 70681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文本框 70682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7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组合 71709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60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61" name="直接连接符 71682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64" name="直接连接符 71683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67" name="直接连接符 71684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70" name="直接连接符 71685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73" name="直接连接符 71686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76" name="直接连接符 71687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79" name="直接连接符 71688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82" name="直接连接符 71689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85" name="直接连接符 71690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1d528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87" name="文本框 71691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文本框 71692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9" name="文本框 71693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0" name="文本框 71694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1" name="组合 71695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92" name="任意多边形 71696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5e"/>
                  </a:gs>
                  <a:gs pos="50000">
                    <a:srgbClr val="0099cc"/>
                  </a:gs>
                  <a:gs pos="100000">
                    <a:srgbClr val="00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任意多边形 71697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4" name="任意多边形 71698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393b"/>
                  </a:gs>
                  <a:gs pos="50000">
                    <a:srgbClr val="ff7c80"/>
                  </a:gs>
                  <a:gs pos="100000">
                    <a:srgbClr val="7639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5" name="任意多边形 71699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任意多边形 71700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任意多边形 71701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521f"/>
                  </a:gs>
                  <a:gs pos="50000">
                    <a:srgbClr val="72b143"/>
                  </a:gs>
                  <a:gs pos="100000">
                    <a:srgbClr val="3552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8" name="任意多边形 71702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9" name="任意多边形 71703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0" name="矩形 71704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006f94"/>
                  </a:gs>
                  <a:gs pos="50000">
                    <a:srgbClr val="0099cc"/>
                  </a:gs>
                  <a:gs pos="100000">
                    <a:srgbClr val="006f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矩形 71705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5a5d"/>
                  </a:gs>
                  <a:gs pos="50000">
                    <a:srgbClr val="ff7c80"/>
                  </a:gs>
                  <a:gs pos="100000">
                    <a:srgbClr val="b95a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任意多边形 71706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3" name="矩形 71707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4" name="矩形 71708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538031"/>
                  </a:gs>
                  <a:gs pos="50000">
                    <a:srgbClr val="72b143"/>
                  </a:gs>
                  <a:gs pos="100000">
                    <a:srgbClr val="5380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组合 72727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308" name="任意多边形 72706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888b">
                    <a:alpha val="32156"/>
                  </a:srgbClr>
                </a:gs>
                <a:gs pos="100000">
                  <a:srgbClr val="ff7c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9" name="圆角矩形 72707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圆角矩形 72708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八边形 72709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八边形 72710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3" name="圆角矩形 72711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4" name="圆角矩形 72712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5" name="八边形 72713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6" name="八边形 72714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任意多边形 72715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文本框 72716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文本框 72717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0" name="组合 72718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321" name="圆角矩形 72719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2" name="圆角矩形 72720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八边形 72721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八边形 72722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文本框 72723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1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文本框 72724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7" name="文本框 72725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文本框 72726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9" name="页脚占位符 2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2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