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45F-FB4B-47AE-B61D-F6007A57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119-5997-4DC2-8C46-35012B5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E8D-1FDE-4E92-B2BA-6444A99F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0EE-5F66-4FBA-8134-A23D499B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3D22-137B-4030-AFD0-BEF579A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4600-8190-4839-A1D5-6896145E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214-1EB4-401D-A3BA-8964984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3D4-040C-4ABC-8F5E-F33378D0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AE87-504B-4B85-8FC1-F7CA499C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4EB7-928D-4437-BDB2-E895CC2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63DC-5FD3-422A-8B61-09056FF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81F-A83B-47BE-817A-BE6C8E5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14D8-D3C5-4845-892F-97E2EFC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3E0-14F5-44FF-9505-F63C413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B85F-BA8B-4B17-9A88-C1A4A550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63CE-389D-4B57-853C-12C7EA0D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989-4233-49F3-8500-41A72BB3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0EE-57F4-460E-9F00-18B5F790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0D5-BB7E-4D5C-B5AF-E70DD63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CF8-9A35-4002-ACC0-7C7E3D29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D32-ADFD-45B1-B5E2-67D7CE8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375-59F5-4B02-9D40-2FD3729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EEA-7CCD-48AD-880B-E2C9F3F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7CA-2E91-4A30-8906-3E242D2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D955-1E78-4617-BCE9-B6030E914E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A7A-DA59-4F4D-B87D-103B21A4D7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D9F-7EDE-4B00-94C3-D7AC78C654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2B8-991D-4DCC-B8B1-26C4D670A0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杀"/>
          <p:cNvPicPr/>
          <p:nvPr/>
        </p:nvPicPr>
        <p:blipFill>
          <a:blip r:embed="rId1"/>
          <a:stretch/>
        </p:blipFill>
        <p:spPr>
          <a:xfrm>
            <a:off x="0" y="963720"/>
            <a:ext cx="12200040" cy="47847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6523200" y="1486080"/>
            <a:ext cx="5454360" cy="1440"/>
            <a:chOff x="6523200" y="1486080"/>
            <a:chExt cx="5454360" cy="1440"/>
          </a:xfrm>
        </p:grpSpPr>
        <p:sp>
          <p:nvSpPr>
            <p:cNvPr id="84" name="Line 3"/>
            <p:cNvSpPr/>
            <p:nvPr/>
          </p:nvSpPr>
          <p:spPr>
            <a:xfrm>
              <a:off x="6523200" y="1486080"/>
              <a:ext cx="5454360" cy="1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523200" y="1486080"/>
              <a:ext cx="54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1719080" y="1268280"/>
            <a:ext cx="1440" cy="4357800"/>
            <a:chOff x="11719080" y="1268280"/>
            <a:chExt cx="1440" cy="4357800"/>
          </a:xfrm>
        </p:grpSpPr>
        <p:sp>
          <p:nvSpPr>
            <p:cNvPr id="87" name="Line 4"/>
            <p:cNvSpPr/>
            <p:nvPr/>
          </p:nvSpPr>
          <p:spPr>
            <a:xfrm>
              <a:off x="11719080" y="1268280"/>
              <a:ext cx="144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11719080" y="1268280"/>
              <a:ext cx="144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8680" y="2927520"/>
            <a:ext cx="11620440" cy="360"/>
            <a:chOff x="328680" y="2927520"/>
            <a:chExt cx="11620440" cy="360"/>
          </a:xfrm>
        </p:grpSpPr>
        <p:sp>
          <p:nvSpPr>
            <p:cNvPr id="90" name="Line 5"/>
            <p:cNvSpPr/>
            <p:nvPr/>
          </p:nvSpPr>
          <p:spPr>
            <a:xfrm>
              <a:off x="328680" y="2927520"/>
              <a:ext cx="116204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28680" y="2927520"/>
              <a:ext cx="11620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 Box 6"/>
          <p:cNvSpPr/>
          <p:nvPr/>
        </p:nvSpPr>
        <p:spPr>
          <a:xfrm>
            <a:off x="6829560" y="122220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629640" y="5091120"/>
            <a:ext cx="2303640" cy="360"/>
            <a:chOff x="9629640" y="5091120"/>
            <a:chExt cx="2303640" cy="360"/>
          </a:xfrm>
        </p:grpSpPr>
        <p:sp>
          <p:nvSpPr>
            <p:cNvPr id="94" name="Line 7"/>
            <p:cNvSpPr/>
            <p:nvPr/>
          </p:nvSpPr>
          <p:spPr>
            <a:xfrm>
              <a:off x="9629640" y="5091120"/>
              <a:ext cx="23036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9629640" y="5091120"/>
              <a:ext cx="230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650520" y="5537160"/>
            <a:ext cx="2303280" cy="1800"/>
            <a:chOff x="9650520" y="5537160"/>
            <a:chExt cx="2303280" cy="1800"/>
          </a:xfrm>
        </p:grpSpPr>
        <p:sp>
          <p:nvSpPr>
            <p:cNvPr id="97" name="Line 8"/>
            <p:cNvSpPr/>
            <p:nvPr/>
          </p:nvSpPr>
          <p:spPr>
            <a:xfrm>
              <a:off x="9650520" y="5537160"/>
              <a:ext cx="2303280" cy="1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9650520" y="5537160"/>
              <a:ext cx="230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企业文案策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441" name="Line 6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731880" y="2916360"/>
            <a:ext cx="60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没有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稳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定的下班时间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没有２４小时的公交车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446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Text Box 10"/>
          <p:cNvSpPr/>
          <p:nvPr/>
        </p:nvSpPr>
        <p:spPr>
          <a:xfrm>
            <a:off x="120600" y="-190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11" descr="s"/>
          <p:cNvPicPr/>
          <p:nvPr/>
        </p:nvPicPr>
        <p:blipFill>
          <a:blip r:embed="rId2"/>
          <a:srcRect l="19685" t="4920" r="0" b="4920"/>
          <a:stretch/>
        </p:blipFill>
        <p:spPr>
          <a:xfrm>
            <a:off x="7896240" y="1835280"/>
            <a:ext cx="2776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37A-B107-4973-AB9D-A8B7B403E5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562880" y="1486080"/>
            <a:ext cx="4416480" cy="2880"/>
            <a:chOff x="7562880" y="1486080"/>
            <a:chExt cx="4416480" cy="2880"/>
          </a:xfrm>
        </p:grpSpPr>
        <p:sp>
          <p:nvSpPr>
            <p:cNvPr id="455" name="Line 2"/>
            <p:cNvSpPr/>
            <p:nvPr/>
          </p:nvSpPr>
          <p:spPr>
            <a:xfrm>
              <a:off x="7562880" y="1486080"/>
              <a:ext cx="4416480" cy="28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562880" y="1486080"/>
              <a:ext cx="441648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1719080" y="1268280"/>
            <a:ext cx="1440" cy="4357800"/>
            <a:chOff x="11719080" y="1268280"/>
            <a:chExt cx="1440" cy="4357800"/>
          </a:xfrm>
        </p:grpSpPr>
        <p:sp>
          <p:nvSpPr>
            <p:cNvPr id="458" name="Line 3"/>
            <p:cNvSpPr/>
            <p:nvPr/>
          </p:nvSpPr>
          <p:spPr>
            <a:xfrm>
              <a:off x="11719080" y="1268280"/>
              <a:ext cx="144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1719080" y="1268280"/>
              <a:ext cx="144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19280" y="5083200"/>
            <a:ext cx="11472840" cy="4680"/>
            <a:chOff x="719280" y="5083200"/>
            <a:chExt cx="11472840" cy="4680"/>
          </a:xfrm>
        </p:grpSpPr>
        <p:sp>
          <p:nvSpPr>
            <p:cNvPr id="461" name="Line 4"/>
            <p:cNvSpPr/>
            <p:nvPr/>
          </p:nvSpPr>
          <p:spPr>
            <a:xfrm>
              <a:off x="719280" y="5083200"/>
              <a:ext cx="11472840" cy="46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719280" y="5083200"/>
              <a:ext cx="1147284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3" name="Picture 5" descr="杀"/>
          <p:cNvPicPr/>
          <p:nvPr/>
        </p:nvPicPr>
        <p:blipFill>
          <a:blip r:embed="rId1"/>
          <a:stretch/>
        </p:blipFill>
        <p:spPr>
          <a:xfrm>
            <a:off x="0" y="949320"/>
            <a:ext cx="12192120" cy="478332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6523200" y="1486080"/>
            <a:ext cx="5454360" cy="1440"/>
            <a:chOff x="6523200" y="1486080"/>
            <a:chExt cx="5454360" cy="1440"/>
          </a:xfrm>
        </p:grpSpPr>
        <p:sp>
          <p:nvSpPr>
            <p:cNvPr id="465" name="Line 6"/>
            <p:cNvSpPr/>
            <p:nvPr/>
          </p:nvSpPr>
          <p:spPr>
            <a:xfrm>
              <a:off x="6523200" y="1486080"/>
              <a:ext cx="5454360" cy="1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6523200" y="1486080"/>
              <a:ext cx="54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1717280" y="1177920"/>
            <a:ext cx="1800" cy="4357800"/>
            <a:chOff x="11717280" y="1177920"/>
            <a:chExt cx="1800" cy="4357800"/>
          </a:xfrm>
        </p:grpSpPr>
        <p:sp>
          <p:nvSpPr>
            <p:cNvPr id="468" name="Line 7"/>
            <p:cNvSpPr/>
            <p:nvPr/>
          </p:nvSpPr>
          <p:spPr>
            <a:xfrm>
              <a:off x="11717280" y="1177920"/>
              <a:ext cx="180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1717280" y="1177920"/>
              <a:ext cx="180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69880" y="4724280"/>
            <a:ext cx="11414160" cy="3240"/>
            <a:chOff x="569880" y="4724280"/>
            <a:chExt cx="11414160" cy="3240"/>
          </a:xfrm>
        </p:grpSpPr>
        <p:sp>
          <p:nvSpPr>
            <p:cNvPr id="471" name="Line 8"/>
            <p:cNvSpPr/>
            <p:nvPr/>
          </p:nvSpPr>
          <p:spPr>
            <a:xfrm>
              <a:off x="569880" y="4724280"/>
              <a:ext cx="11414160" cy="32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569880" y="4724280"/>
              <a:ext cx="114141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 Box 9"/>
          <p:cNvSpPr/>
          <p:nvPr/>
        </p:nvSpPr>
        <p:spPr>
          <a:xfrm>
            <a:off x="10448280" y="4726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迷你简卡通"/>
              </a:rPr>
              <a:t>3 Q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qqq"/>
          <p:cNvPicPr/>
          <p:nvPr/>
        </p:nvPicPr>
        <p:blipFill>
          <a:blip r:embed="rId1"/>
          <a:stretch/>
        </p:blipFill>
        <p:spPr>
          <a:xfrm>
            <a:off x="623880" y="2479680"/>
            <a:ext cx="1020600" cy="102060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22317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354880" y="60336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354880" y="4765680"/>
            <a:ext cx="3318120" cy="9619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8353440" y="1994040"/>
            <a:ext cx="3317760" cy="9586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358120" y="338940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408240" y="614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9443160" y="2149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9420120" y="3459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9419040" y="4849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48120" y="2214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Calibri"/>
                <a:ea typeface="迷你简综艺"/>
              </a:rPr>
              <a:t>目录</a:t>
            </a:r>
            <a:endParaRPr b="1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317840" y="3041640"/>
            <a:ext cx="31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Directory.....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6" descr="JJ"/>
          <p:cNvPicPr/>
          <p:nvPr/>
        </p:nvPicPr>
        <p:blipFill>
          <a:blip r:embed="rId2"/>
          <a:srcRect l="1668" t="2078" r="2181" b="1905"/>
          <a:stretch/>
        </p:blipFill>
        <p:spPr>
          <a:xfrm>
            <a:off x="6751800" y="6391440"/>
            <a:ext cx="53784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117" name="Line 17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078840" y="662040"/>
            <a:ext cx="14400" cy="804960"/>
            <a:chOff x="9078840" y="662040"/>
            <a:chExt cx="14400" cy="804960"/>
          </a:xfrm>
        </p:grpSpPr>
        <p:sp>
          <p:nvSpPr>
            <p:cNvPr id="120" name="Line 18"/>
            <p:cNvSpPr/>
            <p:nvPr/>
          </p:nvSpPr>
          <p:spPr>
            <a:xfrm>
              <a:off x="9078840" y="66204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9078840" y="66204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628120" y="1190520"/>
            <a:ext cx="2905200" cy="1800"/>
            <a:chOff x="8628120" y="1190520"/>
            <a:chExt cx="2905200" cy="1800"/>
          </a:xfrm>
        </p:grpSpPr>
        <p:sp>
          <p:nvSpPr>
            <p:cNvPr id="123" name="Line 19"/>
            <p:cNvSpPr/>
            <p:nvPr/>
          </p:nvSpPr>
          <p:spPr>
            <a:xfrm>
              <a:off x="8628120" y="119052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628120" y="119052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078840" y="2050920"/>
            <a:ext cx="14400" cy="806760"/>
            <a:chOff x="9078840" y="2050920"/>
            <a:chExt cx="14400" cy="806760"/>
          </a:xfrm>
        </p:grpSpPr>
        <p:sp>
          <p:nvSpPr>
            <p:cNvPr id="126" name="Line 20"/>
            <p:cNvSpPr/>
            <p:nvPr/>
          </p:nvSpPr>
          <p:spPr>
            <a:xfrm>
              <a:off x="9078840" y="2050920"/>
              <a:ext cx="14400" cy="8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9078840" y="2050920"/>
              <a:ext cx="14400" cy="80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628120" y="2581200"/>
            <a:ext cx="2905200" cy="360"/>
            <a:chOff x="8628120" y="2581200"/>
            <a:chExt cx="2905200" cy="360"/>
          </a:xfrm>
        </p:grpSpPr>
        <p:sp>
          <p:nvSpPr>
            <p:cNvPr id="129" name="Line 21"/>
            <p:cNvSpPr/>
            <p:nvPr/>
          </p:nvSpPr>
          <p:spPr>
            <a:xfrm>
              <a:off x="8628120" y="25812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628120" y="25812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078840" y="3432240"/>
            <a:ext cx="14400" cy="804960"/>
            <a:chOff x="9078840" y="3432240"/>
            <a:chExt cx="14400" cy="804960"/>
          </a:xfrm>
        </p:grpSpPr>
        <p:sp>
          <p:nvSpPr>
            <p:cNvPr id="132" name="Line 22"/>
            <p:cNvSpPr/>
            <p:nvPr/>
          </p:nvSpPr>
          <p:spPr>
            <a:xfrm>
              <a:off x="9078840" y="343224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9078840" y="343224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628120" y="3941640"/>
            <a:ext cx="2905200" cy="1800"/>
            <a:chOff x="8628120" y="3941640"/>
            <a:chExt cx="2905200" cy="1800"/>
          </a:xfrm>
        </p:grpSpPr>
        <p:sp>
          <p:nvSpPr>
            <p:cNvPr id="135" name="Line 23"/>
            <p:cNvSpPr/>
            <p:nvPr/>
          </p:nvSpPr>
          <p:spPr>
            <a:xfrm>
              <a:off x="8628120" y="394164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8628120" y="394164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063000" y="4822920"/>
            <a:ext cx="15840" cy="806400"/>
            <a:chOff x="9063000" y="4822920"/>
            <a:chExt cx="15840" cy="806400"/>
          </a:xfrm>
        </p:grpSpPr>
        <p:sp>
          <p:nvSpPr>
            <p:cNvPr id="138" name="Line 24"/>
            <p:cNvSpPr/>
            <p:nvPr/>
          </p:nvSpPr>
          <p:spPr>
            <a:xfrm>
              <a:off x="9063000" y="4822920"/>
              <a:ext cx="158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9063000" y="482292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613720" y="5276880"/>
            <a:ext cx="2905200" cy="360"/>
            <a:chOff x="8613720" y="5276880"/>
            <a:chExt cx="2905200" cy="360"/>
          </a:xfrm>
        </p:grpSpPr>
        <p:sp>
          <p:nvSpPr>
            <p:cNvPr id="141" name="Line 25"/>
            <p:cNvSpPr/>
            <p:nvPr/>
          </p:nvSpPr>
          <p:spPr>
            <a:xfrm>
              <a:off x="8613720" y="527688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8613720" y="527688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9045720" y="1127160"/>
            <a:ext cx="212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9063000" y="389880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9061560" y="25052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9031320" y="522432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573400" y="6159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8587800" y="203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8574120" y="339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8573400" y="473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4200" y="1908000"/>
            <a:ext cx="1440" cy="360"/>
            <a:chOff x="484200" y="1908000"/>
            <a:chExt cx="1440" cy="360"/>
          </a:xfrm>
        </p:grpSpPr>
        <p:sp>
          <p:nvSpPr>
            <p:cNvPr id="152" name="Line 34"/>
            <p:cNvSpPr/>
            <p:nvPr/>
          </p:nvSpPr>
          <p:spPr>
            <a:xfrm>
              <a:off x="484200" y="1908000"/>
              <a:ext cx="14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84200" y="1908000"/>
              <a:ext cx="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590040" y="519120"/>
            <a:ext cx="2347920" cy="360"/>
            <a:chOff x="9590040" y="519120"/>
            <a:chExt cx="2347920" cy="360"/>
          </a:xfrm>
        </p:grpSpPr>
        <p:sp>
          <p:nvSpPr>
            <p:cNvPr id="155" name="Line 35"/>
            <p:cNvSpPr/>
            <p:nvPr/>
          </p:nvSpPr>
          <p:spPr>
            <a:xfrm>
              <a:off x="9590040" y="519120"/>
              <a:ext cx="23479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9590040" y="519120"/>
              <a:ext cx="23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750760" y="227160"/>
            <a:ext cx="1440" cy="5279760"/>
            <a:chOff x="11750760" y="227160"/>
            <a:chExt cx="1440" cy="5279760"/>
          </a:xfrm>
        </p:grpSpPr>
        <p:sp>
          <p:nvSpPr>
            <p:cNvPr id="158" name="Line 36"/>
            <p:cNvSpPr/>
            <p:nvPr/>
          </p:nvSpPr>
          <p:spPr>
            <a:xfrm>
              <a:off x="11750760" y="227160"/>
              <a:ext cx="1440" cy="52797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1750760" y="227160"/>
              <a:ext cx="1440" cy="527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J"/>
          <p:cNvPicPr/>
          <p:nvPr/>
        </p:nvPicPr>
        <p:blipFill>
          <a:blip r:embed="rId1"/>
          <a:srcRect l="3453" t="5329" r="3829" b="2248"/>
          <a:stretch/>
        </p:blipFill>
        <p:spPr>
          <a:xfrm>
            <a:off x="6762600" y="6391440"/>
            <a:ext cx="5335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163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174" name="Line 13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177" name="Line 14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988320" y="2035080"/>
            <a:ext cx="15840" cy="806400"/>
            <a:chOff x="6988320" y="2035080"/>
            <a:chExt cx="15840" cy="806400"/>
          </a:xfrm>
        </p:grpSpPr>
        <p:sp>
          <p:nvSpPr>
            <p:cNvPr id="180" name="Line 15"/>
            <p:cNvSpPr/>
            <p:nvPr/>
          </p:nvSpPr>
          <p:spPr>
            <a:xfrm>
              <a:off x="698832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98832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37240" y="2565360"/>
            <a:ext cx="2905200" cy="360"/>
            <a:chOff x="6537240" y="2565360"/>
            <a:chExt cx="2905200" cy="360"/>
          </a:xfrm>
        </p:grpSpPr>
        <p:sp>
          <p:nvSpPr>
            <p:cNvPr id="183" name="Line 16"/>
            <p:cNvSpPr/>
            <p:nvPr/>
          </p:nvSpPr>
          <p:spPr>
            <a:xfrm>
              <a:off x="653724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53724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186" name="Line 17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189" name="Line 18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972480" y="3351240"/>
            <a:ext cx="15840" cy="806400"/>
            <a:chOff x="6972480" y="3351240"/>
            <a:chExt cx="15840" cy="806400"/>
          </a:xfrm>
        </p:grpSpPr>
        <p:sp>
          <p:nvSpPr>
            <p:cNvPr id="192" name="Line 19"/>
            <p:cNvSpPr/>
            <p:nvPr/>
          </p:nvSpPr>
          <p:spPr>
            <a:xfrm>
              <a:off x="6972480" y="3351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72480" y="3351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523200" y="3805200"/>
            <a:ext cx="2904840" cy="360"/>
            <a:chOff x="6523200" y="3805200"/>
            <a:chExt cx="2904840" cy="360"/>
          </a:xfrm>
        </p:grpSpPr>
        <p:sp>
          <p:nvSpPr>
            <p:cNvPr id="195" name="Line 20"/>
            <p:cNvSpPr/>
            <p:nvPr/>
          </p:nvSpPr>
          <p:spPr>
            <a:xfrm>
              <a:off x="6523200" y="3805200"/>
              <a:ext cx="2904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523200" y="380520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 Box 21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208" name="Line 31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240" y="2844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 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o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6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217" name="Line 7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221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 Box 10"/>
          <p:cNvSpPr/>
          <p:nvPr/>
        </p:nvSpPr>
        <p:spPr>
          <a:xfrm>
            <a:off x="192240" y="2916360"/>
            <a:ext cx="57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是牛是马，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也不会是威武霸气的老</a:t>
            </a:r>
            <a:r>
              <a:rPr b="0" lang="zh-CN" sz="2800" spc="-1" strike="noStrike">
                <a:solidFill>
                  <a:srgbClr val="a50501"/>
                </a:solidFill>
                <a:latin typeface="Calibri"/>
              </a:rPr>
              <a:t>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．．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735600" y="909720"/>
            <a:ext cx="11019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诗人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966080" y="90972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编曲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737400" y="3193920"/>
            <a:ext cx="1108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作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756480" y="2060640"/>
            <a:ext cx="108900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策划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9144000" y="909720"/>
            <a:ext cx="14875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艺术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9144000" y="2060640"/>
            <a:ext cx="14731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程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7966080" y="206064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制片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9163080" y="3193920"/>
            <a:ext cx="145404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设计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7967520" y="3193920"/>
            <a:ext cx="1027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美工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6647040" y="4292640"/>
            <a:ext cx="4128840" cy="106884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为广告创造概念和内容的人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以上所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</a:rPr>
              <a:t>有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</a:rPr>
              <a:t>an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6889680" y="90972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22"/>
          <p:cNvSpPr/>
          <p:nvPr/>
        </p:nvSpPr>
        <p:spPr>
          <a:xfrm>
            <a:off x="6889680" y="317016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23"/>
          <p:cNvSpPr/>
          <p:nvPr/>
        </p:nvSpPr>
        <p:spPr>
          <a:xfrm>
            <a:off x="6889680" y="206064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4"/>
          <p:cNvSpPr/>
          <p:nvPr/>
        </p:nvSpPr>
        <p:spPr>
          <a:xfrm>
            <a:off x="8043840" y="90792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8043840" y="316872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6"/>
          <p:cNvSpPr/>
          <p:nvPr/>
        </p:nvSpPr>
        <p:spPr>
          <a:xfrm>
            <a:off x="8043840" y="206064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7"/>
          <p:cNvSpPr/>
          <p:nvPr/>
        </p:nvSpPr>
        <p:spPr>
          <a:xfrm>
            <a:off x="9483840" y="90972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28"/>
          <p:cNvSpPr/>
          <p:nvPr/>
        </p:nvSpPr>
        <p:spPr>
          <a:xfrm>
            <a:off x="9483840" y="317016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9"/>
          <p:cNvSpPr/>
          <p:nvPr/>
        </p:nvSpPr>
        <p:spPr>
          <a:xfrm>
            <a:off x="9483840" y="206064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246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255" name="Line 11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258" name="Line 12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261" name="Line 13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264" name="Line 14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972480" y="3351240"/>
            <a:ext cx="15840" cy="806400"/>
            <a:chOff x="6972480" y="3351240"/>
            <a:chExt cx="15840" cy="806400"/>
          </a:xfrm>
        </p:grpSpPr>
        <p:sp>
          <p:nvSpPr>
            <p:cNvPr id="267" name="Line 15"/>
            <p:cNvSpPr/>
            <p:nvPr/>
          </p:nvSpPr>
          <p:spPr>
            <a:xfrm>
              <a:off x="6972480" y="3351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972480" y="3351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523200" y="3805200"/>
            <a:ext cx="2904840" cy="360"/>
            <a:chOff x="6523200" y="3805200"/>
            <a:chExt cx="2904840" cy="360"/>
          </a:xfrm>
        </p:grpSpPr>
        <p:sp>
          <p:nvSpPr>
            <p:cNvPr id="270" name="Line 16"/>
            <p:cNvSpPr/>
            <p:nvPr/>
          </p:nvSpPr>
          <p:spPr>
            <a:xfrm>
              <a:off x="6523200" y="3805200"/>
              <a:ext cx="2904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523200" y="380520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17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281" name="Line 25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26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284" name="Rectangle 27"/>
          <p:cNvSpPr/>
          <p:nvPr/>
        </p:nvSpPr>
        <p:spPr>
          <a:xfrm>
            <a:off x="6264360" y="1992240"/>
            <a:ext cx="3317760" cy="95904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7353720" y="2147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989760" y="2049480"/>
            <a:ext cx="14400" cy="806400"/>
            <a:chOff x="6989760" y="2049480"/>
            <a:chExt cx="14400" cy="806400"/>
          </a:xfrm>
        </p:grpSpPr>
        <p:sp>
          <p:nvSpPr>
            <p:cNvPr id="287" name="Line 29"/>
            <p:cNvSpPr/>
            <p:nvPr/>
          </p:nvSpPr>
          <p:spPr>
            <a:xfrm>
              <a:off x="6989760" y="2049480"/>
              <a:ext cx="1440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6989760" y="2049480"/>
              <a:ext cx="1440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539040" y="2579760"/>
            <a:ext cx="2904840" cy="360"/>
            <a:chOff x="6539040" y="2579760"/>
            <a:chExt cx="2904840" cy="360"/>
          </a:xfrm>
        </p:grpSpPr>
        <p:sp>
          <p:nvSpPr>
            <p:cNvPr id="290" name="Line 30"/>
            <p:cNvSpPr/>
            <p:nvPr/>
          </p:nvSpPr>
          <p:spPr>
            <a:xfrm>
              <a:off x="6539040" y="2579760"/>
              <a:ext cx="29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539040" y="257976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Text Box 31"/>
          <p:cNvSpPr/>
          <p:nvPr/>
        </p:nvSpPr>
        <p:spPr>
          <a:xfrm>
            <a:off x="6972480" y="250344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6498720" y="203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8199"/>
          <p:cNvSpPr/>
          <p:nvPr/>
        </p:nvSpPr>
        <p:spPr>
          <a:xfrm>
            <a:off x="281304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7104240" y="6381720"/>
            <a:ext cx="4897440" cy="360"/>
            <a:chOff x="7104240" y="6381720"/>
            <a:chExt cx="4897440" cy="360"/>
          </a:xfrm>
        </p:grpSpPr>
        <p:sp>
          <p:nvSpPr>
            <p:cNvPr id="300" name="Line 6"/>
            <p:cNvSpPr/>
            <p:nvPr/>
          </p:nvSpPr>
          <p:spPr>
            <a:xfrm>
              <a:off x="7104240" y="6381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104240" y="6381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57320" y="-158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305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 Box 10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管能做什么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都不会做出比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袜子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还臭的东西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8637480" y="2700360"/>
            <a:ext cx="1125720" cy="1125360"/>
          </a:xfrm>
          <a:prstGeom prst="octagon">
            <a:avLst>
              <a:gd name="adj" fmla="val 29287"/>
            </a:avLst>
          </a:prstGeom>
          <a:solidFill>
            <a:srgbClr val="a50501"/>
          </a:solidFill>
          <a:ln w="9360">
            <a:solidFill>
              <a:srgbClr val="a5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2"/>
          <p:cNvSpPr/>
          <p:nvPr/>
        </p:nvSpPr>
        <p:spPr>
          <a:xfrm rot="840000">
            <a:off x="8637120" y="30650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COP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521320" y="1844640"/>
            <a:ext cx="43909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．．．甜过初恋．．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908840" y="4191120"/>
            <a:ext cx="4235400" cy="5205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501"/>
                </a:solidFill>
                <a:latin typeface="Calibri"/>
              </a:rPr>
              <a:t>钻石恒久远　一颗永流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994440" y="836640"/>
            <a:ext cx="4645080" cy="3988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501"/>
                </a:solidFill>
                <a:latin typeface="Calibri"/>
              </a:rPr>
              <a:t>世界上有种专门拆散亲子关系的怪物，叫做＂长大＂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522760" y="4938840"/>
            <a:ext cx="4389480" cy="15562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迷你简准圆"/>
                <a:ea typeface="迷你简准圆"/>
              </a:rPr>
              <a:t>It's a beatiful day,and I can't see i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AutoShape 17"/>
          <p:cNvCxnSpPr>
            <a:stCxn id="312" idx="3"/>
            <a:endCxn id="308" idx="2"/>
          </p:cNvCxnSpPr>
          <p:nvPr/>
        </p:nvCxnSpPr>
        <p:spPr>
          <a:xfrm flipH="1">
            <a:off x="9762840" y="1265040"/>
            <a:ext cx="1877040" cy="206892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5" name="AutoShape 18"/>
          <p:cNvCxnSpPr>
            <a:stCxn id="311" idx="0"/>
            <a:endCxn id="308" idx="2"/>
          </p:cNvCxnSpPr>
          <p:nvPr/>
        </p:nvCxnSpPr>
        <p:spPr>
          <a:xfrm flipH="1" flipV="1">
            <a:off x="9198720" y="3823920"/>
            <a:ext cx="826200" cy="36576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6" name="AutoShape 19"/>
          <p:cNvCxnSpPr>
            <a:stCxn id="310" idx="2"/>
            <a:endCxn id="308" idx="2"/>
          </p:cNvCxnSpPr>
          <p:nvPr/>
        </p:nvCxnSpPr>
        <p:spPr>
          <a:xfrm>
            <a:off x="7714080" y="2509560"/>
            <a:ext cx="1485000" cy="26100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7" name="AutoShape 20"/>
          <p:cNvCxnSpPr>
            <a:stCxn id="313" idx="0"/>
            <a:endCxn id="308" idx="2"/>
          </p:cNvCxnSpPr>
          <p:nvPr/>
        </p:nvCxnSpPr>
        <p:spPr>
          <a:xfrm flipV="1">
            <a:off x="7716600" y="3261960"/>
            <a:ext cx="919800" cy="167544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21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Rectangle 5"/>
          <p:cNvSpPr/>
          <p:nvPr/>
        </p:nvSpPr>
        <p:spPr>
          <a:xfrm>
            <a:off x="6261120" y="3375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7326000" y="3457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988320" y="2035080"/>
            <a:ext cx="15840" cy="806400"/>
            <a:chOff x="6988320" y="2035080"/>
            <a:chExt cx="15840" cy="806400"/>
          </a:xfrm>
        </p:grpSpPr>
        <p:sp>
          <p:nvSpPr>
            <p:cNvPr id="328" name="Line 9"/>
            <p:cNvSpPr/>
            <p:nvPr/>
          </p:nvSpPr>
          <p:spPr>
            <a:xfrm>
              <a:off x="698832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98832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37240" y="2565360"/>
            <a:ext cx="2905200" cy="360"/>
            <a:chOff x="6537240" y="2565360"/>
            <a:chExt cx="2905200" cy="360"/>
          </a:xfrm>
        </p:grpSpPr>
        <p:sp>
          <p:nvSpPr>
            <p:cNvPr id="331" name="Line 10"/>
            <p:cNvSpPr/>
            <p:nvPr/>
          </p:nvSpPr>
          <p:spPr>
            <a:xfrm>
              <a:off x="653724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3724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969240" y="3432240"/>
            <a:ext cx="15840" cy="806400"/>
            <a:chOff x="6969240" y="3432240"/>
            <a:chExt cx="15840" cy="806400"/>
          </a:xfrm>
        </p:grpSpPr>
        <p:sp>
          <p:nvSpPr>
            <p:cNvPr id="334" name="Line 11"/>
            <p:cNvSpPr/>
            <p:nvPr/>
          </p:nvSpPr>
          <p:spPr>
            <a:xfrm>
              <a:off x="6969240" y="3432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6969240" y="3432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21400" y="3886200"/>
            <a:ext cx="2905200" cy="360"/>
            <a:chOff x="6521400" y="3886200"/>
            <a:chExt cx="2905200" cy="360"/>
          </a:xfrm>
        </p:grpSpPr>
        <p:sp>
          <p:nvSpPr>
            <p:cNvPr id="337" name="Line 12"/>
            <p:cNvSpPr/>
            <p:nvPr/>
          </p:nvSpPr>
          <p:spPr>
            <a:xfrm>
              <a:off x="6521400" y="388620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521400" y="38862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Text Box 1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6937200" y="3832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478920" y="334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347" name="Line 20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350" name="Line 21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22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2519280" y="338148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3581280" y="345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240000" y="3424320"/>
            <a:ext cx="14400" cy="804960"/>
            <a:chOff x="3240000" y="3424320"/>
            <a:chExt cx="14400" cy="804960"/>
          </a:xfrm>
        </p:grpSpPr>
        <p:sp>
          <p:nvSpPr>
            <p:cNvPr id="357" name="Line 26"/>
            <p:cNvSpPr/>
            <p:nvPr/>
          </p:nvSpPr>
          <p:spPr>
            <a:xfrm>
              <a:off x="3240000" y="342432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240000" y="342432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789280" y="3933720"/>
            <a:ext cx="2905200" cy="1800"/>
            <a:chOff x="2789280" y="3933720"/>
            <a:chExt cx="2905200" cy="1800"/>
          </a:xfrm>
        </p:grpSpPr>
        <p:sp>
          <p:nvSpPr>
            <p:cNvPr id="360" name="Line 27"/>
            <p:cNvSpPr/>
            <p:nvPr/>
          </p:nvSpPr>
          <p:spPr>
            <a:xfrm>
              <a:off x="2789280" y="393372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2789280" y="393372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28"/>
          <p:cNvSpPr/>
          <p:nvPr/>
        </p:nvSpPr>
        <p:spPr>
          <a:xfrm>
            <a:off x="3224160" y="389088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2735280" y="338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366" name="Line 31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8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74" name="Line 6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到最好一刻决不说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好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因为这样可以做得更好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192240" y="4428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·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380" name="Line 10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2" name="Picture 11" descr="how"/>
          <p:cNvPicPr/>
          <p:nvPr/>
        </p:nvPicPr>
        <p:blipFill>
          <a:blip r:embed="rId2"/>
          <a:srcRect l="0" t="0" r="14010" b="0"/>
          <a:stretch/>
        </p:blipFill>
        <p:spPr>
          <a:xfrm>
            <a:off x="5880240" y="2455920"/>
            <a:ext cx="5522760" cy="9205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2"/>
          <p:cNvSpPr/>
          <p:nvPr/>
        </p:nvSpPr>
        <p:spPr>
          <a:xfrm>
            <a:off x="5457960" y="3718080"/>
            <a:ext cx="6397560" cy="4899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a50501"/>
                </a:solidFill>
                <a:latin typeface="Calibri"/>
              </a:rPr>
              <a:t>一份文档，一支笔一张纸，外加一个热血沸腾的脑袋，用红、黑、灰、白点缀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87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5"/>
          <p:cNvSpPr/>
          <p:nvPr/>
        </p:nvSpPr>
        <p:spPr>
          <a:xfrm>
            <a:off x="623412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732276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958080" y="2035080"/>
            <a:ext cx="15840" cy="806400"/>
            <a:chOff x="6958080" y="2035080"/>
            <a:chExt cx="15840" cy="806400"/>
          </a:xfrm>
        </p:grpSpPr>
        <p:sp>
          <p:nvSpPr>
            <p:cNvPr id="394" name="Line 9"/>
            <p:cNvSpPr/>
            <p:nvPr/>
          </p:nvSpPr>
          <p:spPr>
            <a:xfrm>
              <a:off x="695808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5808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507000" y="2565360"/>
            <a:ext cx="2905200" cy="360"/>
            <a:chOff x="6507000" y="2565360"/>
            <a:chExt cx="2905200" cy="360"/>
          </a:xfrm>
        </p:grpSpPr>
        <p:sp>
          <p:nvSpPr>
            <p:cNvPr id="397" name="Line 10"/>
            <p:cNvSpPr/>
            <p:nvPr/>
          </p:nvSpPr>
          <p:spPr>
            <a:xfrm>
              <a:off x="650700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650700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400" name="Line 11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403" name="Line 12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Text Box 13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694044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46848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412" name="Line 19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4" name="Picture 20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415" name="Rectangle 21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418" name="Line 23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421" name="Line 24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Text Box 25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6234120" y="3279600"/>
            <a:ext cx="3317760" cy="9622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298280" y="3363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942240" y="3336840"/>
            <a:ext cx="15840" cy="806400"/>
            <a:chOff x="6942240" y="3336840"/>
            <a:chExt cx="15840" cy="806400"/>
          </a:xfrm>
        </p:grpSpPr>
        <p:sp>
          <p:nvSpPr>
            <p:cNvPr id="428" name="Line 29"/>
            <p:cNvSpPr/>
            <p:nvPr/>
          </p:nvSpPr>
          <p:spPr>
            <a:xfrm>
              <a:off x="6942240" y="3336840"/>
              <a:ext cx="158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942240" y="33368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492960" y="3790800"/>
            <a:ext cx="2905200" cy="360"/>
            <a:chOff x="6492960" y="3790800"/>
            <a:chExt cx="2905200" cy="360"/>
          </a:xfrm>
        </p:grpSpPr>
        <p:sp>
          <p:nvSpPr>
            <p:cNvPr id="431" name="Line 30"/>
            <p:cNvSpPr/>
            <p:nvPr/>
          </p:nvSpPr>
          <p:spPr>
            <a:xfrm>
              <a:off x="6492960" y="37908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6492960" y="37908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910560" y="373860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6452640" y="325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8199"/>
          <p:cNvSpPr/>
          <p:nvPr/>
        </p:nvSpPr>
        <p:spPr>
          <a:xfrm>
            <a:off x="243684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1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