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7DBB-F08D-46AF-B004-0099423F2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CA67-034E-4A67-A654-A7EE7185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FF692-EC58-4B7C-8EE0-81F21104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A27032-C00D-4C38-BA0D-5D27D389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925FE-760B-4759-AAEC-158CF9305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802F7F-C337-4706-AC59-8951AF5E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B26C14-BAF8-400C-85D5-D5C9DAA2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CA3F9D-51B2-48B5-876F-371D7C42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2C952-573D-43E5-AF6D-638A33E9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D98F25-50B1-47EA-B2D9-38684F04C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AEFA3-0AA4-4167-8457-CF3CE5FFA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1A4D6D-DB5A-432D-BF9D-6B18B6459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95A9-9B18-4671-A776-E7F25CE94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483239-3BF8-44DB-9F86-13FDB50B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DF7701-4EBA-4F9A-8E88-CC7D67D8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6E4DB1-D5FF-4F9D-8B42-01283811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DF3C83-9EED-434A-B2ED-92224DB7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E5AC79-8421-496B-A3E6-CF4B3894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E8B263-814B-4D66-AFD5-12DFE960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07BE9A-C6AD-4509-9FAB-C681B864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2858D6-5692-4D82-80B4-AB66BB58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CD6937-A7FB-4DE9-9067-391D4567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04EE70-3BE2-454F-A6FF-97330B158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BFDC-80D7-4E0E-BB2C-EB0FF8565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6697B0-F2C4-433D-B4AD-E58336B19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B78D1C-C1F3-4D8C-8379-889A323F3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C5D33-51BC-495E-B283-792E0D9C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9FA1C-A436-4369-96EA-270D26CA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8FB24-F60C-40CB-9410-6BB29C7B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C51E5-7EC0-4F5E-9D78-636E6320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77719-B369-4FB8-982F-60F09EFC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3ECFC0-C726-4F54-B21E-C94A44A3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269966-7809-4AA9-A6AF-477090C8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309029-2C25-4421-8E21-0DC4CAF3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926B-A8AC-4325-B9D0-C2E772111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132F1-D821-4318-8172-53943B0E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6CFF3-433B-41C2-A643-9D72AAF71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6A0A3-D2FF-4986-B267-D62CDE523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20EB1F-BBB8-4AFF-8769-70B5EFBDA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EAE44B-EDEE-4444-92D3-23FEBD11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93D966-44A2-4CF3-9009-62CF9FDA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2A02F5-7304-438B-90B3-258949D3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CBF263-C3A3-48B3-851B-D17867A4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5A3F14-D0A3-4C78-8072-1569D18A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843432-631B-4B09-9148-897E9DFB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6BD2-0EA3-495E-B873-2F56CDC7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328F63-E22D-472A-B9C3-F8BA0F3B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F2098C-FCDC-4D36-AF41-0541A83E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BA4255-66E3-456B-A19E-66C15B74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E5CB8B-88EE-4CF7-8DE9-169EB93C7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99A27F-C777-4F36-AEA4-444D84E0D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9C29C2-B44F-4422-B47D-95136DAFA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E1ADB5-203E-476A-BAAE-86E2D252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47F148-6B92-49BE-B1E2-326D9062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B1CB96-EE54-4FFC-81B2-FA206AD4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B3AE3D-9235-4EFB-B45D-0F2F0870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3CF3-8686-40D5-A49B-E1980B07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07CA58-C644-4F49-8E1A-DDB558F6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ED5454-8ECD-4D39-85AC-E0448689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4EAC62-5BD9-4FE5-8F73-A57A411D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5BBC27-D2C1-4449-8911-CB091C7F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464465-1AD2-4872-8734-F0382A4B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486009-EE96-47BC-AA8E-AC6BCA855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AE1452-BE7A-4E02-8068-AAA20486A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7D5D5-F43F-4090-8F6B-BC5648C6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01DD-3608-4C79-8BB4-A99C9818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B1FD-62A9-44B5-8589-0B897655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C7D6-F6C4-4A59-97F0-89ABA401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A53D-EBF1-45C1-8B9B-31E820F6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A38BC-412A-40BF-BB33-2CCE1F95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C192-A319-49BF-A6FC-A56DF490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3829-DB45-410B-9D40-9220DF67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7B53-A7DB-4756-936D-8EAC8114B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EC16C-4CE6-4E42-87AB-9DC77B856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385F6-0561-46F9-98DD-6956E1522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51C44-383E-4F3D-9D3C-7F75B0AD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0A01F-30AD-4BAB-BD2B-80D0DD3C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E7CA1-CDE0-496B-9A56-78CEB367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2080B-3A33-4A27-ABAE-5EAB0F6E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31BC-BF11-47F9-B771-BFF28AA1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ACC18-B031-4270-BF33-13FA3137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B85BB-631D-4A0E-9CC8-4D005ED0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BE097-47EF-480A-B92A-BDBCC49B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5668C-12CE-4F23-9F38-68DF1102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8D2B7-9C3B-422F-9F4D-8DC33CB9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91F89-9630-4A94-B555-E45619CA8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183F7-11C3-4995-842E-C94BDA55E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8E6F3-99A4-457A-A7E0-25893D943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D7263-14D8-44E2-9246-AAABB65C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B86F9-BDDC-45FD-80D6-CD62689B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FA51-C7DC-4749-815F-6218CE7E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6FB07-0A31-4CCE-AB37-E10A45F9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7F2FE-DA58-44FE-AB39-30F4E5AC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C21C6-4FEF-49C1-B46E-1D162E0E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CFE01-D386-4CA2-845E-0AC5D70E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690BF-14EF-4A16-9030-F532C4CE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1B91C-86B9-47CD-8B83-86C84168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00BB2-E235-4751-9E5E-531B63B2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6D929-8754-4E45-ACF5-F6D7CB32C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158B6-519A-43C3-BE9F-97F7446EF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5DA3F-1C56-48DF-9E73-0DB5085CB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17FA-C68A-40CE-9F11-55907C59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344DE-FCBC-47BA-8957-F19CDEF0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9B870-0CEF-4473-BD62-E47296CA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8B2CC-B4A2-4DA9-8A15-B8FCEB03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707B4-212D-4127-B7E6-E3CD8FEF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BD964-1DE4-48A1-87E4-10CE3D41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8EAA8-BFDF-4A31-9808-2914CF74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EE775-52B0-4A91-9048-78F0A21B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AB0D3-ED07-40CB-8647-8D0BCCC6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FC648-9DA8-4B21-8C2D-6C5E17F1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8AAEA-6329-4785-BEFF-E5F0A19ED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B283-07C0-4FAF-BA51-B607A9E5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19428-99E5-438E-AE89-2257D4011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3DCA9-4935-446B-B6CD-8425E27EE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0D0DC-26EE-47AC-90B6-1DF29665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8F11A-4897-4735-B4BC-313BAFBC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A4D02-976F-4239-B4CA-D2AC22EB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9447F-9558-49C5-B8E6-CBAF9704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EDF39-222F-4F67-80F5-141FD032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086A9-F360-438B-AD9C-4071C725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ECF92-7757-4C93-A288-82C03ED2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4ACD1-A854-4432-8B5C-1C31A20F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85C8-21CF-46E6-A498-58314279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1E692-6378-4807-96D8-48675AA7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29A01-832A-4DB9-A321-9E5A67865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E1ACF-F038-41C7-BF07-1FE4F1E64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13333-F85D-45B7-83B2-BDD7E723A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041F3-1F18-42B5-AD9E-95FD0A33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C676B-5582-4371-99CD-4558153F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FB188-947A-401F-A576-1D8F65C6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E3E47-D8E3-4372-BF3A-17A3800F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63B94-E3DA-434E-AF13-5FFF2E0A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83974-BC20-436A-BE1B-92E87BF4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DD9A-DFA1-4BC4-9999-54250A3E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3C67A-7B9C-4D8C-A639-B85C8759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4ED40-AEF4-478E-ADFA-2B12D717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B5FE4-5105-422B-ABAB-833B9AD9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3596C-B19B-4989-836B-7B18C22BA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620B6-922D-486E-AB07-CB75B5712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17A83-B473-4B9E-B61A-7BDFA7C6D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7A473-8885-4C11-822F-2F3A37B5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F5FC8-893E-413B-BCA6-B1B0066D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D92EA-5E2E-453E-9DB0-114263D2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9091C-D263-4D8F-8BD9-1D24ADB6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A7F2-8F29-44B2-B144-034C5936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715E9-F6F7-4DE1-A5F6-FFE049F8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0A01D-0FD4-42D8-A7A6-B0F9646D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11107-13AC-485D-AE9B-F4A3F819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697B5-4D57-40F4-8A90-DD8DE073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E5893-B6BD-49C6-9A63-EF0056DA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40876-39EA-4705-9AEC-87975B759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50DA9-52F7-4CED-A1B6-A081D46A4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15D74D-0B48-438E-93B9-C1B5453A1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92509D-8F0A-4409-B166-6308A7B0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5EA63D-5390-4F97-9F90-650ACA4B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9A74-3427-4032-9ED8-C7EE869AC49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689D-1244-4A43-89E5-3F9ADB520C3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C32F-FFAB-4274-8324-84DC66D05AD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FE26-69C6-4E2B-B360-BAEF8C4A6CC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83C4-67A4-4E49-A829-69CEAD8ABCF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E01B-5CF7-4459-A9FA-507F23529A3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3844-0FAE-4B30-B6E0-EB26907104A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DDEB-9453-48E8-9CCB-D4AF07187F1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7478-75A3-4E05-9FF1-0BF5F05AAEB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681C-1414-4A89-9DE5-7A7F774AFB4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FD5F-60CC-4FFF-8C76-9458FC047E9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B755-6AB6-4FAB-B557-DC5E8696A28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CD08-2DE5-4EF2-B313-BEC0904E73C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4996-C76E-4A9C-899B-FE971361DDC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9666-C7F1-46EE-8809-9F9B9C0A0E5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0AD9-D1FB-4C29-9F37-96DD6ABC199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BB42-DB99-4EFD-B338-100CA51297F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07D8-2316-4CF6-AD5C-BEADD4F1E86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9B1D-739F-42BC-A3D6-A4E3390CE97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88C2-FE2B-4BDF-9B80-A84A098F4BB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FCEA-F1E5-4228-B41C-EA97ED6A286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B746-1334-4F5F-A942-06C81F270B4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0EED-E97C-49CB-B42C-5641E0B0FAF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C9AE-57ED-4B7D-A282-B9CBDE95D62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F7CB-2522-4304-9F5F-7687A0C251F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2"/>
          <p:cNvSpPr/>
          <p:nvPr/>
        </p:nvSpPr>
        <p:spPr>
          <a:xfrm>
            <a:off x="2908080" y="3259080"/>
            <a:ext cx="24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6"/>
          <p:cNvSpPr/>
          <p:nvPr/>
        </p:nvSpPr>
        <p:spPr>
          <a:xfrm>
            <a:off x="0" y="0"/>
            <a:ext cx="9144000" cy="2276640"/>
          </a:xfrm>
          <a:prstGeom prst="rect">
            <a:avLst/>
          </a:prstGeom>
          <a:solidFill>
            <a:srgbClr val="b61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8"/>
          <p:cNvSpPr/>
          <p:nvPr/>
        </p:nvSpPr>
        <p:spPr>
          <a:xfrm>
            <a:off x="0" y="4351320"/>
            <a:ext cx="9144000" cy="2506680"/>
          </a:xfrm>
          <a:prstGeom prst="rect">
            <a:avLst/>
          </a:prstGeom>
          <a:solidFill>
            <a:srgbClr val="b61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"/>
          <p:cNvPicPr/>
          <p:nvPr/>
        </p:nvPicPr>
        <p:blipFill>
          <a:blip r:embed="rId2"/>
          <a:srcRect l="3999" t="0" r="0" b="0"/>
          <a:stretch/>
        </p:blipFill>
        <p:spPr>
          <a:xfrm>
            <a:off x="0" y="1297080"/>
            <a:ext cx="9144000" cy="308592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00000" y="461592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文化宣传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矩形 7"/>
          <p:cNvSpPr/>
          <p:nvPr/>
        </p:nvSpPr>
        <p:spPr>
          <a:xfrm>
            <a:off x="0" y="0"/>
            <a:ext cx="9144000" cy="1339920"/>
          </a:xfrm>
          <a:prstGeom prst="rect">
            <a:avLst/>
          </a:prstGeom>
          <a:solidFill>
            <a:srgbClr val="b61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3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1546200" cy="133380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目 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2" name="Group 5"/>
          <p:cNvGrpSpPr/>
          <p:nvPr/>
        </p:nvGrpSpPr>
        <p:grpSpPr>
          <a:xfrm>
            <a:off x="2998800" y="2651040"/>
            <a:ext cx="3517920" cy="400680"/>
            <a:chOff x="2998800" y="2651040"/>
            <a:chExt cx="3517920" cy="400680"/>
          </a:xfrm>
        </p:grpSpPr>
        <p:sp>
          <p:nvSpPr>
            <p:cNvPr id="543" name="矩形 7"/>
            <p:cNvSpPr/>
            <p:nvPr/>
          </p:nvSpPr>
          <p:spPr>
            <a:xfrm>
              <a:off x="2998800" y="2651040"/>
              <a:ext cx="3510360" cy="400680"/>
            </a:xfrm>
            <a:prstGeom prst="rect">
              <a:avLst/>
            </a:prstGeom>
            <a:noFill/>
            <a:ln w="6480">
              <a:solidFill>
                <a:srgbClr val="b61a4b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4" name="Picture 6" descr=""/>
            <p:cNvPicPr/>
            <p:nvPr/>
          </p:nvPicPr>
          <p:blipFill>
            <a:blip r:embed="rId2"/>
            <a:stretch/>
          </p:blipFill>
          <p:spPr>
            <a:xfrm>
              <a:off x="5833800" y="2651040"/>
              <a:ext cx="682920" cy="40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TextBox 21"/>
            <p:cNvSpPr/>
            <p:nvPr/>
          </p:nvSpPr>
          <p:spPr>
            <a:xfrm>
              <a:off x="3933720" y="2666160"/>
              <a:ext cx="23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Box 4"/>
            <p:cNvSpPr/>
            <p:nvPr/>
          </p:nvSpPr>
          <p:spPr>
            <a:xfrm>
              <a:off x="2998800" y="2651040"/>
              <a:ext cx="682920" cy="398880"/>
            </a:xfrm>
            <a:prstGeom prst="rect">
              <a:avLst/>
            </a:prstGeom>
            <a:solidFill>
              <a:srgbClr val="b61a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Group 10"/>
          <p:cNvGrpSpPr/>
          <p:nvPr/>
        </p:nvGrpSpPr>
        <p:grpSpPr>
          <a:xfrm>
            <a:off x="2998800" y="3533760"/>
            <a:ext cx="3517920" cy="400680"/>
            <a:chOff x="2998800" y="3533760"/>
            <a:chExt cx="3517920" cy="400680"/>
          </a:xfrm>
        </p:grpSpPr>
        <p:sp>
          <p:nvSpPr>
            <p:cNvPr id="548" name="矩形 27"/>
            <p:cNvSpPr/>
            <p:nvPr/>
          </p:nvSpPr>
          <p:spPr>
            <a:xfrm>
              <a:off x="2998800" y="3533760"/>
              <a:ext cx="3510360" cy="400680"/>
            </a:xfrm>
            <a:prstGeom prst="rect">
              <a:avLst/>
            </a:prstGeom>
            <a:noFill/>
            <a:ln w="6480">
              <a:solidFill>
                <a:srgbClr val="b61a4b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9" name="Picture 6" descr=""/>
            <p:cNvPicPr/>
            <p:nvPr/>
          </p:nvPicPr>
          <p:blipFill>
            <a:blip r:embed="rId3"/>
            <a:stretch/>
          </p:blipFill>
          <p:spPr>
            <a:xfrm>
              <a:off x="5833800" y="3533760"/>
              <a:ext cx="682920" cy="40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TextBox 29"/>
            <p:cNvSpPr/>
            <p:nvPr/>
          </p:nvSpPr>
          <p:spPr>
            <a:xfrm>
              <a:off x="3933720" y="3548880"/>
              <a:ext cx="23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Box 30"/>
            <p:cNvSpPr/>
            <p:nvPr/>
          </p:nvSpPr>
          <p:spPr>
            <a:xfrm>
              <a:off x="2998800" y="3533760"/>
              <a:ext cx="682920" cy="398880"/>
            </a:xfrm>
            <a:prstGeom prst="rect">
              <a:avLst/>
            </a:prstGeom>
            <a:solidFill>
              <a:srgbClr val="b61a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Group 15"/>
          <p:cNvGrpSpPr/>
          <p:nvPr/>
        </p:nvGrpSpPr>
        <p:grpSpPr>
          <a:xfrm>
            <a:off x="2998800" y="4417920"/>
            <a:ext cx="3517920" cy="400680"/>
            <a:chOff x="2998800" y="4417920"/>
            <a:chExt cx="3517920" cy="400680"/>
          </a:xfrm>
        </p:grpSpPr>
        <p:sp>
          <p:nvSpPr>
            <p:cNvPr id="553" name="矩形 32"/>
            <p:cNvSpPr/>
            <p:nvPr/>
          </p:nvSpPr>
          <p:spPr>
            <a:xfrm>
              <a:off x="2998800" y="4417920"/>
              <a:ext cx="3510360" cy="400680"/>
            </a:xfrm>
            <a:prstGeom prst="rect">
              <a:avLst/>
            </a:prstGeom>
            <a:noFill/>
            <a:ln w="6480">
              <a:solidFill>
                <a:srgbClr val="b61a4b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4" name="Picture 6" descr=""/>
            <p:cNvPicPr/>
            <p:nvPr/>
          </p:nvPicPr>
          <p:blipFill>
            <a:blip r:embed="rId4"/>
            <a:stretch/>
          </p:blipFill>
          <p:spPr>
            <a:xfrm>
              <a:off x="5833800" y="4417920"/>
              <a:ext cx="682920" cy="40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TextBox 34"/>
            <p:cNvSpPr/>
            <p:nvPr/>
          </p:nvSpPr>
          <p:spPr>
            <a:xfrm>
              <a:off x="3933720" y="4433040"/>
              <a:ext cx="23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Box 35"/>
            <p:cNvSpPr/>
            <p:nvPr/>
          </p:nvSpPr>
          <p:spPr>
            <a:xfrm>
              <a:off x="2998800" y="4417920"/>
              <a:ext cx="682920" cy="398880"/>
            </a:xfrm>
            <a:prstGeom prst="rect">
              <a:avLst/>
            </a:prstGeom>
            <a:solidFill>
              <a:srgbClr val="b61a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Group 20"/>
          <p:cNvGrpSpPr/>
          <p:nvPr/>
        </p:nvGrpSpPr>
        <p:grpSpPr>
          <a:xfrm>
            <a:off x="2998800" y="5300640"/>
            <a:ext cx="3517920" cy="400680"/>
            <a:chOff x="2998800" y="5300640"/>
            <a:chExt cx="3517920" cy="400680"/>
          </a:xfrm>
        </p:grpSpPr>
        <p:sp>
          <p:nvSpPr>
            <p:cNvPr id="558" name="矩形 37"/>
            <p:cNvSpPr/>
            <p:nvPr/>
          </p:nvSpPr>
          <p:spPr>
            <a:xfrm>
              <a:off x="2998800" y="5300640"/>
              <a:ext cx="3510360" cy="400680"/>
            </a:xfrm>
            <a:prstGeom prst="rect">
              <a:avLst/>
            </a:prstGeom>
            <a:noFill/>
            <a:ln w="6480">
              <a:solidFill>
                <a:srgbClr val="b61a4b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9" name="Picture 6" descr=""/>
            <p:cNvPicPr/>
            <p:nvPr/>
          </p:nvPicPr>
          <p:blipFill>
            <a:blip r:embed="rId5"/>
            <a:stretch/>
          </p:blipFill>
          <p:spPr>
            <a:xfrm>
              <a:off x="5833800" y="5300640"/>
              <a:ext cx="682920" cy="40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TextBox 39"/>
            <p:cNvSpPr/>
            <p:nvPr/>
          </p:nvSpPr>
          <p:spPr>
            <a:xfrm>
              <a:off x="3933720" y="5315760"/>
              <a:ext cx="23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Box 40"/>
            <p:cNvSpPr/>
            <p:nvPr/>
          </p:nvSpPr>
          <p:spPr>
            <a:xfrm>
              <a:off x="2998800" y="5300640"/>
              <a:ext cx="682920" cy="398880"/>
            </a:xfrm>
            <a:prstGeom prst="rect">
              <a:avLst/>
            </a:prstGeom>
            <a:solidFill>
              <a:srgbClr val="b61a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矩形 7"/>
          <p:cNvSpPr/>
          <p:nvPr/>
        </p:nvSpPr>
        <p:spPr>
          <a:xfrm>
            <a:off x="0" y="0"/>
            <a:ext cx="9144000" cy="1339920"/>
          </a:xfrm>
          <a:prstGeom prst="rect">
            <a:avLst/>
          </a:prstGeom>
          <a:solidFill>
            <a:srgbClr val="b61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3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1546200" cy="133380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添加文本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5" name="组合 25"/>
          <p:cNvGrpSpPr/>
          <p:nvPr/>
        </p:nvGrpSpPr>
        <p:grpSpPr>
          <a:xfrm>
            <a:off x="1103400" y="2808000"/>
            <a:ext cx="3286080" cy="3103920"/>
            <a:chOff x="1103400" y="2808000"/>
            <a:chExt cx="3286080" cy="3103920"/>
          </a:xfrm>
        </p:grpSpPr>
        <p:sp>
          <p:nvSpPr>
            <p:cNvPr id="566" name="矩形 7"/>
            <p:cNvSpPr/>
            <p:nvPr/>
          </p:nvSpPr>
          <p:spPr>
            <a:xfrm>
              <a:off x="1103400" y="2808360"/>
              <a:ext cx="3286080" cy="3103560"/>
            </a:xfrm>
            <a:prstGeom prst="rect">
              <a:avLst/>
            </a:prstGeom>
            <a:noFill/>
            <a:ln w="6480">
              <a:solidFill>
                <a:srgbClr val="b61a4b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7" name="Picture 6" descr=""/>
            <p:cNvPicPr/>
            <p:nvPr/>
          </p:nvPicPr>
          <p:blipFill>
            <a:blip r:embed="rId2"/>
            <a:stretch/>
          </p:blipFill>
          <p:spPr>
            <a:xfrm>
              <a:off x="3637440" y="2808360"/>
              <a:ext cx="752040" cy="4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TextBox 4"/>
            <p:cNvSpPr/>
            <p:nvPr/>
          </p:nvSpPr>
          <p:spPr>
            <a:xfrm rot="16200000">
              <a:off x="-263520" y="4174920"/>
              <a:ext cx="3103560" cy="369360"/>
            </a:xfrm>
            <a:prstGeom prst="rect">
              <a:avLst/>
            </a:prstGeom>
            <a:solidFill>
              <a:srgbClr val="b61a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TextBox 34"/>
          <p:cNvSpPr/>
          <p:nvPr/>
        </p:nvSpPr>
        <p:spPr>
          <a:xfrm>
            <a:off x="1755720" y="40496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组合 26"/>
          <p:cNvGrpSpPr/>
          <p:nvPr/>
        </p:nvGrpSpPr>
        <p:grpSpPr>
          <a:xfrm>
            <a:off x="4973760" y="2808000"/>
            <a:ext cx="3286080" cy="3103920"/>
            <a:chOff x="4973760" y="2808000"/>
            <a:chExt cx="3286080" cy="3103920"/>
          </a:xfrm>
        </p:grpSpPr>
        <p:sp>
          <p:nvSpPr>
            <p:cNvPr id="571" name="矩形 7"/>
            <p:cNvSpPr/>
            <p:nvPr/>
          </p:nvSpPr>
          <p:spPr>
            <a:xfrm>
              <a:off x="4973760" y="2808360"/>
              <a:ext cx="3286080" cy="3103560"/>
            </a:xfrm>
            <a:prstGeom prst="rect">
              <a:avLst/>
            </a:prstGeom>
            <a:noFill/>
            <a:ln w="6480">
              <a:solidFill>
                <a:srgbClr val="b61a4b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2" name="Picture 6" descr=""/>
            <p:cNvPicPr/>
            <p:nvPr/>
          </p:nvPicPr>
          <p:blipFill>
            <a:blip r:embed="rId3"/>
            <a:stretch/>
          </p:blipFill>
          <p:spPr>
            <a:xfrm>
              <a:off x="7507800" y="2808360"/>
              <a:ext cx="752040" cy="4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TextBox 4"/>
            <p:cNvSpPr/>
            <p:nvPr/>
          </p:nvSpPr>
          <p:spPr>
            <a:xfrm rot="16200000">
              <a:off x="3606480" y="4174920"/>
              <a:ext cx="3103560" cy="369360"/>
            </a:xfrm>
            <a:prstGeom prst="rect">
              <a:avLst/>
            </a:prstGeom>
            <a:solidFill>
              <a:srgbClr val="b61a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TextBox 34"/>
          <p:cNvSpPr/>
          <p:nvPr/>
        </p:nvSpPr>
        <p:spPr>
          <a:xfrm>
            <a:off x="5594400" y="4013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文本框 8199"/>
          <p:cNvSpPr/>
          <p:nvPr/>
        </p:nvSpPr>
        <p:spPr>
          <a:xfrm>
            <a:off x="863640" y="1736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714A-C037-4FA3-8A1C-CE5775D64AE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矩形 7"/>
          <p:cNvSpPr/>
          <p:nvPr/>
        </p:nvSpPr>
        <p:spPr>
          <a:xfrm>
            <a:off x="0" y="0"/>
            <a:ext cx="9144000" cy="1339920"/>
          </a:xfrm>
          <a:prstGeom prst="rect">
            <a:avLst/>
          </a:prstGeom>
          <a:solidFill>
            <a:srgbClr val="b61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3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1546200" cy="133380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添加文本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矩形 7"/>
          <p:cNvSpPr/>
          <p:nvPr/>
        </p:nvSpPr>
        <p:spPr>
          <a:xfrm>
            <a:off x="1030320" y="2808360"/>
            <a:ext cx="7229520" cy="3103560"/>
          </a:xfrm>
          <a:prstGeom prst="rect">
            <a:avLst/>
          </a:prstGeom>
          <a:noFill/>
          <a:ln w="6480">
            <a:solidFill>
              <a:srgbClr val="b61a4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6" descr=""/>
          <p:cNvPicPr/>
          <p:nvPr/>
        </p:nvPicPr>
        <p:blipFill>
          <a:blip r:embed="rId2"/>
          <a:stretch/>
        </p:blipFill>
        <p:spPr>
          <a:xfrm>
            <a:off x="7507440" y="2808360"/>
            <a:ext cx="752400" cy="399960"/>
          </a:xfrm>
          <a:prstGeom prst="rect">
            <a:avLst/>
          </a:prstGeom>
          <a:ln w="0">
            <a:noFill/>
          </a:ln>
        </p:spPr>
      </p:pic>
      <p:sp>
        <p:nvSpPr>
          <p:cNvPr id="585" name="TextBox 4"/>
          <p:cNvSpPr/>
          <p:nvPr/>
        </p:nvSpPr>
        <p:spPr>
          <a:xfrm>
            <a:off x="1030320" y="5546880"/>
            <a:ext cx="7229520" cy="369720"/>
          </a:xfrm>
          <a:prstGeom prst="rect">
            <a:avLst/>
          </a:prstGeom>
          <a:solidFill>
            <a:srgbClr val="b61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34"/>
          <p:cNvSpPr/>
          <p:nvPr/>
        </p:nvSpPr>
        <p:spPr>
          <a:xfrm>
            <a:off x="2089080" y="34653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34"/>
          <p:cNvSpPr/>
          <p:nvPr/>
        </p:nvSpPr>
        <p:spPr>
          <a:xfrm>
            <a:off x="5156280" y="44877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7T06:39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3:03Z</dcterms:modified>
  <cp:revision>1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