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8D8-6B7E-46F7-B933-9D7368C2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8E5-75C6-46D8-8E39-E6426DCA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221-0388-4987-8338-2A06746D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052-90AC-4C53-A54C-4D15EAD2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C655-3B9B-4C73-BFA6-1D2458F4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494F-4587-41E2-A466-BE7E8320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7F2B-A533-4A6A-A39C-197F14F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57BF-907B-47ED-8D46-2005C938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AA14-07DA-46F3-BF5F-BFEBFE61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1576-5F01-43D6-B4DB-387ED9D1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D9E3-F065-4E28-9163-C726D3C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418-8DFF-4AED-B101-F8342CBE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3DBA-DACE-4E21-9B7A-20A19FA9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AB34-D560-4A9D-A45F-5485F0BD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BF50-9C38-42BE-9868-F38CBC96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550C-F6C1-45D8-BFB2-0A5203C0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95ED-4AB9-4E74-B406-334A4BBF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4CF-39EF-488B-A526-00E3D7EA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63E-BA4C-4D31-A7A6-71E5F8C3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066-F733-475E-A935-F8A542C5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F8E-0523-4878-893D-44FDFF08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7B5-E254-48CA-9FDC-C1E2BFA9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6A4-DBCB-4B27-A494-807E43F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88F-E4DC-4E6B-8C2D-25FB5C5B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064-F65C-470B-9F72-0423D6DCEDC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560A-CC3A-483B-B329-80C288F078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56BF-3192-403E-97DC-81AFBE20698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F9C3-EEA7-41BE-A74E-D9B228EFA1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流程图: 终止 7169"/>
          <p:cNvSpPr/>
          <p:nvPr/>
        </p:nvSpPr>
        <p:spPr>
          <a:xfrm>
            <a:off x="8255160" y="1521000"/>
            <a:ext cx="75960" cy="939600"/>
          </a:xfrm>
          <a:prstGeom prst="flowChartTerminator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流程图: 终止 7170"/>
          <p:cNvSpPr/>
          <p:nvPr/>
        </p:nvSpPr>
        <p:spPr>
          <a:xfrm>
            <a:off x="3711600" y="1490760"/>
            <a:ext cx="74520" cy="939600"/>
          </a:xfrm>
          <a:prstGeom prst="flowChartTerminator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流程图: 文档 7171"/>
          <p:cNvSpPr/>
          <p:nvPr/>
        </p:nvSpPr>
        <p:spPr>
          <a:xfrm rot="10800000">
            <a:off x="0" y="4939560"/>
            <a:ext cx="12203280" cy="1941480"/>
          </a:xfrm>
          <a:prstGeom prst="flowChartDocument">
            <a:avLst/>
          </a:prstGeom>
          <a:solidFill>
            <a:srgbClr val="ff9900"/>
          </a:solidFill>
          <a:ln w="0">
            <a:noFill/>
          </a:ln>
          <a:effectLst>
            <a:outerShdw dist="63504" dir="19383909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36"/>
          <p:cNvSpPr/>
          <p:nvPr/>
        </p:nvSpPr>
        <p:spPr>
          <a:xfrm>
            <a:off x="0" y="-12600"/>
            <a:ext cx="12214080" cy="1233360"/>
          </a:xfrm>
          <a:custGeom>
            <a:avLst/>
            <a:gdLst/>
            <a:ahLst/>
            <a:rect l="l" t="t" r="r" b="b"/>
            <a:pathLst>
              <a:path w="9144000" h="792088">
                <a:moveTo>
                  <a:pt x="0" y="0"/>
                </a:moveTo>
                <a:lnTo>
                  <a:pt x="9144000" y="0"/>
                </a:lnTo>
                <a:lnTo>
                  <a:pt x="9144000" y="792088"/>
                </a:lnTo>
                <a:lnTo>
                  <a:pt x="1862626" y="792088"/>
                </a:lnTo>
                <a:cubicBezTo>
                  <a:pt x="1821091" y="566583"/>
                  <a:pt x="1623284" y="396044"/>
                  <a:pt x="1385646" y="396044"/>
                </a:cubicBezTo>
                <a:cubicBezTo>
                  <a:pt x="1148008" y="396044"/>
                  <a:pt x="950202" y="566583"/>
                  <a:pt x="908666" y="792088"/>
                </a:cubicBezTo>
                <a:lnTo>
                  <a:pt x="0" y="79208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7173"/>
          <p:cNvGrpSpPr/>
          <p:nvPr/>
        </p:nvGrpSpPr>
        <p:grpSpPr>
          <a:xfrm>
            <a:off x="0" y="1409760"/>
            <a:ext cx="12203280" cy="76680"/>
            <a:chOff x="0" y="1409760"/>
            <a:chExt cx="12203280" cy="76680"/>
          </a:xfrm>
        </p:grpSpPr>
        <p:grpSp>
          <p:nvGrpSpPr>
            <p:cNvPr id="87" name=""/>
            <p:cNvGrpSpPr/>
            <p:nvPr/>
          </p:nvGrpSpPr>
          <p:grpSpPr>
            <a:xfrm>
              <a:off x="0" y="1409760"/>
              <a:ext cx="12203280" cy="360"/>
              <a:chOff x="0" y="1409760"/>
              <a:chExt cx="12203280" cy="360"/>
            </a:xfrm>
          </p:grpSpPr>
          <p:sp>
            <p:nvSpPr>
              <p:cNvPr id="88" name="直接连接符 34"/>
              <p:cNvSpPr/>
              <p:nvPr/>
            </p:nvSpPr>
            <p:spPr>
              <a:xfrm>
                <a:off x="0" y="1409760"/>
                <a:ext cx="1220328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0" y="1409760"/>
                <a:ext cx="122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0" y="1486080"/>
              <a:ext cx="12203280" cy="360"/>
              <a:chOff x="0" y="1486080"/>
              <a:chExt cx="12203280" cy="360"/>
            </a:xfrm>
          </p:grpSpPr>
          <p:sp>
            <p:nvSpPr>
              <p:cNvPr id="91" name="直接连接符 35"/>
              <p:cNvSpPr/>
              <p:nvPr/>
            </p:nvSpPr>
            <p:spPr>
              <a:xfrm>
                <a:off x="0" y="1486080"/>
                <a:ext cx="12203280" cy="0"/>
              </a:xfrm>
              <a:prstGeom prst="line">
                <a:avLst/>
              </a:prstGeom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0" y="1486080"/>
                <a:ext cx="122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" name="椭圆 7176"/>
          <p:cNvSpPr/>
          <p:nvPr/>
        </p:nvSpPr>
        <p:spPr>
          <a:xfrm>
            <a:off x="1273320" y="730080"/>
            <a:ext cx="1157040" cy="12765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  <a:effectLst>
            <a:outerShdw dist="40186" dir="4303641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7177"/>
          <p:cNvSpPr/>
          <p:nvPr/>
        </p:nvSpPr>
        <p:spPr>
          <a:xfrm>
            <a:off x="3222720" y="2417760"/>
            <a:ext cx="5587920" cy="1671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96762" dir="1393594" blurRad="0" rotWithShape="0">
              <a:srgbClr val="44546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上班前、上班中、下班后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  <a:ea typeface="黑体"/>
              </a:rPr>
              <a:t>You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都在干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7178"/>
          <p:cNvSpPr/>
          <p:nvPr/>
        </p:nvSpPr>
        <p:spPr>
          <a:xfrm>
            <a:off x="8829720" y="4129200"/>
            <a:ext cx="276120" cy="2998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77353" dir="56247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7179"/>
          <p:cNvSpPr/>
          <p:nvPr/>
        </p:nvSpPr>
        <p:spPr>
          <a:xfrm>
            <a:off x="9190080" y="4248000"/>
            <a:ext cx="239760" cy="265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7180"/>
          <p:cNvSpPr/>
          <p:nvPr/>
        </p:nvSpPr>
        <p:spPr>
          <a:xfrm>
            <a:off x="8950320" y="4527720"/>
            <a:ext cx="181080" cy="2124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7181"/>
          <p:cNvSpPr/>
          <p:nvPr/>
        </p:nvSpPr>
        <p:spPr>
          <a:xfrm>
            <a:off x="9213840" y="4619520"/>
            <a:ext cx="120600" cy="1335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五边形 7182"/>
          <p:cNvSpPr/>
          <p:nvPr/>
        </p:nvSpPr>
        <p:spPr>
          <a:xfrm flipH="1" flipV="1">
            <a:off x="10030680" y="1183680"/>
            <a:ext cx="2173320" cy="75960"/>
          </a:xfrm>
          <a:custGeom>
            <a:avLst/>
            <a:gdLst>
              <a:gd name="textAreaLeft" fmla="*/ -360 w 2173320"/>
              <a:gd name="textAreaRight" fmla="*/ 2173320 w 2173320"/>
              <a:gd name="textAreaTop" fmla="*/ -360 h 75960"/>
              <a:gd name="textAreaBottom" fmla="*/ 7596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7183"/>
          <p:cNvSpPr/>
          <p:nvPr/>
        </p:nvSpPr>
        <p:spPr>
          <a:xfrm flipH="1" flipV="1" rot="10800000">
            <a:off x="-7560" y="5276880"/>
            <a:ext cx="2157480" cy="76320"/>
          </a:xfrm>
          <a:custGeom>
            <a:avLst/>
            <a:gdLst>
              <a:gd name="textAreaLeft" fmla="*/ -360 w 2157480"/>
              <a:gd name="textAreaRight" fmla="*/ 2157480 w 21574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7184"/>
          <p:cNvSpPr/>
          <p:nvPr/>
        </p:nvSpPr>
        <p:spPr>
          <a:xfrm rot="5400000">
            <a:off x="1850040" y="1126080"/>
            <a:ext cx="799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  <a:ea typeface="黑体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95360" y="1302840"/>
            <a:ext cx="84218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适合企业培训工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DE10-9687-4028-AA7B-C71D90FC8B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椭圆 16385"/>
          <p:cNvSpPr/>
          <p:nvPr/>
        </p:nvSpPr>
        <p:spPr>
          <a:xfrm>
            <a:off x="1546200" y="2616120"/>
            <a:ext cx="854280" cy="6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  <a:effectLst>
            <a:outerShdw dist="152800" dir="283800" blurRad="0" rotWithShape="0">
              <a:srgbClr val="44546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流程图: 摘录 16386"/>
          <p:cNvSpPr/>
          <p:nvPr/>
        </p:nvSpPr>
        <p:spPr>
          <a:xfrm>
            <a:off x="1252440" y="2019240"/>
            <a:ext cx="1465200" cy="866880"/>
          </a:xfrm>
          <a:prstGeom prst="flowChartExtra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52800" dir="2838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流程图: 终止 16387"/>
          <p:cNvSpPr/>
          <p:nvPr/>
        </p:nvSpPr>
        <p:spPr>
          <a:xfrm flipH="1">
            <a:off x="1946160" y="785880"/>
            <a:ext cx="76320" cy="1270080"/>
          </a:xfrm>
          <a:prstGeom prst="flowChartTerminator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52800" dir="2838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6388"/>
          <p:cNvSpPr/>
          <p:nvPr/>
        </p:nvSpPr>
        <p:spPr>
          <a:xfrm>
            <a:off x="-1440" y="-4680"/>
            <a:ext cx="12180600" cy="1033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流程图: 文档 16389"/>
          <p:cNvSpPr/>
          <p:nvPr/>
        </p:nvSpPr>
        <p:spPr>
          <a:xfrm rot="10800000">
            <a:off x="-360" y="5640120"/>
            <a:ext cx="12200040" cy="1241280"/>
          </a:xfrm>
          <a:prstGeom prst="flowChartDocument">
            <a:avLst/>
          </a:prstGeom>
          <a:solidFill>
            <a:srgbClr val="ff9900"/>
          </a:solidFill>
          <a:ln w="0">
            <a:noFill/>
          </a:ln>
          <a:effectLst>
            <a:outerShdw dist="56832" dir="19996359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流程图: 手动操作 16390"/>
          <p:cNvSpPr/>
          <p:nvPr/>
        </p:nvSpPr>
        <p:spPr>
          <a:xfrm rot="10800000">
            <a:off x="1912680" y="3495240"/>
            <a:ext cx="158760" cy="1049400"/>
          </a:xfrm>
          <a:prstGeom prst="flowChartManualOperation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流程图: 手动操作 16391"/>
          <p:cNvSpPr/>
          <p:nvPr/>
        </p:nvSpPr>
        <p:spPr>
          <a:xfrm rot="8100000">
            <a:off x="2880720" y="3086280"/>
            <a:ext cx="158760" cy="1047600"/>
          </a:xfrm>
          <a:prstGeom prst="flowChartManualOperation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流程图: 手动操作 16392"/>
          <p:cNvSpPr/>
          <p:nvPr/>
        </p:nvSpPr>
        <p:spPr>
          <a:xfrm rot="13500000">
            <a:off x="956880" y="3052080"/>
            <a:ext cx="158760" cy="1047960"/>
          </a:xfrm>
          <a:prstGeom prst="flowChartManualOperation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030"/>
          <p:cNvSpPr/>
          <p:nvPr/>
        </p:nvSpPr>
        <p:spPr>
          <a:xfrm>
            <a:off x="3502080" y="3110040"/>
            <a:ext cx="1787400" cy="52056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64600" dir="67483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各位上班族们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1030"/>
          <p:cNvSpPr/>
          <p:nvPr/>
        </p:nvSpPr>
        <p:spPr>
          <a:xfrm>
            <a:off x="6870600" y="3122640"/>
            <a:ext cx="4915080" cy="94716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64600" dir="67483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接下来马上利用剩下的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Time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继续工作吧！（也可以洗洗睡吧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030"/>
          <p:cNvSpPr/>
          <p:nvPr/>
        </p:nvSpPr>
        <p:spPr>
          <a:xfrm>
            <a:off x="5397480" y="3114720"/>
            <a:ext cx="1381320" cy="52056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64600" dir="67483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谢谢观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16396"/>
          <p:cNvGrpSpPr/>
          <p:nvPr/>
        </p:nvGrpSpPr>
        <p:grpSpPr>
          <a:xfrm>
            <a:off x="3295800" y="4267080"/>
            <a:ext cx="8661240" cy="76680"/>
            <a:chOff x="3295800" y="4267080"/>
            <a:chExt cx="8661240" cy="76680"/>
          </a:xfrm>
        </p:grpSpPr>
        <p:grpSp>
          <p:nvGrpSpPr>
            <p:cNvPr id="292" name=""/>
            <p:cNvGrpSpPr/>
            <p:nvPr/>
          </p:nvGrpSpPr>
          <p:grpSpPr>
            <a:xfrm>
              <a:off x="3295800" y="4267080"/>
              <a:ext cx="8661240" cy="360"/>
              <a:chOff x="3295800" y="4267080"/>
              <a:chExt cx="8661240" cy="360"/>
            </a:xfrm>
          </p:grpSpPr>
          <p:sp>
            <p:nvSpPr>
              <p:cNvPr id="293" name="直接连接符 34"/>
              <p:cNvSpPr/>
              <p:nvPr/>
            </p:nvSpPr>
            <p:spPr>
              <a:xfrm>
                <a:off x="3295800" y="4267080"/>
                <a:ext cx="866124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3295800" y="4267080"/>
                <a:ext cx="866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95800" y="4343400"/>
              <a:ext cx="8661240" cy="360"/>
              <a:chOff x="3295800" y="4343400"/>
              <a:chExt cx="8661240" cy="360"/>
            </a:xfrm>
          </p:grpSpPr>
          <p:sp>
            <p:nvSpPr>
              <p:cNvPr id="296" name="直接连接符 35"/>
              <p:cNvSpPr/>
              <p:nvPr/>
            </p:nvSpPr>
            <p:spPr>
              <a:xfrm>
                <a:off x="3295800" y="4343400"/>
                <a:ext cx="8661240" cy="0"/>
              </a:xfrm>
              <a:prstGeom prst="line">
                <a:avLst/>
              </a:prstGeom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3295800" y="4343400"/>
                <a:ext cx="866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8" name="组合 16399"/>
          <p:cNvGrpSpPr/>
          <p:nvPr/>
        </p:nvGrpSpPr>
        <p:grpSpPr>
          <a:xfrm>
            <a:off x="3315960" y="2853720"/>
            <a:ext cx="8669160" cy="76320"/>
            <a:chOff x="3315960" y="2853720"/>
            <a:chExt cx="8669160" cy="76320"/>
          </a:xfrm>
        </p:grpSpPr>
        <p:grpSp>
          <p:nvGrpSpPr>
            <p:cNvPr id="299" name=""/>
            <p:cNvGrpSpPr/>
            <p:nvPr/>
          </p:nvGrpSpPr>
          <p:grpSpPr>
            <a:xfrm>
              <a:off x="3315960" y="2929680"/>
              <a:ext cx="8669160" cy="360"/>
              <a:chOff x="3315960" y="2929680"/>
              <a:chExt cx="8669160" cy="360"/>
            </a:xfrm>
          </p:grpSpPr>
          <p:sp>
            <p:nvSpPr>
              <p:cNvPr id="300" name="直接连接符 34"/>
              <p:cNvSpPr/>
              <p:nvPr/>
            </p:nvSpPr>
            <p:spPr>
              <a:xfrm flipH="1">
                <a:off x="3315960" y="2930040"/>
                <a:ext cx="866916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 rot="10800000">
                <a:off x="3315960" y="2929320"/>
                <a:ext cx="866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315960" y="2853720"/>
              <a:ext cx="8669160" cy="360"/>
              <a:chOff x="3315960" y="2853720"/>
              <a:chExt cx="8669160" cy="360"/>
            </a:xfrm>
          </p:grpSpPr>
          <p:sp>
            <p:nvSpPr>
              <p:cNvPr id="303" name="直接连接符 35"/>
              <p:cNvSpPr/>
              <p:nvPr/>
            </p:nvSpPr>
            <p:spPr>
              <a:xfrm flipH="1">
                <a:off x="3315960" y="2854080"/>
                <a:ext cx="8669160" cy="0"/>
              </a:xfrm>
              <a:prstGeom prst="line">
                <a:avLst/>
              </a:prstGeom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 rot="10800000">
                <a:off x="3315960" y="2853360"/>
                <a:ext cx="8669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8193"/>
          <p:cNvGrpSpPr/>
          <p:nvPr/>
        </p:nvGrpSpPr>
        <p:grpSpPr>
          <a:xfrm>
            <a:off x="1704960" y="1605960"/>
            <a:ext cx="1553400" cy="1478160"/>
            <a:chOff x="1704960" y="1605960"/>
            <a:chExt cx="1553400" cy="1478160"/>
          </a:xfrm>
        </p:grpSpPr>
        <p:sp>
          <p:nvSpPr>
            <p:cNvPr id="105" name="矩形 44"/>
            <p:cNvSpPr/>
            <p:nvPr/>
          </p:nvSpPr>
          <p:spPr>
            <a:xfrm rot="566400">
              <a:off x="1973160" y="1708200"/>
              <a:ext cx="1271160" cy="272880"/>
            </a:xfrm>
            <a:custGeom>
              <a:avLst/>
              <a:gdLst/>
              <a:ahLst/>
              <a:rect l="l" t="t" r="r" b="b"/>
              <a:pathLst>
                <a:path w="1270009" h="327661">
                  <a:moveTo>
                    <a:pt x="7602" y="292484"/>
                  </a:moveTo>
                  <a:cubicBezTo>
                    <a:pt x="118356" y="261674"/>
                    <a:pt x="845938" y="43349"/>
                    <a:pt x="1006430" y="18746"/>
                  </a:cubicBezTo>
                  <a:cubicBezTo>
                    <a:pt x="987370" y="14697"/>
                    <a:pt x="1241947" y="-68635"/>
                    <a:pt x="1226037" y="152004"/>
                  </a:cubicBezTo>
                  <a:lnTo>
                    <a:pt x="1248587" y="239792"/>
                  </a:lnTo>
                  <a:cubicBezTo>
                    <a:pt x="1429566" y="396764"/>
                    <a:pt x="416196" y="290271"/>
                    <a:pt x="0" y="315510"/>
                  </a:cubicBezTo>
                  <a:lnTo>
                    <a:pt x="7602" y="292484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矩形 44"/>
            <p:cNvSpPr/>
            <p:nvPr/>
          </p:nvSpPr>
          <p:spPr>
            <a:xfrm rot="5800200">
              <a:off x="1400040" y="2375640"/>
              <a:ext cx="1058040" cy="327960"/>
            </a:xfrm>
            <a:custGeom>
              <a:avLst/>
              <a:gdLst/>
              <a:ahLst/>
              <a:rect l="l" t="t" r="r" b="b"/>
              <a:pathLst>
                <a:path w="1270009" h="327661">
                  <a:moveTo>
                    <a:pt x="7602" y="292484"/>
                  </a:moveTo>
                  <a:cubicBezTo>
                    <a:pt x="118356" y="261674"/>
                    <a:pt x="845938" y="43349"/>
                    <a:pt x="1006430" y="18746"/>
                  </a:cubicBezTo>
                  <a:cubicBezTo>
                    <a:pt x="987370" y="14697"/>
                    <a:pt x="1241947" y="-68635"/>
                    <a:pt x="1226037" y="152004"/>
                  </a:cubicBezTo>
                  <a:lnTo>
                    <a:pt x="1248587" y="239792"/>
                  </a:lnTo>
                  <a:cubicBezTo>
                    <a:pt x="1429566" y="396764"/>
                    <a:pt x="416196" y="290271"/>
                    <a:pt x="0" y="315510"/>
                  </a:cubicBezTo>
                  <a:lnTo>
                    <a:pt x="7602" y="292484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000880" y="2244600"/>
              <a:ext cx="164880" cy="60840"/>
              <a:chOff x="2000880" y="2244600"/>
              <a:chExt cx="164880" cy="60840"/>
            </a:xfrm>
          </p:grpSpPr>
          <p:cxnSp>
            <p:nvCxnSpPr>
              <p:cNvPr id="108" name="直接连接符 51"/>
              <p:cNvCxnSpPr/>
              <p:nvPr/>
            </p:nvCxnSpPr>
            <p:spPr>
              <a:xfrm>
                <a:off x="2000880" y="2244600"/>
                <a:ext cx="165240" cy="6120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round/>
              </a:ln>
            </p:spPr>
          </p:cxnSp>
          <p:sp>
            <p:nvSpPr>
              <p:cNvPr id="109" name=""/>
              <p:cNvSpPr txBox="1"/>
              <p:nvPr/>
            </p:nvSpPr>
            <p:spPr>
              <a:xfrm>
                <a:off x="2000880" y="2244600"/>
                <a:ext cx="164520" cy="60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69720" y="2091960"/>
              <a:ext cx="72000" cy="61200"/>
              <a:chOff x="2169720" y="2091960"/>
              <a:chExt cx="72000" cy="61200"/>
            </a:xfrm>
          </p:grpSpPr>
          <p:cxnSp>
            <p:nvCxnSpPr>
              <p:cNvPr id="111" name="直接连接符 51"/>
              <p:cNvCxnSpPr/>
              <p:nvPr/>
            </p:nvCxnSpPr>
            <p:spPr>
              <a:xfrm>
                <a:off x="2169720" y="2091960"/>
                <a:ext cx="72360" cy="6120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round/>
              </a:ln>
            </p:spPr>
          </p:cxnSp>
          <p:sp>
            <p:nvSpPr>
              <p:cNvPr id="112" name=""/>
              <p:cNvSpPr txBox="1"/>
              <p:nvPr/>
            </p:nvSpPr>
            <p:spPr>
              <a:xfrm rot="16200000">
                <a:off x="2175120" y="2086560"/>
                <a:ext cx="60840" cy="7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306520" y="1937160"/>
              <a:ext cx="151200" cy="155160"/>
              <a:chOff x="2306520" y="1937160"/>
              <a:chExt cx="151200" cy="155160"/>
            </a:xfrm>
          </p:grpSpPr>
          <p:cxnSp>
            <p:nvCxnSpPr>
              <p:cNvPr id="114" name="直接连接符 51"/>
              <p:cNvCxnSpPr/>
              <p:nvPr/>
            </p:nvCxnSpPr>
            <p:spPr>
              <a:xfrm>
                <a:off x="2306520" y="1937160"/>
                <a:ext cx="151560" cy="155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round/>
              </a:ln>
            </p:spPr>
          </p:cxnSp>
          <p:sp>
            <p:nvSpPr>
              <p:cNvPr id="115" name=""/>
              <p:cNvSpPr txBox="1"/>
              <p:nvPr/>
            </p:nvSpPr>
            <p:spPr>
              <a:xfrm rot="16200000">
                <a:off x="2304720" y="1938960"/>
                <a:ext cx="15480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6" name="椭圆 45"/>
          <p:cNvSpPr/>
          <p:nvPr/>
        </p:nvSpPr>
        <p:spPr>
          <a:xfrm>
            <a:off x="2400480" y="2359080"/>
            <a:ext cx="2943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b05"/>
                </a:solidFill>
                <a:latin typeface="Broadway"/>
              </a:rPr>
              <a:t>Part.</a:t>
            </a:r>
            <a:r>
              <a:rPr b="0" lang="en-US" sz="4000" spc="-1" strike="noStrike">
                <a:solidFill>
                  <a:srgbClr val="ff9b05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45"/>
          <p:cNvSpPr/>
          <p:nvPr/>
        </p:nvSpPr>
        <p:spPr>
          <a:xfrm>
            <a:off x="2395440" y="3355920"/>
            <a:ext cx="294336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b05"/>
                </a:solidFill>
                <a:latin typeface="Broadway"/>
              </a:rPr>
              <a:t>Part.</a:t>
            </a:r>
            <a:r>
              <a:rPr b="0" lang="zh-CN" sz="4000" spc="-1" strike="noStrike">
                <a:solidFill>
                  <a:srgbClr val="ff9b05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45"/>
          <p:cNvSpPr/>
          <p:nvPr/>
        </p:nvSpPr>
        <p:spPr>
          <a:xfrm>
            <a:off x="2389320" y="4327560"/>
            <a:ext cx="294156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b05"/>
                </a:solidFill>
                <a:latin typeface="Broadway"/>
              </a:rPr>
              <a:t>Part.</a:t>
            </a:r>
            <a:r>
              <a:rPr b="0" lang="zh-CN" sz="4000" spc="-1" strike="noStrike">
                <a:solidFill>
                  <a:srgbClr val="ff9b05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36"/>
          <p:cNvSpPr/>
          <p:nvPr/>
        </p:nvSpPr>
        <p:spPr>
          <a:xfrm>
            <a:off x="0" y="-12600"/>
            <a:ext cx="12214080" cy="1233360"/>
          </a:xfrm>
          <a:custGeom>
            <a:avLst/>
            <a:gdLst/>
            <a:ahLst/>
            <a:rect l="l" t="t" r="r" b="b"/>
            <a:pathLst>
              <a:path w="9144000" h="792088">
                <a:moveTo>
                  <a:pt x="0" y="0"/>
                </a:moveTo>
                <a:lnTo>
                  <a:pt x="9144000" y="0"/>
                </a:lnTo>
                <a:lnTo>
                  <a:pt x="9144000" y="792088"/>
                </a:lnTo>
                <a:lnTo>
                  <a:pt x="1862626" y="792088"/>
                </a:lnTo>
                <a:cubicBezTo>
                  <a:pt x="1821091" y="566583"/>
                  <a:pt x="1623284" y="396044"/>
                  <a:pt x="1385646" y="396044"/>
                </a:cubicBezTo>
                <a:cubicBezTo>
                  <a:pt x="1148008" y="396044"/>
                  <a:pt x="950202" y="566583"/>
                  <a:pt x="908666" y="792088"/>
                </a:cubicBezTo>
                <a:lnTo>
                  <a:pt x="0" y="79208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8203"/>
          <p:cNvGrpSpPr/>
          <p:nvPr/>
        </p:nvGrpSpPr>
        <p:grpSpPr>
          <a:xfrm>
            <a:off x="0" y="1409760"/>
            <a:ext cx="12201480" cy="76680"/>
            <a:chOff x="0" y="1409760"/>
            <a:chExt cx="12201480" cy="76680"/>
          </a:xfrm>
        </p:grpSpPr>
        <p:grpSp>
          <p:nvGrpSpPr>
            <p:cNvPr id="121" name=""/>
            <p:cNvGrpSpPr/>
            <p:nvPr/>
          </p:nvGrpSpPr>
          <p:grpSpPr>
            <a:xfrm>
              <a:off x="0" y="1409760"/>
              <a:ext cx="12201480" cy="360"/>
              <a:chOff x="0" y="1409760"/>
              <a:chExt cx="12201480" cy="360"/>
            </a:xfrm>
          </p:grpSpPr>
          <p:sp>
            <p:nvSpPr>
              <p:cNvPr id="122" name="直接连接符 34"/>
              <p:cNvSpPr/>
              <p:nvPr/>
            </p:nvSpPr>
            <p:spPr>
              <a:xfrm>
                <a:off x="0" y="1409760"/>
                <a:ext cx="1220148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0" y="1409760"/>
                <a:ext cx="1220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486080"/>
              <a:ext cx="12201480" cy="360"/>
              <a:chOff x="0" y="1486080"/>
              <a:chExt cx="12201480" cy="360"/>
            </a:xfrm>
          </p:grpSpPr>
          <p:sp>
            <p:nvSpPr>
              <p:cNvPr id="125" name="直接连接符 35"/>
              <p:cNvSpPr/>
              <p:nvPr/>
            </p:nvSpPr>
            <p:spPr>
              <a:xfrm>
                <a:off x="0" y="1486080"/>
                <a:ext cx="12201480" cy="0"/>
              </a:xfrm>
              <a:prstGeom prst="line">
                <a:avLst/>
              </a:prstGeom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0" y="1486080"/>
                <a:ext cx="1220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7" name="椭圆 8206"/>
          <p:cNvSpPr/>
          <p:nvPr/>
        </p:nvSpPr>
        <p:spPr>
          <a:xfrm>
            <a:off x="1260360" y="730080"/>
            <a:ext cx="1158840" cy="12765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  <a:effectLst>
            <a:outerShdw dist="40186" dir="4303641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12720" y="2958840"/>
            <a:ext cx="7645680" cy="6120"/>
            <a:chOff x="2412720" y="2958840"/>
            <a:chExt cx="7645680" cy="6120"/>
          </a:xfrm>
        </p:grpSpPr>
        <p:sp>
          <p:nvSpPr>
            <p:cNvPr id="129" name="直接连接符 1035"/>
            <p:cNvSpPr/>
            <p:nvPr/>
          </p:nvSpPr>
          <p:spPr>
            <a:xfrm flipV="1">
              <a:off x="2413080" y="2958840"/>
              <a:ext cx="7645320" cy="6120"/>
            </a:xfrm>
            <a:prstGeom prst="line">
              <a:avLst/>
            </a:prstGeom>
            <a:ln w="25560">
              <a:solidFill>
                <a:srgbClr val="9933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2412720" y="2958480"/>
              <a:ext cx="764532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408400" y="3956040"/>
            <a:ext cx="7650000" cy="15840"/>
            <a:chOff x="2408400" y="3956040"/>
            <a:chExt cx="7650000" cy="15840"/>
          </a:xfrm>
        </p:grpSpPr>
        <p:sp>
          <p:nvSpPr>
            <p:cNvPr id="132" name="直接连接符 1035"/>
            <p:cNvSpPr/>
            <p:nvPr/>
          </p:nvSpPr>
          <p:spPr>
            <a:xfrm>
              <a:off x="2408400" y="3956040"/>
              <a:ext cx="7650000" cy="15840"/>
            </a:xfrm>
            <a:prstGeom prst="line">
              <a:avLst/>
            </a:prstGeom>
            <a:ln w="25560">
              <a:solidFill>
                <a:srgbClr val="9933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408400" y="3956040"/>
              <a:ext cx="765000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403360" y="4937040"/>
            <a:ext cx="7653600" cy="7920"/>
            <a:chOff x="2403360" y="4937040"/>
            <a:chExt cx="7653600" cy="7920"/>
          </a:xfrm>
        </p:grpSpPr>
        <p:sp>
          <p:nvSpPr>
            <p:cNvPr id="135" name="直接连接符 1035"/>
            <p:cNvSpPr/>
            <p:nvPr/>
          </p:nvSpPr>
          <p:spPr>
            <a:xfrm>
              <a:off x="2403360" y="4937040"/>
              <a:ext cx="7653600" cy="7920"/>
            </a:xfrm>
            <a:prstGeom prst="line">
              <a:avLst/>
            </a:prstGeom>
            <a:ln w="25560">
              <a:solidFill>
                <a:srgbClr val="9933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403360" y="4937040"/>
              <a:ext cx="765360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TextBox 1030"/>
          <p:cNvSpPr/>
          <p:nvPr/>
        </p:nvSpPr>
        <p:spPr>
          <a:xfrm>
            <a:off x="5442120" y="2438280"/>
            <a:ext cx="4608360" cy="36828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上班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30"/>
          <p:cNvSpPr/>
          <p:nvPr/>
        </p:nvSpPr>
        <p:spPr>
          <a:xfrm>
            <a:off x="5442120" y="3438360"/>
            <a:ext cx="4608360" cy="36828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上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030"/>
          <p:cNvSpPr/>
          <p:nvPr/>
        </p:nvSpPr>
        <p:spPr>
          <a:xfrm>
            <a:off x="5429160" y="4403880"/>
            <a:ext cx="4616640" cy="36828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下班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流程图: 文档 8213"/>
          <p:cNvSpPr/>
          <p:nvPr/>
        </p:nvSpPr>
        <p:spPr>
          <a:xfrm rot="10800000">
            <a:off x="-360" y="5640120"/>
            <a:ext cx="12201480" cy="1241280"/>
          </a:xfrm>
          <a:prstGeom prst="flowChartDocument">
            <a:avLst/>
          </a:prstGeom>
          <a:solidFill>
            <a:srgbClr val="ff9900"/>
          </a:solidFill>
          <a:ln w="0">
            <a:noFill/>
          </a:ln>
          <a:effectLst>
            <a:outerShdw dist="56832" dir="19996359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8214"/>
          <p:cNvSpPr/>
          <p:nvPr/>
        </p:nvSpPr>
        <p:spPr>
          <a:xfrm rot="5400000">
            <a:off x="1535040" y="1115640"/>
            <a:ext cx="1265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黑体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27360" y="5651640"/>
            <a:ext cx="12238560" cy="47520"/>
            <a:chOff x="-27360" y="5651640"/>
            <a:chExt cx="12238560" cy="47520"/>
          </a:xfrm>
        </p:grpSpPr>
        <p:sp>
          <p:nvSpPr>
            <p:cNvPr id="143" name="直接连接符 1035"/>
            <p:cNvSpPr/>
            <p:nvPr/>
          </p:nvSpPr>
          <p:spPr>
            <a:xfrm flipV="1">
              <a:off x="-27000" y="5651640"/>
              <a:ext cx="12238200" cy="47520"/>
            </a:xfrm>
            <a:prstGeom prst="line">
              <a:avLst/>
            </a:prstGeom>
            <a:ln w="25560">
              <a:solidFill>
                <a:srgbClr val="ff66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 rot="10800000">
              <a:off x="-27360" y="5651280"/>
              <a:ext cx="12238200" cy="4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-27360" y="1171080"/>
            <a:ext cx="12240000" cy="47880"/>
            <a:chOff x="-27360" y="1171080"/>
            <a:chExt cx="12240000" cy="47880"/>
          </a:xfrm>
        </p:grpSpPr>
        <p:sp>
          <p:nvSpPr>
            <p:cNvPr id="146" name="直接连接符 1035"/>
            <p:cNvSpPr/>
            <p:nvPr/>
          </p:nvSpPr>
          <p:spPr>
            <a:xfrm flipV="1">
              <a:off x="-27000" y="1171080"/>
              <a:ext cx="12239640" cy="47880"/>
            </a:xfrm>
            <a:prstGeom prst="line">
              <a:avLst/>
            </a:prstGeom>
            <a:ln w="25560">
              <a:solidFill>
                <a:srgbClr val="ff66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 rot="10800000">
              <a:off x="-27360" y="1170720"/>
              <a:ext cx="12239640" cy="4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矩形 9219"/>
          <p:cNvSpPr/>
          <p:nvPr/>
        </p:nvSpPr>
        <p:spPr>
          <a:xfrm>
            <a:off x="-17640" y="5816520"/>
            <a:ext cx="12179520" cy="10447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28496" dir="17774481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9220"/>
          <p:cNvSpPr/>
          <p:nvPr/>
        </p:nvSpPr>
        <p:spPr>
          <a:xfrm>
            <a:off x="-1440" y="-4680"/>
            <a:ext cx="12180600" cy="1033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延期 9221"/>
          <p:cNvSpPr/>
          <p:nvPr/>
        </p:nvSpPr>
        <p:spPr>
          <a:xfrm>
            <a:off x="6454800" y="2743200"/>
            <a:ext cx="3463920" cy="1368360"/>
          </a:xfrm>
          <a:prstGeom prst="flowChartDelay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  <a:ea typeface="黑体"/>
              </a:rPr>
              <a:t>Want to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休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延期 9222"/>
          <p:cNvSpPr/>
          <p:nvPr/>
        </p:nvSpPr>
        <p:spPr>
          <a:xfrm rot="5400000">
            <a:off x="4572000" y="4628880"/>
            <a:ext cx="2385720" cy="1370160"/>
          </a:xfrm>
          <a:prstGeom prst="flowChartDelay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  <a:ea typeface="黑体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  <a:ea typeface="黑体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延期 9223"/>
          <p:cNvSpPr/>
          <p:nvPr/>
        </p:nvSpPr>
        <p:spPr>
          <a:xfrm rot="10800000">
            <a:off x="1898280" y="2758680"/>
            <a:ext cx="3187800" cy="1368360"/>
          </a:xfrm>
          <a:prstGeom prst="flowChartDelay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</a:rPr>
              <a:t>Want to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黑体"/>
              </a:rPr>
              <a:t>加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延期 9224"/>
          <p:cNvSpPr/>
          <p:nvPr/>
        </p:nvSpPr>
        <p:spPr>
          <a:xfrm rot="16200000">
            <a:off x="4611600" y="912600"/>
            <a:ext cx="2311200" cy="1368360"/>
          </a:xfrm>
          <a:prstGeom prst="flowChartDelay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工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三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rebuchet MS"/>
                <a:ea typeface="黑体"/>
              </a:rPr>
              <a:t>Dr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9225"/>
          <p:cNvSpPr/>
          <p:nvPr/>
        </p:nvSpPr>
        <p:spPr>
          <a:xfrm>
            <a:off x="5187960" y="2692440"/>
            <a:ext cx="1744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Calibri"/>
                <a:ea typeface="黑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圆角矩形 9226"/>
          <p:cNvSpPr/>
          <p:nvPr/>
        </p:nvSpPr>
        <p:spPr>
          <a:xfrm>
            <a:off x="4578480" y="2301840"/>
            <a:ext cx="396720" cy="397080"/>
          </a:xfrm>
          <a:custGeom>
            <a:avLst/>
            <a:gdLst>
              <a:gd name="textAreaLeft" fmla="*/ 19080 w 396720"/>
              <a:gd name="textAreaRight" fmla="*/ 377640 w 396720"/>
              <a:gd name="textAreaTop" fmla="*/ 19080 h 397080"/>
              <a:gd name="textAreaBottom" fmla="*/ 378000 h 397080"/>
            </a:gdLst>
            <a:ahLst/>
            <a:rect l="textAreaLeft" t="textAreaTop" r="textAreaRight" b="textAreaBottom"/>
            <a:pathLst>
              <a:path w="21600" h="21620">
                <a:moveTo>
                  <a:pt x="3600" y="0"/>
                </a:moveTo>
                <a:arcTo wR="3600" hR="3600" stAng="16200000" swAng="-5400000"/>
                <a:lnTo>
                  <a:pt x="0" y="18020"/>
                </a:lnTo>
                <a:arcTo wR="3600" hR="3600" stAng="10800000" swAng="-5400000"/>
                <a:lnTo>
                  <a:pt x="18000" y="21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  <a:effectLst>
            <a:outerShdw dist="77353" dir="56247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圆角矩形 9227"/>
          <p:cNvSpPr/>
          <p:nvPr/>
        </p:nvSpPr>
        <p:spPr>
          <a:xfrm>
            <a:off x="4584600" y="4181400"/>
            <a:ext cx="395280" cy="39708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397080"/>
              <a:gd name="textAreaBottom" fmla="*/ 378000 h 397080"/>
            </a:gdLst>
            <a:ahLst/>
            <a:rect l="textAreaLeft" t="textAreaTop" r="textAreaRight" b="textAreaBottom"/>
            <a:pathLst>
              <a:path w="21600" h="21698">
                <a:moveTo>
                  <a:pt x="3600" y="0"/>
                </a:moveTo>
                <a:arcTo wR="3600" hR="3600" stAng="16200000" swAng="-5400000"/>
                <a:lnTo>
                  <a:pt x="0" y="18098"/>
                </a:lnTo>
                <a:arcTo wR="3600" hR="3600" stAng="10800000" swAng="-5400000"/>
                <a:lnTo>
                  <a:pt x="18000" y="21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圆角矩形 9228"/>
          <p:cNvSpPr/>
          <p:nvPr/>
        </p:nvSpPr>
        <p:spPr>
          <a:xfrm>
            <a:off x="6550200" y="4187880"/>
            <a:ext cx="396720" cy="39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  <a:effectLst>
            <a:outerShdw dist="77353" dir="56247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圆角矩形 9229"/>
          <p:cNvSpPr/>
          <p:nvPr/>
        </p:nvSpPr>
        <p:spPr>
          <a:xfrm>
            <a:off x="6568920" y="2284560"/>
            <a:ext cx="397080" cy="39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9230"/>
          <p:cNvSpPr/>
          <p:nvPr/>
        </p:nvSpPr>
        <p:spPr>
          <a:xfrm>
            <a:off x="5270400" y="3443400"/>
            <a:ext cx="9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rebuchet MS"/>
                <a:ea typeface="黑体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10241"/>
          <p:cNvGrpSpPr/>
          <p:nvPr/>
        </p:nvGrpSpPr>
        <p:grpSpPr>
          <a:xfrm>
            <a:off x="414360" y="1225440"/>
            <a:ext cx="11288520" cy="479520"/>
            <a:chOff x="414360" y="1225440"/>
            <a:chExt cx="11288520" cy="479520"/>
          </a:xfrm>
        </p:grpSpPr>
        <p:grpSp>
          <p:nvGrpSpPr>
            <p:cNvPr id="161" name=""/>
            <p:cNvGrpSpPr/>
            <p:nvPr/>
          </p:nvGrpSpPr>
          <p:grpSpPr>
            <a:xfrm>
              <a:off x="414360" y="1225440"/>
              <a:ext cx="11288520" cy="360"/>
              <a:chOff x="414360" y="1225440"/>
              <a:chExt cx="11288520" cy="360"/>
            </a:xfrm>
          </p:grpSpPr>
          <p:sp>
            <p:nvSpPr>
              <p:cNvPr id="162" name="直接连接符 34"/>
              <p:cNvSpPr/>
              <p:nvPr/>
            </p:nvSpPr>
            <p:spPr>
              <a:xfrm>
                <a:off x="414360" y="1225440"/>
                <a:ext cx="112885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414360" y="1225440"/>
                <a:ext cx="1128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14360" y="1225440"/>
              <a:ext cx="360" cy="479520"/>
              <a:chOff x="414360" y="1225440"/>
              <a:chExt cx="360" cy="479520"/>
            </a:xfrm>
          </p:grpSpPr>
          <p:sp>
            <p:nvSpPr>
              <p:cNvPr id="165" name="直接连接符 36"/>
              <p:cNvSpPr/>
              <p:nvPr/>
            </p:nvSpPr>
            <p:spPr>
              <a:xfrm>
                <a:off x="414360" y="1225440"/>
                <a:ext cx="0" cy="47952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414360" y="1225440"/>
                <a:ext cx="36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7" name="TextBox 37"/>
          <p:cNvSpPr/>
          <p:nvPr/>
        </p:nvSpPr>
        <p:spPr>
          <a:xfrm>
            <a:off x="138240" y="1822320"/>
            <a:ext cx="10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b05"/>
                </a:solidFill>
                <a:latin typeface="Broadway"/>
              </a:rPr>
              <a:t>P</a:t>
            </a:r>
            <a:r>
              <a:rPr b="1" lang="en-US" sz="2000" spc="-1" strike="noStrike">
                <a:solidFill>
                  <a:srgbClr val="ff9b05"/>
                </a:solidFill>
                <a:latin typeface="Broadway"/>
              </a:rPr>
              <a:t>art</a:t>
            </a:r>
            <a:r>
              <a:rPr b="1" lang="zh-CN" sz="2000" spc="-1" strike="noStrike">
                <a:solidFill>
                  <a:srgbClr val="ff9b05"/>
                </a:solidFill>
                <a:latin typeface="Broadway"/>
              </a:rPr>
              <a:t>.</a:t>
            </a:r>
            <a:r>
              <a:rPr b="1" lang="en-US" sz="6000" spc="-1" strike="noStrike">
                <a:solidFill>
                  <a:srgbClr val="ff9b05"/>
                </a:solidFill>
                <a:latin typeface="黑体"/>
                <a:ea typeface="黑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8" name="肘形连接符 52"/>
          <p:cNvCxnSpPr/>
          <p:nvPr/>
        </p:nvCxnSpPr>
        <p:spPr>
          <a:xfrm flipV="1">
            <a:off x="401400" y="2104200"/>
            <a:ext cx="7987320" cy="1081800"/>
          </a:xfrm>
          <a:prstGeom prst="straightConnector1">
            <a:avLst/>
          </a:prstGeom>
          <a:ln w="12600">
            <a:solidFill>
              <a:srgbClr val="ff6600"/>
            </a:solidFill>
            <a:miter/>
          </a:ln>
        </p:spPr>
      </p:cxnSp>
      <p:sp>
        <p:nvSpPr>
          <p:cNvPr id="169" name="矩形 10246"/>
          <p:cNvSpPr/>
          <p:nvPr/>
        </p:nvSpPr>
        <p:spPr>
          <a:xfrm>
            <a:off x="-1440" y="-4680"/>
            <a:ext cx="12180600" cy="1033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030"/>
          <p:cNvSpPr/>
          <p:nvPr/>
        </p:nvSpPr>
        <p:spPr>
          <a:xfrm>
            <a:off x="1109520" y="1487520"/>
            <a:ext cx="8947440" cy="36828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上班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流程图: 文档 10248"/>
          <p:cNvSpPr/>
          <p:nvPr/>
        </p:nvSpPr>
        <p:spPr>
          <a:xfrm rot="10800000">
            <a:off x="-360" y="5640120"/>
            <a:ext cx="12200040" cy="1241280"/>
          </a:xfrm>
          <a:prstGeom prst="flowChartDocument">
            <a:avLst/>
          </a:prstGeom>
          <a:solidFill>
            <a:srgbClr val="ff9900"/>
          </a:solidFill>
          <a:ln w="0">
            <a:noFill/>
          </a:ln>
          <a:effectLst>
            <a:outerShdw dist="56832" dir="19996359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角三角形 10249"/>
          <p:cNvSpPr/>
          <p:nvPr/>
        </p:nvSpPr>
        <p:spPr>
          <a:xfrm flipH="1">
            <a:off x="10678320" y="4129200"/>
            <a:ext cx="1513080" cy="1598400"/>
          </a:xfrm>
          <a:prstGeom prst="rtTriangle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角三角形 10250"/>
          <p:cNvSpPr/>
          <p:nvPr/>
        </p:nvSpPr>
        <p:spPr>
          <a:xfrm flipH="1">
            <a:off x="11019600" y="4533840"/>
            <a:ext cx="1025640" cy="1047960"/>
          </a:xfrm>
          <a:prstGeom prst="rtTriangl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流程图: 离页连接符 24"/>
          <p:cNvSpPr/>
          <p:nvPr/>
        </p:nvSpPr>
        <p:spPr>
          <a:xfrm>
            <a:off x="10237680" y="1596960"/>
            <a:ext cx="287280" cy="241200"/>
          </a:xfrm>
          <a:prstGeom prst="flowChartOffpageConnector">
            <a:avLst/>
          </a:prstGeom>
          <a:solidFill>
            <a:srgbClr val="993300"/>
          </a:solidFill>
          <a:ln w="0">
            <a:noFill/>
          </a:ln>
          <a:effectLst>
            <a:outerShdw dist="52300" dir="836435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流程图: 离页连接符 23"/>
          <p:cNvSpPr/>
          <p:nvPr/>
        </p:nvSpPr>
        <p:spPr>
          <a:xfrm>
            <a:off x="10656720" y="1596960"/>
            <a:ext cx="287640" cy="24120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流程图: 离页连接符 25"/>
          <p:cNvSpPr/>
          <p:nvPr/>
        </p:nvSpPr>
        <p:spPr>
          <a:xfrm>
            <a:off x="11077560" y="1609560"/>
            <a:ext cx="289080" cy="24156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030"/>
          <p:cNvSpPr/>
          <p:nvPr/>
        </p:nvSpPr>
        <p:spPr>
          <a:xfrm>
            <a:off x="1273320" y="2309760"/>
            <a:ext cx="10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上班前，各位上班族们记得每天准时起床哦！更要好好享受早餐</a:t>
            </a:r>
            <a:r>
              <a:rPr b="1" lang="zh-CN" sz="2400" spc="-1" strike="noStrike">
                <a:solidFill>
                  <a:srgbClr val="993300"/>
                </a:solidFill>
                <a:latin typeface="Trebuchet MS"/>
                <a:ea typeface="黑体"/>
              </a:rPr>
              <a:t>Time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，为接下来一天的工作储备好足够的经历与能量，投入到一波接一波的工作中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10255" descr="F%HJQ@N$CO[7BOULPIGN`99"/>
          <p:cNvPicPr/>
          <p:nvPr/>
        </p:nvPicPr>
        <p:blipFill>
          <a:blip r:embed="rId1"/>
          <a:stretch/>
        </p:blipFill>
        <p:spPr>
          <a:xfrm>
            <a:off x="4745160" y="3313080"/>
            <a:ext cx="2057400" cy="211464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8200"/>
          <p:cNvSpPr/>
          <p:nvPr/>
        </p:nvSpPr>
        <p:spPr>
          <a:xfrm>
            <a:off x="503280" y="3349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11265"/>
          <p:cNvGrpSpPr/>
          <p:nvPr/>
        </p:nvGrpSpPr>
        <p:grpSpPr>
          <a:xfrm>
            <a:off x="414360" y="1225440"/>
            <a:ext cx="11288520" cy="479520"/>
            <a:chOff x="414360" y="1225440"/>
            <a:chExt cx="11288520" cy="479520"/>
          </a:xfrm>
        </p:grpSpPr>
        <p:grpSp>
          <p:nvGrpSpPr>
            <p:cNvPr id="181" name=""/>
            <p:cNvGrpSpPr/>
            <p:nvPr/>
          </p:nvGrpSpPr>
          <p:grpSpPr>
            <a:xfrm>
              <a:off x="414360" y="1225440"/>
              <a:ext cx="11288520" cy="360"/>
              <a:chOff x="414360" y="1225440"/>
              <a:chExt cx="11288520" cy="360"/>
            </a:xfrm>
          </p:grpSpPr>
          <p:sp>
            <p:nvSpPr>
              <p:cNvPr id="182" name="直接连接符 34"/>
              <p:cNvSpPr/>
              <p:nvPr/>
            </p:nvSpPr>
            <p:spPr>
              <a:xfrm>
                <a:off x="414360" y="1225440"/>
                <a:ext cx="112885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414360" y="1225440"/>
                <a:ext cx="1128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14360" y="1225440"/>
              <a:ext cx="360" cy="479520"/>
              <a:chOff x="414360" y="1225440"/>
              <a:chExt cx="360" cy="479520"/>
            </a:xfrm>
          </p:grpSpPr>
          <p:sp>
            <p:nvSpPr>
              <p:cNvPr id="185" name="直接连接符 36"/>
              <p:cNvSpPr/>
              <p:nvPr/>
            </p:nvSpPr>
            <p:spPr>
              <a:xfrm>
                <a:off x="414360" y="1225440"/>
                <a:ext cx="0" cy="47952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414360" y="1225440"/>
                <a:ext cx="36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7" name="TextBox 37"/>
          <p:cNvSpPr/>
          <p:nvPr/>
        </p:nvSpPr>
        <p:spPr>
          <a:xfrm>
            <a:off x="138240" y="1822320"/>
            <a:ext cx="10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b05"/>
                </a:solidFill>
                <a:latin typeface="Broadway"/>
              </a:rPr>
              <a:t>P</a:t>
            </a:r>
            <a:r>
              <a:rPr b="1" lang="en-US" sz="2000" spc="-1" strike="noStrike">
                <a:solidFill>
                  <a:srgbClr val="ff9b05"/>
                </a:solidFill>
                <a:latin typeface="Broadway"/>
              </a:rPr>
              <a:t>art</a:t>
            </a:r>
            <a:r>
              <a:rPr b="1" lang="zh-CN" sz="2000" spc="-1" strike="noStrike">
                <a:solidFill>
                  <a:srgbClr val="ff9b05"/>
                </a:solidFill>
                <a:latin typeface="Broadway"/>
              </a:rPr>
              <a:t>.</a:t>
            </a:r>
            <a:r>
              <a:rPr b="1" lang="zh-CN" sz="6000" spc="-1" strike="noStrike">
                <a:solidFill>
                  <a:srgbClr val="ff9b05"/>
                </a:solidFill>
                <a:latin typeface="黑体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8" name="肘形连接符 52"/>
          <p:cNvCxnSpPr/>
          <p:nvPr/>
        </p:nvCxnSpPr>
        <p:spPr>
          <a:xfrm flipV="1">
            <a:off x="401400" y="2104200"/>
            <a:ext cx="7987320" cy="1081800"/>
          </a:xfrm>
          <a:prstGeom prst="straightConnector1">
            <a:avLst/>
          </a:prstGeom>
          <a:ln w="12600">
            <a:solidFill>
              <a:srgbClr val="ff6600"/>
            </a:solidFill>
            <a:miter/>
          </a:ln>
        </p:spPr>
      </p:cxnSp>
      <p:sp>
        <p:nvSpPr>
          <p:cNvPr id="189" name="矩形 11270"/>
          <p:cNvSpPr/>
          <p:nvPr/>
        </p:nvSpPr>
        <p:spPr>
          <a:xfrm>
            <a:off x="-1440" y="-4680"/>
            <a:ext cx="12180600" cy="1033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030"/>
          <p:cNvSpPr/>
          <p:nvPr/>
        </p:nvSpPr>
        <p:spPr>
          <a:xfrm>
            <a:off x="1109520" y="1487520"/>
            <a:ext cx="8947440" cy="36828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上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流程图: 文档 11272"/>
          <p:cNvSpPr/>
          <p:nvPr/>
        </p:nvSpPr>
        <p:spPr>
          <a:xfrm rot="10800000">
            <a:off x="-360" y="5640120"/>
            <a:ext cx="12200040" cy="1241280"/>
          </a:xfrm>
          <a:prstGeom prst="flowChartDocument">
            <a:avLst/>
          </a:prstGeom>
          <a:solidFill>
            <a:srgbClr val="ff9900"/>
          </a:solidFill>
          <a:ln w="0">
            <a:noFill/>
          </a:ln>
          <a:effectLst>
            <a:outerShdw dist="56832" dir="19996359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角三角形 11273"/>
          <p:cNvSpPr/>
          <p:nvPr/>
        </p:nvSpPr>
        <p:spPr>
          <a:xfrm flipH="1">
            <a:off x="10678320" y="4129200"/>
            <a:ext cx="1513080" cy="1598400"/>
          </a:xfrm>
          <a:prstGeom prst="rtTriangle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角三角形 11274"/>
          <p:cNvSpPr/>
          <p:nvPr/>
        </p:nvSpPr>
        <p:spPr>
          <a:xfrm flipH="1">
            <a:off x="11019600" y="4533840"/>
            <a:ext cx="1025640" cy="1047960"/>
          </a:xfrm>
          <a:prstGeom prst="rtTriangl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流程图: 离页连接符 24"/>
          <p:cNvSpPr/>
          <p:nvPr/>
        </p:nvSpPr>
        <p:spPr>
          <a:xfrm>
            <a:off x="10237680" y="1596960"/>
            <a:ext cx="287280" cy="241200"/>
          </a:xfrm>
          <a:prstGeom prst="flowChartOffpageConnector">
            <a:avLst/>
          </a:prstGeom>
          <a:solidFill>
            <a:srgbClr val="993300"/>
          </a:solidFill>
          <a:ln w="0">
            <a:noFill/>
          </a:ln>
          <a:effectLst>
            <a:outerShdw dist="64600" dir="67483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流程图: 离页连接符 23"/>
          <p:cNvSpPr/>
          <p:nvPr/>
        </p:nvSpPr>
        <p:spPr>
          <a:xfrm>
            <a:off x="10656720" y="1596960"/>
            <a:ext cx="287640" cy="24120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流程图: 离页连接符 25"/>
          <p:cNvSpPr/>
          <p:nvPr/>
        </p:nvSpPr>
        <p:spPr>
          <a:xfrm>
            <a:off x="11077560" y="1609560"/>
            <a:ext cx="289080" cy="24156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030"/>
          <p:cNvSpPr/>
          <p:nvPr/>
        </p:nvSpPr>
        <p:spPr>
          <a:xfrm>
            <a:off x="1273320" y="2309760"/>
            <a:ext cx="10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工作要注意细节（当然也要注意一下午餐时间），俗话说：“细节决定成败！”大家不要放过任何一个细节，</a:t>
            </a:r>
            <a:r>
              <a:rPr b="1" lang="zh-CN" sz="2400" spc="-1" strike="noStrike">
                <a:solidFill>
                  <a:srgbClr val="993300"/>
                </a:solidFill>
                <a:latin typeface="Trebuchet MS"/>
                <a:ea typeface="黑体"/>
              </a:rPr>
              <a:t>Please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加油努力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11279" descr="3UNFV6VHZ[68FL9IO)VTTOM"/>
          <p:cNvPicPr/>
          <p:nvPr/>
        </p:nvPicPr>
        <p:blipFill>
          <a:blip r:embed="rId1"/>
          <a:stretch/>
        </p:blipFill>
        <p:spPr>
          <a:xfrm>
            <a:off x="4397400" y="3436920"/>
            <a:ext cx="2690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12289"/>
          <p:cNvGrpSpPr/>
          <p:nvPr/>
        </p:nvGrpSpPr>
        <p:grpSpPr>
          <a:xfrm>
            <a:off x="414360" y="1225440"/>
            <a:ext cx="11288520" cy="479520"/>
            <a:chOff x="414360" y="1225440"/>
            <a:chExt cx="11288520" cy="479520"/>
          </a:xfrm>
        </p:grpSpPr>
        <p:grpSp>
          <p:nvGrpSpPr>
            <p:cNvPr id="200" name=""/>
            <p:cNvGrpSpPr/>
            <p:nvPr/>
          </p:nvGrpSpPr>
          <p:grpSpPr>
            <a:xfrm>
              <a:off x="414360" y="1225440"/>
              <a:ext cx="11288520" cy="360"/>
              <a:chOff x="414360" y="1225440"/>
              <a:chExt cx="11288520" cy="360"/>
            </a:xfrm>
          </p:grpSpPr>
          <p:sp>
            <p:nvSpPr>
              <p:cNvPr id="201" name="直接连接符 34"/>
              <p:cNvSpPr/>
              <p:nvPr/>
            </p:nvSpPr>
            <p:spPr>
              <a:xfrm>
                <a:off x="414360" y="1225440"/>
                <a:ext cx="112885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14360" y="1225440"/>
                <a:ext cx="1128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14360" y="1225440"/>
              <a:ext cx="360" cy="479520"/>
              <a:chOff x="414360" y="1225440"/>
              <a:chExt cx="360" cy="479520"/>
            </a:xfrm>
          </p:grpSpPr>
          <p:sp>
            <p:nvSpPr>
              <p:cNvPr id="204" name="直接连接符 36"/>
              <p:cNvSpPr/>
              <p:nvPr/>
            </p:nvSpPr>
            <p:spPr>
              <a:xfrm>
                <a:off x="414360" y="1225440"/>
                <a:ext cx="0" cy="47952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414360" y="1225440"/>
                <a:ext cx="36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6" name="TextBox 37"/>
          <p:cNvSpPr/>
          <p:nvPr/>
        </p:nvSpPr>
        <p:spPr>
          <a:xfrm>
            <a:off x="138240" y="1822320"/>
            <a:ext cx="10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b05"/>
                </a:solidFill>
                <a:latin typeface="Broadway"/>
              </a:rPr>
              <a:t>P</a:t>
            </a:r>
            <a:r>
              <a:rPr b="1" lang="en-US" sz="2000" spc="-1" strike="noStrike">
                <a:solidFill>
                  <a:srgbClr val="ff9b05"/>
                </a:solidFill>
                <a:latin typeface="Broadway"/>
              </a:rPr>
              <a:t>art</a:t>
            </a:r>
            <a:r>
              <a:rPr b="1" lang="zh-CN" sz="2000" spc="-1" strike="noStrike">
                <a:solidFill>
                  <a:srgbClr val="ff9b05"/>
                </a:solidFill>
                <a:latin typeface="Broadway"/>
              </a:rPr>
              <a:t>.</a:t>
            </a:r>
            <a:r>
              <a:rPr b="1" lang="zh-CN" sz="6000" spc="-1" strike="noStrike">
                <a:solidFill>
                  <a:srgbClr val="ff9b05"/>
                </a:solidFill>
                <a:latin typeface="黑体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7" name="肘形连接符 52"/>
          <p:cNvCxnSpPr/>
          <p:nvPr/>
        </p:nvCxnSpPr>
        <p:spPr>
          <a:xfrm flipV="1">
            <a:off x="401400" y="2104200"/>
            <a:ext cx="7987320" cy="1081800"/>
          </a:xfrm>
          <a:prstGeom prst="straightConnector1">
            <a:avLst/>
          </a:prstGeom>
          <a:ln w="12600">
            <a:solidFill>
              <a:srgbClr val="ff6600"/>
            </a:solidFill>
            <a:miter/>
          </a:ln>
        </p:spPr>
      </p:cxnSp>
      <p:sp>
        <p:nvSpPr>
          <p:cNvPr id="208" name="矩形 12294"/>
          <p:cNvSpPr/>
          <p:nvPr/>
        </p:nvSpPr>
        <p:spPr>
          <a:xfrm>
            <a:off x="-1440" y="-4680"/>
            <a:ext cx="12180600" cy="1033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030"/>
          <p:cNvSpPr/>
          <p:nvPr/>
        </p:nvSpPr>
        <p:spPr>
          <a:xfrm>
            <a:off x="1109520" y="1487520"/>
            <a:ext cx="8947440" cy="36828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上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流程图: 文档 12296"/>
          <p:cNvSpPr/>
          <p:nvPr/>
        </p:nvSpPr>
        <p:spPr>
          <a:xfrm rot="10800000">
            <a:off x="-360" y="5640120"/>
            <a:ext cx="12200040" cy="1241280"/>
          </a:xfrm>
          <a:prstGeom prst="flowChartDocument">
            <a:avLst/>
          </a:prstGeom>
          <a:solidFill>
            <a:srgbClr val="ff9900"/>
          </a:solidFill>
          <a:ln w="0">
            <a:noFill/>
          </a:ln>
          <a:effectLst>
            <a:outerShdw dist="56832" dir="19996359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角三角形 12297"/>
          <p:cNvSpPr/>
          <p:nvPr/>
        </p:nvSpPr>
        <p:spPr>
          <a:xfrm flipH="1">
            <a:off x="10678320" y="4129200"/>
            <a:ext cx="1513080" cy="1598400"/>
          </a:xfrm>
          <a:prstGeom prst="rtTriangle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角三角形 12298"/>
          <p:cNvSpPr/>
          <p:nvPr/>
        </p:nvSpPr>
        <p:spPr>
          <a:xfrm flipH="1">
            <a:off x="11019600" y="4533840"/>
            <a:ext cx="1025640" cy="1047960"/>
          </a:xfrm>
          <a:prstGeom prst="rtTriangl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流程图: 离页连接符 24"/>
          <p:cNvSpPr/>
          <p:nvPr/>
        </p:nvSpPr>
        <p:spPr>
          <a:xfrm>
            <a:off x="10237680" y="1596960"/>
            <a:ext cx="287280" cy="241200"/>
          </a:xfrm>
          <a:prstGeom prst="flowChartOffpageConnector">
            <a:avLst/>
          </a:prstGeom>
          <a:solidFill>
            <a:srgbClr val="993300"/>
          </a:solidFill>
          <a:ln w="0">
            <a:noFill/>
          </a:ln>
          <a:effectLst>
            <a:outerShdw dist="64600" dir="67483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流程图: 离页连接符 23"/>
          <p:cNvSpPr/>
          <p:nvPr/>
        </p:nvSpPr>
        <p:spPr>
          <a:xfrm>
            <a:off x="10656720" y="1596960"/>
            <a:ext cx="287640" cy="24120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流程图: 离页连接符 25"/>
          <p:cNvSpPr/>
          <p:nvPr/>
        </p:nvSpPr>
        <p:spPr>
          <a:xfrm>
            <a:off x="11077560" y="1609560"/>
            <a:ext cx="289080" cy="24156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030"/>
          <p:cNvSpPr/>
          <p:nvPr/>
        </p:nvSpPr>
        <p:spPr>
          <a:xfrm>
            <a:off x="1273320" y="2309760"/>
            <a:ext cx="10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Trebuchet MS"/>
              </a:rPr>
              <a:t>Don‘t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长时间地坐在电脑旁，即使工作再多，也要适时休息一下，再来一杯清茶，那才是一个字：“爽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图片 12303" descr="$3]1)1LOJ_MZ45JO9$O@12U"/>
          <p:cNvPicPr/>
          <p:nvPr/>
        </p:nvPicPr>
        <p:blipFill>
          <a:blip r:embed="rId1"/>
          <a:stretch/>
        </p:blipFill>
        <p:spPr>
          <a:xfrm>
            <a:off x="4648320" y="3219480"/>
            <a:ext cx="22190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组合 13313"/>
          <p:cNvGrpSpPr/>
          <p:nvPr/>
        </p:nvGrpSpPr>
        <p:grpSpPr>
          <a:xfrm>
            <a:off x="414360" y="1225440"/>
            <a:ext cx="11288520" cy="479520"/>
            <a:chOff x="414360" y="1225440"/>
            <a:chExt cx="11288520" cy="479520"/>
          </a:xfrm>
        </p:grpSpPr>
        <p:grpSp>
          <p:nvGrpSpPr>
            <p:cNvPr id="219" name=""/>
            <p:cNvGrpSpPr/>
            <p:nvPr/>
          </p:nvGrpSpPr>
          <p:grpSpPr>
            <a:xfrm>
              <a:off x="414360" y="1225440"/>
              <a:ext cx="11288520" cy="360"/>
              <a:chOff x="414360" y="1225440"/>
              <a:chExt cx="11288520" cy="360"/>
            </a:xfrm>
          </p:grpSpPr>
          <p:sp>
            <p:nvSpPr>
              <p:cNvPr id="220" name="直接连接符 34"/>
              <p:cNvSpPr/>
              <p:nvPr/>
            </p:nvSpPr>
            <p:spPr>
              <a:xfrm>
                <a:off x="414360" y="1225440"/>
                <a:ext cx="112885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414360" y="1225440"/>
                <a:ext cx="1128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14360" y="1225440"/>
              <a:ext cx="360" cy="479520"/>
              <a:chOff x="414360" y="1225440"/>
              <a:chExt cx="360" cy="479520"/>
            </a:xfrm>
          </p:grpSpPr>
          <p:sp>
            <p:nvSpPr>
              <p:cNvPr id="223" name="直接连接符 36"/>
              <p:cNvSpPr/>
              <p:nvPr/>
            </p:nvSpPr>
            <p:spPr>
              <a:xfrm>
                <a:off x="414360" y="1225440"/>
                <a:ext cx="0" cy="47952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414360" y="1225440"/>
                <a:ext cx="36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5" name="TextBox 37"/>
          <p:cNvSpPr/>
          <p:nvPr/>
        </p:nvSpPr>
        <p:spPr>
          <a:xfrm>
            <a:off x="138240" y="1822320"/>
            <a:ext cx="10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b05"/>
                </a:solidFill>
                <a:latin typeface="Broadway"/>
              </a:rPr>
              <a:t>P</a:t>
            </a:r>
            <a:r>
              <a:rPr b="1" lang="en-US" sz="2000" spc="-1" strike="noStrike">
                <a:solidFill>
                  <a:srgbClr val="ff9b05"/>
                </a:solidFill>
                <a:latin typeface="Broadway"/>
              </a:rPr>
              <a:t>art</a:t>
            </a:r>
            <a:r>
              <a:rPr b="1" lang="zh-CN" sz="2000" spc="-1" strike="noStrike">
                <a:solidFill>
                  <a:srgbClr val="ff9b05"/>
                </a:solidFill>
                <a:latin typeface="Broadway"/>
              </a:rPr>
              <a:t>.</a:t>
            </a:r>
            <a:r>
              <a:rPr b="1" lang="zh-CN" sz="6000" spc="-1" strike="noStrike">
                <a:solidFill>
                  <a:srgbClr val="ff9b05"/>
                </a:solidFill>
                <a:latin typeface="黑体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6" name="肘形连接符 52"/>
          <p:cNvCxnSpPr/>
          <p:nvPr/>
        </p:nvCxnSpPr>
        <p:spPr>
          <a:xfrm flipV="1">
            <a:off x="401400" y="2104200"/>
            <a:ext cx="7987320" cy="1081800"/>
          </a:xfrm>
          <a:prstGeom prst="straightConnector1">
            <a:avLst/>
          </a:prstGeom>
          <a:ln w="12600">
            <a:solidFill>
              <a:srgbClr val="ff6600"/>
            </a:solidFill>
            <a:miter/>
          </a:ln>
        </p:spPr>
      </p:cxnSp>
      <p:sp>
        <p:nvSpPr>
          <p:cNvPr id="227" name="矩形 13318"/>
          <p:cNvSpPr/>
          <p:nvPr/>
        </p:nvSpPr>
        <p:spPr>
          <a:xfrm>
            <a:off x="-1440" y="-4680"/>
            <a:ext cx="12180600" cy="1033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030"/>
          <p:cNvSpPr/>
          <p:nvPr/>
        </p:nvSpPr>
        <p:spPr>
          <a:xfrm>
            <a:off x="1109520" y="1487520"/>
            <a:ext cx="8947440" cy="36828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上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流程图: 文档 13320"/>
          <p:cNvSpPr/>
          <p:nvPr/>
        </p:nvSpPr>
        <p:spPr>
          <a:xfrm rot="10800000">
            <a:off x="-12960" y="5640120"/>
            <a:ext cx="12195000" cy="1241280"/>
          </a:xfrm>
          <a:prstGeom prst="flowChartDocument">
            <a:avLst/>
          </a:prstGeom>
          <a:solidFill>
            <a:srgbClr val="ff9900"/>
          </a:solidFill>
          <a:ln w="0">
            <a:noFill/>
          </a:ln>
          <a:effectLst>
            <a:outerShdw dist="56832" dir="19996359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角三角形 13321"/>
          <p:cNvSpPr/>
          <p:nvPr/>
        </p:nvSpPr>
        <p:spPr>
          <a:xfrm flipH="1">
            <a:off x="10678320" y="4129200"/>
            <a:ext cx="1513080" cy="1598400"/>
          </a:xfrm>
          <a:prstGeom prst="rtTriangle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角三角形 13322"/>
          <p:cNvSpPr/>
          <p:nvPr/>
        </p:nvSpPr>
        <p:spPr>
          <a:xfrm flipH="1">
            <a:off x="11019600" y="4533840"/>
            <a:ext cx="1025640" cy="1047960"/>
          </a:xfrm>
          <a:prstGeom prst="rtTriangl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流程图: 离页连接符 24"/>
          <p:cNvSpPr/>
          <p:nvPr/>
        </p:nvSpPr>
        <p:spPr>
          <a:xfrm>
            <a:off x="10237680" y="1596960"/>
            <a:ext cx="287280" cy="241200"/>
          </a:xfrm>
          <a:prstGeom prst="flowChartOffpageConnector">
            <a:avLst/>
          </a:prstGeom>
          <a:solidFill>
            <a:srgbClr val="993300"/>
          </a:solidFill>
          <a:ln w="0">
            <a:noFill/>
          </a:ln>
          <a:effectLst>
            <a:outerShdw dist="64600" dir="67483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流程图: 离页连接符 23"/>
          <p:cNvSpPr/>
          <p:nvPr/>
        </p:nvSpPr>
        <p:spPr>
          <a:xfrm>
            <a:off x="10656720" y="1596960"/>
            <a:ext cx="287640" cy="24120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流程图: 离页连接符 25"/>
          <p:cNvSpPr/>
          <p:nvPr/>
        </p:nvSpPr>
        <p:spPr>
          <a:xfrm>
            <a:off x="11077560" y="1609560"/>
            <a:ext cx="289080" cy="24156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030"/>
          <p:cNvSpPr/>
          <p:nvPr/>
        </p:nvSpPr>
        <p:spPr>
          <a:xfrm>
            <a:off x="1273320" y="2309760"/>
            <a:ext cx="10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要加班时，无论刮风下雨，无论灼热骄阳，无论寒骨暴雪（</a:t>
            </a:r>
            <a:r>
              <a:rPr b="1" lang="zh-CN" sz="2400" spc="-1" strike="noStrike">
                <a:solidFill>
                  <a:srgbClr val="993300"/>
                </a:solidFill>
                <a:latin typeface="Trebuchet MS"/>
                <a:ea typeface="黑体"/>
              </a:rPr>
              <a:t>Sorry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，有点过了），公司总要加班，没办法，为了生计，加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图片 13327" descr=")L]J5SI~TNB)9IW4W9OG}HM"/>
          <p:cNvPicPr/>
          <p:nvPr/>
        </p:nvPicPr>
        <p:blipFill>
          <a:blip r:embed="rId1"/>
          <a:stretch/>
        </p:blipFill>
        <p:spPr>
          <a:xfrm>
            <a:off x="4727520" y="3298680"/>
            <a:ext cx="2097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4337"/>
          <p:cNvGrpSpPr/>
          <p:nvPr/>
        </p:nvGrpSpPr>
        <p:grpSpPr>
          <a:xfrm>
            <a:off x="414360" y="1225440"/>
            <a:ext cx="11288520" cy="479520"/>
            <a:chOff x="414360" y="1225440"/>
            <a:chExt cx="11288520" cy="479520"/>
          </a:xfrm>
        </p:grpSpPr>
        <p:grpSp>
          <p:nvGrpSpPr>
            <p:cNvPr id="238" name=""/>
            <p:cNvGrpSpPr/>
            <p:nvPr/>
          </p:nvGrpSpPr>
          <p:grpSpPr>
            <a:xfrm>
              <a:off x="414360" y="1225440"/>
              <a:ext cx="11288520" cy="360"/>
              <a:chOff x="414360" y="1225440"/>
              <a:chExt cx="11288520" cy="360"/>
            </a:xfrm>
          </p:grpSpPr>
          <p:sp>
            <p:nvSpPr>
              <p:cNvPr id="239" name="直接连接符 34"/>
              <p:cNvSpPr/>
              <p:nvPr/>
            </p:nvSpPr>
            <p:spPr>
              <a:xfrm>
                <a:off x="414360" y="1225440"/>
                <a:ext cx="112885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414360" y="1225440"/>
                <a:ext cx="1128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14360" y="1225440"/>
              <a:ext cx="360" cy="479520"/>
              <a:chOff x="414360" y="1225440"/>
              <a:chExt cx="360" cy="479520"/>
            </a:xfrm>
          </p:grpSpPr>
          <p:sp>
            <p:nvSpPr>
              <p:cNvPr id="242" name="直接连接符 36"/>
              <p:cNvSpPr/>
              <p:nvPr/>
            </p:nvSpPr>
            <p:spPr>
              <a:xfrm>
                <a:off x="414360" y="1225440"/>
                <a:ext cx="0" cy="47952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414360" y="1225440"/>
                <a:ext cx="36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4" name="TextBox 37"/>
          <p:cNvSpPr/>
          <p:nvPr/>
        </p:nvSpPr>
        <p:spPr>
          <a:xfrm>
            <a:off x="138240" y="1822320"/>
            <a:ext cx="10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b05"/>
                </a:solidFill>
                <a:latin typeface="Broadway"/>
              </a:rPr>
              <a:t>P</a:t>
            </a:r>
            <a:r>
              <a:rPr b="1" lang="en-US" sz="2000" spc="-1" strike="noStrike">
                <a:solidFill>
                  <a:srgbClr val="ff9b05"/>
                </a:solidFill>
                <a:latin typeface="Broadway"/>
              </a:rPr>
              <a:t>art</a:t>
            </a:r>
            <a:r>
              <a:rPr b="1" lang="zh-CN" sz="2000" spc="-1" strike="noStrike">
                <a:solidFill>
                  <a:srgbClr val="ff9b05"/>
                </a:solidFill>
                <a:latin typeface="Broadway"/>
              </a:rPr>
              <a:t>.</a:t>
            </a:r>
            <a:r>
              <a:rPr b="1" lang="zh-CN" sz="6000" spc="-1" strike="noStrike">
                <a:solidFill>
                  <a:srgbClr val="ff9b05"/>
                </a:solidFill>
                <a:latin typeface="黑体"/>
                <a:ea typeface="黑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肘形连接符 52"/>
          <p:cNvCxnSpPr/>
          <p:nvPr/>
        </p:nvCxnSpPr>
        <p:spPr>
          <a:xfrm flipV="1">
            <a:off x="401400" y="2104200"/>
            <a:ext cx="7987320" cy="1081800"/>
          </a:xfrm>
          <a:prstGeom prst="straightConnector1">
            <a:avLst/>
          </a:prstGeom>
          <a:ln w="12600">
            <a:solidFill>
              <a:srgbClr val="ff6600"/>
            </a:solidFill>
            <a:miter/>
          </a:ln>
        </p:spPr>
      </p:cxnSp>
      <p:sp>
        <p:nvSpPr>
          <p:cNvPr id="246" name="矩形 14342"/>
          <p:cNvSpPr/>
          <p:nvPr/>
        </p:nvSpPr>
        <p:spPr>
          <a:xfrm>
            <a:off x="-1440" y="-4680"/>
            <a:ext cx="12180600" cy="1033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030"/>
          <p:cNvSpPr/>
          <p:nvPr/>
        </p:nvSpPr>
        <p:spPr>
          <a:xfrm>
            <a:off x="1109520" y="1487520"/>
            <a:ext cx="8947440" cy="36828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下班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流程图: 文档 14344"/>
          <p:cNvSpPr/>
          <p:nvPr/>
        </p:nvSpPr>
        <p:spPr>
          <a:xfrm rot="10800000">
            <a:off x="-360" y="5640120"/>
            <a:ext cx="12200040" cy="1241280"/>
          </a:xfrm>
          <a:prstGeom prst="flowChartDocument">
            <a:avLst/>
          </a:prstGeom>
          <a:solidFill>
            <a:srgbClr val="ff9900"/>
          </a:solidFill>
          <a:ln w="0">
            <a:noFill/>
          </a:ln>
          <a:effectLst>
            <a:outerShdw dist="56832" dir="19996359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直角三角形 14345"/>
          <p:cNvSpPr/>
          <p:nvPr/>
        </p:nvSpPr>
        <p:spPr>
          <a:xfrm flipH="1">
            <a:off x="10678320" y="4129200"/>
            <a:ext cx="1513080" cy="1598400"/>
          </a:xfrm>
          <a:prstGeom prst="rtTriangle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角三角形 14346"/>
          <p:cNvSpPr/>
          <p:nvPr/>
        </p:nvSpPr>
        <p:spPr>
          <a:xfrm flipH="1">
            <a:off x="11019600" y="4533840"/>
            <a:ext cx="1025640" cy="1047960"/>
          </a:xfrm>
          <a:prstGeom prst="rtTriangl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流程图: 离页连接符 24"/>
          <p:cNvSpPr/>
          <p:nvPr/>
        </p:nvSpPr>
        <p:spPr>
          <a:xfrm>
            <a:off x="10237680" y="1596960"/>
            <a:ext cx="287280" cy="241200"/>
          </a:xfrm>
          <a:prstGeom prst="flowChartOffpageConnector">
            <a:avLst/>
          </a:prstGeom>
          <a:solidFill>
            <a:srgbClr val="993300"/>
          </a:solidFill>
          <a:ln w="0">
            <a:noFill/>
          </a:ln>
          <a:effectLst>
            <a:outerShdw dist="64600" dir="67483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流程图: 离页连接符 23"/>
          <p:cNvSpPr/>
          <p:nvPr/>
        </p:nvSpPr>
        <p:spPr>
          <a:xfrm>
            <a:off x="10656720" y="1596960"/>
            <a:ext cx="287640" cy="24120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流程图: 离页连接符 25"/>
          <p:cNvSpPr/>
          <p:nvPr/>
        </p:nvSpPr>
        <p:spPr>
          <a:xfrm>
            <a:off x="11077560" y="1609560"/>
            <a:ext cx="289080" cy="24156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030"/>
          <p:cNvSpPr/>
          <p:nvPr/>
        </p:nvSpPr>
        <p:spPr>
          <a:xfrm>
            <a:off x="1273320" y="2309760"/>
            <a:ext cx="10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回到家，</a:t>
            </a:r>
            <a:r>
              <a:rPr b="1" lang="zh-CN" sz="2400" spc="-1" strike="noStrike">
                <a:solidFill>
                  <a:srgbClr val="993300"/>
                </a:solidFill>
                <a:latin typeface="Trebuchet MS"/>
                <a:ea typeface="黑体"/>
              </a:rPr>
              <a:t>First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泡个澡，让一身的疲劳全部消散于热水中，泡完后，再来一杯热牛奶，一口气喝干！（啊，人生不过如此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图片 14351" descr="9E6L}83`]AAQ``VI%_K$94B"/>
          <p:cNvPicPr/>
          <p:nvPr/>
        </p:nvPicPr>
        <p:blipFill>
          <a:blip r:embed="rId1"/>
          <a:stretch/>
        </p:blipFill>
        <p:spPr>
          <a:xfrm>
            <a:off x="6948360" y="3321000"/>
            <a:ext cx="1978200" cy="21956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4352" descr="M]7Z3TMP5D~$0{AWNL$)%T2"/>
          <p:cNvPicPr/>
          <p:nvPr/>
        </p:nvPicPr>
        <p:blipFill>
          <a:blip r:embed="rId2"/>
          <a:stretch/>
        </p:blipFill>
        <p:spPr>
          <a:xfrm>
            <a:off x="2879640" y="3259080"/>
            <a:ext cx="22226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5361"/>
          <p:cNvGrpSpPr/>
          <p:nvPr/>
        </p:nvGrpSpPr>
        <p:grpSpPr>
          <a:xfrm>
            <a:off x="414360" y="1225440"/>
            <a:ext cx="11288520" cy="479520"/>
            <a:chOff x="414360" y="1225440"/>
            <a:chExt cx="11288520" cy="479520"/>
          </a:xfrm>
        </p:grpSpPr>
        <p:grpSp>
          <p:nvGrpSpPr>
            <p:cNvPr id="258" name=""/>
            <p:cNvGrpSpPr/>
            <p:nvPr/>
          </p:nvGrpSpPr>
          <p:grpSpPr>
            <a:xfrm>
              <a:off x="414360" y="1225440"/>
              <a:ext cx="11288520" cy="360"/>
              <a:chOff x="414360" y="1225440"/>
              <a:chExt cx="11288520" cy="360"/>
            </a:xfrm>
          </p:grpSpPr>
          <p:sp>
            <p:nvSpPr>
              <p:cNvPr id="259" name="直接连接符 34"/>
              <p:cNvSpPr/>
              <p:nvPr/>
            </p:nvSpPr>
            <p:spPr>
              <a:xfrm>
                <a:off x="414360" y="1225440"/>
                <a:ext cx="112885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414360" y="1225440"/>
                <a:ext cx="11288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14360" y="1225440"/>
              <a:ext cx="360" cy="479520"/>
              <a:chOff x="414360" y="1225440"/>
              <a:chExt cx="360" cy="479520"/>
            </a:xfrm>
          </p:grpSpPr>
          <p:sp>
            <p:nvSpPr>
              <p:cNvPr id="262" name="直接连接符 36"/>
              <p:cNvSpPr/>
              <p:nvPr/>
            </p:nvSpPr>
            <p:spPr>
              <a:xfrm>
                <a:off x="414360" y="1225440"/>
                <a:ext cx="0" cy="479520"/>
              </a:xfrm>
              <a:prstGeom prst="line">
                <a:avLst/>
              </a:prstGeom>
              <a:ln w="38160">
                <a:solidFill>
                  <a:srgbClr val="ff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414360" y="1225440"/>
                <a:ext cx="36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4" name="TextBox 37"/>
          <p:cNvSpPr/>
          <p:nvPr/>
        </p:nvSpPr>
        <p:spPr>
          <a:xfrm>
            <a:off x="138240" y="1822320"/>
            <a:ext cx="10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b05"/>
                </a:solidFill>
                <a:latin typeface="Broadway"/>
              </a:rPr>
              <a:t>P</a:t>
            </a:r>
            <a:r>
              <a:rPr b="1" lang="en-US" sz="2000" spc="-1" strike="noStrike">
                <a:solidFill>
                  <a:srgbClr val="ff9b05"/>
                </a:solidFill>
                <a:latin typeface="Broadway"/>
              </a:rPr>
              <a:t>art</a:t>
            </a:r>
            <a:r>
              <a:rPr b="1" lang="zh-CN" sz="2000" spc="-1" strike="noStrike">
                <a:solidFill>
                  <a:srgbClr val="ff9b05"/>
                </a:solidFill>
                <a:latin typeface="Broadway"/>
              </a:rPr>
              <a:t>.</a:t>
            </a:r>
            <a:r>
              <a:rPr b="1" lang="zh-CN" sz="6000" spc="-1" strike="noStrike">
                <a:solidFill>
                  <a:srgbClr val="ff9b05"/>
                </a:solidFill>
                <a:latin typeface="黑体"/>
                <a:ea typeface="黑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肘形连接符 52"/>
          <p:cNvCxnSpPr/>
          <p:nvPr/>
        </p:nvCxnSpPr>
        <p:spPr>
          <a:xfrm flipV="1">
            <a:off x="401400" y="2104200"/>
            <a:ext cx="7987320" cy="1081800"/>
          </a:xfrm>
          <a:prstGeom prst="straightConnector1">
            <a:avLst/>
          </a:prstGeom>
          <a:ln w="12600">
            <a:solidFill>
              <a:srgbClr val="ff6600"/>
            </a:solidFill>
            <a:miter/>
          </a:ln>
        </p:spPr>
      </p:cxnSp>
      <p:sp>
        <p:nvSpPr>
          <p:cNvPr id="266" name="矩形 15366"/>
          <p:cNvSpPr/>
          <p:nvPr/>
        </p:nvSpPr>
        <p:spPr>
          <a:xfrm>
            <a:off x="-1440" y="-4680"/>
            <a:ext cx="12180600" cy="1033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030"/>
          <p:cNvSpPr/>
          <p:nvPr/>
        </p:nvSpPr>
        <p:spPr>
          <a:xfrm>
            <a:off x="1109520" y="1487520"/>
            <a:ext cx="8947440" cy="36828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89808" dir="48390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黑体"/>
              </a:rPr>
              <a:t>下班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流程图: 文档 15368"/>
          <p:cNvSpPr/>
          <p:nvPr/>
        </p:nvSpPr>
        <p:spPr>
          <a:xfrm rot="10800000">
            <a:off x="-360" y="5640120"/>
            <a:ext cx="12200040" cy="1241280"/>
          </a:xfrm>
          <a:prstGeom prst="flowChartDocument">
            <a:avLst/>
          </a:prstGeom>
          <a:solidFill>
            <a:srgbClr val="ff9900"/>
          </a:solidFill>
          <a:ln w="0">
            <a:noFill/>
          </a:ln>
          <a:effectLst>
            <a:outerShdw dist="56832" dir="19996359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角三角形 15369"/>
          <p:cNvSpPr/>
          <p:nvPr/>
        </p:nvSpPr>
        <p:spPr>
          <a:xfrm flipH="1">
            <a:off x="10678320" y="4129200"/>
            <a:ext cx="1513080" cy="1598400"/>
          </a:xfrm>
          <a:prstGeom prst="rtTriangle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角三角形 15370"/>
          <p:cNvSpPr/>
          <p:nvPr/>
        </p:nvSpPr>
        <p:spPr>
          <a:xfrm flipH="1">
            <a:off x="11019600" y="4533840"/>
            <a:ext cx="1025640" cy="1047960"/>
          </a:xfrm>
          <a:prstGeom prst="rtTriangl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流程图: 离页连接符 24"/>
          <p:cNvSpPr/>
          <p:nvPr/>
        </p:nvSpPr>
        <p:spPr>
          <a:xfrm>
            <a:off x="10237680" y="1596960"/>
            <a:ext cx="287280" cy="241200"/>
          </a:xfrm>
          <a:prstGeom prst="flowChartOffpageConnector">
            <a:avLst/>
          </a:prstGeom>
          <a:solidFill>
            <a:srgbClr val="993300"/>
          </a:solidFill>
          <a:ln w="0">
            <a:noFill/>
          </a:ln>
          <a:effectLst>
            <a:outerShdw dist="64600" dir="674838" blurRad="0" rotWithShape="0">
              <a:srgbClr val="4454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流程图: 离页连接符 23"/>
          <p:cNvSpPr/>
          <p:nvPr/>
        </p:nvSpPr>
        <p:spPr>
          <a:xfrm>
            <a:off x="10656720" y="1596960"/>
            <a:ext cx="287640" cy="24120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流程图: 离页连接符 25"/>
          <p:cNvSpPr/>
          <p:nvPr/>
        </p:nvSpPr>
        <p:spPr>
          <a:xfrm>
            <a:off x="11077560" y="1609560"/>
            <a:ext cx="289080" cy="241560"/>
          </a:xfrm>
          <a:prstGeom prst="flowChartOffpageConnector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030"/>
          <p:cNvSpPr/>
          <p:nvPr/>
        </p:nvSpPr>
        <p:spPr>
          <a:xfrm>
            <a:off x="1273320" y="2309760"/>
            <a:ext cx="107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不要工作到十二点左右，那会影响到</a:t>
            </a:r>
            <a:r>
              <a:rPr b="1" lang="zh-CN" sz="2400" spc="-1" strike="noStrike">
                <a:solidFill>
                  <a:srgbClr val="993300"/>
                </a:solidFill>
                <a:latin typeface="Trebuchet MS"/>
                <a:ea typeface="黑体"/>
              </a:rPr>
              <a:t>Tomorrow</a:t>
            </a:r>
            <a:r>
              <a:rPr b="1" lang="zh-CN" sz="2400" spc="-1" strike="noStrike">
                <a:solidFill>
                  <a:srgbClr val="993300"/>
                </a:solidFill>
                <a:latin typeface="微软雅黑"/>
                <a:ea typeface="黑体"/>
              </a:rPr>
              <a:t>的工作，吃过晚饭后，来个十几分钟的散步，然后躺上床为明天新的一天养精蓄锐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15375" descr="NVB$}M73D7YS$I70SSA7_)D"/>
          <p:cNvPicPr/>
          <p:nvPr/>
        </p:nvPicPr>
        <p:blipFill>
          <a:blip r:embed="rId1"/>
          <a:stretch/>
        </p:blipFill>
        <p:spPr>
          <a:xfrm>
            <a:off x="4968720" y="3346560"/>
            <a:ext cx="16988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8:28Z</dcterms:modified>
  <cp:revision>8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