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D1A-9DD5-4A73-90A9-88F0472F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BB4-A0F8-431C-B04B-621374C9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660-6CA5-4FD4-A514-0CED0FFF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C20-B907-4FE0-B87C-A42A28CF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3D1B-A579-4D98-87B1-4B71440A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BB6C-5862-4BBD-AF0D-FBA27DBF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D49B-8B31-44C8-B0B0-0897A007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DA25-8C73-4D96-9B90-A1CEA07A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A716-D74F-4601-AFB5-7E3BEEE5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E059-47FB-4D6D-9E9B-5FB1B07C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FEB2-AB11-4FEF-8309-BA2C8C08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D9E-D873-48ED-8663-E557B017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F0F4-0B95-4716-BD67-7DCFBB14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1F08-E898-4CA4-AB1C-12049EB4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CF13-F90D-4F74-8FD4-DF3E66FE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A17B-22A5-4D72-AE60-BDD4E6FD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2246-A367-4CA5-BD16-F8214D46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5FA-60A2-4A6F-BC71-D67BDC21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E0B-F0D9-4C2E-B2F5-94DA0187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095-A504-4051-936C-86D40FFE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2E9-B870-430E-A5FC-20CD709D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F40-02A7-478F-9CD8-8667E906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3ED-FEAF-45F8-A046-F9E7C522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80D0-2FD0-4EC8-B380-E51D650B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0521-51FE-4528-853C-8B037BE8496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43AC-EB35-4170-9467-612BF10ACD30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69" descr="封面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8560" y="2349360"/>
            <a:ext cx="7345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快乐办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174680" y="549360"/>
            <a:ext cx="706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角梅快乐办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8193" descr="目录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854160" y="2565000"/>
            <a:ext cx="483372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快乐工作需要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快乐工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9217" descr="过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9218"/>
          <p:cNvSpPr/>
          <p:nvPr/>
        </p:nvSpPr>
        <p:spPr>
          <a:xfrm>
            <a:off x="4572000" y="2924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快乐工作需要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0241" descr="内容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12720" y="1269720"/>
            <a:ext cx="56149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智者不是选择的都是自己喜欢的，而是喜欢自己选择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身体是革命的本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睡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的睡眠让一天的工作都有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1265" descr="过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1266"/>
          <p:cNvSpPr/>
          <p:nvPr/>
        </p:nvSpPr>
        <p:spPr>
          <a:xfrm>
            <a:off x="4572000" y="2924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如何快乐工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2289" descr="内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412720" y="1269720"/>
            <a:ext cx="56149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别做按部就班的“傻瓜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寻找适合自己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看到工作中激情的力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随时记下好创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积极的人生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8807-BAAE-4660-8E43-163060D7628C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3313" descr="结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831760" y="3689280"/>
            <a:ext cx="4476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欣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1:4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