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B5D-61FD-4A06-8A73-EF1D9E16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F77-7D66-41ED-B8B1-86711849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7EF-C6A8-4AB9-81D5-A3E355EA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AE9-0538-4148-A7C1-2FB4DD25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0234-5408-4328-AD90-5106CDD6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51BB-4075-44DD-8BD6-0C3BBB75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98A7-01EC-4527-ADD6-21E66FA6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F3D6-053A-4960-9EEF-DD36255E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DB95-0E63-4552-AC6F-6D9943B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19AD-3211-4913-8563-82CE1F39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E371-354F-4E74-AAF2-063AFE8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E8E-02F9-41E6-97B2-CF1BB64C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E9E6-8D3D-4618-9269-56D622C9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7C25-9D21-4C60-8A8F-4298875E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D42C-E621-4D6D-8931-EFB95FB5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A72F-09DB-49BB-89F1-3739DEF4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FAED-DEDB-47DD-BFF2-83598327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FB4-BB3E-4B8D-8495-3B2860DB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1DC-124E-4FCB-A0FD-86733BAD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E02-0249-4F02-AF71-BAA3C6F1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605-1E1F-4C72-8118-6E12E09D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260-E7C3-4B94-B81A-604F3EB6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EB6-49AD-4B3C-A264-A01A526F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58A-E5B7-4488-B4FA-405DC44A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77E4-2DA3-4676-AEF3-673002D6CB2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619A-E5CF-44F2-814D-04534A1329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F7E-7F9C-47D8-8C06-318F9BDF418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FB85-2EF8-4F39-8254-7BEC52192A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书籍拼图创意总结报告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610680" y="714240"/>
            <a:ext cx="10332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8"/>
          <p:cNvSpPr/>
          <p:nvPr/>
        </p:nvSpPr>
        <p:spPr>
          <a:xfrm flipH="1">
            <a:off x="7120080" y="78588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179280" y="5948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流程图: 决策 9"/>
          <p:cNvSpPr/>
          <p:nvPr/>
        </p:nvSpPr>
        <p:spPr>
          <a:xfrm>
            <a:off x="714240" y="2786040"/>
            <a:ext cx="2286000" cy="857160"/>
          </a:xfrm>
          <a:prstGeom prst="flowChartDecision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流程图: 决策 11"/>
          <p:cNvSpPr/>
          <p:nvPr/>
        </p:nvSpPr>
        <p:spPr>
          <a:xfrm>
            <a:off x="500040" y="2714760"/>
            <a:ext cx="2639880" cy="1000080"/>
          </a:xfrm>
          <a:prstGeom prst="flowChartDecision">
            <a:avLst/>
          </a:prstGeom>
          <a:noFill/>
          <a:ln w="25560">
            <a:solidFill>
              <a:srgbClr val="db35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流程图: 决策 12"/>
          <p:cNvSpPr/>
          <p:nvPr/>
        </p:nvSpPr>
        <p:spPr>
          <a:xfrm>
            <a:off x="3429000" y="2786040"/>
            <a:ext cx="2286000" cy="857160"/>
          </a:xfrm>
          <a:prstGeom prst="flowChartDecision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流程图: 决策 13"/>
          <p:cNvSpPr/>
          <p:nvPr/>
        </p:nvSpPr>
        <p:spPr>
          <a:xfrm>
            <a:off x="3214800" y="2714760"/>
            <a:ext cx="2639880" cy="1000080"/>
          </a:xfrm>
          <a:prstGeom prst="flowChartDecision">
            <a:avLst/>
          </a:prstGeom>
          <a:noFill/>
          <a:ln w="25560">
            <a:solidFill>
              <a:srgbClr val="db35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流程图: 决策 14"/>
          <p:cNvSpPr/>
          <p:nvPr/>
        </p:nvSpPr>
        <p:spPr>
          <a:xfrm>
            <a:off x="6143760" y="2786040"/>
            <a:ext cx="2286000" cy="857160"/>
          </a:xfrm>
          <a:prstGeom prst="flowChartDecision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流程图: 决策 15"/>
          <p:cNvSpPr/>
          <p:nvPr/>
        </p:nvSpPr>
        <p:spPr>
          <a:xfrm>
            <a:off x="5929200" y="2714760"/>
            <a:ext cx="2640240" cy="1000080"/>
          </a:xfrm>
          <a:prstGeom prst="flowChartDecision">
            <a:avLst/>
          </a:prstGeom>
          <a:noFill/>
          <a:ln w="25560">
            <a:solidFill>
              <a:srgbClr val="db35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>
            <a:off x="4069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1"/>
          <p:cNvSpPr/>
          <p:nvPr/>
        </p:nvSpPr>
        <p:spPr>
          <a:xfrm>
            <a:off x="12830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2"/>
          <p:cNvSpPr/>
          <p:nvPr/>
        </p:nvSpPr>
        <p:spPr>
          <a:xfrm>
            <a:off x="6783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流程图: 文档 11"/>
          <p:cNvSpPr/>
          <p:nvPr/>
        </p:nvSpPr>
        <p:spPr>
          <a:xfrm>
            <a:off x="1000080" y="2071800"/>
            <a:ext cx="1857600" cy="1500120"/>
          </a:xfrm>
          <a:prstGeom prst="flowChartDocument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文档 12"/>
          <p:cNvSpPr/>
          <p:nvPr/>
        </p:nvSpPr>
        <p:spPr>
          <a:xfrm flipV="1">
            <a:off x="2857680" y="3142440"/>
            <a:ext cx="1857240" cy="1500120"/>
          </a:xfrm>
          <a:prstGeom prst="flowChartDocument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文档 13"/>
          <p:cNvSpPr/>
          <p:nvPr/>
        </p:nvSpPr>
        <p:spPr>
          <a:xfrm>
            <a:off x="4714920" y="2071800"/>
            <a:ext cx="1857240" cy="1500120"/>
          </a:xfrm>
          <a:prstGeom prst="flowChartDocument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文档 14"/>
          <p:cNvSpPr/>
          <p:nvPr/>
        </p:nvSpPr>
        <p:spPr>
          <a:xfrm flipV="1">
            <a:off x="6572160" y="3142440"/>
            <a:ext cx="1857600" cy="1500120"/>
          </a:xfrm>
          <a:prstGeom prst="flowChartDocument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3283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69980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1425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流程图: 库存数据 10"/>
          <p:cNvSpPr/>
          <p:nvPr/>
        </p:nvSpPr>
        <p:spPr>
          <a:xfrm>
            <a:off x="2786040" y="1714680"/>
            <a:ext cx="2000160" cy="92844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流程图: 库存数据 11"/>
          <p:cNvSpPr/>
          <p:nvPr/>
        </p:nvSpPr>
        <p:spPr>
          <a:xfrm flipH="1">
            <a:off x="4929120" y="1714680"/>
            <a:ext cx="2000160" cy="92844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流程图: 库存数据 12"/>
          <p:cNvSpPr/>
          <p:nvPr/>
        </p:nvSpPr>
        <p:spPr>
          <a:xfrm>
            <a:off x="2786040" y="2786040"/>
            <a:ext cx="2000160" cy="92880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流程图: 库存数据 13"/>
          <p:cNvSpPr/>
          <p:nvPr/>
        </p:nvSpPr>
        <p:spPr>
          <a:xfrm flipH="1">
            <a:off x="4929120" y="2786040"/>
            <a:ext cx="2000160" cy="92880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流程图: 库存数据 14"/>
          <p:cNvSpPr/>
          <p:nvPr/>
        </p:nvSpPr>
        <p:spPr>
          <a:xfrm>
            <a:off x="2786040" y="3857760"/>
            <a:ext cx="2000160" cy="92844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流程图: 库存数据 15"/>
          <p:cNvSpPr/>
          <p:nvPr/>
        </p:nvSpPr>
        <p:spPr>
          <a:xfrm flipH="1">
            <a:off x="4929120" y="3857760"/>
            <a:ext cx="2000160" cy="928440"/>
          </a:xfrm>
          <a:prstGeom prst="flowChartOnlineStorage">
            <a:avLst/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5569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3140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左弧形箭头 11"/>
          <p:cNvSpPr/>
          <p:nvPr/>
        </p:nvSpPr>
        <p:spPr>
          <a:xfrm>
            <a:off x="2787480" y="2558880"/>
            <a:ext cx="1928880" cy="1143000"/>
          </a:xfrm>
          <a:custGeom>
            <a:avLst/>
            <a:gdLst>
              <a:gd name="textAreaLeft" fmla="*/ 258120 w 1928880"/>
              <a:gd name="textAreaRight" fmla="*/ 1670760 w 1928880"/>
              <a:gd name="textAreaTop" fmla="*/ 178560 h 1143000"/>
              <a:gd name="textAreaBottom" fmla="*/ 8215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863318"/>
                <a:lnTo>
                  <a:pt x="18400" y="21526"/>
                </a:lnTo>
                <a:lnTo>
                  <a:pt x="21600" y="16200"/>
                </a:lnTo>
                <a:lnTo>
                  <a:pt x="18400" y="10726"/>
                </a:lnTo>
                <a:lnTo>
                  <a:pt x="18400" y="13426"/>
                </a:lnTo>
                <a:arcTo wR="21600" hR="6750" stAng="6936682" swAng="339733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弧形箭头 12"/>
          <p:cNvSpPr/>
          <p:nvPr/>
        </p:nvSpPr>
        <p:spPr>
          <a:xfrm flipH="1">
            <a:off x="4716360" y="2558880"/>
            <a:ext cx="1928880" cy="1143000"/>
          </a:xfrm>
          <a:custGeom>
            <a:avLst/>
            <a:gdLst>
              <a:gd name="textAreaLeft" fmla="*/ 258120 w 1928880"/>
              <a:gd name="textAreaRight" fmla="*/ 1670760 w 1928880"/>
              <a:gd name="textAreaTop" fmla="*/ 178560 h 1143000"/>
              <a:gd name="textAreaBottom" fmla="*/ 8215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863318"/>
                <a:lnTo>
                  <a:pt x="18400" y="21526"/>
                </a:lnTo>
                <a:lnTo>
                  <a:pt x="21600" y="16200"/>
                </a:lnTo>
                <a:lnTo>
                  <a:pt x="18400" y="10726"/>
                </a:lnTo>
                <a:lnTo>
                  <a:pt x="18400" y="13426"/>
                </a:lnTo>
                <a:arcTo wR="21600" hR="6750" stAng="6936682" swAng="339733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215240" y="220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57100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278496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194"/>
          <p:cNvSpPr/>
          <p:nvPr/>
        </p:nvSpPr>
        <p:spPr>
          <a:xfrm>
            <a:off x="1044720" y="443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流程图: 内部贮存 10"/>
          <p:cNvSpPr/>
          <p:nvPr/>
        </p:nvSpPr>
        <p:spPr>
          <a:xfrm>
            <a:off x="357120" y="2214720"/>
            <a:ext cx="2643120" cy="2571480"/>
          </a:xfrm>
          <a:prstGeom prst="flowChartInternalStorage">
            <a:avLst/>
          </a:prstGeom>
          <a:solidFill>
            <a:srgbClr val="db3535"/>
          </a:solidFill>
          <a:ln w="25560">
            <a:solidFill>
              <a:srgbClr val="e6b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内部贮存 11"/>
          <p:cNvSpPr/>
          <p:nvPr/>
        </p:nvSpPr>
        <p:spPr>
          <a:xfrm>
            <a:off x="3214800" y="2214720"/>
            <a:ext cx="2643120" cy="2571480"/>
          </a:xfrm>
          <a:prstGeom prst="flowChartInternalStorage">
            <a:avLst/>
          </a:prstGeom>
          <a:solidFill>
            <a:srgbClr val="db3535"/>
          </a:solidFill>
          <a:ln w="25560">
            <a:solidFill>
              <a:srgbClr val="e6b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流程图: 内部贮存 12"/>
          <p:cNvSpPr/>
          <p:nvPr/>
        </p:nvSpPr>
        <p:spPr>
          <a:xfrm>
            <a:off x="6072120" y="2214720"/>
            <a:ext cx="2643120" cy="2571480"/>
          </a:xfrm>
          <a:prstGeom prst="flowChartInternalStorage">
            <a:avLst/>
          </a:prstGeom>
          <a:solidFill>
            <a:srgbClr val="db3535"/>
          </a:solidFill>
          <a:ln w="25560">
            <a:solidFill>
              <a:srgbClr val="e6b9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1354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140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C803-797F-4014-A6A6-B5E0107E3B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圆角矩形 10"/>
          <p:cNvSpPr/>
          <p:nvPr/>
        </p:nvSpPr>
        <p:spPr>
          <a:xfrm>
            <a:off x="1000080" y="4143240"/>
            <a:ext cx="7143840" cy="1285920"/>
          </a:xfrm>
          <a:prstGeom prst="roundRect">
            <a:avLst>
              <a:gd name="adj" fmla="val 16667"/>
            </a:avLst>
          </a:prstGeom>
          <a:solidFill>
            <a:srgbClr val="d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11"/>
          <p:cNvSpPr/>
          <p:nvPr/>
        </p:nvSpPr>
        <p:spPr>
          <a:xfrm>
            <a:off x="1000080" y="1643040"/>
            <a:ext cx="7143840" cy="242892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db3535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10Z</dcterms:modified>
  <cp:revision>29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