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3291B-9E93-4CBE-B47C-8A257F7FC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183920"/>
            <a:ext cx="82296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2F7D3-BF22-4985-B5A2-7E5AE1889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40158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2060280"/>
            <a:ext cx="40158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183920"/>
            <a:ext cx="40158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183920"/>
            <a:ext cx="40158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5744F-539F-41A9-9C59-95FAD096C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26496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2060280"/>
            <a:ext cx="26496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2060280"/>
            <a:ext cx="26496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183920"/>
            <a:ext cx="26496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4183920"/>
            <a:ext cx="26496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4183920"/>
            <a:ext cx="26496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F6562-699C-4171-9CF7-DF6E32841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02BC6-817A-48AE-A2DC-B87C15B24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C45A2-0FB3-49DF-BE2E-BB2BDCFB8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5DD13-7621-49E0-A154-5EC28643F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40158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2060280"/>
            <a:ext cx="40158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3A829-A3E5-425D-8F80-7DE6B0FB4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1997E-E0E9-4331-B1D6-D154407F9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82BD1-54FC-4CF7-B33B-7A5400BBB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40158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2060280"/>
            <a:ext cx="40158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183920"/>
            <a:ext cx="40158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8B870-1F79-4B9B-9B0F-D27BD5FBB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E8638-31AA-42F4-9CB9-5E7FA8A16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40158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2060280"/>
            <a:ext cx="40158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183920"/>
            <a:ext cx="40158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D0DE7-DD84-4330-9FB4-38BA91F3B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40158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060280"/>
            <a:ext cx="40158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183920"/>
            <a:ext cx="82296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0547F-C41D-49ED-A07E-663D90419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183920"/>
            <a:ext cx="82296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A13F8-3908-40FD-A50B-D77663C3C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40158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2060280"/>
            <a:ext cx="40158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183920"/>
            <a:ext cx="40158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183920"/>
            <a:ext cx="40158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BD415-3441-478E-85E3-99176D57C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26496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2060280"/>
            <a:ext cx="26496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2060280"/>
            <a:ext cx="26496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183920"/>
            <a:ext cx="26496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183920"/>
            <a:ext cx="26496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183920"/>
            <a:ext cx="26496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1AFFB-8E89-43C7-AC33-841580F0F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402F89-AD43-4843-861F-7C04C8976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95C834-999A-40DD-A9B2-60890E530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912EAE-EA35-43D5-81B0-E3E8A0EC0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40158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2060280"/>
            <a:ext cx="40158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49211B-4F0E-46E7-A8B3-89A8C25A4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819146-9D5E-472E-A84B-DB9339A41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94A35-7070-4EAD-A8CF-F1BE7A03A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D53119-D334-42F6-A30C-6329FF4B9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40158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2060280"/>
            <a:ext cx="40158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4183920"/>
            <a:ext cx="40158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4D2DFC-9718-4E43-BB50-013D7CE93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40158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060280"/>
            <a:ext cx="40158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4183920"/>
            <a:ext cx="40158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B75B3B-C8F3-45C2-BCCC-0A2A80438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40158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2060280"/>
            <a:ext cx="40158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83920"/>
            <a:ext cx="82296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0FE8DE-01C5-41C2-A9A7-56B8883D3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4183920"/>
            <a:ext cx="82296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0AB87E-0EDA-4E46-8EB4-1D255481D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40158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2060280"/>
            <a:ext cx="40158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4183920"/>
            <a:ext cx="40158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4183920"/>
            <a:ext cx="40158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1BAFBC-FB53-437C-B0E8-5CA0D186E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26496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2060280"/>
            <a:ext cx="26496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2060280"/>
            <a:ext cx="26496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4183920"/>
            <a:ext cx="26496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4183920"/>
            <a:ext cx="26496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4183920"/>
            <a:ext cx="26496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DC99BD-D216-4D5A-BB29-1476D2229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40158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2060280"/>
            <a:ext cx="40158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C6D6E-F54D-4266-968D-2C0FEDCB7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420E3-11CE-4211-9F6F-3564F6038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B0EDB-42C1-4616-8C89-1A8628FF0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40158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2060280"/>
            <a:ext cx="40158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183920"/>
            <a:ext cx="40158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3B30A-218F-42BA-8544-C580BDBC4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40158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2060280"/>
            <a:ext cx="40158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183920"/>
            <a:ext cx="40158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20C60-9FF4-4277-9A75-4635937B8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40158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2060280"/>
            <a:ext cx="40158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183920"/>
            <a:ext cx="82296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4970B-89F7-466D-8D4E-63293199A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1025" descr="图片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47840" indent="447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96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43880" indent="-447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92080" indent="-896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92080" indent="-896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92080" indent="-896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29D63-0C96-4272-9486-432C1B4602D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6BB6E-044D-47F2-94BA-EEB838203656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036DD-CFB6-48BF-A9A4-9F1E7069EF58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图片 2049" descr="图片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47840" indent="447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96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43880" indent="-447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92080" indent="-896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92080" indent="-896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92080" indent="-896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3BEE2-A2AF-4B9A-91C9-67B53DE88AE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文本框 4098"/>
          <p:cNvSpPr/>
          <p:nvPr/>
        </p:nvSpPr>
        <p:spPr>
          <a:xfrm>
            <a:off x="324000" y="476280"/>
            <a:ext cx="864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文本框 1"/>
          <p:cNvSpPr/>
          <p:nvPr/>
        </p:nvSpPr>
        <p:spPr>
          <a:xfrm>
            <a:off x="612720" y="692280"/>
            <a:ext cx="729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水蓝背景报告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打包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02007-0584-4923-95C1-F2C3280B3641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题目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6836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内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文本框 8194"/>
          <p:cNvSpPr/>
          <p:nvPr/>
        </p:nvSpPr>
        <p:spPr>
          <a:xfrm>
            <a:off x="685800" y="328608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8T09:38:3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2-12T07:14:43Z</dcterms:modified>
  <cp:revision>5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00</vt:lpwstr>
  </property>
</Properties>
</file>