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7D1-985B-45D2-B9B6-16227E44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659-DD62-4964-B4EC-D2E7E2A5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2CA-34DA-4C33-A36C-E6D300B3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64A-B68B-4366-AB8F-E62986D4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B9F4-4123-4B47-9E22-3F842A6E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A847-CDE9-4348-AEF3-AC145265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238D-14CA-4ABF-AA04-24CFDAF0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9368-4D20-4097-BB3F-79E4B85A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A860-8F21-44FE-B51C-E72E2170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C5E6-B522-4FF8-B94E-6B63908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4CDE-94A6-4FCF-985A-708C9C1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115-E25F-49F9-9BB5-EDF2945C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610A-9507-45D3-B04D-EE18D87F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212E-BA8F-42F7-B759-AB5F1649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5D11-D319-47CF-A6F0-7C31CDC6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C4A7-3A65-4963-9DE5-29686546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B41C-56A5-4E64-B2CB-922EEFC4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DEFA3-FF37-4F6D-B2DB-F703B858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41CA-4DCF-4D79-99E2-8E93D590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488DD-C0DF-46C3-91DD-82D61723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CDEE3-76F7-434E-84C5-9B5627BB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0AC9-B628-474B-8172-75E2E484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FB4-9ED7-455B-8FB2-8CEEA338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5859-0234-499F-9118-88A06FE9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C3E28-C014-4D24-88DA-6F2F42E1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6094-E137-41BB-A4FE-0EA7F21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95C7-ECB0-40A4-A0C5-15739E36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78A0-A4D2-4224-AAA1-ED4BC9D7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6CDC-404D-489B-92B3-CE2ED0A7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83772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822840"/>
            <a:ext cx="274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1F8C-4570-4DDA-8DA5-32FB4105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B9B-28E4-49B5-86D9-4DFD6B42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59D-9FF5-47AE-9B6A-0A7AE1EA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851-B190-42BF-A834-DE919D03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0B1-E0F3-4F56-9DC2-0616DAA6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2284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159-6FB4-4318-ACE2-067E8711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498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837720"/>
            <a:ext cx="41644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22840"/>
            <a:ext cx="8534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328-168B-4E41-9706-5D7EA2F6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2CC0-E500-4A18-9BD6-09EAE781844D}" type="slidenum">
              <a:rPr b="1" lang="en-US" sz="10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496D-CD4B-4300-AA9B-446AC72A92E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4263-5E44-45C6-9924-8AE6D06125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86D4-F2FB-4E30-8A41-1438DC84121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aNo Build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334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845640" y="1295280"/>
            <a:ext cx="64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深蓝色科幻国外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800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53035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74D1-B172-4722-92E5-AF353568F5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6:3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5:12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