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AC8-49F0-4BB1-B6FE-946D1B6D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749-A972-4B5E-9D11-AE93425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EF2-3E2D-4C22-9B98-465189C5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32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64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32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464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024-D34A-4524-90C4-C8A8942F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6D67-0FE4-48DA-8449-638BD66D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C931-2178-4371-A7C2-B07EFF8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EB9-539E-46B6-A8FC-0D6F1338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645-A1D7-4E54-A9BF-17C0995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4BE-CA46-4A6F-A49C-868FF5D1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7238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5774-8D1E-4FB6-8DF4-2B9E56D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0412-AE7F-4C97-B0EA-B6A05BD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548-9F8F-40FC-9E5F-837A28B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99E-2BE8-44F3-B6B6-E9B71DD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9D66-7145-4757-9077-8AB61B9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A1C7-118C-4AB2-9ED6-99526F2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3AA3-5FC1-4D22-A15C-9A26A3F3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732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464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732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464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B23F-F434-474B-BED8-BB6A34DB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C2D-77B5-40D4-8835-E9E255A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D90-63DA-43C2-B0C6-84A4CB3B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BA6-3BFF-41D1-958E-47D90F2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7238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055-6BEB-477F-B25E-248B286E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83E-AABB-41AF-8B82-07FDC7B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C5D-B022-4839-910B-EC1BD26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390-40FB-47AE-9B5C-C5826BB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45720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 indent="-45720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4" marL="1828800" indent="-91440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5" marL="1828800" indent="-91440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6" marL="1828800" indent="-914400"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F11B-0540-4A46-A2A3-F2C33A66A1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9080" y="276120"/>
            <a:ext cx="8305920" cy="360"/>
            <a:chOff x="-19080" y="276120"/>
            <a:chExt cx="8305920" cy="360"/>
          </a:xfrm>
        </p:grpSpPr>
        <p:sp>
          <p:nvSpPr>
            <p:cNvPr id="6" name="直接连接符 1031"/>
            <p:cNvSpPr/>
            <p:nvPr/>
          </p:nvSpPr>
          <p:spPr>
            <a:xfrm>
              <a:off x="-19080" y="276120"/>
              <a:ext cx="8305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-19080" y="276120"/>
              <a:ext cx="830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9080" y="276120"/>
            <a:ext cx="8305920" cy="360"/>
            <a:chOff x="-19080" y="276120"/>
            <a:chExt cx="8305920" cy="360"/>
          </a:xfrm>
        </p:grpSpPr>
        <p:sp>
          <p:nvSpPr>
            <p:cNvPr id="45" name="直接连接符 7174"/>
            <p:cNvSpPr/>
            <p:nvPr/>
          </p:nvSpPr>
          <p:spPr>
            <a:xfrm>
              <a:off x="-19080" y="276120"/>
              <a:ext cx="8305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-19080" y="276120"/>
              <a:ext cx="830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45720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 indent="-45720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4" marL="1828800" indent="-91440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5" marL="1828800" indent="-91440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6" marL="1828800" indent="-914400"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812C-AB5A-49D7-BE8E-4BF9B20AA5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5028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Impact"/>
                <a:ea typeface="宋体"/>
              </a:rPr>
              <a:t>Dress to Impress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57146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itle Goes Her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690920" y="1557360"/>
            <a:ext cx="56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商务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宋体"/>
              </a:rPr>
              <a:t>Your subtopics go her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5028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Impact"/>
                <a:ea typeface="宋体"/>
              </a:rPr>
              <a:t>Transitional Page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57146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4d4d4d"/>
              </a:solidFill>
              <a:latin typeface="Franklin Gothic Demi"/>
              <a:ea typeface="宋体"/>
            </a:endParaRPr>
          </a:p>
        </p:txBody>
      </p:sp>
      <p:sp>
        <p:nvSpPr>
          <p:cNvPr id="9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0A98-FFCF-4A75-8360-1B09FAEF46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宋体"/>
              </a:rPr>
              <a:t>Your subtopics go her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