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757-0172-48F6-B2B5-4062415D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0A3-4ACA-4003-AF63-C9175F4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02A-23BE-4198-BBBA-77305582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B9C-E5C8-402E-8E0D-16BB586A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720-5EAF-4460-A264-0A2E39DA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F902-BE45-4C66-A357-B54E5B9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2EB-EBE3-4196-80F1-03176C8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B8C-F052-449C-9DE4-2808CFE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82F-7E05-465F-8A17-CBDF211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62064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C6D9-39FA-497A-822F-D8BB272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E09-0639-4C90-B21B-E1FE107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C32-2B27-42C6-A5EE-AFD2F8DA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D3A-4E9C-4B37-A37A-92B749A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7936-481E-4DA2-A93A-08AB606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F2F3-3B86-4C93-B603-A6266BD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336-2884-4893-9640-C3D46381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396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264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528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396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264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156-B762-42AD-A8C6-DE1AF85C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3D82-AC96-4C3B-A5F3-5C3186A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E2FC-0061-4C72-ACCD-E65EE5F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31E0-E99C-4300-BA58-AC7AAAF6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3C6C-120F-4748-8400-A5857638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10D4-061F-4A77-A324-58B0937D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F5F-8947-4B61-9BEC-B959A08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00000" y="62064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942F-8847-4CD9-ADD8-CE56206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E4F6-C066-41F3-987D-E821D1F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1DC9-54EA-4532-8E87-04512FF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9259-203B-4B1C-964B-B77FA54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11EB-0655-44E7-9104-08288D2D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53C3-60D7-4AFB-BEF2-B300F69F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96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2640" y="137160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528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96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92640" y="3958560"/>
            <a:ext cx="271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C010-E574-4E0F-B401-2E67F071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8C5-EAA4-44A2-AC1C-F9BD76E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93E-659C-4E4C-900B-375BD9D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62064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982-621E-4FF6-B8B6-7E137CE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78B-7195-4930-8147-E7A91BF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95856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8AF-564F-4F08-AF43-9572629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604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371600"/>
            <a:ext cx="411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958560"/>
            <a:ext cx="842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F58-D7C9-426C-8F07-AF45406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925560" y="669960"/>
            <a:ext cx="8218440" cy="565200"/>
          </a:xfrm>
          <a:prstGeom prst="rect">
            <a:avLst/>
          </a:prstGeom>
          <a:solidFill>
            <a:srgbClr val="85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1026"/>
          <p:cNvSpPr/>
          <p:nvPr/>
        </p:nvSpPr>
        <p:spPr>
          <a:xfrm>
            <a:off x="403200" y="165240"/>
            <a:ext cx="1015920" cy="1066680"/>
          </a:xfrm>
          <a:prstGeom prst="ellipse">
            <a:avLst/>
          </a:prstGeom>
          <a:solidFill>
            <a:srgbClr val="85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0" y="1440"/>
            <a:ext cx="9155160" cy="684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0" y="0"/>
            <a:ext cx="7699320" cy="609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7839000" y="152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굴림"/>
              </a:rPr>
              <a:t>L O G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a7f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b64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37D-9116-4A22-8A7C-11B85231105D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1F1-947C-4ADE-83E0-4FB3DCFDF1F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F4D5-E225-496B-BAB5-4DAAD62A04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049"/>
          <p:cNvSpPr/>
          <p:nvPr/>
        </p:nvSpPr>
        <p:spPr>
          <a:xfrm>
            <a:off x="1847880" y="343080"/>
            <a:ext cx="6267600" cy="2631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050"/>
          <p:cNvSpPr/>
          <p:nvPr/>
        </p:nvSpPr>
        <p:spPr>
          <a:xfrm>
            <a:off x="7599240" y="798480"/>
            <a:ext cx="1197000" cy="2176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051"/>
          <p:cNvSpPr/>
          <p:nvPr/>
        </p:nvSpPr>
        <p:spPr>
          <a:xfrm>
            <a:off x="7529400" y="333360"/>
            <a:ext cx="1290600" cy="128124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52"/>
          <p:cNvGrpSpPr/>
          <p:nvPr/>
        </p:nvGrpSpPr>
        <p:grpSpPr>
          <a:xfrm>
            <a:off x="1835280" y="3152880"/>
            <a:ext cx="6963840" cy="995400"/>
            <a:chOff x="1835280" y="3152880"/>
            <a:chExt cx="6963840" cy="995400"/>
          </a:xfrm>
        </p:grpSpPr>
        <p:sp>
          <p:nvSpPr>
            <p:cNvPr id="91" name="矩形 2053"/>
            <p:cNvSpPr/>
            <p:nvPr/>
          </p:nvSpPr>
          <p:spPr>
            <a:xfrm>
              <a:off x="2205360" y="3602160"/>
              <a:ext cx="6593760" cy="546120"/>
            </a:xfrm>
            <a:prstGeom prst="rect">
              <a:avLst/>
            </a:prstGeom>
            <a:solidFill>
              <a:srgbClr val="85b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2054"/>
            <p:cNvSpPr/>
            <p:nvPr/>
          </p:nvSpPr>
          <p:spPr>
            <a:xfrm>
              <a:off x="1835280" y="3152880"/>
              <a:ext cx="792720" cy="984240"/>
            </a:xfrm>
            <a:prstGeom prst="ellipse">
              <a:avLst/>
            </a:prstGeom>
            <a:solidFill>
              <a:srgbClr val="85b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055"/>
          <p:cNvSpPr/>
          <p:nvPr/>
        </p:nvSpPr>
        <p:spPr>
          <a:xfrm>
            <a:off x="1835280" y="3000240"/>
            <a:ext cx="697536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56"/>
          <p:cNvSpPr/>
          <p:nvPr/>
        </p:nvSpPr>
        <p:spPr>
          <a:xfrm>
            <a:off x="3995640" y="5589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굴림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57"/>
          <p:cNvSpPr/>
          <p:nvPr/>
        </p:nvSpPr>
        <p:spPr>
          <a:xfrm>
            <a:off x="338040" y="3003480"/>
            <a:ext cx="8439120" cy="12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063"/>
          <p:cNvSpPr/>
          <p:nvPr/>
        </p:nvSpPr>
        <p:spPr>
          <a:xfrm>
            <a:off x="352440" y="333360"/>
            <a:ext cx="8458200" cy="6172200"/>
          </a:xfrm>
          <a:prstGeom prst="roundRect">
            <a:avLst>
              <a:gd name="adj" fmla="val 9782"/>
            </a:avLst>
          </a:pr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424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a7f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b64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6A9-A0CB-4722-BA8A-DA19F4563D0B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23640" y="2924280"/>
            <a:ext cx="65516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对象 4098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33520" cy="474840"/>
          </a:xfrm>
          <a:prstGeom prst="rect">
            <a:avLst/>
          </a:prstGeom>
          <a:ln cap="sq" w="19080">
            <a:solidFill>
              <a:srgbClr val="ffffff"/>
            </a:solidFill>
            <a:miter/>
          </a:ln>
        </p:spPr>
      </p:pic>
      <p:pic>
        <p:nvPicPr>
          <p:cNvPr id="140" name="图片 4099" descr=""/>
          <p:cNvPicPr/>
          <p:nvPr/>
        </p:nvPicPr>
        <p:blipFill>
          <a:blip r:embed="rId2"/>
          <a:stretch/>
        </p:blipFill>
        <p:spPr>
          <a:xfrm>
            <a:off x="1547640" y="770040"/>
            <a:ext cx="533520" cy="4744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41" name="图片 4100" descr=""/>
          <p:cNvPicPr/>
          <p:nvPr/>
        </p:nvPicPr>
        <p:blipFill>
          <a:blip r:embed="rId3"/>
          <a:stretch/>
        </p:blipFill>
        <p:spPr>
          <a:xfrm>
            <a:off x="1547640" y="1379520"/>
            <a:ext cx="533520" cy="474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2" name="文本框 410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640" y="3645000"/>
            <a:ext cx="6480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文本框 4103"/>
          <p:cNvSpPr/>
          <p:nvPr/>
        </p:nvSpPr>
        <p:spPr>
          <a:xfrm>
            <a:off x="3306960" y="981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商务会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3AC-04AA-4BD5-9297-9DB99F1872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3313"/>
          <p:cNvSpPr txBox="1"/>
          <p:nvPr/>
        </p:nvSpPr>
        <p:spPr>
          <a:xfrm>
            <a:off x="2484360" y="2565360"/>
            <a:ext cx="583272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76a7f0"/>
                    </a:gs>
                    <a:gs pos="100000">
                      <a:srgbClr val="000000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76a7f0"/>
                  </a:gs>
                  <a:gs pos="100000">
                    <a:srgbClr val="000000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95640" y="3645000"/>
            <a:ext cx="6480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圆角矩形 5122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5123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4d6f"/>
              </a:gs>
              <a:gs pos="50000">
                <a:srgbClr val="76a7f0"/>
              </a:gs>
              <a:gs pos="100000">
                <a:srgbClr val="374d6f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.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5124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. Challeng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5125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5422"/>
              </a:gs>
              <a:gs pos="50000">
                <a:srgbClr val="85b64a"/>
              </a:gs>
              <a:gs pos="100000">
                <a:srgbClr val="3e54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704960"/>
            <a:ext cx="8255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a7f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굴림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 the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굴림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menu, point to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굴림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then click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굴림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2428920"/>
          <a:ext cx="7764480" cy="2738520"/>
        </p:xfrm>
        <a:graphic>
          <a:graphicData uri="http://schemas.openxmlformats.org/drawingml/2006/table">
            <a:tbl>
              <a:tblPr/>
              <a:tblGrid>
                <a:gridCol w="1552680"/>
                <a:gridCol w="1554120"/>
                <a:gridCol w="1550880"/>
                <a:gridCol w="1554120"/>
                <a:gridCol w="1552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100000">
                          <a:srgbClr val="0066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100000">
                          <a:srgbClr val="0066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100000">
                          <a:srgbClr val="0066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100000">
                          <a:srgbClr val="0066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100000">
                          <a:srgbClr val="0066cc"/>
                        </a:gs>
                      </a:gsLst>
                      <a:lin ang="5400000"/>
                    </a:gra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b6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b6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b6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b6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eaeaea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 8193"/>
          <p:cNvSpPr/>
          <p:nvPr/>
        </p:nvSpPr>
        <p:spPr>
          <a:xfrm rot="20239200">
            <a:off x="1218960" y="2363400"/>
            <a:ext cx="651960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8194"/>
          <p:cNvSpPr/>
          <p:nvPr/>
        </p:nvSpPr>
        <p:spPr>
          <a:xfrm rot="20240400">
            <a:off x="1358640" y="257292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椭圆 8196"/>
          <p:cNvSpPr/>
          <p:nvPr/>
        </p:nvSpPr>
        <p:spPr>
          <a:xfrm>
            <a:off x="139716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8197"/>
          <p:cNvSpPr/>
          <p:nvPr/>
        </p:nvSpPr>
        <p:spPr>
          <a:xfrm>
            <a:off x="3657600" y="15256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85b64a"/>
              </a:gs>
              <a:gs pos="100000">
                <a:srgbClr val="2e3f1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8198"/>
          <p:cNvSpPr/>
          <p:nvPr/>
        </p:nvSpPr>
        <p:spPr>
          <a:xfrm>
            <a:off x="6502320" y="19828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4635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8199"/>
          <p:cNvSpPr/>
          <p:nvPr/>
        </p:nvSpPr>
        <p:spPr>
          <a:xfrm>
            <a:off x="1828800" y="48020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8200"/>
          <p:cNvSpPr/>
          <p:nvPr/>
        </p:nvSpPr>
        <p:spPr>
          <a:xfrm>
            <a:off x="482616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4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201"/>
          <p:cNvSpPr/>
          <p:nvPr/>
        </p:nvSpPr>
        <p:spPr>
          <a:xfrm>
            <a:off x="360684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圆角矩形 9218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a7f0"/>
              </a:gs>
              <a:gs pos="100000">
                <a:srgbClr val="374d6f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9219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6cc"/>
              </a:gs>
              <a:gs pos="100000">
                <a:srgbClr val="002b5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9220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9221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00006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9222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0066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燕尾形 9223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76a7f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圆角矩形 10242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0243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0244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0245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0246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76" name="矩形 10247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85b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10248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78" name="椭圆 10249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10250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10251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10252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矩形 10253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76a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10254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84" name="椭圆 10255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10256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10257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10258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矩形 10259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85b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10260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90" name="椭圆 10261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10262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10263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10264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0265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76a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圆角矩形 10266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10267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10268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10269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内容占位符 11266" descr=""/>
          <p:cNvPicPr/>
          <p:nvPr/>
        </p:nvPicPr>
        <p:blipFill>
          <a:blip r:embed="rId1"/>
          <a:stretch/>
        </p:blipFill>
        <p:spPr>
          <a:xfrm>
            <a:off x="1619280" y="1490760"/>
            <a:ext cx="5832360" cy="491004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1267"/>
          <p:cNvSpPr/>
          <p:nvPr/>
        </p:nvSpPr>
        <p:spPr>
          <a:xfrm>
            <a:off x="828720" y="134136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椭圆 12290"/>
          <p:cNvSpPr/>
          <p:nvPr/>
        </p:nvSpPr>
        <p:spPr>
          <a:xfrm>
            <a:off x="2362320" y="44798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2291"/>
          <p:cNvSpPr/>
          <p:nvPr/>
        </p:nvSpPr>
        <p:spPr>
          <a:xfrm rot="20601600">
            <a:off x="1636560" y="236664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2292"/>
          <p:cNvSpPr/>
          <p:nvPr/>
        </p:nvSpPr>
        <p:spPr>
          <a:xfrm rot="20601600">
            <a:off x="1699920" y="2212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826100"/>
              </a:gs>
              <a:gs pos="100000">
                <a:srgbClr val="cc99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2293"/>
          <p:cNvSpPr/>
          <p:nvPr/>
        </p:nvSpPr>
        <p:spPr>
          <a:xfrm rot="20601600">
            <a:off x="4565520" y="32767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2294"/>
          <p:cNvSpPr/>
          <p:nvPr/>
        </p:nvSpPr>
        <p:spPr>
          <a:xfrm rot="20601600">
            <a:off x="4341960" y="228276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76a7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12295"/>
          <p:cNvSpPr/>
          <p:nvPr/>
        </p:nvSpPr>
        <p:spPr>
          <a:xfrm flipH="1" rot="20602200">
            <a:off x="1746720" y="359532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2296"/>
          <p:cNvSpPr/>
          <p:nvPr/>
        </p:nvSpPr>
        <p:spPr>
          <a:xfrm rot="20601600">
            <a:off x="3600360" y="201924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2297"/>
          <p:cNvSpPr/>
          <p:nvPr/>
        </p:nvSpPr>
        <p:spPr>
          <a:xfrm flipH="1" rot="20602200">
            <a:off x="1561680" y="26636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298"/>
          <p:cNvSpPr/>
          <p:nvPr/>
        </p:nvSpPr>
        <p:spPr>
          <a:xfrm rot="20601600">
            <a:off x="4681440" y="35258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2299"/>
          <p:cNvSpPr/>
          <p:nvPr/>
        </p:nvSpPr>
        <p:spPr>
          <a:xfrm rot="20601600">
            <a:off x="4574880" y="32731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12300"/>
          <p:cNvGrpSpPr/>
          <p:nvPr/>
        </p:nvGrpSpPr>
        <p:grpSpPr>
          <a:xfrm>
            <a:off x="4163400" y="2949840"/>
            <a:ext cx="3251520" cy="2231280"/>
            <a:chOff x="4163400" y="2949840"/>
            <a:chExt cx="3251520" cy="2231280"/>
          </a:xfrm>
        </p:grpSpPr>
        <p:sp>
          <p:nvSpPr>
            <p:cNvPr id="214" name="任意多边形 12301"/>
            <p:cNvSpPr/>
            <p:nvPr/>
          </p:nvSpPr>
          <p:spPr>
            <a:xfrm rot="20712600">
              <a:off x="4276800" y="330480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12302"/>
            <p:cNvSpPr/>
            <p:nvPr/>
          </p:nvSpPr>
          <p:spPr>
            <a:xfrm rot="20712600">
              <a:off x="4360680" y="34938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2303"/>
            <p:cNvSpPr/>
            <p:nvPr/>
          </p:nvSpPr>
          <p:spPr>
            <a:xfrm rot="20712600">
              <a:off x="5736600" y="36619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任意多边形 12304"/>
          <p:cNvSpPr/>
          <p:nvPr/>
        </p:nvSpPr>
        <p:spPr>
          <a:xfrm rot="20601600">
            <a:off x="6248160" y="356508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2305"/>
          <p:cNvSpPr/>
          <p:nvPr/>
        </p:nvSpPr>
        <p:spPr>
          <a:xfrm rot="20539200">
            <a:off x="4800240" y="3184200"/>
            <a:ext cx="2905200" cy="139680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12306"/>
          <p:cNvSpPr/>
          <p:nvPr/>
        </p:nvSpPr>
        <p:spPr>
          <a:xfrm rot="20601600">
            <a:off x="4933440" y="3476160"/>
            <a:ext cx="1359000" cy="159408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2307"/>
          <p:cNvSpPr/>
          <p:nvPr/>
        </p:nvSpPr>
        <p:spPr>
          <a:xfrm rot="20601600">
            <a:off x="3154320" y="29188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ececec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2308"/>
          <p:cNvSpPr/>
          <p:nvPr/>
        </p:nvSpPr>
        <p:spPr>
          <a:xfrm rot="20601600">
            <a:off x="3254400" y="317196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2309"/>
          <p:cNvSpPr/>
          <p:nvPr/>
        </p:nvSpPr>
        <p:spPr>
          <a:xfrm>
            <a:off x="2362320" y="30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2310"/>
          <p:cNvSpPr/>
          <p:nvPr/>
        </p:nvSpPr>
        <p:spPr>
          <a:xfrm>
            <a:off x="4114800" y="217476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2311"/>
          <p:cNvSpPr/>
          <p:nvPr/>
        </p:nvSpPr>
        <p:spPr>
          <a:xfrm>
            <a:off x="5715000" y="2631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12312"/>
          <p:cNvSpPr/>
          <p:nvPr/>
        </p:nvSpPr>
        <p:spPr>
          <a:xfrm>
            <a:off x="5715000" y="362268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12313"/>
          <p:cNvSpPr/>
          <p:nvPr/>
        </p:nvSpPr>
        <p:spPr>
          <a:xfrm>
            <a:off x="2209680" y="423216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2314"/>
          <p:cNvSpPr/>
          <p:nvPr/>
        </p:nvSpPr>
        <p:spPr>
          <a:xfrm>
            <a:off x="3886200" y="44607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5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1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