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45F-2B81-4D7A-86B9-5499323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846-E667-486D-AEC1-1299A4B8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850-10BD-4AB4-9DF8-C5E07D3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667-6E2B-47E5-9ED5-B6C19C84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0DA-4B5A-419F-BE04-650B573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24E-D39A-45AC-9859-307CC55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841-02DE-4D6A-8D03-F36B79D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1CD-E124-4578-8915-F3D7FEA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9D7-3328-4A83-8F55-456651D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2F8-AA5C-47F6-9D7E-F23D49A9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099-5A4E-44AB-8EBC-1D2740E9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81D-ECAD-4411-BCB2-F78DA0A0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B7F9-D93E-47FE-BA21-728EA52F412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E8AA-2073-490D-AF27-50C80BB843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Your Headline Here</a:t>
            </a: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Subtitle He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33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014200" y="6858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商务商业报告</a:t>
            </a:r>
            <a:r>
              <a:rPr b="0" lang="en-US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PPT</a:t>
            </a:r>
            <a:r>
              <a:rPr b="0" lang="zh-CN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模板打包下载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BFA-D6AC-416A-B08E-1A8F2FE7B480}" type="slidenum">
              <a:rPr b="0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