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9015-D163-4D58-9BDE-8F06C3262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E8FD-C079-420E-A857-37781DECE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8DC1-4E4F-4F99-8219-461BA13F3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FB4A-D51E-46CB-A9A5-2AA814A29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F4E6-E7DD-4E66-A43E-954896BDE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0" y="7632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B239-2DED-4EA5-B865-97AFC7C9E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2643-053F-4D83-9002-E181ABD95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6AD5-78D2-44E4-879E-548D2B101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9EC8-A66E-4D23-B96C-3CBA37957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56BC-FA7E-4113-8834-6CF38201E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2148-3A87-4005-ABEE-F7C775DE6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6AAF-619F-4A43-95EE-E273CADE5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7632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025"/>
          <p:cNvSpPr/>
          <p:nvPr/>
        </p:nvSpPr>
        <p:spPr>
          <a:xfrm>
            <a:off x="1176480" y="755640"/>
            <a:ext cx="71611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3CFF7-A594-4832-83B5-7E869451EC79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3BFB6-1E1A-42DB-878A-A243E909EB8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 Part Concep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椭圆 4098"/>
          <p:cNvSpPr/>
          <p:nvPr/>
        </p:nvSpPr>
        <p:spPr>
          <a:xfrm>
            <a:off x="2084400" y="1017720"/>
            <a:ext cx="4987800" cy="4822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1" name="任意多边形 4099"/>
          <p:cNvSpPr/>
          <p:nvPr/>
        </p:nvSpPr>
        <p:spPr>
          <a:xfrm>
            <a:off x="4843440" y="1857240"/>
            <a:ext cx="2324160" cy="3149640"/>
          </a:xfrm>
          <a:custGeom>
            <a:avLst/>
            <a:gdLst/>
            <a:ahLst/>
            <a:rect l="l" t="t" r="r" b="b"/>
            <a:pathLst>
              <a:path fill="none" w="21600" h="30561">
                <a:moveTo>
                  <a:pt x="15261" y="0"/>
                </a:moveTo>
                <a:cubicBezTo>
                  <a:pt x="19177" y="3910"/>
                  <a:pt x="21600" y="9315"/>
                  <a:pt x="21600" y="15286"/>
                </a:cubicBezTo>
                <a:cubicBezTo>
                  <a:pt x="21600" y="21252"/>
                  <a:pt x="19182" y="26653"/>
                  <a:pt x="15272" y="30562"/>
                </a:cubicBezTo>
              </a:path>
              <a:path stroke="0" w="21600" h="30561">
                <a:moveTo>
                  <a:pt x="15271" y="30561"/>
                </a:moveTo>
                <a:cubicBezTo>
                  <a:pt x="15602" y="33471"/>
                  <a:pt x="15794" y="36960"/>
                  <a:pt x="15794" y="40711"/>
                </a:cubicBezTo>
                <a:cubicBezTo>
                  <a:pt x="15794" y="41372"/>
                  <a:pt x="15788" y="42024"/>
                  <a:pt x="15776" y="42662"/>
                </a:cubicBezTo>
                <a:lnTo>
                  <a:pt x="15261" y="0"/>
                </a:lnTo>
                <a:close/>
              </a:path>
            </a:pathLst>
          </a:custGeom>
          <a:solidFill>
            <a:srgbClr val="d49fff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2" name="任意多边形 4100"/>
          <p:cNvSpPr/>
          <p:nvPr/>
        </p:nvSpPr>
        <p:spPr>
          <a:xfrm>
            <a:off x="2936880" y="3691080"/>
            <a:ext cx="3286080" cy="2226960"/>
          </a:xfrm>
          <a:custGeom>
            <a:avLst/>
            <a:gdLst/>
            <a:ahLst/>
            <a:rect l="l" t="t" r="r" b="b"/>
            <a:pathLst>
              <a:path fill="none" w="30554" h="21600">
                <a:moveTo>
                  <a:pt x="30553" y="15275"/>
                </a:moveTo>
                <a:cubicBezTo>
                  <a:pt x="26644" y="19182"/>
                  <a:pt x="21245" y="21599"/>
                  <a:pt x="15281" y="21599"/>
                </a:cubicBezTo>
                <a:cubicBezTo>
                  <a:pt x="9312" y="21599"/>
                  <a:pt x="3908" y="19178"/>
                  <a:pt x="-2" y="15264"/>
                </a:cubicBezTo>
              </a:path>
              <a:path stroke="0" w="30554" h="21600">
                <a:moveTo>
                  <a:pt x="0" y="15264"/>
                </a:moveTo>
                <a:cubicBezTo>
                  <a:pt x="-70" y="16020"/>
                  <a:pt x="-406" y="16698"/>
                  <a:pt x="-913" y="17205"/>
                </a:cubicBezTo>
                <a:lnTo>
                  <a:pt x="30553" y="15275"/>
                </a:lnTo>
                <a:close/>
              </a:path>
            </a:pathLst>
          </a:custGeom>
          <a:solidFill>
            <a:srgbClr val="61b2fb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3" name="任意多边形 4101"/>
          <p:cNvSpPr/>
          <p:nvPr/>
        </p:nvSpPr>
        <p:spPr>
          <a:xfrm>
            <a:off x="2008080" y="1857240"/>
            <a:ext cx="2324160" cy="3148200"/>
          </a:xfrm>
          <a:custGeom>
            <a:avLst/>
            <a:gdLst/>
            <a:ahLst/>
            <a:rect l="l" t="t" r="r" b="b"/>
            <a:pathLst>
              <a:path fill="none" w="21600" h="30540">
                <a:moveTo>
                  <a:pt x="6317" y="30539"/>
                </a:moveTo>
                <a:cubicBezTo>
                  <a:pt x="2414" y="26631"/>
                  <a:pt x="0" y="21235"/>
                  <a:pt x="0" y="15275"/>
                </a:cubicBezTo>
                <a:cubicBezTo>
                  <a:pt x="0" y="9310"/>
                  <a:pt x="2418" y="3909"/>
                  <a:pt x="6328" y="0"/>
                </a:cubicBezTo>
              </a:path>
              <a:path stroke="0" w="21600" h="30540">
                <a:moveTo>
                  <a:pt x="6328" y="0"/>
                </a:moveTo>
                <a:cubicBezTo>
                  <a:pt x="5761" y="9"/>
                  <a:pt x="5185" y="14"/>
                  <a:pt x="4603" y="14"/>
                </a:cubicBezTo>
                <a:cubicBezTo>
                  <a:pt x="-5582" y="14"/>
                  <a:pt x="-13838" y="-1404"/>
                  <a:pt x="-13838" y="-3154"/>
                </a:cubicBezTo>
                <a:cubicBezTo>
                  <a:pt x="-13838" y="-4904"/>
                  <a:pt x="-5582" y="-6322"/>
                  <a:pt x="4603" y="-6322"/>
                </a:cubicBezTo>
                <a:cubicBezTo>
                  <a:pt x="14788" y="-6322"/>
                  <a:pt x="23044" y="-4904"/>
                  <a:pt x="23044" y="-3154"/>
                </a:cubicBezTo>
                <a:cubicBezTo>
                  <a:pt x="23044" y="-1518"/>
                  <a:pt x="15821" y="-171"/>
                  <a:pt x="6558" y="-4"/>
                </a:cubicBezTo>
                <a:lnTo>
                  <a:pt x="6317" y="30539"/>
                </a:lnTo>
                <a:close/>
              </a:path>
            </a:pathLst>
          </a:custGeom>
          <a:solidFill>
            <a:srgbClr val="a3a9fd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4" name="任意多边形 4102"/>
          <p:cNvSpPr/>
          <p:nvPr/>
        </p:nvSpPr>
        <p:spPr>
          <a:xfrm>
            <a:off x="2938320" y="974880"/>
            <a:ext cx="3284640" cy="2226960"/>
          </a:xfrm>
          <a:custGeom>
            <a:avLst/>
            <a:gdLst/>
            <a:ahLst/>
            <a:rect l="l" t="t" r="r" b="b"/>
            <a:pathLst>
              <a:path fill="none" w="30535" h="21600">
                <a:moveTo>
                  <a:pt x="0" y="6322"/>
                </a:moveTo>
                <a:cubicBezTo>
                  <a:pt x="3909" y="2416"/>
                  <a:pt x="9307" y="0"/>
                  <a:pt x="15270" y="0"/>
                </a:cubicBezTo>
                <a:cubicBezTo>
                  <a:pt x="21230" y="0"/>
                  <a:pt x="26626" y="2414"/>
                  <a:pt x="30534" y="6317"/>
                </a:cubicBezTo>
              </a:path>
              <a:path stroke="0" w="30535" h="21600">
                <a:moveTo>
                  <a:pt x="30534" y="6317"/>
                </a:moveTo>
                <a:cubicBezTo>
                  <a:pt x="25520" y="3022"/>
                  <a:pt x="22212" y="-2653"/>
                  <a:pt x="22212" y="-9100"/>
                </a:cubicBezTo>
                <a:cubicBezTo>
                  <a:pt x="22212" y="-19284"/>
                  <a:pt x="30466" y="-27539"/>
                  <a:pt x="40647" y="-27539"/>
                </a:cubicBezTo>
                <a:cubicBezTo>
                  <a:pt x="50828" y="-27539"/>
                  <a:pt x="59082" y="-19284"/>
                  <a:pt x="59082" y="-9100"/>
                </a:cubicBezTo>
                <a:cubicBezTo>
                  <a:pt x="59082" y="-4009"/>
                  <a:pt x="57020" y="599"/>
                  <a:pt x="53685" y="3936"/>
                </a:cubicBezTo>
                <a:lnTo>
                  <a:pt x="0" y="6322"/>
                </a:lnTo>
                <a:close/>
              </a:path>
            </a:pathLst>
          </a:custGeom>
          <a:solidFill>
            <a:srgbClr val="47e0ff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5" name="椭圆 4103"/>
          <p:cNvSpPr/>
          <p:nvPr/>
        </p:nvSpPr>
        <p:spPr>
          <a:xfrm>
            <a:off x="3517920" y="2419200"/>
            <a:ext cx="2120760" cy="2019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4 pt 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6" name="矩形 4104"/>
          <p:cNvSpPr/>
          <p:nvPr/>
        </p:nvSpPr>
        <p:spPr>
          <a:xfrm>
            <a:off x="3774240" y="1197000"/>
            <a:ext cx="1608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4 pt 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7" name="矩形 4105"/>
          <p:cNvSpPr/>
          <p:nvPr/>
        </p:nvSpPr>
        <p:spPr>
          <a:xfrm>
            <a:off x="3774240" y="5213520"/>
            <a:ext cx="1608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4 pt 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8" name="矩形 4106"/>
          <p:cNvSpPr/>
          <p:nvPr/>
        </p:nvSpPr>
        <p:spPr>
          <a:xfrm>
            <a:off x="2170440" y="3138480"/>
            <a:ext cx="982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4 pt 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9" name="矩形 4107"/>
          <p:cNvSpPr/>
          <p:nvPr/>
        </p:nvSpPr>
        <p:spPr>
          <a:xfrm>
            <a:off x="5955120" y="3157560"/>
            <a:ext cx="982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4 pt 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0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1" name="文本框 1"/>
          <p:cNvSpPr/>
          <p:nvPr/>
        </p:nvSpPr>
        <p:spPr>
          <a:xfrm>
            <a:off x="1789200" y="2068560"/>
            <a:ext cx="558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Gulim"/>
                <a:ea typeface="굴림"/>
              </a:rPr>
              <a:t>商务商业数据报告</a:t>
            </a:r>
            <a:r>
              <a:rPr b="0" lang="en-US" sz="4000" spc="-1" strike="noStrike">
                <a:solidFill>
                  <a:srgbClr val="000000"/>
                </a:solidFill>
                <a:latin typeface="Gulim"/>
                <a:ea typeface="굴림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Gulim"/>
                <a:ea typeface="굴림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 Text Circles w Cent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十六角星 13314"/>
          <p:cNvSpPr/>
          <p:nvPr/>
        </p:nvSpPr>
        <p:spPr>
          <a:xfrm>
            <a:off x="1986120" y="1389240"/>
            <a:ext cx="5074920" cy="4601880"/>
          </a:xfrm>
          <a:custGeom>
            <a:avLst/>
            <a:gdLst>
              <a:gd name="textAreaLeft" fmla="*/ 1191600 w 5074920"/>
              <a:gd name="textAreaRight" fmla="*/ 3883320 w 5074920"/>
              <a:gd name="textAreaTop" fmla="*/ 1080720 h 4601880"/>
              <a:gd name="textAreaBottom" fmla="*/ 3521160 h 4601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849" y="12346"/>
                </a:lnTo>
                <a:lnTo>
                  <a:pt x="786" y="14846"/>
                </a:lnTo>
                <a:lnTo>
                  <a:pt x="4007" y="15212"/>
                </a:lnTo>
                <a:lnTo>
                  <a:pt x="3163" y="18437"/>
                </a:lnTo>
                <a:lnTo>
                  <a:pt x="6271" y="17515"/>
                </a:lnTo>
                <a:lnTo>
                  <a:pt x="6580" y="20741"/>
                </a:lnTo>
                <a:lnTo>
                  <a:pt x="9116" y="18723"/>
                </a:lnTo>
                <a:lnTo>
                  <a:pt x="10800" y="21600"/>
                </a:lnTo>
                <a:lnTo>
                  <a:pt x="12346" y="18751"/>
                </a:lnTo>
                <a:lnTo>
                  <a:pt x="14846" y="20814"/>
                </a:lnTo>
                <a:lnTo>
                  <a:pt x="15212" y="17593"/>
                </a:lnTo>
                <a:lnTo>
                  <a:pt x="18437" y="18437"/>
                </a:lnTo>
                <a:lnTo>
                  <a:pt x="17515" y="15329"/>
                </a:lnTo>
                <a:lnTo>
                  <a:pt x="20741" y="15020"/>
                </a:lnTo>
                <a:lnTo>
                  <a:pt x="18723" y="12484"/>
                </a:lnTo>
                <a:lnTo>
                  <a:pt x="21600" y="10800"/>
                </a:lnTo>
                <a:lnTo>
                  <a:pt x="18751" y="9254"/>
                </a:lnTo>
                <a:lnTo>
                  <a:pt x="20814" y="6754"/>
                </a:lnTo>
                <a:lnTo>
                  <a:pt x="17593" y="6388"/>
                </a:lnTo>
                <a:lnTo>
                  <a:pt x="18437" y="3163"/>
                </a:lnTo>
                <a:lnTo>
                  <a:pt x="15329" y="4085"/>
                </a:lnTo>
                <a:lnTo>
                  <a:pt x="15020" y="859"/>
                </a:lnTo>
                <a:lnTo>
                  <a:pt x="12484" y="2877"/>
                </a:lnTo>
                <a:lnTo>
                  <a:pt x="10800" y="0"/>
                </a:lnTo>
                <a:lnTo>
                  <a:pt x="9254" y="2849"/>
                </a:lnTo>
                <a:lnTo>
                  <a:pt x="6754" y="786"/>
                </a:lnTo>
                <a:lnTo>
                  <a:pt x="6388" y="4007"/>
                </a:lnTo>
                <a:lnTo>
                  <a:pt x="3163" y="3163"/>
                </a:lnTo>
                <a:lnTo>
                  <a:pt x="4085" y="6271"/>
                </a:lnTo>
                <a:lnTo>
                  <a:pt x="859" y="6580"/>
                </a:lnTo>
                <a:lnTo>
                  <a:pt x="2877" y="9116"/>
                </a:lnTo>
                <a:lnTo>
                  <a:pt x="0" y="10800"/>
                </a:lnTo>
                <a:close/>
              </a:path>
            </a:pathLst>
          </a:custGeom>
          <a:solidFill>
            <a:srgbClr val="dadada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9" name="椭圆 13315"/>
          <p:cNvSpPr/>
          <p:nvPr/>
        </p:nvSpPr>
        <p:spPr>
          <a:xfrm>
            <a:off x="3384720" y="4719600"/>
            <a:ext cx="2253960" cy="1757520"/>
          </a:xfrm>
          <a:prstGeom prst="ellipse">
            <a:avLst/>
          </a:prstGeom>
          <a:solidFill>
            <a:srgbClr val="fda4b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0" name="椭圆 13316"/>
          <p:cNvSpPr/>
          <p:nvPr/>
        </p:nvSpPr>
        <p:spPr>
          <a:xfrm>
            <a:off x="1066680" y="3247920"/>
            <a:ext cx="2254320" cy="1757520"/>
          </a:xfrm>
          <a:prstGeom prst="ellipse">
            <a:avLst/>
          </a:prstGeom>
          <a:solidFill>
            <a:srgbClr val="a3a9f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1" name="椭圆 13317"/>
          <p:cNvSpPr/>
          <p:nvPr/>
        </p:nvSpPr>
        <p:spPr>
          <a:xfrm>
            <a:off x="2081160" y="1295280"/>
            <a:ext cx="2255760" cy="1757520"/>
          </a:xfrm>
          <a:prstGeom prst="ellipse">
            <a:avLst/>
          </a:prstGeom>
          <a:solidFill>
            <a:srgbClr val="47e0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2" name="椭圆 13318"/>
          <p:cNvSpPr/>
          <p:nvPr/>
        </p:nvSpPr>
        <p:spPr>
          <a:xfrm>
            <a:off x="5670720" y="3247920"/>
            <a:ext cx="2253960" cy="1757520"/>
          </a:xfrm>
          <a:prstGeom prst="ellipse">
            <a:avLst/>
          </a:prstGeom>
          <a:solidFill>
            <a:srgbClr val="d49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3" name="椭圆 13319"/>
          <p:cNvSpPr/>
          <p:nvPr/>
        </p:nvSpPr>
        <p:spPr>
          <a:xfrm>
            <a:off x="4711680" y="1295280"/>
            <a:ext cx="2252520" cy="1757520"/>
          </a:xfrm>
          <a:prstGeom prst="ellipse">
            <a:avLst/>
          </a:prstGeom>
          <a:solidFill>
            <a:srgbClr val="61b2f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4" name="十六角星 13320"/>
          <p:cNvSpPr/>
          <p:nvPr/>
        </p:nvSpPr>
        <p:spPr>
          <a:xfrm>
            <a:off x="3349800" y="2727360"/>
            <a:ext cx="2350800" cy="1927080"/>
          </a:xfrm>
          <a:custGeom>
            <a:avLst/>
            <a:gdLst>
              <a:gd name="textAreaLeft" fmla="*/ 551880 w 2350800"/>
              <a:gd name="textAreaRight" fmla="*/ 1798920 w 2350800"/>
              <a:gd name="textAreaTop" fmla="*/ 452520 h 1927080"/>
              <a:gd name="textAreaBottom" fmla="*/ 1474560 h 1927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849" y="12346"/>
                </a:lnTo>
                <a:lnTo>
                  <a:pt x="786" y="14846"/>
                </a:lnTo>
                <a:lnTo>
                  <a:pt x="4007" y="15212"/>
                </a:lnTo>
                <a:lnTo>
                  <a:pt x="3163" y="18437"/>
                </a:lnTo>
                <a:lnTo>
                  <a:pt x="6271" y="17515"/>
                </a:lnTo>
                <a:lnTo>
                  <a:pt x="6580" y="20741"/>
                </a:lnTo>
                <a:lnTo>
                  <a:pt x="9116" y="18723"/>
                </a:lnTo>
                <a:lnTo>
                  <a:pt x="10800" y="21600"/>
                </a:lnTo>
                <a:lnTo>
                  <a:pt x="12346" y="18751"/>
                </a:lnTo>
                <a:lnTo>
                  <a:pt x="14846" y="20814"/>
                </a:lnTo>
                <a:lnTo>
                  <a:pt x="15212" y="17593"/>
                </a:lnTo>
                <a:lnTo>
                  <a:pt x="18437" y="18437"/>
                </a:lnTo>
                <a:lnTo>
                  <a:pt x="17515" y="15329"/>
                </a:lnTo>
                <a:lnTo>
                  <a:pt x="20741" y="15020"/>
                </a:lnTo>
                <a:lnTo>
                  <a:pt x="18723" y="12484"/>
                </a:lnTo>
                <a:lnTo>
                  <a:pt x="21600" y="10800"/>
                </a:lnTo>
                <a:lnTo>
                  <a:pt x="18751" y="9254"/>
                </a:lnTo>
                <a:lnTo>
                  <a:pt x="20814" y="6754"/>
                </a:lnTo>
                <a:lnTo>
                  <a:pt x="17593" y="6388"/>
                </a:lnTo>
                <a:lnTo>
                  <a:pt x="18437" y="3163"/>
                </a:lnTo>
                <a:lnTo>
                  <a:pt x="15329" y="4085"/>
                </a:lnTo>
                <a:lnTo>
                  <a:pt x="15020" y="859"/>
                </a:lnTo>
                <a:lnTo>
                  <a:pt x="12484" y="2877"/>
                </a:lnTo>
                <a:lnTo>
                  <a:pt x="10800" y="0"/>
                </a:lnTo>
                <a:lnTo>
                  <a:pt x="9254" y="2849"/>
                </a:lnTo>
                <a:lnTo>
                  <a:pt x="6754" y="786"/>
                </a:lnTo>
                <a:lnTo>
                  <a:pt x="6388" y="4007"/>
                </a:lnTo>
                <a:lnTo>
                  <a:pt x="3163" y="3163"/>
                </a:lnTo>
                <a:lnTo>
                  <a:pt x="4085" y="6271"/>
                </a:lnTo>
                <a:lnTo>
                  <a:pt x="859" y="6580"/>
                </a:lnTo>
                <a:lnTo>
                  <a:pt x="2877" y="9116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49320" bIns="493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98640"/>
                <a:tab algn="l" pos="1996920"/>
                <a:tab algn="l" pos="2995560"/>
                <a:tab algn="l" pos="3994200"/>
                <a:tab algn="l" pos="4992840"/>
                <a:tab algn="l" pos="5991120"/>
                <a:tab algn="l" pos="6989760"/>
                <a:tab algn="l" pos="7988400"/>
                <a:tab algn="l" pos="8986680"/>
                <a:tab algn="l" pos="99853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98640"/>
                <a:tab algn="l" pos="1996920"/>
                <a:tab algn="l" pos="2995560"/>
                <a:tab algn="l" pos="3994200"/>
                <a:tab algn="l" pos="4992840"/>
                <a:tab algn="l" pos="5991120"/>
                <a:tab algn="l" pos="6989760"/>
                <a:tab algn="l" pos="7988400"/>
                <a:tab algn="l" pos="8986680"/>
                <a:tab algn="l" pos="99853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98640"/>
                <a:tab algn="l" pos="1996920"/>
                <a:tab algn="l" pos="2995560"/>
                <a:tab algn="l" pos="3994200"/>
                <a:tab algn="l" pos="4992840"/>
                <a:tab algn="l" pos="5991120"/>
                <a:tab algn="l" pos="6989760"/>
                <a:tab algn="l" pos="7988400"/>
                <a:tab algn="l" pos="8986680"/>
                <a:tab algn="l" pos="99853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十六角星 14337"/>
          <p:cNvSpPr/>
          <p:nvPr/>
        </p:nvSpPr>
        <p:spPr>
          <a:xfrm>
            <a:off x="1828800" y="777960"/>
            <a:ext cx="5297400" cy="5343480"/>
          </a:xfrm>
          <a:custGeom>
            <a:avLst/>
            <a:gdLst>
              <a:gd name="textAreaLeft" fmla="*/ 1243800 w 5297400"/>
              <a:gd name="textAreaRight" fmla="*/ 4053600 w 5297400"/>
              <a:gd name="textAreaTop" fmla="*/ 1254600 h 5343480"/>
              <a:gd name="textAreaBottom" fmla="*/ 4088880 h 5343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849" y="12346"/>
                </a:lnTo>
                <a:lnTo>
                  <a:pt x="786" y="14846"/>
                </a:lnTo>
                <a:lnTo>
                  <a:pt x="4007" y="15212"/>
                </a:lnTo>
                <a:lnTo>
                  <a:pt x="3163" y="18437"/>
                </a:lnTo>
                <a:lnTo>
                  <a:pt x="6271" y="17515"/>
                </a:lnTo>
                <a:lnTo>
                  <a:pt x="6580" y="20741"/>
                </a:lnTo>
                <a:lnTo>
                  <a:pt x="9116" y="18723"/>
                </a:lnTo>
                <a:lnTo>
                  <a:pt x="10800" y="21600"/>
                </a:lnTo>
                <a:lnTo>
                  <a:pt x="12346" y="18751"/>
                </a:lnTo>
                <a:lnTo>
                  <a:pt x="14846" y="20814"/>
                </a:lnTo>
                <a:lnTo>
                  <a:pt x="15212" y="17593"/>
                </a:lnTo>
                <a:lnTo>
                  <a:pt x="18437" y="18437"/>
                </a:lnTo>
                <a:lnTo>
                  <a:pt x="17515" y="15329"/>
                </a:lnTo>
                <a:lnTo>
                  <a:pt x="20741" y="15020"/>
                </a:lnTo>
                <a:lnTo>
                  <a:pt x="18723" y="12484"/>
                </a:lnTo>
                <a:lnTo>
                  <a:pt x="21600" y="10800"/>
                </a:lnTo>
                <a:lnTo>
                  <a:pt x="18751" y="9254"/>
                </a:lnTo>
                <a:lnTo>
                  <a:pt x="20814" y="6754"/>
                </a:lnTo>
                <a:lnTo>
                  <a:pt x="17593" y="6388"/>
                </a:lnTo>
                <a:lnTo>
                  <a:pt x="18437" y="3163"/>
                </a:lnTo>
                <a:lnTo>
                  <a:pt x="15329" y="4085"/>
                </a:lnTo>
                <a:lnTo>
                  <a:pt x="15020" y="859"/>
                </a:lnTo>
                <a:lnTo>
                  <a:pt x="12484" y="2877"/>
                </a:lnTo>
                <a:lnTo>
                  <a:pt x="10800" y="0"/>
                </a:lnTo>
                <a:lnTo>
                  <a:pt x="9254" y="2849"/>
                </a:lnTo>
                <a:lnTo>
                  <a:pt x="6754" y="786"/>
                </a:lnTo>
                <a:lnTo>
                  <a:pt x="6388" y="4007"/>
                </a:lnTo>
                <a:lnTo>
                  <a:pt x="3163" y="3163"/>
                </a:lnTo>
                <a:lnTo>
                  <a:pt x="4085" y="6271"/>
                </a:lnTo>
                <a:lnTo>
                  <a:pt x="859" y="6580"/>
                </a:lnTo>
                <a:lnTo>
                  <a:pt x="2877" y="9116"/>
                </a:lnTo>
                <a:lnTo>
                  <a:pt x="0" y="10800"/>
                </a:lnTo>
                <a:close/>
              </a:path>
            </a:pathLst>
          </a:cu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6" name="十六角星 14338"/>
          <p:cNvSpPr/>
          <p:nvPr/>
        </p:nvSpPr>
        <p:spPr>
          <a:xfrm>
            <a:off x="2313000" y="1722600"/>
            <a:ext cx="4365720" cy="3840120"/>
          </a:xfrm>
          <a:custGeom>
            <a:avLst/>
            <a:gdLst>
              <a:gd name="textAreaLeft" fmla="*/ 1025280 w 4365720"/>
              <a:gd name="textAreaRight" fmla="*/ 3340440 w 4365720"/>
              <a:gd name="textAreaTop" fmla="*/ 901800 h 3840120"/>
              <a:gd name="textAreaBottom" fmla="*/ 2938320 h 3840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849" y="12346"/>
                </a:lnTo>
                <a:lnTo>
                  <a:pt x="786" y="14846"/>
                </a:lnTo>
                <a:lnTo>
                  <a:pt x="4007" y="15212"/>
                </a:lnTo>
                <a:lnTo>
                  <a:pt x="3163" y="18437"/>
                </a:lnTo>
                <a:lnTo>
                  <a:pt x="6271" y="17515"/>
                </a:lnTo>
                <a:lnTo>
                  <a:pt x="6580" y="20741"/>
                </a:lnTo>
                <a:lnTo>
                  <a:pt x="9116" y="18723"/>
                </a:lnTo>
                <a:lnTo>
                  <a:pt x="10800" y="21600"/>
                </a:lnTo>
                <a:lnTo>
                  <a:pt x="12346" y="18751"/>
                </a:lnTo>
                <a:lnTo>
                  <a:pt x="14846" y="20814"/>
                </a:lnTo>
                <a:lnTo>
                  <a:pt x="15212" y="17593"/>
                </a:lnTo>
                <a:lnTo>
                  <a:pt x="18437" y="18437"/>
                </a:lnTo>
                <a:lnTo>
                  <a:pt x="17515" y="15329"/>
                </a:lnTo>
                <a:lnTo>
                  <a:pt x="20741" y="15020"/>
                </a:lnTo>
                <a:lnTo>
                  <a:pt x="18723" y="12484"/>
                </a:lnTo>
                <a:lnTo>
                  <a:pt x="21600" y="10800"/>
                </a:lnTo>
                <a:lnTo>
                  <a:pt x="18751" y="9254"/>
                </a:lnTo>
                <a:lnTo>
                  <a:pt x="20814" y="6754"/>
                </a:lnTo>
                <a:lnTo>
                  <a:pt x="17593" y="6388"/>
                </a:lnTo>
                <a:lnTo>
                  <a:pt x="18437" y="3163"/>
                </a:lnTo>
                <a:lnTo>
                  <a:pt x="15329" y="4085"/>
                </a:lnTo>
                <a:lnTo>
                  <a:pt x="15020" y="859"/>
                </a:lnTo>
                <a:lnTo>
                  <a:pt x="12484" y="2877"/>
                </a:lnTo>
                <a:lnTo>
                  <a:pt x="10800" y="0"/>
                </a:lnTo>
                <a:lnTo>
                  <a:pt x="9254" y="2849"/>
                </a:lnTo>
                <a:lnTo>
                  <a:pt x="6754" y="786"/>
                </a:lnTo>
                <a:lnTo>
                  <a:pt x="6388" y="4007"/>
                </a:lnTo>
                <a:lnTo>
                  <a:pt x="3163" y="3163"/>
                </a:lnTo>
                <a:lnTo>
                  <a:pt x="4085" y="6271"/>
                </a:lnTo>
                <a:lnTo>
                  <a:pt x="859" y="6580"/>
                </a:lnTo>
                <a:lnTo>
                  <a:pt x="2877" y="9116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25 Point</a:t>
            </a:r>
            <a:endParaRPr b="0" lang="en-US" sz="25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ext or</a:t>
            </a:r>
            <a:endParaRPr b="0" lang="en-US" sz="25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lip Art</a:t>
            </a:r>
            <a:endParaRPr b="0" lang="en-US" sz="25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25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7" name="椭圆 14339"/>
          <p:cNvSpPr/>
          <p:nvPr/>
        </p:nvSpPr>
        <p:spPr>
          <a:xfrm>
            <a:off x="838080" y="4719600"/>
            <a:ext cx="3168720" cy="1757520"/>
          </a:xfrm>
          <a:prstGeom prst="ellipse">
            <a:avLst/>
          </a:prstGeom>
          <a:solidFill>
            <a:srgbClr val="fda4b5"/>
          </a:solidFill>
          <a:ln w="0">
            <a:noFill/>
          </a:ln>
          <a:effectLst>
            <a:outerShdw dist="17819" dir="2700000" blurRad="0" rotWithShape="0">
              <a:srgbClr val="98626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8" name="椭圆 14340"/>
          <p:cNvSpPr/>
          <p:nvPr/>
        </p:nvSpPr>
        <p:spPr>
          <a:xfrm>
            <a:off x="304920" y="2662200"/>
            <a:ext cx="3168360" cy="1757520"/>
          </a:xfrm>
          <a:prstGeom prst="ellipse">
            <a:avLst/>
          </a:prstGeom>
          <a:solidFill>
            <a:srgbClr val="a3a9fd"/>
          </a:solidFill>
          <a:ln w="0">
            <a:noFill/>
          </a:ln>
          <a:effectLst>
            <a:outerShdw dist="17819" dir="2700000" blurRad="0" rotWithShape="0">
              <a:srgbClr val="6265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9" name="椭圆 14341"/>
          <p:cNvSpPr/>
          <p:nvPr/>
        </p:nvSpPr>
        <p:spPr>
          <a:xfrm>
            <a:off x="2895480" y="985680"/>
            <a:ext cx="3171960" cy="1757520"/>
          </a:xfrm>
          <a:prstGeom prst="ellipse">
            <a:avLst/>
          </a:prstGeom>
          <a:solidFill>
            <a:srgbClr val="47e0ff"/>
          </a:solidFill>
          <a:ln w="0">
            <a:noFill/>
          </a:ln>
          <a:effectLst>
            <a:outerShdw dist="17819" dir="2700000" blurRad="0" rotWithShape="0">
              <a:srgbClr val="2b8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0" name="椭圆 14342"/>
          <p:cNvSpPr/>
          <p:nvPr/>
        </p:nvSpPr>
        <p:spPr>
          <a:xfrm>
            <a:off x="5029200" y="4643280"/>
            <a:ext cx="3168720" cy="1757520"/>
          </a:xfrm>
          <a:prstGeom prst="ellipse">
            <a:avLst/>
          </a:prstGeom>
          <a:solidFill>
            <a:srgbClr val="d49fff"/>
          </a:solidFill>
          <a:ln w="0">
            <a:noFill/>
          </a:ln>
          <a:effectLst>
            <a:outerShdw dist="17819" dir="2700000" blurRad="0" rotWithShape="0">
              <a:srgbClr val="7f5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1" name="椭圆 14343"/>
          <p:cNvSpPr/>
          <p:nvPr/>
        </p:nvSpPr>
        <p:spPr>
          <a:xfrm>
            <a:off x="5638680" y="2585880"/>
            <a:ext cx="3168720" cy="1757520"/>
          </a:xfrm>
          <a:prstGeom prst="ellipse">
            <a:avLst/>
          </a:prstGeom>
          <a:solidFill>
            <a:srgbClr val="61b2fb"/>
          </a:solidFill>
          <a:ln w="0">
            <a:noFill/>
          </a:ln>
          <a:effectLst>
            <a:outerShdw dist="17819" dir="2700000" blurRad="0" rotWithShape="0">
              <a:srgbClr val="3a6b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 Part Concept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椭圆 15361"/>
          <p:cNvSpPr/>
          <p:nvPr/>
        </p:nvSpPr>
        <p:spPr>
          <a:xfrm>
            <a:off x="2063880" y="1197000"/>
            <a:ext cx="5051160" cy="5051520"/>
          </a:xfrm>
          <a:prstGeom prst="ellipse">
            <a:avLst/>
          </a:prstGeom>
          <a:gradFill rotWithShape="0">
            <a:gsLst>
              <a:gs pos="0">
                <a:srgbClr val="dcdcdc"/>
              </a:gs>
              <a:gs pos="50000">
                <a:srgbClr val="ffffff"/>
              </a:gs>
              <a:gs pos="100000">
                <a:srgbClr val="dcdcdc"/>
              </a:gs>
            </a:gsLst>
            <a:lin ang="5400000"/>
          </a:gradFill>
          <a:ln w="12600">
            <a:solidFill>
              <a:srgbClr val="000000"/>
            </a:solidFill>
            <a:round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4" name="椭圆 15362"/>
          <p:cNvSpPr/>
          <p:nvPr/>
        </p:nvSpPr>
        <p:spPr>
          <a:xfrm>
            <a:off x="2496960" y="1630440"/>
            <a:ext cx="4185000" cy="4184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8 Point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 Part Concep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5364"/>
          <p:cNvSpPr/>
          <p:nvPr/>
        </p:nvSpPr>
        <p:spPr>
          <a:xfrm>
            <a:off x="1760400" y="1081080"/>
            <a:ext cx="2232000" cy="885960"/>
          </a:xfrm>
          <a:prstGeom prst="rect">
            <a:avLst/>
          </a:prstGeom>
          <a:gradFill rotWithShape="0">
            <a:gsLst>
              <a:gs pos="0">
                <a:srgbClr val="a0d1fd"/>
              </a:gs>
              <a:gs pos="100000">
                <a:srgbClr val="61b2fb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 Poin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7" name="矩形 15365"/>
          <p:cNvSpPr/>
          <p:nvPr/>
        </p:nvSpPr>
        <p:spPr>
          <a:xfrm>
            <a:off x="5151600" y="1081080"/>
            <a:ext cx="2232000" cy="885960"/>
          </a:xfrm>
          <a:prstGeom prst="rect">
            <a:avLst/>
          </a:prstGeom>
          <a:gradFill rotWithShape="0">
            <a:gsLst>
              <a:gs pos="0">
                <a:srgbClr val="a0d1fd"/>
              </a:gs>
              <a:gs pos="100000">
                <a:srgbClr val="61b2fb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 Poin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8" name="矩形 15366"/>
          <p:cNvSpPr/>
          <p:nvPr/>
        </p:nvSpPr>
        <p:spPr>
          <a:xfrm>
            <a:off x="150840" y="2328840"/>
            <a:ext cx="2232000" cy="885960"/>
          </a:xfrm>
          <a:prstGeom prst="rect">
            <a:avLst/>
          </a:prstGeom>
          <a:gradFill rotWithShape="0">
            <a:gsLst>
              <a:gs pos="0">
                <a:srgbClr val="b5bafd"/>
              </a:gs>
              <a:gs pos="100000">
                <a:srgbClr val="a3a9fd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 Poin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9" name="矩形 15367"/>
          <p:cNvSpPr/>
          <p:nvPr/>
        </p:nvSpPr>
        <p:spPr>
          <a:xfrm>
            <a:off x="6761160" y="2328840"/>
            <a:ext cx="2232000" cy="885960"/>
          </a:xfrm>
          <a:prstGeom prst="rect">
            <a:avLst/>
          </a:prstGeom>
          <a:gradFill rotWithShape="0">
            <a:gsLst>
              <a:gs pos="0">
                <a:srgbClr val="b5bafd"/>
              </a:gs>
              <a:gs pos="100000">
                <a:srgbClr val="a3a9fd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 Poin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0" name="矩形 15368"/>
          <p:cNvSpPr/>
          <p:nvPr/>
        </p:nvSpPr>
        <p:spPr>
          <a:xfrm>
            <a:off x="204840" y="4071960"/>
            <a:ext cx="2232000" cy="885960"/>
          </a:xfrm>
          <a:prstGeom prst="rect">
            <a:avLst/>
          </a:prstGeom>
          <a:gradFill rotWithShape="0">
            <a:gsLst>
              <a:gs pos="0">
                <a:srgbClr val="e9cbff"/>
              </a:gs>
              <a:gs pos="100000">
                <a:srgbClr val="e3beff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 Poin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1" name="矩形 15369"/>
          <p:cNvSpPr/>
          <p:nvPr/>
        </p:nvSpPr>
        <p:spPr>
          <a:xfrm>
            <a:off x="6750000" y="4071960"/>
            <a:ext cx="2232000" cy="885960"/>
          </a:xfrm>
          <a:prstGeom prst="rect">
            <a:avLst/>
          </a:prstGeom>
          <a:gradFill rotWithShape="0">
            <a:gsLst>
              <a:gs pos="0">
                <a:srgbClr val="e9cbff"/>
              </a:gs>
              <a:gs pos="100000">
                <a:srgbClr val="e3beff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 Poin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2" name="矩形 15370"/>
          <p:cNvSpPr/>
          <p:nvPr/>
        </p:nvSpPr>
        <p:spPr>
          <a:xfrm>
            <a:off x="1752480" y="5349960"/>
            <a:ext cx="2232000" cy="885600"/>
          </a:xfrm>
          <a:prstGeom prst="rect">
            <a:avLst/>
          </a:prstGeom>
          <a:gradFill rotWithShape="0">
            <a:gsLst>
              <a:gs pos="0">
                <a:srgbClr val="fdb6c4"/>
              </a:gs>
              <a:gs pos="100000">
                <a:srgbClr val="fda4b5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 Poin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3" name="矩形 15371"/>
          <p:cNvSpPr/>
          <p:nvPr/>
        </p:nvSpPr>
        <p:spPr>
          <a:xfrm>
            <a:off x="5159520" y="5330880"/>
            <a:ext cx="2232000" cy="885600"/>
          </a:xfrm>
          <a:prstGeom prst="rect">
            <a:avLst/>
          </a:prstGeom>
          <a:gradFill rotWithShape="0">
            <a:gsLst>
              <a:gs pos="0">
                <a:srgbClr val="fdb6c4"/>
              </a:gs>
              <a:gs pos="100000">
                <a:srgbClr val="fda4b5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 Poin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椭圆 16385"/>
          <p:cNvSpPr/>
          <p:nvPr/>
        </p:nvSpPr>
        <p:spPr>
          <a:xfrm>
            <a:off x="2063880" y="1197000"/>
            <a:ext cx="5051160" cy="5051520"/>
          </a:xfrm>
          <a:prstGeom prst="ellipse">
            <a:avLst/>
          </a:prstGeom>
          <a:gradFill rotWithShape="0">
            <a:gsLst>
              <a:gs pos="0">
                <a:srgbClr val="dcdcdc"/>
              </a:gs>
              <a:gs pos="50000">
                <a:srgbClr val="ffffff"/>
              </a:gs>
              <a:gs pos="100000">
                <a:srgbClr val="dcdcdc"/>
              </a:gs>
            </a:gsLst>
            <a:lin ang="5400000"/>
          </a:gradFill>
          <a:ln w="12600">
            <a:solidFill>
              <a:srgbClr val="000000"/>
            </a:solidFill>
            <a:round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5" name="椭圆 16386"/>
          <p:cNvSpPr/>
          <p:nvPr/>
        </p:nvSpPr>
        <p:spPr>
          <a:xfrm>
            <a:off x="2496960" y="1630440"/>
            <a:ext cx="4185000" cy="4184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8 Point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 Point Concep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16388"/>
          <p:cNvSpPr/>
          <p:nvPr/>
        </p:nvSpPr>
        <p:spPr>
          <a:xfrm>
            <a:off x="1855800" y="1009800"/>
            <a:ext cx="2232000" cy="885600"/>
          </a:xfrm>
          <a:prstGeom prst="rect">
            <a:avLst/>
          </a:prstGeom>
          <a:gradFill rotWithShape="0">
            <a:gsLst>
              <a:gs pos="0">
                <a:srgbClr val="c8cbfe"/>
              </a:gs>
              <a:gs pos="100000">
                <a:srgbClr val="a3a9fd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 Poin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8" name="矩形 16389"/>
          <p:cNvSpPr/>
          <p:nvPr/>
        </p:nvSpPr>
        <p:spPr>
          <a:xfrm>
            <a:off x="4979880" y="1009800"/>
            <a:ext cx="2232000" cy="885600"/>
          </a:xfrm>
          <a:prstGeom prst="rect">
            <a:avLst/>
          </a:prstGeom>
          <a:gradFill rotWithShape="0">
            <a:gsLst>
              <a:gs pos="0">
                <a:srgbClr val="c8cbfe"/>
              </a:gs>
              <a:gs pos="100000">
                <a:srgbClr val="a3a9fd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 Poin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9" name="矩形 16390"/>
          <p:cNvSpPr/>
          <p:nvPr/>
        </p:nvSpPr>
        <p:spPr>
          <a:xfrm>
            <a:off x="457200" y="2085840"/>
            <a:ext cx="2232000" cy="885960"/>
          </a:xfrm>
          <a:prstGeom prst="rect">
            <a:avLst/>
          </a:prstGeom>
          <a:gradFill rotWithShape="0">
            <a:gsLst>
              <a:gs pos="0">
                <a:srgbClr val="a0d1fd"/>
              </a:gs>
              <a:gs pos="100000">
                <a:srgbClr val="61b2fb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 Poin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0" name="矩形 16391"/>
          <p:cNvSpPr/>
          <p:nvPr/>
        </p:nvSpPr>
        <p:spPr>
          <a:xfrm>
            <a:off x="6454800" y="2085840"/>
            <a:ext cx="2232000" cy="885960"/>
          </a:xfrm>
          <a:prstGeom prst="rect">
            <a:avLst/>
          </a:prstGeom>
          <a:gradFill rotWithShape="0">
            <a:gsLst>
              <a:gs pos="0">
                <a:srgbClr val="a0d1fd"/>
              </a:gs>
              <a:gs pos="100000">
                <a:srgbClr val="61b2fb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 Poin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1" name="矩形 16392"/>
          <p:cNvSpPr/>
          <p:nvPr/>
        </p:nvSpPr>
        <p:spPr>
          <a:xfrm>
            <a:off x="103320" y="3228840"/>
            <a:ext cx="2232000" cy="885960"/>
          </a:xfrm>
          <a:prstGeom prst="rect">
            <a:avLst/>
          </a:prstGeom>
          <a:gradFill rotWithShape="0">
            <a:gsLst>
              <a:gs pos="0">
                <a:srgbClr val="fdb6c4"/>
              </a:gs>
              <a:gs pos="100000">
                <a:srgbClr val="fda4b5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 Poin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2" name="矩形 16393"/>
          <p:cNvSpPr/>
          <p:nvPr/>
        </p:nvSpPr>
        <p:spPr>
          <a:xfrm>
            <a:off x="6713640" y="3228840"/>
            <a:ext cx="2232000" cy="885960"/>
          </a:xfrm>
          <a:prstGeom prst="rect">
            <a:avLst/>
          </a:prstGeom>
          <a:gradFill rotWithShape="0">
            <a:gsLst>
              <a:gs pos="0">
                <a:srgbClr val="fdb6c4"/>
              </a:gs>
              <a:gs pos="100000">
                <a:srgbClr val="fda4b5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 Poin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3" name="矩形 16394"/>
          <p:cNvSpPr/>
          <p:nvPr/>
        </p:nvSpPr>
        <p:spPr>
          <a:xfrm>
            <a:off x="457200" y="4371840"/>
            <a:ext cx="2232000" cy="885960"/>
          </a:xfrm>
          <a:prstGeom prst="rect">
            <a:avLst/>
          </a:prstGeom>
          <a:gradFill rotWithShape="0">
            <a:gsLst>
              <a:gs pos="0">
                <a:srgbClr val="e9cbff"/>
              </a:gs>
              <a:gs pos="100000">
                <a:srgbClr val="e3beff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 Poin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4" name="矩形 16395"/>
          <p:cNvSpPr/>
          <p:nvPr/>
        </p:nvSpPr>
        <p:spPr>
          <a:xfrm>
            <a:off x="6454800" y="4371840"/>
            <a:ext cx="2232000" cy="885960"/>
          </a:xfrm>
          <a:prstGeom prst="rect">
            <a:avLst/>
          </a:prstGeom>
          <a:gradFill rotWithShape="0">
            <a:gsLst>
              <a:gs pos="0">
                <a:srgbClr val="e9cbff"/>
              </a:gs>
              <a:gs pos="100000">
                <a:srgbClr val="e3beff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 Poin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5" name="矩形 16396"/>
          <p:cNvSpPr/>
          <p:nvPr/>
        </p:nvSpPr>
        <p:spPr>
          <a:xfrm>
            <a:off x="1855800" y="5514840"/>
            <a:ext cx="2232000" cy="885960"/>
          </a:xfrm>
          <a:prstGeom prst="rect">
            <a:avLst/>
          </a:prstGeom>
          <a:gradFill rotWithShape="0">
            <a:gsLst>
              <a:gs pos="0">
                <a:srgbClr val="b5f57f"/>
              </a:gs>
              <a:gs pos="100000">
                <a:srgbClr val="a3f25f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 Poin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6" name="矩形 16397"/>
          <p:cNvSpPr/>
          <p:nvPr/>
        </p:nvSpPr>
        <p:spPr>
          <a:xfrm>
            <a:off x="4979880" y="5514840"/>
            <a:ext cx="2232000" cy="885960"/>
          </a:xfrm>
          <a:prstGeom prst="rect">
            <a:avLst/>
          </a:prstGeom>
          <a:gradFill rotWithShape="0">
            <a:gsLst>
              <a:gs pos="0">
                <a:srgbClr val="b5f57f"/>
              </a:gs>
              <a:gs pos="100000">
                <a:srgbClr val="a3f25f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 Poin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 Part Circle Concep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椭圆 17410"/>
          <p:cNvSpPr/>
          <p:nvPr/>
        </p:nvSpPr>
        <p:spPr>
          <a:xfrm>
            <a:off x="2330280" y="1504800"/>
            <a:ext cx="4483440" cy="44830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9" name="椭圆 17411"/>
          <p:cNvSpPr/>
          <p:nvPr/>
        </p:nvSpPr>
        <p:spPr>
          <a:xfrm>
            <a:off x="3005280" y="2179800"/>
            <a:ext cx="3133440" cy="3133440"/>
          </a:xfrm>
          <a:prstGeom prst="ellipse">
            <a:avLst/>
          </a:prstGeom>
          <a:solidFill>
            <a:srgbClr val="a3f25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0" name="椭圆 17412"/>
          <p:cNvSpPr/>
          <p:nvPr/>
        </p:nvSpPr>
        <p:spPr>
          <a:xfrm>
            <a:off x="3556080" y="2730600"/>
            <a:ext cx="2031840" cy="2031840"/>
          </a:xfrm>
          <a:prstGeom prst="ellipse">
            <a:avLst/>
          </a:prstGeom>
          <a:solidFill>
            <a:srgbClr val="a3a9fd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1" name="椭圆 17413"/>
          <p:cNvSpPr/>
          <p:nvPr/>
        </p:nvSpPr>
        <p:spPr>
          <a:xfrm>
            <a:off x="4016520" y="3191040"/>
            <a:ext cx="1110960" cy="1110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pic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4572000" y="1486080"/>
            <a:ext cx="360" cy="1676160"/>
            <a:chOff x="4572000" y="1486080"/>
            <a:chExt cx="360" cy="1676160"/>
          </a:xfrm>
        </p:grpSpPr>
        <p:sp>
          <p:nvSpPr>
            <p:cNvPr id="253" name="直接连接符 17414"/>
            <p:cNvSpPr/>
            <p:nvPr/>
          </p:nvSpPr>
          <p:spPr>
            <a:xfrm>
              <a:off x="4572000" y="1486080"/>
              <a:ext cx="0" cy="1676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4" name=""/>
            <p:cNvSpPr txBox="1"/>
            <p:nvPr/>
          </p:nvSpPr>
          <p:spPr>
            <a:xfrm>
              <a:off x="4572000" y="1486080"/>
              <a:ext cx="360" cy="1676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4572000" y="4305240"/>
            <a:ext cx="360" cy="1676520"/>
            <a:chOff x="4572000" y="4305240"/>
            <a:chExt cx="360" cy="1676520"/>
          </a:xfrm>
        </p:grpSpPr>
        <p:sp>
          <p:nvSpPr>
            <p:cNvPr id="256" name="直接连接符 17415"/>
            <p:cNvSpPr/>
            <p:nvPr/>
          </p:nvSpPr>
          <p:spPr>
            <a:xfrm>
              <a:off x="4572000" y="4305240"/>
              <a:ext cx="0" cy="1676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7" name=""/>
            <p:cNvSpPr txBox="1"/>
            <p:nvPr/>
          </p:nvSpPr>
          <p:spPr>
            <a:xfrm>
              <a:off x="4572000" y="4305240"/>
              <a:ext cx="360" cy="1676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730600" y="4089240"/>
            <a:ext cx="1396800" cy="901800"/>
            <a:chOff x="2730600" y="4089240"/>
            <a:chExt cx="1396800" cy="901800"/>
          </a:xfrm>
        </p:grpSpPr>
        <p:sp>
          <p:nvSpPr>
            <p:cNvPr id="259" name="直接连接符 17416"/>
            <p:cNvSpPr/>
            <p:nvPr/>
          </p:nvSpPr>
          <p:spPr>
            <a:xfrm flipH="1">
              <a:off x="2730600" y="4089240"/>
              <a:ext cx="1396800" cy="90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0" name=""/>
            <p:cNvSpPr txBox="1"/>
            <p:nvPr/>
          </p:nvSpPr>
          <p:spPr>
            <a:xfrm>
              <a:off x="2730600" y="4089240"/>
              <a:ext cx="1396800" cy="90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5041800" y="2552760"/>
            <a:ext cx="1409760" cy="863640"/>
            <a:chOff x="5041800" y="2552760"/>
            <a:chExt cx="1409760" cy="863640"/>
          </a:xfrm>
        </p:grpSpPr>
        <p:sp>
          <p:nvSpPr>
            <p:cNvPr id="262" name="直接连接符 17417"/>
            <p:cNvSpPr/>
            <p:nvPr/>
          </p:nvSpPr>
          <p:spPr>
            <a:xfrm flipH="1">
              <a:off x="5041800" y="2552760"/>
              <a:ext cx="1409760" cy="863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3" name=""/>
            <p:cNvSpPr txBox="1"/>
            <p:nvPr/>
          </p:nvSpPr>
          <p:spPr>
            <a:xfrm>
              <a:off x="5041800" y="2552760"/>
              <a:ext cx="1409760" cy="863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2666880" y="2540160"/>
            <a:ext cx="1473480" cy="863280"/>
            <a:chOff x="2666880" y="2540160"/>
            <a:chExt cx="1473480" cy="863280"/>
          </a:xfrm>
        </p:grpSpPr>
        <p:sp>
          <p:nvSpPr>
            <p:cNvPr id="265" name="直接连接符 17418"/>
            <p:cNvSpPr/>
            <p:nvPr/>
          </p:nvSpPr>
          <p:spPr>
            <a:xfrm>
              <a:off x="2666880" y="2540160"/>
              <a:ext cx="1473480" cy="863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6" name=""/>
            <p:cNvSpPr txBox="1"/>
            <p:nvPr/>
          </p:nvSpPr>
          <p:spPr>
            <a:xfrm>
              <a:off x="2666880" y="2540160"/>
              <a:ext cx="1473480" cy="86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5041800" y="4076640"/>
            <a:ext cx="1397160" cy="914400"/>
            <a:chOff x="5041800" y="4076640"/>
            <a:chExt cx="1397160" cy="914400"/>
          </a:xfrm>
        </p:grpSpPr>
        <p:sp>
          <p:nvSpPr>
            <p:cNvPr id="268" name="直接连接符 17419"/>
            <p:cNvSpPr/>
            <p:nvPr/>
          </p:nvSpPr>
          <p:spPr>
            <a:xfrm>
              <a:off x="5041800" y="4076640"/>
              <a:ext cx="1397160" cy="914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9" name=""/>
            <p:cNvSpPr txBox="1"/>
            <p:nvPr/>
          </p:nvSpPr>
          <p:spPr>
            <a:xfrm>
              <a:off x="5041800" y="4076640"/>
              <a:ext cx="1397160" cy="91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270" name="椭圆 17420"/>
          <p:cNvSpPr/>
          <p:nvPr/>
        </p:nvSpPr>
        <p:spPr>
          <a:xfrm>
            <a:off x="4508640" y="4229280"/>
            <a:ext cx="137880" cy="137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1" name="椭圆 17421"/>
          <p:cNvSpPr/>
          <p:nvPr/>
        </p:nvSpPr>
        <p:spPr>
          <a:xfrm>
            <a:off x="4952880" y="3987720"/>
            <a:ext cx="138240" cy="138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2" name="椭圆 17422"/>
          <p:cNvSpPr/>
          <p:nvPr/>
        </p:nvSpPr>
        <p:spPr>
          <a:xfrm>
            <a:off x="4965840" y="3365640"/>
            <a:ext cx="137880" cy="137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3" name="椭圆 17423"/>
          <p:cNvSpPr/>
          <p:nvPr/>
        </p:nvSpPr>
        <p:spPr>
          <a:xfrm>
            <a:off x="4508640" y="3098880"/>
            <a:ext cx="137880" cy="137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4" name="椭圆 17424"/>
          <p:cNvSpPr/>
          <p:nvPr/>
        </p:nvSpPr>
        <p:spPr>
          <a:xfrm>
            <a:off x="4064040" y="3340080"/>
            <a:ext cx="138240" cy="138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5" name="椭圆 17425"/>
          <p:cNvSpPr/>
          <p:nvPr/>
        </p:nvSpPr>
        <p:spPr>
          <a:xfrm>
            <a:off x="4064040" y="4025880"/>
            <a:ext cx="138240" cy="138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6" name="矩形 17426"/>
          <p:cNvSpPr/>
          <p:nvPr/>
        </p:nvSpPr>
        <p:spPr>
          <a:xfrm>
            <a:off x="4178520" y="966960"/>
            <a:ext cx="70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7" name="矩形 17427"/>
          <p:cNvSpPr/>
          <p:nvPr/>
        </p:nvSpPr>
        <p:spPr>
          <a:xfrm>
            <a:off x="4191120" y="6084720"/>
            <a:ext cx="70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8" name="矩形 17428"/>
          <p:cNvSpPr/>
          <p:nvPr/>
        </p:nvSpPr>
        <p:spPr>
          <a:xfrm>
            <a:off x="1433880" y="4952880"/>
            <a:ext cx="70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9" name="矩形 17429"/>
          <p:cNvSpPr/>
          <p:nvPr/>
        </p:nvSpPr>
        <p:spPr>
          <a:xfrm>
            <a:off x="6812280" y="4952880"/>
            <a:ext cx="70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0" name="矩形 17430"/>
          <p:cNvSpPr/>
          <p:nvPr/>
        </p:nvSpPr>
        <p:spPr>
          <a:xfrm>
            <a:off x="1468800" y="2222640"/>
            <a:ext cx="70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1" name="矩形 17431"/>
          <p:cNvSpPr/>
          <p:nvPr/>
        </p:nvSpPr>
        <p:spPr>
          <a:xfrm>
            <a:off x="6742440" y="2222640"/>
            <a:ext cx="70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 Step Proc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椭圆 18434"/>
          <p:cNvSpPr/>
          <p:nvPr/>
        </p:nvSpPr>
        <p:spPr>
          <a:xfrm>
            <a:off x="1881360" y="1065240"/>
            <a:ext cx="5344920" cy="5259240"/>
          </a:xfrm>
          <a:prstGeom prst="ellipse">
            <a:avLst/>
          </a:prstGeom>
          <a:solidFill>
            <a:srgbClr val="61b2fb"/>
          </a:solidFill>
          <a:ln w="12600">
            <a:solidFill>
              <a:srgbClr val="000000"/>
            </a:solidFill>
            <a:round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1881360" y="3693960"/>
            <a:ext cx="5376600" cy="360"/>
            <a:chOff x="1881360" y="3693960"/>
            <a:chExt cx="5376600" cy="360"/>
          </a:xfrm>
        </p:grpSpPr>
        <p:sp>
          <p:nvSpPr>
            <p:cNvPr id="285" name="直接连接符 18435"/>
            <p:cNvSpPr/>
            <p:nvPr/>
          </p:nvSpPr>
          <p:spPr>
            <a:xfrm>
              <a:off x="1881360" y="3693960"/>
              <a:ext cx="5376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86" name=""/>
            <p:cNvSpPr txBox="1"/>
            <p:nvPr/>
          </p:nvSpPr>
          <p:spPr>
            <a:xfrm>
              <a:off x="1881360" y="3693960"/>
              <a:ext cx="5376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71800" y="1560240"/>
            <a:ext cx="3162240" cy="4267080"/>
            <a:chOff x="2971800" y="1560240"/>
            <a:chExt cx="3162240" cy="4267080"/>
          </a:xfrm>
        </p:grpSpPr>
        <p:sp>
          <p:nvSpPr>
            <p:cNvPr id="288" name="直接连接符 18436"/>
            <p:cNvSpPr/>
            <p:nvPr/>
          </p:nvSpPr>
          <p:spPr>
            <a:xfrm flipV="1">
              <a:off x="2971800" y="1560240"/>
              <a:ext cx="3162240" cy="4267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89" name=""/>
            <p:cNvSpPr txBox="1"/>
            <p:nvPr/>
          </p:nvSpPr>
          <p:spPr>
            <a:xfrm rot="10800000">
              <a:off x="2971800" y="1560240"/>
              <a:ext cx="3162240" cy="4267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2971800" y="1560240"/>
            <a:ext cx="3162240" cy="4267080"/>
            <a:chOff x="2971800" y="1560240"/>
            <a:chExt cx="3162240" cy="4267080"/>
          </a:xfrm>
        </p:grpSpPr>
        <p:sp>
          <p:nvSpPr>
            <p:cNvPr id="291" name="直接连接符 18437"/>
            <p:cNvSpPr/>
            <p:nvPr/>
          </p:nvSpPr>
          <p:spPr>
            <a:xfrm flipH="1" flipV="1">
              <a:off x="2971800" y="1560240"/>
              <a:ext cx="3162240" cy="4267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2" name=""/>
            <p:cNvSpPr txBox="1"/>
            <p:nvPr/>
          </p:nvSpPr>
          <p:spPr>
            <a:xfrm rot="10800000">
              <a:off x="2971800" y="1560240"/>
              <a:ext cx="3162240" cy="4267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293" name="六边形 18438"/>
          <p:cNvSpPr/>
          <p:nvPr/>
        </p:nvSpPr>
        <p:spPr>
          <a:xfrm>
            <a:off x="3416400" y="2921040"/>
            <a:ext cx="2265120" cy="1565280"/>
          </a:xfrm>
          <a:prstGeom prst="hexagon">
            <a:avLst>
              <a:gd name="adj" fmla="val 36171"/>
              <a:gd name="vf" fmla="val 1154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4" name="六边形 18439"/>
          <p:cNvSpPr/>
          <p:nvPr/>
        </p:nvSpPr>
        <p:spPr>
          <a:xfrm>
            <a:off x="3568680" y="3014640"/>
            <a:ext cx="1968480" cy="1359000"/>
          </a:xfrm>
          <a:prstGeom prst="hexagon">
            <a:avLst>
              <a:gd name="adj" fmla="val 36205"/>
              <a:gd name="vf" fmla="val 115470"/>
            </a:avLst>
          </a:prstGeom>
          <a:solidFill>
            <a:srgbClr val="a3f2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4 Poin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5" name="矩形 18440"/>
          <p:cNvSpPr/>
          <p:nvPr/>
        </p:nvSpPr>
        <p:spPr>
          <a:xfrm>
            <a:off x="3670560" y="1465200"/>
            <a:ext cx="176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 Point Tex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6" name="矩形 18441"/>
          <p:cNvSpPr/>
          <p:nvPr/>
        </p:nvSpPr>
        <p:spPr>
          <a:xfrm>
            <a:off x="4109400" y="4951440"/>
            <a:ext cx="8906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 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int 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7" name="矩形 18442"/>
          <p:cNvSpPr/>
          <p:nvPr/>
        </p:nvSpPr>
        <p:spPr>
          <a:xfrm>
            <a:off x="5357880" y="2639880"/>
            <a:ext cx="176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 Point Tex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8" name="矩形 18443"/>
          <p:cNvSpPr/>
          <p:nvPr/>
        </p:nvSpPr>
        <p:spPr>
          <a:xfrm>
            <a:off x="2036880" y="2639880"/>
            <a:ext cx="183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 Point Text 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9" name="矩形 18444"/>
          <p:cNvSpPr/>
          <p:nvPr/>
        </p:nvSpPr>
        <p:spPr>
          <a:xfrm>
            <a:off x="5491080" y="3979800"/>
            <a:ext cx="14148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 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int Tex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0" name="矩形 18445"/>
          <p:cNvSpPr/>
          <p:nvPr/>
        </p:nvSpPr>
        <p:spPr>
          <a:xfrm>
            <a:off x="2205000" y="3979800"/>
            <a:ext cx="14148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 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int Tex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 spd="slow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椭圆 19457"/>
          <p:cNvSpPr/>
          <p:nvPr/>
        </p:nvSpPr>
        <p:spPr>
          <a:xfrm>
            <a:off x="1768320" y="1252440"/>
            <a:ext cx="5470560" cy="4859280"/>
          </a:xfrm>
          <a:prstGeom prst="ellipse">
            <a:avLst/>
          </a:prstGeom>
          <a:solidFill>
            <a:srgbClr val="a3a9f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2" name="椭圆 19458"/>
          <p:cNvSpPr/>
          <p:nvPr/>
        </p:nvSpPr>
        <p:spPr>
          <a:xfrm>
            <a:off x="3138480" y="2470320"/>
            <a:ext cx="2730600" cy="2425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2239560" y="2347560"/>
            <a:ext cx="1117800" cy="633240"/>
            <a:chOff x="2239560" y="2347560"/>
            <a:chExt cx="1117800" cy="633240"/>
          </a:xfrm>
        </p:grpSpPr>
        <p:sp>
          <p:nvSpPr>
            <p:cNvPr id="304" name="直接连接符 19459"/>
            <p:cNvSpPr/>
            <p:nvPr/>
          </p:nvSpPr>
          <p:spPr>
            <a:xfrm flipH="1" flipV="1">
              <a:off x="2239560" y="2347560"/>
              <a:ext cx="1117800" cy="63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05" name=""/>
            <p:cNvSpPr txBox="1"/>
            <p:nvPr/>
          </p:nvSpPr>
          <p:spPr>
            <a:xfrm rot="10800000">
              <a:off x="2239560" y="2347560"/>
              <a:ext cx="1117800" cy="63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5610240" y="2382480"/>
            <a:ext cx="1238400" cy="546120"/>
            <a:chOff x="5610240" y="2382480"/>
            <a:chExt cx="1238400" cy="546120"/>
          </a:xfrm>
        </p:grpSpPr>
        <p:sp>
          <p:nvSpPr>
            <p:cNvPr id="307" name="直接连接符 19460"/>
            <p:cNvSpPr/>
            <p:nvPr/>
          </p:nvSpPr>
          <p:spPr>
            <a:xfrm flipV="1">
              <a:off x="5610240" y="2382480"/>
              <a:ext cx="1238400" cy="546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08" name=""/>
            <p:cNvSpPr txBox="1"/>
            <p:nvPr/>
          </p:nvSpPr>
          <p:spPr>
            <a:xfrm rot="10800000">
              <a:off x="5610240" y="2382480"/>
              <a:ext cx="1238400" cy="546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4503240" y="1266480"/>
            <a:ext cx="360" cy="1198440"/>
            <a:chOff x="4503240" y="1266480"/>
            <a:chExt cx="360" cy="1198440"/>
          </a:xfrm>
        </p:grpSpPr>
        <p:sp>
          <p:nvSpPr>
            <p:cNvPr id="310" name="直接连接符 19461"/>
            <p:cNvSpPr/>
            <p:nvPr/>
          </p:nvSpPr>
          <p:spPr>
            <a:xfrm flipV="1">
              <a:off x="4503600" y="1266480"/>
              <a:ext cx="0" cy="119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11" name=""/>
            <p:cNvSpPr txBox="1"/>
            <p:nvPr/>
          </p:nvSpPr>
          <p:spPr>
            <a:xfrm rot="10800000">
              <a:off x="4503240" y="1266480"/>
              <a:ext cx="360" cy="119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4492800" y="4900680"/>
            <a:ext cx="360" cy="1208160"/>
            <a:chOff x="4492800" y="4900680"/>
            <a:chExt cx="360" cy="1208160"/>
          </a:xfrm>
        </p:grpSpPr>
        <p:sp>
          <p:nvSpPr>
            <p:cNvPr id="313" name="直接连接符 19462"/>
            <p:cNvSpPr/>
            <p:nvPr/>
          </p:nvSpPr>
          <p:spPr>
            <a:xfrm>
              <a:off x="4492800" y="4900680"/>
              <a:ext cx="0" cy="1208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14" name=""/>
            <p:cNvSpPr txBox="1"/>
            <p:nvPr/>
          </p:nvSpPr>
          <p:spPr>
            <a:xfrm>
              <a:off x="4492800" y="4900680"/>
              <a:ext cx="360" cy="1208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2381400" y="4468680"/>
            <a:ext cx="1093680" cy="730440"/>
            <a:chOff x="2381400" y="4468680"/>
            <a:chExt cx="1093680" cy="730440"/>
          </a:xfrm>
        </p:grpSpPr>
        <p:sp>
          <p:nvSpPr>
            <p:cNvPr id="316" name="直接连接符 19463"/>
            <p:cNvSpPr/>
            <p:nvPr/>
          </p:nvSpPr>
          <p:spPr>
            <a:xfrm flipH="1">
              <a:off x="2381400" y="4468680"/>
              <a:ext cx="1093680" cy="730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17" name=""/>
            <p:cNvSpPr txBox="1"/>
            <p:nvPr/>
          </p:nvSpPr>
          <p:spPr>
            <a:xfrm>
              <a:off x="2381400" y="4468680"/>
              <a:ext cx="1093680" cy="730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5591160" y="4468680"/>
            <a:ext cx="1128600" cy="690840"/>
            <a:chOff x="5591160" y="4468680"/>
            <a:chExt cx="1128600" cy="690840"/>
          </a:xfrm>
        </p:grpSpPr>
        <p:sp>
          <p:nvSpPr>
            <p:cNvPr id="319" name="直接连接符 19464"/>
            <p:cNvSpPr/>
            <p:nvPr/>
          </p:nvSpPr>
          <p:spPr>
            <a:xfrm>
              <a:off x="5591160" y="4468680"/>
              <a:ext cx="1128600" cy="690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20" name=""/>
            <p:cNvSpPr txBox="1"/>
            <p:nvPr/>
          </p:nvSpPr>
          <p:spPr>
            <a:xfrm>
              <a:off x="5591160" y="4468680"/>
              <a:ext cx="1128600" cy="690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 Part Concept w Clip Ar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6611760" y="3683160"/>
            <a:ext cx="2062440" cy="360"/>
            <a:chOff x="6611760" y="3683160"/>
            <a:chExt cx="2062440" cy="360"/>
          </a:xfrm>
        </p:grpSpPr>
        <p:sp>
          <p:nvSpPr>
            <p:cNvPr id="323" name="直接连接符 19466"/>
            <p:cNvSpPr/>
            <p:nvPr/>
          </p:nvSpPr>
          <p:spPr>
            <a:xfrm>
              <a:off x="6611760" y="3683160"/>
              <a:ext cx="2062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24" name=""/>
            <p:cNvSpPr txBox="1"/>
            <p:nvPr/>
          </p:nvSpPr>
          <p:spPr>
            <a:xfrm>
              <a:off x="6611760" y="3683160"/>
              <a:ext cx="2062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380880" y="3683160"/>
            <a:ext cx="2062440" cy="360"/>
            <a:chOff x="380880" y="3683160"/>
            <a:chExt cx="2062440" cy="360"/>
          </a:xfrm>
        </p:grpSpPr>
        <p:sp>
          <p:nvSpPr>
            <p:cNvPr id="326" name="直接连接符 19467"/>
            <p:cNvSpPr/>
            <p:nvPr/>
          </p:nvSpPr>
          <p:spPr>
            <a:xfrm>
              <a:off x="380880" y="3683160"/>
              <a:ext cx="2062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27" name=""/>
            <p:cNvSpPr txBox="1"/>
            <p:nvPr/>
          </p:nvSpPr>
          <p:spPr>
            <a:xfrm>
              <a:off x="380880" y="3683160"/>
              <a:ext cx="2062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328" name="立方体 19468"/>
          <p:cNvSpPr/>
          <p:nvPr/>
        </p:nvSpPr>
        <p:spPr>
          <a:xfrm rot="5400000">
            <a:off x="7273800" y="2398320"/>
            <a:ext cx="733320" cy="2648160"/>
          </a:xfrm>
          <a:prstGeom prst="cube">
            <a:avLst>
              <a:gd name="adj" fmla="val 18250"/>
            </a:avLst>
          </a:prstGeom>
          <a:solidFill>
            <a:srgbClr val="47e0ff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4 Point 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9" name="立方体 19469"/>
          <p:cNvSpPr/>
          <p:nvPr/>
        </p:nvSpPr>
        <p:spPr>
          <a:xfrm rot="5400000">
            <a:off x="5938560" y="436320"/>
            <a:ext cx="733320" cy="2647800"/>
          </a:xfrm>
          <a:prstGeom prst="cube">
            <a:avLst>
              <a:gd name="adj" fmla="val 18250"/>
            </a:avLst>
          </a:prstGeom>
          <a:solidFill>
            <a:srgbClr val="47e0ff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4 Point 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0" name="立方体 19470"/>
          <p:cNvSpPr/>
          <p:nvPr/>
        </p:nvSpPr>
        <p:spPr>
          <a:xfrm rot="5400000">
            <a:off x="2374560" y="417240"/>
            <a:ext cx="733320" cy="2647800"/>
          </a:xfrm>
          <a:prstGeom prst="cube">
            <a:avLst>
              <a:gd name="adj" fmla="val 18250"/>
            </a:avLst>
          </a:prstGeom>
          <a:solidFill>
            <a:srgbClr val="47e0ff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4 Point 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1" name="立方体 19471"/>
          <p:cNvSpPr/>
          <p:nvPr/>
        </p:nvSpPr>
        <p:spPr>
          <a:xfrm rot="5400000">
            <a:off x="5890320" y="4137840"/>
            <a:ext cx="733680" cy="2649600"/>
          </a:xfrm>
          <a:prstGeom prst="cube">
            <a:avLst>
              <a:gd name="adj" fmla="val 18250"/>
            </a:avLst>
          </a:prstGeom>
          <a:solidFill>
            <a:srgbClr val="47e0ff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4 Point 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2" name="立方体 19472"/>
          <p:cNvSpPr/>
          <p:nvPr/>
        </p:nvSpPr>
        <p:spPr>
          <a:xfrm rot="5400000">
            <a:off x="2329560" y="4161600"/>
            <a:ext cx="735120" cy="2648160"/>
          </a:xfrm>
          <a:prstGeom prst="cube">
            <a:avLst>
              <a:gd name="adj" fmla="val 18250"/>
            </a:avLst>
          </a:prstGeom>
          <a:solidFill>
            <a:srgbClr val="47e0ff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4 Point 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3" name="立方体 19473"/>
          <p:cNvSpPr/>
          <p:nvPr/>
        </p:nvSpPr>
        <p:spPr>
          <a:xfrm rot="5400000">
            <a:off x="1119240" y="2371320"/>
            <a:ext cx="735120" cy="2649600"/>
          </a:xfrm>
          <a:prstGeom prst="cube">
            <a:avLst>
              <a:gd name="adj" fmla="val 18250"/>
            </a:avLst>
          </a:prstGeom>
          <a:solidFill>
            <a:srgbClr val="47e0ff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4 Point 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- Part Concept w Clip Ar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椭圆 20482"/>
          <p:cNvSpPr/>
          <p:nvPr/>
        </p:nvSpPr>
        <p:spPr>
          <a:xfrm>
            <a:off x="1914480" y="1252440"/>
            <a:ext cx="5214960" cy="4859280"/>
          </a:xfrm>
          <a:prstGeom prst="ellipse">
            <a:avLst/>
          </a:prstGeom>
          <a:gradFill rotWithShape="0">
            <a:gsLst>
              <a:gs pos="0">
                <a:srgbClr val="37939f"/>
              </a:gs>
              <a:gs pos="100000">
                <a:srgbClr val="bbdad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5833800" y="3216240"/>
            <a:ext cx="1236960" cy="349200"/>
            <a:chOff x="5833800" y="3216240"/>
            <a:chExt cx="1236960" cy="349200"/>
          </a:xfrm>
        </p:grpSpPr>
        <p:sp>
          <p:nvSpPr>
            <p:cNvPr id="337" name="直接连接符 20483"/>
            <p:cNvSpPr/>
            <p:nvPr/>
          </p:nvSpPr>
          <p:spPr>
            <a:xfrm flipV="1">
              <a:off x="5834160" y="3216240"/>
              <a:ext cx="1236600" cy="349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38" name=""/>
            <p:cNvSpPr txBox="1"/>
            <p:nvPr/>
          </p:nvSpPr>
          <p:spPr>
            <a:xfrm rot="10800000">
              <a:off x="5833800" y="3216240"/>
              <a:ext cx="1236600" cy="349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1978200" y="3216240"/>
            <a:ext cx="1223640" cy="284040"/>
            <a:chOff x="1978200" y="3216240"/>
            <a:chExt cx="1223640" cy="284040"/>
          </a:xfrm>
        </p:grpSpPr>
        <p:sp>
          <p:nvSpPr>
            <p:cNvPr id="340" name="直接连接符 20484"/>
            <p:cNvSpPr/>
            <p:nvPr/>
          </p:nvSpPr>
          <p:spPr>
            <a:xfrm>
              <a:off x="1978200" y="3216240"/>
              <a:ext cx="1223640" cy="284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41" name=""/>
            <p:cNvSpPr txBox="1"/>
            <p:nvPr/>
          </p:nvSpPr>
          <p:spPr>
            <a:xfrm>
              <a:off x="1978200" y="3216240"/>
              <a:ext cx="1223640" cy="284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342" name="椭圆 20485"/>
          <p:cNvSpPr/>
          <p:nvPr/>
        </p:nvSpPr>
        <p:spPr>
          <a:xfrm>
            <a:off x="3220920" y="2470320"/>
            <a:ext cx="2603520" cy="2425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4572000" y="4900680"/>
            <a:ext cx="360" cy="1208160"/>
            <a:chOff x="4572000" y="4900680"/>
            <a:chExt cx="360" cy="1208160"/>
          </a:xfrm>
        </p:grpSpPr>
        <p:sp>
          <p:nvSpPr>
            <p:cNvPr id="344" name="直接连接符 20486"/>
            <p:cNvSpPr/>
            <p:nvPr/>
          </p:nvSpPr>
          <p:spPr>
            <a:xfrm>
              <a:off x="4572000" y="4900680"/>
              <a:ext cx="0" cy="1208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45" name=""/>
            <p:cNvSpPr txBox="1"/>
            <p:nvPr/>
          </p:nvSpPr>
          <p:spPr>
            <a:xfrm>
              <a:off x="4572000" y="4900680"/>
              <a:ext cx="360" cy="1208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346" name="立方体 20487"/>
          <p:cNvSpPr/>
          <p:nvPr/>
        </p:nvSpPr>
        <p:spPr>
          <a:xfrm rot="5400000">
            <a:off x="4116960" y="279720"/>
            <a:ext cx="887400" cy="2606760"/>
          </a:xfrm>
          <a:prstGeom prst="cube">
            <a:avLst>
              <a:gd name="adj" fmla="val 12796"/>
            </a:avLst>
          </a:prstGeom>
          <a:solidFill>
            <a:srgbClr val="47e0ff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4 Point 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7" name="立方体 20488"/>
          <p:cNvSpPr/>
          <p:nvPr/>
        </p:nvSpPr>
        <p:spPr>
          <a:xfrm rot="5400000">
            <a:off x="2257920" y="3891600"/>
            <a:ext cx="887400" cy="2606760"/>
          </a:xfrm>
          <a:prstGeom prst="cube">
            <a:avLst>
              <a:gd name="adj" fmla="val 12796"/>
            </a:avLst>
          </a:prstGeom>
          <a:solidFill>
            <a:srgbClr val="61b2fb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4 Point 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8" name="立方体 20489"/>
          <p:cNvSpPr/>
          <p:nvPr/>
        </p:nvSpPr>
        <p:spPr>
          <a:xfrm rot="5400000">
            <a:off x="5915520" y="3891600"/>
            <a:ext cx="887400" cy="2606760"/>
          </a:xfrm>
          <a:prstGeom prst="cube">
            <a:avLst>
              <a:gd name="adj" fmla="val 12796"/>
            </a:avLst>
          </a:prstGeom>
          <a:solidFill>
            <a:srgbClr val="a3a9fd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4 Point 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 Part Circ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椭圆 21506"/>
          <p:cNvSpPr/>
          <p:nvPr/>
        </p:nvSpPr>
        <p:spPr>
          <a:xfrm>
            <a:off x="2030400" y="1162080"/>
            <a:ext cx="5059440" cy="4859280"/>
          </a:xfrm>
          <a:prstGeom prst="ellipse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842080" y="3592440"/>
            <a:ext cx="1253880" cy="360"/>
            <a:chOff x="5842080" y="3592440"/>
            <a:chExt cx="1253880" cy="360"/>
          </a:xfrm>
        </p:grpSpPr>
        <p:sp>
          <p:nvSpPr>
            <p:cNvPr id="352" name="直接连接符 21507"/>
            <p:cNvSpPr/>
            <p:nvPr/>
          </p:nvSpPr>
          <p:spPr>
            <a:xfrm>
              <a:off x="5842080" y="3592440"/>
              <a:ext cx="1253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53" name=""/>
            <p:cNvSpPr txBox="1"/>
            <p:nvPr/>
          </p:nvSpPr>
          <p:spPr>
            <a:xfrm>
              <a:off x="5842080" y="3592440"/>
              <a:ext cx="1253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2030400" y="3592440"/>
            <a:ext cx="5048280" cy="360"/>
            <a:chOff x="2030400" y="3592440"/>
            <a:chExt cx="5048280" cy="360"/>
          </a:xfrm>
        </p:grpSpPr>
        <p:sp>
          <p:nvSpPr>
            <p:cNvPr id="355" name="直接连接符 21508"/>
            <p:cNvSpPr/>
            <p:nvPr/>
          </p:nvSpPr>
          <p:spPr>
            <a:xfrm>
              <a:off x="2030400" y="3592440"/>
              <a:ext cx="5048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56" name=""/>
            <p:cNvSpPr txBox="1"/>
            <p:nvPr/>
          </p:nvSpPr>
          <p:spPr>
            <a:xfrm>
              <a:off x="2030400" y="3592440"/>
              <a:ext cx="5048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357" name="立方体 21509"/>
          <p:cNvSpPr/>
          <p:nvPr/>
        </p:nvSpPr>
        <p:spPr>
          <a:xfrm rot="5400000">
            <a:off x="4184280" y="383760"/>
            <a:ext cx="749160" cy="2048040"/>
          </a:xfrm>
          <a:prstGeom prst="cube">
            <a:avLst>
              <a:gd name="adj" fmla="val 20583"/>
            </a:avLst>
          </a:prstGeom>
          <a:solidFill>
            <a:srgbClr val="73e6fd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49400" rIns="149400" tIns="74520" bIns="7452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82840"/>
                <a:tab algn="l" pos="2965320"/>
                <a:tab algn="l" pos="4448160"/>
                <a:tab algn="l" pos="5931000"/>
                <a:tab algn="l" pos="7413480"/>
                <a:tab algn="l" pos="8896320"/>
                <a:tab algn="l" pos="103791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4 Pt Title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8" name="立方体 21510"/>
          <p:cNvSpPr/>
          <p:nvPr/>
        </p:nvSpPr>
        <p:spPr>
          <a:xfrm rot="5400000">
            <a:off x="1944360" y="3684600"/>
            <a:ext cx="749160" cy="2050920"/>
          </a:xfrm>
          <a:prstGeom prst="cube">
            <a:avLst>
              <a:gd name="adj" fmla="val 20583"/>
            </a:avLst>
          </a:prstGeom>
          <a:solidFill>
            <a:srgbClr val="d49fff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49400" rIns="149400" tIns="74520" bIns="7452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82840"/>
                <a:tab algn="l" pos="2965320"/>
                <a:tab algn="l" pos="4448160"/>
                <a:tab algn="l" pos="5931000"/>
                <a:tab algn="l" pos="7413480"/>
                <a:tab algn="l" pos="8896320"/>
                <a:tab algn="l" pos="103791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4 Pt Title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9" name="立方体 21511"/>
          <p:cNvSpPr/>
          <p:nvPr/>
        </p:nvSpPr>
        <p:spPr>
          <a:xfrm rot="5400000">
            <a:off x="6372000" y="1527120"/>
            <a:ext cx="749160" cy="2048040"/>
          </a:xfrm>
          <a:prstGeom prst="cube">
            <a:avLst>
              <a:gd name="adj" fmla="val 20583"/>
            </a:avLst>
          </a:prstGeom>
          <a:solidFill>
            <a:srgbClr val="73e6fd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49400" rIns="149400" tIns="74520" bIns="7452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82840"/>
                <a:tab algn="l" pos="2965320"/>
                <a:tab algn="l" pos="4448160"/>
                <a:tab algn="l" pos="5931000"/>
                <a:tab algn="l" pos="7413480"/>
                <a:tab algn="l" pos="8896320"/>
                <a:tab algn="l" pos="103791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4 Pt Title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0" name="立方体 21512"/>
          <p:cNvSpPr/>
          <p:nvPr/>
        </p:nvSpPr>
        <p:spPr>
          <a:xfrm rot="5400000">
            <a:off x="6367320" y="3684240"/>
            <a:ext cx="749160" cy="2051280"/>
          </a:xfrm>
          <a:prstGeom prst="cube">
            <a:avLst>
              <a:gd name="adj" fmla="val 20583"/>
            </a:avLst>
          </a:prstGeom>
          <a:solidFill>
            <a:srgbClr val="d49fff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49400" rIns="149400" tIns="74520" bIns="7452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82840"/>
                <a:tab algn="l" pos="2965320"/>
                <a:tab algn="l" pos="4448160"/>
                <a:tab algn="l" pos="5931000"/>
                <a:tab algn="l" pos="7413480"/>
                <a:tab algn="l" pos="8896320"/>
                <a:tab algn="l" pos="103791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4 Pt Title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1" name="立方体 21513"/>
          <p:cNvSpPr/>
          <p:nvPr/>
        </p:nvSpPr>
        <p:spPr>
          <a:xfrm rot="5400000">
            <a:off x="1960560" y="1516680"/>
            <a:ext cx="749520" cy="2049480"/>
          </a:xfrm>
          <a:prstGeom prst="cube">
            <a:avLst>
              <a:gd name="adj" fmla="val 20583"/>
            </a:avLst>
          </a:prstGeom>
          <a:solidFill>
            <a:srgbClr val="73e6fd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49400" rIns="149400" tIns="74520" bIns="7452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82840"/>
                <a:tab algn="l" pos="2965320"/>
                <a:tab algn="l" pos="4448160"/>
                <a:tab algn="l" pos="5931000"/>
                <a:tab algn="l" pos="7413480"/>
                <a:tab algn="l" pos="8896320"/>
                <a:tab algn="l" pos="103791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4 Pt Title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2" name="立方体 21514"/>
          <p:cNvSpPr/>
          <p:nvPr/>
        </p:nvSpPr>
        <p:spPr>
          <a:xfrm rot="5400000">
            <a:off x="4183200" y="4771080"/>
            <a:ext cx="749520" cy="2049480"/>
          </a:xfrm>
          <a:prstGeom prst="cube">
            <a:avLst>
              <a:gd name="adj" fmla="val 20583"/>
            </a:avLst>
          </a:prstGeom>
          <a:solidFill>
            <a:srgbClr val="d49fff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49400" rIns="149400" tIns="74520" bIns="7452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82840"/>
                <a:tab algn="l" pos="2965320"/>
                <a:tab algn="l" pos="4448160"/>
                <a:tab algn="l" pos="5931000"/>
                <a:tab algn="l" pos="7413480"/>
                <a:tab algn="l" pos="8896320"/>
                <a:tab algn="l" pos="103791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4 Pt Title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3" name="十六角星 21515"/>
          <p:cNvSpPr/>
          <p:nvPr/>
        </p:nvSpPr>
        <p:spPr>
          <a:xfrm>
            <a:off x="3141720" y="2438280"/>
            <a:ext cx="2838240" cy="2257560"/>
          </a:xfrm>
          <a:custGeom>
            <a:avLst/>
            <a:gdLst>
              <a:gd name="textAreaLeft" fmla="*/ 666360 w 2838240"/>
              <a:gd name="textAreaRight" fmla="*/ 2171880 w 2838240"/>
              <a:gd name="textAreaTop" fmla="*/ 529920 h 2257560"/>
              <a:gd name="textAreaBottom" fmla="*/ 1727640 h 2257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849" y="12346"/>
                </a:lnTo>
                <a:lnTo>
                  <a:pt x="786" y="14846"/>
                </a:lnTo>
                <a:lnTo>
                  <a:pt x="4007" y="15212"/>
                </a:lnTo>
                <a:lnTo>
                  <a:pt x="3163" y="18437"/>
                </a:lnTo>
                <a:lnTo>
                  <a:pt x="6271" y="17515"/>
                </a:lnTo>
                <a:lnTo>
                  <a:pt x="6580" y="20741"/>
                </a:lnTo>
                <a:lnTo>
                  <a:pt x="9116" y="18723"/>
                </a:lnTo>
                <a:lnTo>
                  <a:pt x="10800" y="21600"/>
                </a:lnTo>
                <a:lnTo>
                  <a:pt x="12346" y="18751"/>
                </a:lnTo>
                <a:lnTo>
                  <a:pt x="14846" y="20814"/>
                </a:lnTo>
                <a:lnTo>
                  <a:pt x="15212" y="17593"/>
                </a:lnTo>
                <a:lnTo>
                  <a:pt x="18437" y="18437"/>
                </a:lnTo>
                <a:lnTo>
                  <a:pt x="17515" y="15329"/>
                </a:lnTo>
                <a:lnTo>
                  <a:pt x="20741" y="15020"/>
                </a:lnTo>
                <a:lnTo>
                  <a:pt x="18723" y="12484"/>
                </a:lnTo>
                <a:lnTo>
                  <a:pt x="21600" y="10800"/>
                </a:lnTo>
                <a:lnTo>
                  <a:pt x="18751" y="9254"/>
                </a:lnTo>
                <a:lnTo>
                  <a:pt x="20814" y="6754"/>
                </a:lnTo>
                <a:lnTo>
                  <a:pt x="17593" y="6388"/>
                </a:lnTo>
                <a:lnTo>
                  <a:pt x="18437" y="3163"/>
                </a:lnTo>
                <a:lnTo>
                  <a:pt x="15329" y="4085"/>
                </a:lnTo>
                <a:lnTo>
                  <a:pt x="15020" y="859"/>
                </a:lnTo>
                <a:lnTo>
                  <a:pt x="12484" y="2877"/>
                </a:lnTo>
                <a:lnTo>
                  <a:pt x="10800" y="0"/>
                </a:lnTo>
                <a:lnTo>
                  <a:pt x="9254" y="2849"/>
                </a:lnTo>
                <a:lnTo>
                  <a:pt x="6754" y="786"/>
                </a:lnTo>
                <a:lnTo>
                  <a:pt x="6388" y="4007"/>
                </a:lnTo>
                <a:lnTo>
                  <a:pt x="3163" y="3163"/>
                </a:lnTo>
                <a:lnTo>
                  <a:pt x="4085" y="6271"/>
                </a:lnTo>
                <a:lnTo>
                  <a:pt x="859" y="6580"/>
                </a:lnTo>
                <a:lnTo>
                  <a:pt x="2877" y="9116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95120" rIns="195120" tIns="96840" bIns="9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930320"/>
                <a:tab algn="l" pos="3860640"/>
                <a:tab algn="l" pos="5791320"/>
                <a:tab algn="l" pos="7721640"/>
                <a:tab algn="l" pos="9651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4 Pt Title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 Part Concept w Clip Ar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椭圆 22530"/>
          <p:cNvSpPr/>
          <p:nvPr/>
        </p:nvSpPr>
        <p:spPr>
          <a:xfrm>
            <a:off x="347760" y="1252440"/>
            <a:ext cx="8315280" cy="4859280"/>
          </a:xfrm>
          <a:prstGeom prst="ellipse">
            <a:avLst/>
          </a:prstGeom>
          <a:solidFill>
            <a:srgbClr val="a3a9f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6611760" y="3683160"/>
            <a:ext cx="2062440" cy="360"/>
            <a:chOff x="6611760" y="3683160"/>
            <a:chExt cx="2062440" cy="360"/>
          </a:xfrm>
        </p:grpSpPr>
        <p:sp>
          <p:nvSpPr>
            <p:cNvPr id="367" name="直接连接符 22531"/>
            <p:cNvSpPr/>
            <p:nvPr/>
          </p:nvSpPr>
          <p:spPr>
            <a:xfrm>
              <a:off x="6611760" y="3683160"/>
              <a:ext cx="2062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68" name=""/>
            <p:cNvSpPr txBox="1"/>
            <p:nvPr/>
          </p:nvSpPr>
          <p:spPr>
            <a:xfrm>
              <a:off x="6611760" y="3683160"/>
              <a:ext cx="2062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380880" y="3683160"/>
            <a:ext cx="2062440" cy="360"/>
            <a:chOff x="380880" y="3683160"/>
            <a:chExt cx="2062440" cy="360"/>
          </a:xfrm>
        </p:grpSpPr>
        <p:sp>
          <p:nvSpPr>
            <p:cNvPr id="370" name="直接连接符 22532"/>
            <p:cNvSpPr/>
            <p:nvPr/>
          </p:nvSpPr>
          <p:spPr>
            <a:xfrm>
              <a:off x="380880" y="3683160"/>
              <a:ext cx="2062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71" name=""/>
            <p:cNvSpPr txBox="1"/>
            <p:nvPr/>
          </p:nvSpPr>
          <p:spPr>
            <a:xfrm>
              <a:off x="380880" y="3683160"/>
              <a:ext cx="2062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372" name="椭圆 22533"/>
          <p:cNvSpPr/>
          <p:nvPr/>
        </p:nvSpPr>
        <p:spPr>
          <a:xfrm>
            <a:off x="2428920" y="2470320"/>
            <a:ext cx="4151160" cy="2425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3" name="立方体 22534"/>
          <p:cNvSpPr/>
          <p:nvPr/>
        </p:nvSpPr>
        <p:spPr>
          <a:xfrm rot="5400000">
            <a:off x="7037280" y="2904840"/>
            <a:ext cx="733320" cy="2648160"/>
          </a:xfrm>
          <a:prstGeom prst="cube">
            <a:avLst>
              <a:gd name="adj" fmla="val 18250"/>
            </a:avLst>
          </a:prstGeom>
          <a:solidFill>
            <a:srgbClr val="47e0ff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4 Point 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243080" y="2192040"/>
            <a:ext cx="1698480" cy="633240"/>
            <a:chOff x="1243080" y="2192040"/>
            <a:chExt cx="1698480" cy="633240"/>
          </a:xfrm>
        </p:grpSpPr>
        <p:sp>
          <p:nvSpPr>
            <p:cNvPr id="375" name="直接连接符 22535"/>
            <p:cNvSpPr/>
            <p:nvPr/>
          </p:nvSpPr>
          <p:spPr>
            <a:xfrm flipH="1" flipV="1">
              <a:off x="1243080" y="2192040"/>
              <a:ext cx="1698480" cy="63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76" name=""/>
            <p:cNvSpPr txBox="1"/>
            <p:nvPr/>
          </p:nvSpPr>
          <p:spPr>
            <a:xfrm rot="10800000">
              <a:off x="1243080" y="2192040"/>
              <a:ext cx="1698480" cy="63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377" name="立方体 22536"/>
          <p:cNvSpPr/>
          <p:nvPr/>
        </p:nvSpPr>
        <p:spPr>
          <a:xfrm rot="5400000">
            <a:off x="1297800" y="1595880"/>
            <a:ext cx="735120" cy="2648160"/>
          </a:xfrm>
          <a:prstGeom prst="cube">
            <a:avLst>
              <a:gd name="adj" fmla="val 18250"/>
            </a:avLst>
          </a:prstGeom>
          <a:solidFill>
            <a:srgbClr val="47e0ff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4 Point 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8" name="立方体 22537"/>
          <p:cNvSpPr/>
          <p:nvPr/>
        </p:nvSpPr>
        <p:spPr>
          <a:xfrm rot="5400000">
            <a:off x="5935680" y="435960"/>
            <a:ext cx="736560" cy="2648160"/>
          </a:xfrm>
          <a:prstGeom prst="cube">
            <a:avLst>
              <a:gd name="adj" fmla="val 18250"/>
            </a:avLst>
          </a:prstGeom>
          <a:solidFill>
            <a:srgbClr val="47e0ff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4 Point 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9" name="立方体 22538"/>
          <p:cNvSpPr/>
          <p:nvPr/>
        </p:nvSpPr>
        <p:spPr>
          <a:xfrm rot="5400000">
            <a:off x="2374560" y="417240"/>
            <a:ext cx="733320" cy="2647800"/>
          </a:xfrm>
          <a:prstGeom prst="cube">
            <a:avLst>
              <a:gd name="adj" fmla="val 18250"/>
            </a:avLst>
          </a:prstGeom>
          <a:solidFill>
            <a:srgbClr val="47e0ff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4 Point 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5985000" y="2279160"/>
            <a:ext cx="1882800" cy="546120"/>
            <a:chOff x="5985000" y="2279160"/>
            <a:chExt cx="1882800" cy="546120"/>
          </a:xfrm>
        </p:grpSpPr>
        <p:sp>
          <p:nvSpPr>
            <p:cNvPr id="381" name="直接连接符 22539"/>
            <p:cNvSpPr/>
            <p:nvPr/>
          </p:nvSpPr>
          <p:spPr>
            <a:xfrm flipV="1">
              <a:off x="5985000" y="2279160"/>
              <a:ext cx="1882800" cy="546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82" name=""/>
            <p:cNvSpPr txBox="1"/>
            <p:nvPr/>
          </p:nvSpPr>
          <p:spPr>
            <a:xfrm rot="10800000">
              <a:off x="5985000" y="2279160"/>
              <a:ext cx="1882800" cy="546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383" name="立方体 22540"/>
          <p:cNvSpPr/>
          <p:nvPr/>
        </p:nvSpPr>
        <p:spPr>
          <a:xfrm rot="5400000">
            <a:off x="6946920" y="1595160"/>
            <a:ext cx="735120" cy="2649600"/>
          </a:xfrm>
          <a:prstGeom prst="cube">
            <a:avLst>
              <a:gd name="adj" fmla="val 18250"/>
            </a:avLst>
          </a:prstGeom>
          <a:solidFill>
            <a:srgbClr val="47e0ff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4 Point 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4505040" y="1266480"/>
            <a:ext cx="360" cy="1198440"/>
            <a:chOff x="4505040" y="1266480"/>
            <a:chExt cx="360" cy="1198440"/>
          </a:xfrm>
        </p:grpSpPr>
        <p:sp>
          <p:nvSpPr>
            <p:cNvPr id="385" name="直接连接符 22541"/>
            <p:cNvSpPr/>
            <p:nvPr/>
          </p:nvSpPr>
          <p:spPr>
            <a:xfrm flipV="1">
              <a:off x="4505400" y="1266480"/>
              <a:ext cx="0" cy="119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86" name=""/>
            <p:cNvSpPr txBox="1"/>
            <p:nvPr/>
          </p:nvSpPr>
          <p:spPr>
            <a:xfrm rot="10800000">
              <a:off x="4505040" y="1266480"/>
              <a:ext cx="360" cy="119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4487760" y="4898880"/>
            <a:ext cx="360" cy="1208160"/>
            <a:chOff x="4487760" y="4898880"/>
            <a:chExt cx="360" cy="1208160"/>
          </a:xfrm>
        </p:grpSpPr>
        <p:sp>
          <p:nvSpPr>
            <p:cNvPr id="388" name="直接连接符 22542"/>
            <p:cNvSpPr/>
            <p:nvPr/>
          </p:nvSpPr>
          <p:spPr>
            <a:xfrm>
              <a:off x="4487760" y="4898880"/>
              <a:ext cx="0" cy="1208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89" name=""/>
            <p:cNvSpPr txBox="1"/>
            <p:nvPr/>
          </p:nvSpPr>
          <p:spPr>
            <a:xfrm>
              <a:off x="4487760" y="4898880"/>
              <a:ext cx="360" cy="1208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1411200" y="4559400"/>
            <a:ext cx="1665360" cy="730080"/>
            <a:chOff x="1411200" y="4559400"/>
            <a:chExt cx="1665360" cy="730080"/>
          </a:xfrm>
        </p:grpSpPr>
        <p:sp>
          <p:nvSpPr>
            <p:cNvPr id="391" name="直接连接符 22543"/>
            <p:cNvSpPr/>
            <p:nvPr/>
          </p:nvSpPr>
          <p:spPr>
            <a:xfrm flipH="1">
              <a:off x="1411200" y="4559400"/>
              <a:ext cx="1665360" cy="730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92" name=""/>
            <p:cNvSpPr txBox="1"/>
            <p:nvPr/>
          </p:nvSpPr>
          <p:spPr>
            <a:xfrm>
              <a:off x="1411200" y="4559400"/>
              <a:ext cx="1665360" cy="730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5865840" y="4597560"/>
            <a:ext cx="1716120" cy="691920"/>
            <a:chOff x="5865840" y="4597560"/>
            <a:chExt cx="1716120" cy="691920"/>
          </a:xfrm>
        </p:grpSpPr>
        <p:sp>
          <p:nvSpPr>
            <p:cNvPr id="394" name="直接连接符 22544"/>
            <p:cNvSpPr/>
            <p:nvPr/>
          </p:nvSpPr>
          <p:spPr>
            <a:xfrm>
              <a:off x="5865840" y="4597560"/>
              <a:ext cx="1716120" cy="691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95" name=""/>
            <p:cNvSpPr txBox="1"/>
            <p:nvPr/>
          </p:nvSpPr>
          <p:spPr>
            <a:xfrm>
              <a:off x="5865840" y="4597560"/>
              <a:ext cx="1716120" cy="691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396" name="立方体 22545"/>
          <p:cNvSpPr/>
          <p:nvPr/>
        </p:nvSpPr>
        <p:spPr>
          <a:xfrm rot="5400000">
            <a:off x="5890320" y="4137840"/>
            <a:ext cx="733680" cy="2649600"/>
          </a:xfrm>
          <a:prstGeom prst="cube">
            <a:avLst>
              <a:gd name="adj" fmla="val 18250"/>
            </a:avLst>
          </a:prstGeom>
          <a:solidFill>
            <a:srgbClr val="47e0ff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4 Point 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7" name="立方体 22546"/>
          <p:cNvSpPr/>
          <p:nvPr/>
        </p:nvSpPr>
        <p:spPr>
          <a:xfrm rot="5400000">
            <a:off x="2328840" y="4157640"/>
            <a:ext cx="733320" cy="2651040"/>
          </a:xfrm>
          <a:prstGeom prst="cube">
            <a:avLst>
              <a:gd name="adj" fmla="val 18250"/>
            </a:avLst>
          </a:prstGeom>
          <a:solidFill>
            <a:srgbClr val="47e0ff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4 Point 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8" name="立方体 22547"/>
          <p:cNvSpPr/>
          <p:nvPr/>
        </p:nvSpPr>
        <p:spPr>
          <a:xfrm rot="5400000">
            <a:off x="1385640" y="2900160"/>
            <a:ext cx="733320" cy="2651040"/>
          </a:xfrm>
          <a:prstGeom prst="cube">
            <a:avLst>
              <a:gd name="adj" fmla="val 18250"/>
            </a:avLst>
          </a:prstGeom>
          <a:solidFill>
            <a:srgbClr val="47e0ff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4 Point 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 Part Concep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任意多边形 5122"/>
          <p:cNvSpPr/>
          <p:nvPr/>
        </p:nvSpPr>
        <p:spPr>
          <a:xfrm rot="18900000">
            <a:off x="1992240" y="1398600"/>
            <a:ext cx="3479760" cy="2441520"/>
          </a:xfrm>
          <a:custGeom>
            <a:avLst/>
            <a:gdLst/>
            <a:ahLst/>
            <a:rect l="l" t="t" r="r" b="b"/>
            <a:pathLst>
              <a:path fill="none" w="30533" h="21600">
                <a:moveTo>
                  <a:pt x="0" y="6322"/>
                </a:moveTo>
                <a:cubicBezTo>
                  <a:pt x="3909" y="2416"/>
                  <a:pt x="9307" y="0"/>
                  <a:pt x="15270" y="0"/>
                </a:cubicBezTo>
                <a:cubicBezTo>
                  <a:pt x="21229" y="0"/>
                  <a:pt x="26624" y="2413"/>
                  <a:pt x="30532" y="6315"/>
                </a:cubicBezTo>
              </a:path>
              <a:path stroke="0" w="30533" h="21600">
                <a:moveTo>
                  <a:pt x="30532" y="6315"/>
                </a:moveTo>
                <a:cubicBezTo>
                  <a:pt x="25517" y="3020"/>
                  <a:pt x="22208" y="-2655"/>
                  <a:pt x="22208" y="-9103"/>
                </a:cubicBezTo>
                <a:cubicBezTo>
                  <a:pt x="22208" y="-19287"/>
                  <a:pt x="30462" y="-27542"/>
                  <a:pt x="40643" y="-27542"/>
                </a:cubicBezTo>
                <a:cubicBezTo>
                  <a:pt x="50824" y="-27542"/>
                  <a:pt x="59078" y="-19287"/>
                  <a:pt x="59078" y="-9103"/>
                </a:cubicBezTo>
                <a:cubicBezTo>
                  <a:pt x="59078" y="-4012"/>
                  <a:pt x="57016" y="596"/>
                  <a:pt x="53681" y="3933"/>
                </a:cubicBezTo>
                <a:lnTo>
                  <a:pt x="0" y="6322"/>
                </a:lnTo>
                <a:close/>
              </a:path>
            </a:pathLst>
          </a:custGeom>
          <a:solidFill>
            <a:srgbClr val="47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4" name="任意多边形 5123"/>
          <p:cNvSpPr/>
          <p:nvPr/>
        </p:nvSpPr>
        <p:spPr>
          <a:xfrm rot="2700000">
            <a:off x="3740040" y="1390320"/>
            <a:ext cx="3492360" cy="2460960"/>
          </a:xfrm>
          <a:custGeom>
            <a:avLst/>
            <a:gdLst/>
            <a:ahLst/>
            <a:rect l="l" t="t" r="r" b="b"/>
            <a:pathLst>
              <a:path fill="none" w="30535" h="21600">
                <a:moveTo>
                  <a:pt x="0" y="6324"/>
                </a:moveTo>
                <a:cubicBezTo>
                  <a:pt x="3909" y="2417"/>
                  <a:pt x="9308" y="0"/>
                  <a:pt x="15271" y="0"/>
                </a:cubicBezTo>
                <a:cubicBezTo>
                  <a:pt x="21231" y="0"/>
                  <a:pt x="26627" y="2414"/>
                  <a:pt x="30535" y="6317"/>
                </a:cubicBezTo>
              </a:path>
              <a:path stroke="0" w="30535" h="21600">
                <a:moveTo>
                  <a:pt x="30535" y="6317"/>
                </a:moveTo>
                <a:cubicBezTo>
                  <a:pt x="25521" y="3022"/>
                  <a:pt x="22213" y="-2652"/>
                  <a:pt x="22213" y="-9099"/>
                </a:cubicBezTo>
                <a:cubicBezTo>
                  <a:pt x="22213" y="-19282"/>
                  <a:pt x="30467" y="-27537"/>
                  <a:pt x="40648" y="-27537"/>
                </a:cubicBezTo>
                <a:cubicBezTo>
                  <a:pt x="50829" y="-27537"/>
                  <a:pt x="59083" y="-19282"/>
                  <a:pt x="59083" y="-9099"/>
                </a:cubicBezTo>
                <a:cubicBezTo>
                  <a:pt x="59083" y="-4008"/>
                  <a:pt x="57020" y="601"/>
                  <a:pt x="53685" y="3937"/>
                </a:cubicBezTo>
                <a:lnTo>
                  <a:pt x="0" y="6324"/>
                </a:lnTo>
                <a:close/>
              </a:path>
            </a:pathLst>
          </a:custGeom>
          <a:solidFill>
            <a:srgbClr val="a3a9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5" name="任意多边形 5124"/>
          <p:cNvSpPr/>
          <p:nvPr/>
        </p:nvSpPr>
        <p:spPr>
          <a:xfrm rot="8100000">
            <a:off x="3738240" y="3103200"/>
            <a:ext cx="3489120" cy="2492280"/>
          </a:xfrm>
          <a:custGeom>
            <a:avLst/>
            <a:gdLst/>
            <a:ahLst/>
            <a:rect l="l" t="t" r="r" b="b"/>
            <a:pathLst>
              <a:path fill="none" w="30635" h="21600">
                <a:moveTo>
                  <a:pt x="0" y="6330"/>
                </a:moveTo>
                <a:cubicBezTo>
                  <a:pt x="3909" y="2419"/>
                  <a:pt x="9311" y="0"/>
                  <a:pt x="15277" y="0"/>
                </a:cubicBezTo>
                <a:cubicBezTo>
                  <a:pt x="21285" y="0"/>
                  <a:pt x="26719" y="2453"/>
                  <a:pt x="30635" y="6411"/>
                </a:cubicBezTo>
              </a:path>
              <a:path stroke="0" w="30635" h="21600">
                <a:moveTo>
                  <a:pt x="30635" y="6411"/>
                </a:moveTo>
                <a:cubicBezTo>
                  <a:pt x="25671" y="3108"/>
                  <a:pt x="22401" y="-2536"/>
                  <a:pt x="22401" y="-8944"/>
                </a:cubicBezTo>
                <a:cubicBezTo>
                  <a:pt x="22401" y="-19125"/>
                  <a:pt x="30656" y="-27379"/>
                  <a:pt x="40839" y="-27379"/>
                </a:cubicBezTo>
                <a:cubicBezTo>
                  <a:pt x="51022" y="-27379"/>
                  <a:pt x="59277" y="-19125"/>
                  <a:pt x="59277" y="-8944"/>
                </a:cubicBezTo>
                <a:cubicBezTo>
                  <a:pt x="59277" y="-3852"/>
                  <a:pt x="57212" y="757"/>
                  <a:pt x="53875" y="4094"/>
                </a:cubicBezTo>
                <a:lnTo>
                  <a:pt x="0" y="6330"/>
                </a:lnTo>
                <a:close/>
              </a:path>
            </a:pathLst>
          </a:custGeom>
          <a:solidFill>
            <a:srgbClr val="61b2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6" name="任意多边形 5125"/>
          <p:cNvSpPr/>
          <p:nvPr/>
        </p:nvSpPr>
        <p:spPr>
          <a:xfrm rot="13500000">
            <a:off x="1983240" y="3129840"/>
            <a:ext cx="3479760" cy="2442960"/>
          </a:xfrm>
          <a:custGeom>
            <a:avLst/>
            <a:gdLst/>
            <a:ahLst/>
            <a:rect l="l" t="t" r="r" b="b"/>
            <a:pathLst>
              <a:path fill="none" w="30533" h="21600">
                <a:moveTo>
                  <a:pt x="0" y="6323"/>
                </a:moveTo>
                <a:cubicBezTo>
                  <a:pt x="3909" y="2416"/>
                  <a:pt x="9307" y="0"/>
                  <a:pt x="15270" y="0"/>
                </a:cubicBezTo>
                <a:cubicBezTo>
                  <a:pt x="21229" y="0"/>
                  <a:pt x="26625" y="2413"/>
                  <a:pt x="30533" y="6316"/>
                </a:cubicBezTo>
              </a:path>
              <a:path stroke="0" w="30533" h="21600">
                <a:moveTo>
                  <a:pt x="30533" y="6316"/>
                </a:moveTo>
                <a:cubicBezTo>
                  <a:pt x="25519" y="3021"/>
                  <a:pt x="22210" y="-2653"/>
                  <a:pt x="22210" y="-9101"/>
                </a:cubicBezTo>
                <a:cubicBezTo>
                  <a:pt x="22210" y="-19284"/>
                  <a:pt x="30464" y="-27539"/>
                  <a:pt x="40645" y="-27539"/>
                </a:cubicBezTo>
                <a:cubicBezTo>
                  <a:pt x="50826" y="-27539"/>
                  <a:pt x="59080" y="-19284"/>
                  <a:pt x="59080" y="-9101"/>
                </a:cubicBezTo>
                <a:cubicBezTo>
                  <a:pt x="59080" y="-4011"/>
                  <a:pt x="57017" y="598"/>
                  <a:pt x="53683" y="3935"/>
                </a:cubicBezTo>
                <a:lnTo>
                  <a:pt x="0" y="6323"/>
                </a:lnTo>
                <a:close/>
              </a:path>
            </a:pathLst>
          </a:custGeom>
          <a:solidFill>
            <a:srgbClr val="d49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7" name="椭圆 5126"/>
          <p:cNvSpPr/>
          <p:nvPr/>
        </p:nvSpPr>
        <p:spPr>
          <a:xfrm>
            <a:off x="3635280" y="2538360"/>
            <a:ext cx="1987560" cy="1898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r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8" name="矩形 5127"/>
          <p:cNvSpPr/>
          <p:nvPr/>
        </p:nvSpPr>
        <p:spPr>
          <a:xfrm>
            <a:off x="3533040" y="1685880"/>
            <a:ext cx="7063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r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9" name="矩形 5128"/>
          <p:cNvSpPr/>
          <p:nvPr/>
        </p:nvSpPr>
        <p:spPr>
          <a:xfrm>
            <a:off x="5090400" y="1657440"/>
            <a:ext cx="7063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r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0" name="矩形 5129"/>
          <p:cNvSpPr/>
          <p:nvPr/>
        </p:nvSpPr>
        <p:spPr>
          <a:xfrm>
            <a:off x="3517200" y="4621320"/>
            <a:ext cx="7063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r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1" name="矩形 5130"/>
          <p:cNvSpPr/>
          <p:nvPr/>
        </p:nvSpPr>
        <p:spPr>
          <a:xfrm>
            <a:off x="5136480" y="4621320"/>
            <a:ext cx="7063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r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2" name="未知"/>
          <p:cNvSpPr/>
          <p:nvPr/>
        </p:nvSpPr>
        <p:spPr>
          <a:xfrm>
            <a:off x="5386320" y="4129200"/>
            <a:ext cx="1901880" cy="1258920"/>
          </a:xfrm>
          <a:custGeom>
            <a:avLst/>
            <a:gdLst/>
            <a:ahLst/>
            <a:rect l="l" t="t" r="r" b="b"/>
            <a:pathLst>
              <a:path w="1198" h="793">
                <a:moveTo>
                  <a:pt x="0" y="0"/>
                </a:moveTo>
                <a:lnTo>
                  <a:pt x="513" y="396"/>
                </a:lnTo>
                <a:lnTo>
                  <a:pt x="513" y="243"/>
                </a:lnTo>
                <a:lnTo>
                  <a:pt x="1197" y="79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3" name="未知"/>
          <p:cNvSpPr/>
          <p:nvPr/>
        </p:nvSpPr>
        <p:spPr>
          <a:xfrm>
            <a:off x="1994040" y="4143240"/>
            <a:ext cx="1901520" cy="1258920"/>
          </a:xfrm>
          <a:custGeom>
            <a:avLst/>
            <a:gdLst/>
            <a:ahLst/>
            <a:rect l="l" t="t" r="r" b="b"/>
            <a:pathLst>
              <a:path w="1198" h="793">
                <a:moveTo>
                  <a:pt x="1197" y="0"/>
                </a:moveTo>
                <a:lnTo>
                  <a:pt x="684" y="396"/>
                </a:lnTo>
                <a:lnTo>
                  <a:pt x="684" y="243"/>
                </a:lnTo>
                <a:lnTo>
                  <a:pt x="0" y="79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4" name="未知"/>
          <p:cNvSpPr/>
          <p:nvPr/>
        </p:nvSpPr>
        <p:spPr>
          <a:xfrm>
            <a:off x="5353200" y="1538280"/>
            <a:ext cx="1901520" cy="1258920"/>
          </a:xfrm>
          <a:custGeom>
            <a:avLst/>
            <a:gdLst/>
            <a:ahLst/>
            <a:rect l="l" t="t" r="r" b="b"/>
            <a:pathLst>
              <a:path w="1198" h="793">
                <a:moveTo>
                  <a:pt x="0" y="792"/>
                </a:moveTo>
                <a:lnTo>
                  <a:pt x="513" y="396"/>
                </a:lnTo>
                <a:lnTo>
                  <a:pt x="513" y="549"/>
                </a:lnTo>
                <a:lnTo>
                  <a:pt x="1197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5" name="未知"/>
          <p:cNvSpPr/>
          <p:nvPr/>
        </p:nvSpPr>
        <p:spPr>
          <a:xfrm>
            <a:off x="2046240" y="1495440"/>
            <a:ext cx="1901880" cy="1258920"/>
          </a:xfrm>
          <a:custGeom>
            <a:avLst/>
            <a:gdLst/>
            <a:ahLst/>
            <a:rect l="l" t="t" r="r" b="b"/>
            <a:pathLst>
              <a:path w="1198" h="793">
                <a:moveTo>
                  <a:pt x="1197" y="792"/>
                </a:moveTo>
                <a:lnTo>
                  <a:pt x="684" y="396"/>
                </a:lnTo>
                <a:lnTo>
                  <a:pt x="684" y="549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 Part Concept - B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六边形 23554"/>
          <p:cNvSpPr/>
          <p:nvPr/>
        </p:nvSpPr>
        <p:spPr>
          <a:xfrm>
            <a:off x="243000" y="1295280"/>
            <a:ext cx="8609040" cy="4724640"/>
          </a:xfrm>
          <a:prstGeom prst="hexagon">
            <a:avLst>
              <a:gd name="adj" fmla="val 45545"/>
              <a:gd name="vf" fmla="val 115470"/>
            </a:avLst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1" name="等腰三角形 23555"/>
          <p:cNvSpPr/>
          <p:nvPr/>
        </p:nvSpPr>
        <p:spPr>
          <a:xfrm flipH="1" rot="10800000">
            <a:off x="4619520" y="3733560"/>
            <a:ext cx="4076640" cy="215244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dbaeff"/>
              </a:gs>
              <a:gs pos="100000">
                <a:srgbClr val="d49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4 P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2" name="等腰三角形 23556"/>
          <p:cNvSpPr/>
          <p:nvPr/>
        </p:nvSpPr>
        <p:spPr>
          <a:xfrm flipH="1" rot="10800000">
            <a:off x="381600" y="3733560"/>
            <a:ext cx="4081320" cy="215244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dbaeff"/>
              </a:gs>
              <a:gs pos="100000">
                <a:srgbClr val="d49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4 P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3" name="等腰三角形 23557"/>
          <p:cNvSpPr/>
          <p:nvPr/>
        </p:nvSpPr>
        <p:spPr>
          <a:xfrm flipH="1" rot="10800000">
            <a:off x="2507040" y="1371600"/>
            <a:ext cx="4079880" cy="215280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b4f2fe"/>
              </a:gs>
              <a:gs pos="100000">
                <a:srgbClr val="73e6f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4 P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4" name="等腰三角形 23558"/>
          <p:cNvSpPr/>
          <p:nvPr/>
        </p:nvSpPr>
        <p:spPr>
          <a:xfrm>
            <a:off x="2490840" y="3790800"/>
            <a:ext cx="4081320" cy="215280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dbaeff"/>
              </a:gs>
              <a:gs pos="100000">
                <a:srgbClr val="d49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4 P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5" name="等腰三角形 23559"/>
          <p:cNvSpPr/>
          <p:nvPr/>
        </p:nvSpPr>
        <p:spPr>
          <a:xfrm>
            <a:off x="366840" y="1414440"/>
            <a:ext cx="4081320" cy="215280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b4f2fe"/>
              </a:gs>
              <a:gs pos="100000">
                <a:srgbClr val="73e6f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4 P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6" name="等腰三角形 23560"/>
          <p:cNvSpPr/>
          <p:nvPr/>
        </p:nvSpPr>
        <p:spPr>
          <a:xfrm>
            <a:off x="4637160" y="1405080"/>
            <a:ext cx="4076640" cy="215244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b4f2fe"/>
              </a:gs>
              <a:gs pos="100000">
                <a:srgbClr val="73e6f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4 P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7" name="十六角星 23561"/>
          <p:cNvSpPr/>
          <p:nvPr/>
        </p:nvSpPr>
        <p:spPr>
          <a:xfrm>
            <a:off x="3048120" y="2666880"/>
            <a:ext cx="3047760" cy="2019600"/>
          </a:xfrm>
          <a:custGeom>
            <a:avLst/>
            <a:gdLst>
              <a:gd name="textAreaLeft" fmla="*/ 715680 w 3047760"/>
              <a:gd name="textAreaRight" fmla="*/ 2332080 w 3047760"/>
              <a:gd name="textAreaTop" fmla="*/ 474120 h 2019600"/>
              <a:gd name="textAreaBottom" fmla="*/ 1545480 h 2019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849" y="12346"/>
                </a:lnTo>
                <a:lnTo>
                  <a:pt x="786" y="14846"/>
                </a:lnTo>
                <a:lnTo>
                  <a:pt x="4007" y="15212"/>
                </a:lnTo>
                <a:lnTo>
                  <a:pt x="3163" y="18437"/>
                </a:lnTo>
                <a:lnTo>
                  <a:pt x="6271" y="17515"/>
                </a:lnTo>
                <a:lnTo>
                  <a:pt x="6580" y="20741"/>
                </a:lnTo>
                <a:lnTo>
                  <a:pt x="9116" y="18723"/>
                </a:lnTo>
                <a:lnTo>
                  <a:pt x="10800" y="21600"/>
                </a:lnTo>
                <a:lnTo>
                  <a:pt x="12346" y="18751"/>
                </a:lnTo>
                <a:lnTo>
                  <a:pt x="14846" y="20814"/>
                </a:lnTo>
                <a:lnTo>
                  <a:pt x="15212" y="17593"/>
                </a:lnTo>
                <a:lnTo>
                  <a:pt x="18437" y="18437"/>
                </a:lnTo>
                <a:lnTo>
                  <a:pt x="17515" y="15329"/>
                </a:lnTo>
                <a:lnTo>
                  <a:pt x="20741" y="15020"/>
                </a:lnTo>
                <a:lnTo>
                  <a:pt x="18723" y="12484"/>
                </a:lnTo>
                <a:lnTo>
                  <a:pt x="21600" y="10800"/>
                </a:lnTo>
                <a:lnTo>
                  <a:pt x="18751" y="9254"/>
                </a:lnTo>
                <a:lnTo>
                  <a:pt x="20814" y="6754"/>
                </a:lnTo>
                <a:lnTo>
                  <a:pt x="17593" y="6388"/>
                </a:lnTo>
                <a:lnTo>
                  <a:pt x="18437" y="3163"/>
                </a:lnTo>
                <a:lnTo>
                  <a:pt x="15329" y="4085"/>
                </a:lnTo>
                <a:lnTo>
                  <a:pt x="15020" y="859"/>
                </a:lnTo>
                <a:lnTo>
                  <a:pt x="12484" y="2877"/>
                </a:lnTo>
                <a:lnTo>
                  <a:pt x="10800" y="0"/>
                </a:lnTo>
                <a:lnTo>
                  <a:pt x="9254" y="2849"/>
                </a:lnTo>
                <a:lnTo>
                  <a:pt x="6754" y="786"/>
                </a:lnTo>
                <a:lnTo>
                  <a:pt x="6388" y="4007"/>
                </a:lnTo>
                <a:lnTo>
                  <a:pt x="3163" y="3163"/>
                </a:lnTo>
                <a:lnTo>
                  <a:pt x="4085" y="6271"/>
                </a:lnTo>
                <a:lnTo>
                  <a:pt x="859" y="6580"/>
                </a:lnTo>
                <a:lnTo>
                  <a:pt x="2877" y="9116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4 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Part 8 Part Concep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十六角星 24578"/>
          <p:cNvSpPr/>
          <p:nvPr/>
        </p:nvSpPr>
        <p:spPr>
          <a:xfrm>
            <a:off x="1981080" y="1006560"/>
            <a:ext cx="5181840" cy="5343480"/>
          </a:xfrm>
          <a:custGeom>
            <a:avLst/>
            <a:gdLst>
              <a:gd name="textAreaLeft" fmla="*/ 1216800 w 5181840"/>
              <a:gd name="textAreaRight" fmla="*/ 3965040 w 5181840"/>
              <a:gd name="textAreaTop" fmla="*/ 1254600 h 5343480"/>
              <a:gd name="textAreaBottom" fmla="*/ 4088880 h 5343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849" y="12346"/>
                </a:lnTo>
                <a:lnTo>
                  <a:pt x="786" y="14846"/>
                </a:lnTo>
                <a:lnTo>
                  <a:pt x="4007" y="15212"/>
                </a:lnTo>
                <a:lnTo>
                  <a:pt x="3163" y="18437"/>
                </a:lnTo>
                <a:lnTo>
                  <a:pt x="6271" y="17515"/>
                </a:lnTo>
                <a:lnTo>
                  <a:pt x="6580" y="20741"/>
                </a:lnTo>
                <a:lnTo>
                  <a:pt x="9116" y="18723"/>
                </a:lnTo>
                <a:lnTo>
                  <a:pt x="10800" y="21600"/>
                </a:lnTo>
                <a:lnTo>
                  <a:pt x="12346" y="18751"/>
                </a:lnTo>
                <a:lnTo>
                  <a:pt x="14846" y="20814"/>
                </a:lnTo>
                <a:lnTo>
                  <a:pt x="15212" y="17593"/>
                </a:lnTo>
                <a:lnTo>
                  <a:pt x="18437" y="18437"/>
                </a:lnTo>
                <a:lnTo>
                  <a:pt x="17515" y="15329"/>
                </a:lnTo>
                <a:lnTo>
                  <a:pt x="20741" y="15020"/>
                </a:lnTo>
                <a:lnTo>
                  <a:pt x="18723" y="12484"/>
                </a:lnTo>
                <a:lnTo>
                  <a:pt x="21600" y="10800"/>
                </a:lnTo>
                <a:lnTo>
                  <a:pt x="18751" y="9254"/>
                </a:lnTo>
                <a:lnTo>
                  <a:pt x="20814" y="6754"/>
                </a:lnTo>
                <a:lnTo>
                  <a:pt x="17593" y="6388"/>
                </a:lnTo>
                <a:lnTo>
                  <a:pt x="18437" y="3163"/>
                </a:lnTo>
                <a:lnTo>
                  <a:pt x="15329" y="4085"/>
                </a:lnTo>
                <a:lnTo>
                  <a:pt x="15020" y="859"/>
                </a:lnTo>
                <a:lnTo>
                  <a:pt x="12484" y="2877"/>
                </a:lnTo>
                <a:lnTo>
                  <a:pt x="10800" y="0"/>
                </a:lnTo>
                <a:lnTo>
                  <a:pt x="9254" y="2849"/>
                </a:lnTo>
                <a:lnTo>
                  <a:pt x="6754" y="786"/>
                </a:lnTo>
                <a:lnTo>
                  <a:pt x="6388" y="4007"/>
                </a:lnTo>
                <a:lnTo>
                  <a:pt x="3163" y="3163"/>
                </a:lnTo>
                <a:lnTo>
                  <a:pt x="4085" y="6271"/>
                </a:lnTo>
                <a:lnTo>
                  <a:pt x="859" y="6580"/>
                </a:lnTo>
                <a:lnTo>
                  <a:pt x="2877" y="9116"/>
                </a:lnTo>
                <a:lnTo>
                  <a:pt x="0" y="10800"/>
                </a:lnTo>
                <a:close/>
              </a:path>
            </a:pathLst>
          </a:cu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0" name="十六角星 24579"/>
          <p:cNvSpPr/>
          <p:nvPr/>
        </p:nvSpPr>
        <p:spPr>
          <a:xfrm>
            <a:off x="2273400" y="1463760"/>
            <a:ext cx="4597200" cy="4387680"/>
          </a:xfrm>
          <a:custGeom>
            <a:avLst/>
            <a:gdLst>
              <a:gd name="textAreaLeft" fmla="*/ 1079640 w 4597200"/>
              <a:gd name="textAreaRight" fmla="*/ 3517560 w 4597200"/>
              <a:gd name="textAreaTop" fmla="*/ 1030320 h 4387680"/>
              <a:gd name="textAreaBottom" fmla="*/ 3357360 h 438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849" y="12346"/>
                </a:lnTo>
                <a:lnTo>
                  <a:pt x="786" y="14846"/>
                </a:lnTo>
                <a:lnTo>
                  <a:pt x="4007" y="15212"/>
                </a:lnTo>
                <a:lnTo>
                  <a:pt x="3163" y="18437"/>
                </a:lnTo>
                <a:lnTo>
                  <a:pt x="6271" y="17515"/>
                </a:lnTo>
                <a:lnTo>
                  <a:pt x="6580" y="20741"/>
                </a:lnTo>
                <a:lnTo>
                  <a:pt x="9116" y="18723"/>
                </a:lnTo>
                <a:lnTo>
                  <a:pt x="10800" y="21600"/>
                </a:lnTo>
                <a:lnTo>
                  <a:pt x="12346" y="18751"/>
                </a:lnTo>
                <a:lnTo>
                  <a:pt x="14846" y="20814"/>
                </a:lnTo>
                <a:lnTo>
                  <a:pt x="15212" y="17593"/>
                </a:lnTo>
                <a:lnTo>
                  <a:pt x="18437" y="18437"/>
                </a:lnTo>
                <a:lnTo>
                  <a:pt x="17515" y="15329"/>
                </a:lnTo>
                <a:lnTo>
                  <a:pt x="20741" y="15020"/>
                </a:lnTo>
                <a:lnTo>
                  <a:pt x="18723" y="12484"/>
                </a:lnTo>
                <a:lnTo>
                  <a:pt x="21600" y="10800"/>
                </a:lnTo>
                <a:lnTo>
                  <a:pt x="18751" y="9254"/>
                </a:lnTo>
                <a:lnTo>
                  <a:pt x="20814" y="6754"/>
                </a:lnTo>
                <a:lnTo>
                  <a:pt x="17593" y="6388"/>
                </a:lnTo>
                <a:lnTo>
                  <a:pt x="18437" y="3163"/>
                </a:lnTo>
                <a:lnTo>
                  <a:pt x="15329" y="4085"/>
                </a:lnTo>
                <a:lnTo>
                  <a:pt x="15020" y="859"/>
                </a:lnTo>
                <a:lnTo>
                  <a:pt x="12484" y="2877"/>
                </a:lnTo>
                <a:lnTo>
                  <a:pt x="10800" y="0"/>
                </a:lnTo>
                <a:lnTo>
                  <a:pt x="9254" y="2849"/>
                </a:lnTo>
                <a:lnTo>
                  <a:pt x="6754" y="786"/>
                </a:lnTo>
                <a:lnTo>
                  <a:pt x="6388" y="4007"/>
                </a:lnTo>
                <a:lnTo>
                  <a:pt x="3163" y="3163"/>
                </a:lnTo>
                <a:lnTo>
                  <a:pt x="4085" y="6271"/>
                </a:lnTo>
                <a:lnTo>
                  <a:pt x="859" y="6580"/>
                </a:lnTo>
                <a:lnTo>
                  <a:pt x="2877" y="9116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1" name="矩形 24580"/>
          <p:cNvSpPr/>
          <p:nvPr/>
        </p:nvSpPr>
        <p:spPr>
          <a:xfrm>
            <a:off x="2335320" y="1033560"/>
            <a:ext cx="1807920" cy="885600"/>
          </a:xfrm>
          <a:prstGeom prst="rect">
            <a:avLst/>
          </a:prstGeom>
          <a:gradFill rotWithShape="0">
            <a:gsLst>
              <a:gs pos="0">
                <a:srgbClr val="a5effe"/>
              </a:gs>
              <a:gs pos="100000">
                <a:srgbClr val="73e6fd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 Poin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2" name="矩形 24581"/>
          <p:cNvSpPr/>
          <p:nvPr/>
        </p:nvSpPr>
        <p:spPr>
          <a:xfrm>
            <a:off x="5043600" y="1033560"/>
            <a:ext cx="1807920" cy="885600"/>
          </a:xfrm>
          <a:prstGeom prst="rect">
            <a:avLst/>
          </a:prstGeom>
          <a:gradFill rotWithShape="0">
            <a:gsLst>
              <a:gs pos="0">
                <a:srgbClr val="a5effe"/>
              </a:gs>
              <a:gs pos="100000">
                <a:srgbClr val="73e6fd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 Poin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3" name="矩形 24582"/>
          <p:cNvSpPr/>
          <p:nvPr/>
        </p:nvSpPr>
        <p:spPr>
          <a:xfrm>
            <a:off x="1197000" y="2281320"/>
            <a:ext cx="1808280" cy="885600"/>
          </a:xfrm>
          <a:prstGeom prst="rect">
            <a:avLst/>
          </a:prstGeom>
          <a:gradFill rotWithShape="0">
            <a:gsLst>
              <a:gs pos="0">
                <a:srgbClr val="a5effe"/>
              </a:gs>
              <a:gs pos="100000">
                <a:srgbClr val="73e6fd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 Poin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4" name="矩形 24583"/>
          <p:cNvSpPr/>
          <p:nvPr/>
        </p:nvSpPr>
        <p:spPr>
          <a:xfrm>
            <a:off x="6181560" y="2281320"/>
            <a:ext cx="1808280" cy="885600"/>
          </a:xfrm>
          <a:prstGeom prst="rect">
            <a:avLst/>
          </a:prstGeom>
          <a:gradFill rotWithShape="0">
            <a:gsLst>
              <a:gs pos="0">
                <a:srgbClr val="a5effe"/>
              </a:gs>
              <a:gs pos="100000">
                <a:srgbClr val="73e6fd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 Poin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5" name="矩形 24584"/>
          <p:cNvSpPr/>
          <p:nvPr/>
        </p:nvSpPr>
        <p:spPr>
          <a:xfrm>
            <a:off x="1241280" y="4389480"/>
            <a:ext cx="1806840" cy="885960"/>
          </a:xfrm>
          <a:prstGeom prst="rect">
            <a:avLst/>
          </a:prstGeom>
          <a:gradFill rotWithShape="0">
            <a:gsLst>
              <a:gs pos="0">
                <a:srgbClr val="ddb3ff"/>
              </a:gs>
              <a:gs pos="100000">
                <a:srgbClr val="d49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 Poin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6" name="矩形 24585"/>
          <p:cNvSpPr/>
          <p:nvPr/>
        </p:nvSpPr>
        <p:spPr>
          <a:xfrm>
            <a:off x="6172200" y="4389480"/>
            <a:ext cx="1808280" cy="885960"/>
          </a:xfrm>
          <a:prstGeom prst="rect">
            <a:avLst/>
          </a:prstGeom>
          <a:gradFill rotWithShape="0">
            <a:gsLst>
              <a:gs pos="0">
                <a:srgbClr val="ddb3ff"/>
              </a:gs>
              <a:gs pos="100000">
                <a:srgbClr val="d49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 Poin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7" name="矩形 24586"/>
          <p:cNvSpPr/>
          <p:nvPr/>
        </p:nvSpPr>
        <p:spPr>
          <a:xfrm>
            <a:off x="2328840" y="5667480"/>
            <a:ext cx="1808280" cy="885600"/>
          </a:xfrm>
          <a:prstGeom prst="rect">
            <a:avLst/>
          </a:prstGeom>
          <a:gradFill rotWithShape="0">
            <a:gsLst>
              <a:gs pos="0">
                <a:srgbClr val="ddb3ff"/>
              </a:gs>
              <a:gs pos="100000">
                <a:srgbClr val="d49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 Poin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8" name="矩形 24587"/>
          <p:cNvSpPr/>
          <p:nvPr/>
        </p:nvSpPr>
        <p:spPr>
          <a:xfrm>
            <a:off x="5049720" y="5648400"/>
            <a:ext cx="1808280" cy="885600"/>
          </a:xfrm>
          <a:prstGeom prst="rect">
            <a:avLst/>
          </a:prstGeom>
          <a:gradFill rotWithShape="0">
            <a:gsLst>
              <a:gs pos="0">
                <a:srgbClr val="ddb3ff"/>
              </a:gs>
              <a:gs pos="100000">
                <a:srgbClr val="d49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 Poin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 spd="slow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 Part Concep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1671480" y="2214720"/>
            <a:ext cx="1887840" cy="596880"/>
            <a:chOff x="1671480" y="2214720"/>
            <a:chExt cx="1887840" cy="596880"/>
          </a:xfrm>
        </p:grpSpPr>
        <p:sp>
          <p:nvSpPr>
            <p:cNvPr id="421" name="直接连接符 25602"/>
            <p:cNvSpPr/>
            <p:nvPr/>
          </p:nvSpPr>
          <p:spPr>
            <a:xfrm flipH="1">
              <a:off x="1671480" y="2214720"/>
              <a:ext cx="1887840" cy="596880"/>
            </a:xfrm>
            <a:prstGeom prst="line">
              <a:avLst/>
            </a:prstGeom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22" name=""/>
            <p:cNvSpPr txBox="1"/>
            <p:nvPr/>
          </p:nvSpPr>
          <p:spPr>
            <a:xfrm>
              <a:off x="1671480" y="2214720"/>
              <a:ext cx="1887840" cy="59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5565600" y="2039760"/>
            <a:ext cx="2013120" cy="671760"/>
            <a:chOff x="5565600" y="2039760"/>
            <a:chExt cx="2013120" cy="671760"/>
          </a:xfrm>
        </p:grpSpPr>
        <p:sp>
          <p:nvSpPr>
            <p:cNvPr id="424" name="直接连接符 25603"/>
            <p:cNvSpPr/>
            <p:nvPr/>
          </p:nvSpPr>
          <p:spPr>
            <a:xfrm>
              <a:off x="5565600" y="2039760"/>
              <a:ext cx="2013120" cy="671760"/>
            </a:xfrm>
            <a:prstGeom prst="line">
              <a:avLst/>
            </a:prstGeom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25" name=""/>
            <p:cNvSpPr txBox="1"/>
            <p:nvPr/>
          </p:nvSpPr>
          <p:spPr>
            <a:xfrm>
              <a:off x="5565600" y="2039760"/>
              <a:ext cx="2013120" cy="671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7408800" y="3457440"/>
            <a:ext cx="360" cy="798480"/>
            <a:chOff x="7408800" y="3457440"/>
            <a:chExt cx="360" cy="798480"/>
          </a:xfrm>
        </p:grpSpPr>
        <p:sp>
          <p:nvSpPr>
            <p:cNvPr id="427" name="直接连接符 25604"/>
            <p:cNvSpPr/>
            <p:nvPr/>
          </p:nvSpPr>
          <p:spPr>
            <a:xfrm>
              <a:off x="7408800" y="3457440"/>
              <a:ext cx="0" cy="798480"/>
            </a:xfrm>
            <a:prstGeom prst="line">
              <a:avLst/>
            </a:prstGeom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28" name=""/>
            <p:cNvSpPr txBox="1"/>
            <p:nvPr/>
          </p:nvSpPr>
          <p:spPr>
            <a:xfrm>
              <a:off x="7408800" y="3457440"/>
              <a:ext cx="360" cy="798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2658960" y="4494240"/>
            <a:ext cx="3776760" cy="360"/>
            <a:chOff x="2658960" y="4494240"/>
            <a:chExt cx="3776760" cy="360"/>
          </a:xfrm>
        </p:grpSpPr>
        <p:sp>
          <p:nvSpPr>
            <p:cNvPr id="430" name="直接连接符 25605"/>
            <p:cNvSpPr/>
            <p:nvPr/>
          </p:nvSpPr>
          <p:spPr>
            <a:xfrm>
              <a:off x="2658960" y="4494240"/>
              <a:ext cx="3776760" cy="0"/>
            </a:xfrm>
            <a:prstGeom prst="line">
              <a:avLst/>
            </a:prstGeom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31" name=""/>
            <p:cNvSpPr txBox="1"/>
            <p:nvPr/>
          </p:nvSpPr>
          <p:spPr>
            <a:xfrm>
              <a:off x="2658960" y="4494240"/>
              <a:ext cx="37767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2638440" y="3102120"/>
            <a:ext cx="3744720" cy="1382400"/>
            <a:chOff x="2638440" y="3102120"/>
            <a:chExt cx="3744720" cy="1382400"/>
          </a:xfrm>
        </p:grpSpPr>
        <p:sp>
          <p:nvSpPr>
            <p:cNvPr id="433" name="直接连接符 25606"/>
            <p:cNvSpPr/>
            <p:nvPr/>
          </p:nvSpPr>
          <p:spPr>
            <a:xfrm flipH="1">
              <a:off x="2638440" y="3102120"/>
              <a:ext cx="3744720" cy="1382400"/>
            </a:xfrm>
            <a:prstGeom prst="line">
              <a:avLst/>
            </a:prstGeom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34" name=""/>
            <p:cNvSpPr txBox="1"/>
            <p:nvPr/>
          </p:nvSpPr>
          <p:spPr>
            <a:xfrm>
              <a:off x="2638440" y="3102120"/>
              <a:ext cx="3744720" cy="1382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4565160" y="2381040"/>
            <a:ext cx="360" cy="2858760"/>
            <a:chOff x="4565160" y="2381040"/>
            <a:chExt cx="360" cy="2858760"/>
          </a:xfrm>
        </p:grpSpPr>
        <p:sp>
          <p:nvSpPr>
            <p:cNvPr id="436" name="直接连接符 25607"/>
            <p:cNvSpPr/>
            <p:nvPr/>
          </p:nvSpPr>
          <p:spPr>
            <a:xfrm flipV="1">
              <a:off x="4565520" y="2381040"/>
              <a:ext cx="0" cy="2858760"/>
            </a:xfrm>
            <a:prstGeom prst="line">
              <a:avLst/>
            </a:prstGeom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37" name=""/>
            <p:cNvSpPr txBox="1"/>
            <p:nvPr/>
          </p:nvSpPr>
          <p:spPr>
            <a:xfrm rot="10800000">
              <a:off x="4565160" y="2381040"/>
              <a:ext cx="360" cy="2858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2690640" y="3056040"/>
            <a:ext cx="3713400" cy="360"/>
            <a:chOff x="2690640" y="3056040"/>
            <a:chExt cx="3713400" cy="360"/>
          </a:xfrm>
        </p:grpSpPr>
        <p:sp>
          <p:nvSpPr>
            <p:cNvPr id="439" name="直接连接符 25608"/>
            <p:cNvSpPr/>
            <p:nvPr/>
          </p:nvSpPr>
          <p:spPr>
            <a:xfrm>
              <a:off x="2690640" y="3056040"/>
              <a:ext cx="3713400" cy="0"/>
            </a:xfrm>
            <a:prstGeom prst="line">
              <a:avLst/>
            </a:prstGeom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40" name=""/>
            <p:cNvSpPr txBox="1"/>
            <p:nvPr/>
          </p:nvSpPr>
          <p:spPr>
            <a:xfrm>
              <a:off x="2690640" y="3056040"/>
              <a:ext cx="3713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2690640" y="3056040"/>
            <a:ext cx="3745080" cy="1431720"/>
            <a:chOff x="2690640" y="3056040"/>
            <a:chExt cx="3745080" cy="1431720"/>
          </a:xfrm>
        </p:grpSpPr>
        <p:sp>
          <p:nvSpPr>
            <p:cNvPr id="442" name="直接连接符 25609"/>
            <p:cNvSpPr/>
            <p:nvPr/>
          </p:nvSpPr>
          <p:spPr>
            <a:xfrm>
              <a:off x="2690640" y="3056040"/>
              <a:ext cx="3745080" cy="1431720"/>
            </a:xfrm>
            <a:prstGeom prst="line">
              <a:avLst/>
            </a:prstGeom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43" name=""/>
            <p:cNvSpPr txBox="1"/>
            <p:nvPr/>
          </p:nvSpPr>
          <p:spPr>
            <a:xfrm>
              <a:off x="2690640" y="3056040"/>
              <a:ext cx="3745080" cy="1431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1716120" y="3541680"/>
            <a:ext cx="360" cy="789120"/>
            <a:chOff x="1716120" y="3541680"/>
            <a:chExt cx="360" cy="789120"/>
          </a:xfrm>
        </p:grpSpPr>
        <p:sp>
          <p:nvSpPr>
            <p:cNvPr id="445" name="直接连接符 25610"/>
            <p:cNvSpPr/>
            <p:nvPr/>
          </p:nvSpPr>
          <p:spPr>
            <a:xfrm>
              <a:off x="1716120" y="3541680"/>
              <a:ext cx="0" cy="789120"/>
            </a:xfrm>
            <a:prstGeom prst="line">
              <a:avLst/>
            </a:prstGeom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46" name=""/>
            <p:cNvSpPr txBox="1"/>
            <p:nvPr/>
          </p:nvSpPr>
          <p:spPr>
            <a:xfrm>
              <a:off x="1716120" y="3541680"/>
              <a:ext cx="360" cy="78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2646000" y="2411280"/>
            <a:ext cx="1887840" cy="2082960"/>
            <a:chOff x="2646000" y="2411280"/>
            <a:chExt cx="1887840" cy="2082960"/>
          </a:xfrm>
        </p:grpSpPr>
        <p:sp>
          <p:nvSpPr>
            <p:cNvPr id="448" name="直接连接符 25611"/>
            <p:cNvSpPr/>
            <p:nvPr/>
          </p:nvSpPr>
          <p:spPr>
            <a:xfrm flipH="1">
              <a:off x="2646000" y="2411280"/>
              <a:ext cx="1887480" cy="2082960"/>
            </a:xfrm>
            <a:prstGeom prst="line">
              <a:avLst/>
            </a:prstGeom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49" name=""/>
            <p:cNvSpPr txBox="1"/>
            <p:nvPr/>
          </p:nvSpPr>
          <p:spPr>
            <a:xfrm>
              <a:off x="2646360" y="2411280"/>
              <a:ext cx="1887480" cy="2082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4584600" y="2401920"/>
            <a:ext cx="1838520" cy="2092320"/>
            <a:chOff x="4584600" y="2401920"/>
            <a:chExt cx="1838520" cy="2092320"/>
          </a:xfrm>
        </p:grpSpPr>
        <p:sp>
          <p:nvSpPr>
            <p:cNvPr id="451" name="直接连接符 25612"/>
            <p:cNvSpPr/>
            <p:nvPr/>
          </p:nvSpPr>
          <p:spPr>
            <a:xfrm>
              <a:off x="4584600" y="2401920"/>
              <a:ext cx="1838520" cy="2092320"/>
            </a:xfrm>
            <a:prstGeom prst="line">
              <a:avLst/>
            </a:prstGeom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52" name=""/>
            <p:cNvSpPr txBox="1"/>
            <p:nvPr/>
          </p:nvSpPr>
          <p:spPr>
            <a:xfrm>
              <a:off x="4584600" y="2401920"/>
              <a:ext cx="1838520" cy="2092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2682360" y="3081240"/>
            <a:ext cx="1862280" cy="2021040"/>
            <a:chOff x="2682360" y="3081240"/>
            <a:chExt cx="1862280" cy="2021040"/>
          </a:xfrm>
        </p:grpSpPr>
        <p:sp>
          <p:nvSpPr>
            <p:cNvPr id="454" name="直接连接符 25613"/>
            <p:cNvSpPr/>
            <p:nvPr/>
          </p:nvSpPr>
          <p:spPr>
            <a:xfrm flipH="1" flipV="1">
              <a:off x="2682360" y="3081240"/>
              <a:ext cx="1862280" cy="2021040"/>
            </a:xfrm>
            <a:prstGeom prst="line">
              <a:avLst/>
            </a:prstGeom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55" name=""/>
            <p:cNvSpPr txBox="1"/>
            <p:nvPr/>
          </p:nvSpPr>
          <p:spPr>
            <a:xfrm rot="10800000">
              <a:off x="2682360" y="3081240"/>
              <a:ext cx="1862280" cy="2021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4559400" y="3092040"/>
            <a:ext cx="1823760" cy="2009880"/>
            <a:chOff x="4559400" y="3092040"/>
            <a:chExt cx="1823760" cy="2009880"/>
          </a:xfrm>
        </p:grpSpPr>
        <p:sp>
          <p:nvSpPr>
            <p:cNvPr id="457" name="直接连接符 25614"/>
            <p:cNvSpPr/>
            <p:nvPr/>
          </p:nvSpPr>
          <p:spPr>
            <a:xfrm flipV="1">
              <a:off x="4559400" y="3092040"/>
              <a:ext cx="1823760" cy="2009880"/>
            </a:xfrm>
            <a:prstGeom prst="line">
              <a:avLst/>
            </a:prstGeom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58" name=""/>
            <p:cNvSpPr txBox="1"/>
            <p:nvPr/>
          </p:nvSpPr>
          <p:spPr>
            <a:xfrm rot="10800000">
              <a:off x="4559400" y="3092040"/>
              <a:ext cx="1823760" cy="200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1525320" y="4782600"/>
            <a:ext cx="1887480" cy="824040"/>
            <a:chOff x="1525320" y="4782600"/>
            <a:chExt cx="1887480" cy="824040"/>
          </a:xfrm>
        </p:grpSpPr>
        <p:sp>
          <p:nvSpPr>
            <p:cNvPr id="460" name="直接连接符 25615"/>
            <p:cNvSpPr/>
            <p:nvPr/>
          </p:nvSpPr>
          <p:spPr>
            <a:xfrm flipH="1" flipV="1">
              <a:off x="1525320" y="4782600"/>
              <a:ext cx="1887480" cy="824040"/>
            </a:xfrm>
            <a:prstGeom prst="line">
              <a:avLst/>
            </a:prstGeom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61" name=""/>
            <p:cNvSpPr txBox="1"/>
            <p:nvPr/>
          </p:nvSpPr>
          <p:spPr>
            <a:xfrm rot="10800000">
              <a:off x="1525320" y="4782600"/>
              <a:ext cx="1887480" cy="824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5578200" y="4863600"/>
            <a:ext cx="1902240" cy="722520"/>
            <a:chOff x="5578200" y="4863600"/>
            <a:chExt cx="1902240" cy="722520"/>
          </a:xfrm>
        </p:grpSpPr>
        <p:sp>
          <p:nvSpPr>
            <p:cNvPr id="463" name="直接连接符 25616"/>
            <p:cNvSpPr/>
            <p:nvPr/>
          </p:nvSpPr>
          <p:spPr>
            <a:xfrm flipV="1">
              <a:off x="5578560" y="4863600"/>
              <a:ext cx="1901880" cy="722520"/>
            </a:xfrm>
            <a:prstGeom prst="line">
              <a:avLst/>
            </a:prstGeom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64" name=""/>
            <p:cNvSpPr txBox="1"/>
            <p:nvPr/>
          </p:nvSpPr>
          <p:spPr>
            <a:xfrm rot="10800000">
              <a:off x="5578200" y="4863600"/>
              <a:ext cx="1901880" cy="722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465" name="椭圆 25617"/>
          <p:cNvSpPr/>
          <p:nvPr/>
        </p:nvSpPr>
        <p:spPr>
          <a:xfrm>
            <a:off x="3132000" y="1157400"/>
            <a:ext cx="2981520" cy="1441440"/>
          </a:xfrm>
          <a:prstGeom prst="ellipse">
            <a:avLst/>
          </a:prstGeom>
          <a:solidFill>
            <a:srgbClr val="fda4b5"/>
          </a:solidFill>
          <a:ln w="12600">
            <a:solidFill>
              <a:srgbClr val="000000"/>
            </a:solidFill>
            <a:round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3840" rIns="123840" tIns="61920" bIns="619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235160"/>
                <a:tab algn="l" pos="2470320"/>
                <a:tab algn="l" pos="3705120"/>
                <a:tab algn="l" pos="4940280"/>
                <a:tab algn="l" pos="6175440"/>
                <a:tab algn="l" pos="7410600"/>
                <a:tab algn="l" pos="8645400"/>
                <a:tab algn="l" pos="988056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235160"/>
                <a:tab algn="l" pos="2470320"/>
                <a:tab algn="l" pos="3705120"/>
                <a:tab algn="l" pos="4940280"/>
                <a:tab algn="l" pos="6175440"/>
                <a:tab algn="l" pos="7410600"/>
                <a:tab algn="l" pos="8645400"/>
                <a:tab algn="l" pos="9880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4 Poin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235160"/>
                <a:tab algn="l" pos="2470320"/>
                <a:tab algn="l" pos="3705120"/>
                <a:tab algn="l" pos="4940280"/>
                <a:tab algn="l" pos="6175440"/>
                <a:tab algn="l" pos="7410600"/>
                <a:tab algn="l" pos="8645400"/>
                <a:tab algn="l" pos="9880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6" name="椭圆 25618"/>
          <p:cNvSpPr/>
          <p:nvPr/>
        </p:nvSpPr>
        <p:spPr>
          <a:xfrm>
            <a:off x="3132000" y="5041800"/>
            <a:ext cx="2981520" cy="1441440"/>
          </a:xfrm>
          <a:prstGeom prst="ellipse">
            <a:avLst/>
          </a:prstGeom>
          <a:solidFill>
            <a:srgbClr val="d49fff"/>
          </a:solidFill>
          <a:ln w="12600">
            <a:solidFill>
              <a:srgbClr val="000000"/>
            </a:solidFill>
            <a:round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3840" rIns="123840" tIns="61920" bIns="619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235160"/>
                <a:tab algn="l" pos="2470320"/>
                <a:tab algn="l" pos="3705120"/>
                <a:tab algn="l" pos="4940280"/>
                <a:tab algn="l" pos="6175440"/>
                <a:tab algn="l" pos="7410600"/>
                <a:tab algn="l" pos="8645400"/>
                <a:tab algn="l" pos="9880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4 Poin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235160"/>
                <a:tab algn="l" pos="2470320"/>
                <a:tab algn="l" pos="3705120"/>
                <a:tab algn="l" pos="4940280"/>
                <a:tab algn="l" pos="6175440"/>
                <a:tab algn="l" pos="7410600"/>
                <a:tab algn="l" pos="8645400"/>
                <a:tab algn="l" pos="9880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235160"/>
                <a:tab algn="l" pos="2470320"/>
                <a:tab algn="l" pos="3705120"/>
                <a:tab algn="l" pos="4940280"/>
                <a:tab algn="l" pos="6175440"/>
                <a:tab algn="l" pos="7410600"/>
                <a:tab algn="l" pos="8645400"/>
                <a:tab algn="l" pos="988056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7" name="椭圆 25619"/>
          <p:cNvSpPr/>
          <p:nvPr/>
        </p:nvSpPr>
        <p:spPr>
          <a:xfrm>
            <a:off x="341280" y="2338560"/>
            <a:ext cx="2981520" cy="1441440"/>
          </a:xfrm>
          <a:prstGeom prst="ellipse">
            <a:avLst/>
          </a:prstGeom>
          <a:solidFill>
            <a:srgbClr val="a3a9fd"/>
          </a:solidFill>
          <a:ln w="12600">
            <a:solidFill>
              <a:srgbClr val="000000"/>
            </a:solidFill>
            <a:round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3840" rIns="123840" tIns="61920" bIns="619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235160"/>
                <a:tab algn="l" pos="2470320"/>
                <a:tab algn="l" pos="3705120"/>
                <a:tab algn="l" pos="4940280"/>
                <a:tab algn="l" pos="6175440"/>
                <a:tab algn="l" pos="7410600"/>
                <a:tab algn="l" pos="8645400"/>
                <a:tab algn="l" pos="988056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235160"/>
                <a:tab algn="l" pos="2470320"/>
                <a:tab algn="l" pos="3705120"/>
                <a:tab algn="l" pos="4940280"/>
                <a:tab algn="l" pos="6175440"/>
                <a:tab algn="l" pos="7410600"/>
                <a:tab algn="l" pos="8645400"/>
                <a:tab algn="l" pos="9880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4 Poin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235160"/>
                <a:tab algn="l" pos="2470320"/>
                <a:tab algn="l" pos="3705120"/>
                <a:tab algn="l" pos="4940280"/>
                <a:tab algn="l" pos="6175440"/>
                <a:tab algn="l" pos="7410600"/>
                <a:tab algn="l" pos="8645400"/>
                <a:tab algn="l" pos="9880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8" name="椭圆 25620"/>
          <p:cNvSpPr/>
          <p:nvPr/>
        </p:nvSpPr>
        <p:spPr>
          <a:xfrm>
            <a:off x="5888160" y="2278080"/>
            <a:ext cx="2981160" cy="1441440"/>
          </a:xfrm>
          <a:prstGeom prst="ellipse">
            <a:avLst/>
          </a:prstGeom>
          <a:solidFill>
            <a:srgbClr val="61b2fb"/>
          </a:solidFill>
          <a:ln w="12600">
            <a:solidFill>
              <a:srgbClr val="000000"/>
            </a:solidFill>
            <a:round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3840" rIns="123840" tIns="61920" bIns="619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235160"/>
                <a:tab algn="l" pos="2470320"/>
                <a:tab algn="l" pos="3705120"/>
                <a:tab algn="l" pos="4940280"/>
                <a:tab algn="l" pos="6175440"/>
                <a:tab algn="l" pos="7410600"/>
                <a:tab algn="l" pos="8645400"/>
                <a:tab algn="l" pos="988056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235160"/>
                <a:tab algn="l" pos="2470320"/>
                <a:tab algn="l" pos="3705120"/>
                <a:tab algn="l" pos="4940280"/>
                <a:tab algn="l" pos="6175440"/>
                <a:tab algn="l" pos="7410600"/>
                <a:tab algn="l" pos="8645400"/>
                <a:tab algn="l" pos="9880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4 Poin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235160"/>
                <a:tab algn="l" pos="2470320"/>
                <a:tab algn="l" pos="3705120"/>
                <a:tab algn="l" pos="4940280"/>
                <a:tab algn="l" pos="6175440"/>
                <a:tab algn="l" pos="7410600"/>
                <a:tab algn="l" pos="8645400"/>
                <a:tab algn="l" pos="9880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9" name="椭圆 25621"/>
          <p:cNvSpPr/>
          <p:nvPr/>
        </p:nvSpPr>
        <p:spPr>
          <a:xfrm>
            <a:off x="276120" y="3981600"/>
            <a:ext cx="2981520" cy="1441440"/>
          </a:xfrm>
          <a:prstGeom prst="ellipse">
            <a:avLst/>
          </a:prstGeom>
          <a:solidFill>
            <a:srgbClr val="47e0ff"/>
          </a:solidFill>
          <a:ln w="12600">
            <a:solidFill>
              <a:srgbClr val="000000"/>
            </a:solidFill>
            <a:round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3840" rIns="123840" tIns="61920" bIns="619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235160"/>
                <a:tab algn="l" pos="2470320"/>
                <a:tab algn="l" pos="3705120"/>
                <a:tab algn="l" pos="4940280"/>
                <a:tab algn="l" pos="6175440"/>
                <a:tab algn="l" pos="7410600"/>
                <a:tab algn="l" pos="8645400"/>
                <a:tab algn="l" pos="9880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4 Poin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235160"/>
                <a:tab algn="l" pos="2470320"/>
                <a:tab algn="l" pos="3705120"/>
                <a:tab algn="l" pos="4940280"/>
                <a:tab algn="l" pos="6175440"/>
                <a:tab algn="l" pos="7410600"/>
                <a:tab algn="l" pos="8645400"/>
                <a:tab algn="l" pos="9880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235160"/>
                <a:tab algn="l" pos="2470320"/>
                <a:tab algn="l" pos="3705120"/>
                <a:tab algn="l" pos="4940280"/>
                <a:tab algn="l" pos="6175440"/>
                <a:tab algn="l" pos="7410600"/>
                <a:tab algn="l" pos="8645400"/>
                <a:tab algn="l" pos="988056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0" name="椭圆 25622"/>
          <p:cNvSpPr/>
          <p:nvPr/>
        </p:nvSpPr>
        <p:spPr>
          <a:xfrm>
            <a:off x="5823000" y="3921120"/>
            <a:ext cx="2981160" cy="1441440"/>
          </a:xfrm>
          <a:prstGeom prst="ellipse">
            <a:avLst/>
          </a:prstGeom>
          <a:solidFill>
            <a:srgbClr val="a2ffa3"/>
          </a:solidFill>
          <a:ln w="12600">
            <a:solidFill>
              <a:srgbClr val="000000"/>
            </a:solidFill>
            <a:round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3840" rIns="123840" tIns="61920" bIns="619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235160"/>
                <a:tab algn="l" pos="2470320"/>
                <a:tab algn="l" pos="3705120"/>
                <a:tab algn="l" pos="4940280"/>
                <a:tab algn="l" pos="6175440"/>
                <a:tab algn="l" pos="7410600"/>
                <a:tab algn="l" pos="8645400"/>
                <a:tab algn="l" pos="9880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4 Poin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235160"/>
                <a:tab algn="l" pos="2470320"/>
                <a:tab algn="l" pos="3705120"/>
                <a:tab algn="l" pos="4940280"/>
                <a:tab algn="l" pos="6175440"/>
                <a:tab algn="l" pos="7410600"/>
                <a:tab algn="l" pos="8645400"/>
                <a:tab algn="l" pos="9880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235160"/>
                <a:tab algn="l" pos="2470320"/>
                <a:tab algn="l" pos="3705120"/>
                <a:tab algn="l" pos="4940280"/>
                <a:tab algn="l" pos="6175440"/>
                <a:tab algn="l" pos="7410600"/>
                <a:tab algn="l" pos="8645400"/>
                <a:tab algn="l" pos="988056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1" name="十六角星 25623"/>
          <p:cNvSpPr/>
          <p:nvPr/>
        </p:nvSpPr>
        <p:spPr>
          <a:xfrm>
            <a:off x="2427120" y="2779560"/>
            <a:ext cx="4391280" cy="2030400"/>
          </a:xfrm>
          <a:custGeom>
            <a:avLst/>
            <a:gdLst>
              <a:gd name="textAreaLeft" fmla="*/ 1031040 w 4391280"/>
              <a:gd name="textAreaRight" fmla="*/ 3360240 w 4391280"/>
              <a:gd name="textAreaTop" fmla="*/ 476640 h 2030400"/>
              <a:gd name="textAreaBottom" fmla="*/ 1553760 h 2030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849" y="12346"/>
                </a:lnTo>
                <a:lnTo>
                  <a:pt x="786" y="14846"/>
                </a:lnTo>
                <a:lnTo>
                  <a:pt x="4007" y="15212"/>
                </a:lnTo>
                <a:lnTo>
                  <a:pt x="3163" y="18437"/>
                </a:lnTo>
                <a:lnTo>
                  <a:pt x="6271" y="17515"/>
                </a:lnTo>
                <a:lnTo>
                  <a:pt x="6580" y="20741"/>
                </a:lnTo>
                <a:lnTo>
                  <a:pt x="9116" y="18723"/>
                </a:lnTo>
                <a:lnTo>
                  <a:pt x="10800" y="21600"/>
                </a:lnTo>
                <a:lnTo>
                  <a:pt x="12346" y="18751"/>
                </a:lnTo>
                <a:lnTo>
                  <a:pt x="14846" y="20814"/>
                </a:lnTo>
                <a:lnTo>
                  <a:pt x="15212" y="17593"/>
                </a:lnTo>
                <a:lnTo>
                  <a:pt x="18437" y="18437"/>
                </a:lnTo>
                <a:lnTo>
                  <a:pt x="17515" y="15329"/>
                </a:lnTo>
                <a:lnTo>
                  <a:pt x="20741" y="15020"/>
                </a:lnTo>
                <a:lnTo>
                  <a:pt x="18723" y="12484"/>
                </a:lnTo>
                <a:lnTo>
                  <a:pt x="21600" y="10800"/>
                </a:lnTo>
                <a:lnTo>
                  <a:pt x="18751" y="9254"/>
                </a:lnTo>
                <a:lnTo>
                  <a:pt x="20814" y="6754"/>
                </a:lnTo>
                <a:lnTo>
                  <a:pt x="17593" y="6388"/>
                </a:lnTo>
                <a:lnTo>
                  <a:pt x="18437" y="3163"/>
                </a:lnTo>
                <a:lnTo>
                  <a:pt x="15329" y="4085"/>
                </a:lnTo>
                <a:lnTo>
                  <a:pt x="15020" y="859"/>
                </a:lnTo>
                <a:lnTo>
                  <a:pt x="12484" y="2877"/>
                </a:lnTo>
                <a:lnTo>
                  <a:pt x="10800" y="0"/>
                </a:lnTo>
                <a:lnTo>
                  <a:pt x="9254" y="2849"/>
                </a:lnTo>
                <a:lnTo>
                  <a:pt x="6754" y="786"/>
                </a:lnTo>
                <a:lnTo>
                  <a:pt x="6388" y="4007"/>
                </a:lnTo>
                <a:lnTo>
                  <a:pt x="3163" y="3163"/>
                </a:lnTo>
                <a:lnTo>
                  <a:pt x="4085" y="6271"/>
                </a:lnTo>
                <a:lnTo>
                  <a:pt x="859" y="6580"/>
                </a:lnTo>
                <a:lnTo>
                  <a:pt x="2877" y="9116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dcdcdc"/>
              </a:gs>
              <a:gs pos="50000">
                <a:srgbClr val="ffffff"/>
              </a:gs>
              <a:gs pos="100000">
                <a:srgbClr val="dcdcdc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544760"/>
                <a:tab algn="l" pos="3089160"/>
                <a:tab algn="l" pos="4633920"/>
                <a:tab algn="l" pos="6178680"/>
                <a:tab algn="l" pos="7723080"/>
                <a:tab algn="l" pos="9267840"/>
                <a:tab algn="l" pos="10812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4 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544760"/>
                <a:tab algn="l" pos="3089160"/>
                <a:tab algn="l" pos="4633920"/>
                <a:tab algn="l" pos="6178680"/>
                <a:tab algn="l" pos="7723080"/>
                <a:tab algn="l" pos="9267840"/>
                <a:tab algn="l" pos="10812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544760"/>
                <a:tab algn="l" pos="3089160"/>
                <a:tab algn="l" pos="4633920"/>
                <a:tab algn="l" pos="6178680"/>
                <a:tab algn="l" pos="7723080"/>
                <a:tab algn="l" pos="9267840"/>
                <a:tab algn="l" pos="10812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2" name="矩形 25624"/>
          <p:cNvSpPr/>
          <p:nvPr/>
        </p:nvSpPr>
        <p:spPr>
          <a:xfrm>
            <a:off x="7478640" y="2050920"/>
            <a:ext cx="1441440" cy="706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pAr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3" name="矩形 25625"/>
          <p:cNvSpPr/>
          <p:nvPr/>
        </p:nvSpPr>
        <p:spPr>
          <a:xfrm>
            <a:off x="387360" y="2050920"/>
            <a:ext cx="1441440" cy="706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pAr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4" name="矩形 25626"/>
          <p:cNvSpPr/>
          <p:nvPr/>
        </p:nvSpPr>
        <p:spPr>
          <a:xfrm>
            <a:off x="3902040" y="947880"/>
            <a:ext cx="1441440" cy="704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pAr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5" name="矩形 25627"/>
          <p:cNvSpPr/>
          <p:nvPr/>
        </p:nvSpPr>
        <p:spPr>
          <a:xfrm>
            <a:off x="7477200" y="4870440"/>
            <a:ext cx="1442880" cy="704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pAr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6" name="矩形 25628"/>
          <p:cNvSpPr/>
          <p:nvPr/>
        </p:nvSpPr>
        <p:spPr>
          <a:xfrm>
            <a:off x="387360" y="4870440"/>
            <a:ext cx="1441440" cy="704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pAr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7" name="矩形 25629"/>
          <p:cNvSpPr/>
          <p:nvPr/>
        </p:nvSpPr>
        <p:spPr>
          <a:xfrm>
            <a:off x="3902040" y="6000840"/>
            <a:ext cx="1441440" cy="704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pAr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8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d49f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d49ff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8628E-B635-42FC-BFB5-4D458158B3D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 Part Concep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十六角星 26626"/>
          <p:cNvSpPr/>
          <p:nvPr/>
        </p:nvSpPr>
        <p:spPr>
          <a:xfrm>
            <a:off x="1943280" y="1025640"/>
            <a:ext cx="5297400" cy="5343480"/>
          </a:xfrm>
          <a:custGeom>
            <a:avLst/>
            <a:gdLst>
              <a:gd name="textAreaLeft" fmla="*/ 1243800 w 5297400"/>
              <a:gd name="textAreaRight" fmla="*/ 4053600 w 5297400"/>
              <a:gd name="textAreaTop" fmla="*/ 1254600 h 5343480"/>
              <a:gd name="textAreaBottom" fmla="*/ 4088880 h 5343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849" y="12346"/>
                </a:lnTo>
                <a:lnTo>
                  <a:pt x="786" y="14846"/>
                </a:lnTo>
                <a:lnTo>
                  <a:pt x="4007" y="15212"/>
                </a:lnTo>
                <a:lnTo>
                  <a:pt x="3163" y="18437"/>
                </a:lnTo>
                <a:lnTo>
                  <a:pt x="6271" y="17515"/>
                </a:lnTo>
                <a:lnTo>
                  <a:pt x="6580" y="20741"/>
                </a:lnTo>
                <a:lnTo>
                  <a:pt x="9116" y="18723"/>
                </a:lnTo>
                <a:lnTo>
                  <a:pt x="10800" y="21600"/>
                </a:lnTo>
                <a:lnTo>
                  <a:pt x="12346" y="18751"/>
                </a:lnTo>
                <a:lnTo>
                  <a:pt x="14846" y="20814"/>
                </a:lnTo>
                <a:lnTo>
                  <a:pt x="15212" y="17593"/>
                </a:lnTo>
                <a:lnTo>
                  <a:pt x="18437" y="18437"/>
                </a:lnTo>
                <a:lnTo>
                  <a:pt x="17515" y="15329"/>
                </a:lnTo>
                <a:lnTo>
                  <a:pt x="20741" y="15020"/>
                </a:lnTo>
                <a:lnTo>
                  <a:pt x="18723" y="12484"/>
                </a:lnTo>
                <a:lnTo>
                  <a:pt x="21600" y="10800"/>
                </a:lnTo>
                <a:lnTo>
                  <a:pt x="18751" y="9254"/>
                </a:lnTo>
                <a:lnTo>
                  <a:pt x="20814" y="6754"/>
                </a:lnTo>
                <a:lnTo>
                  <a:pt x="17593" y="6388"/>
                </a:lnTo>
                <a:lnTo>
                  <a:pt x="18437" y="3163"/>
                </a:lnTo>
                <a:lnTo>
                  <a:pt x="15329" y="4085"/>
                </a:lnTo>
                <a:lnTo>
                  <a:pt x="15020" y="859"/>
                </a:lnTo>
                <a:lnTo>
                  <a:pt x="12484" y="2877"/>
                </a:lnTo>
                <a:lnTo>
                  <a:pt x="10800" y="0"/>
                </a:lnTo>
                <a:lnTo>
                  <a:pt x="9254" y="2849"/>
                </a:lnTo>
                <a:lnTo>
                  <a:pt x="6754" y="786"/>
                </a:lnTo>
                <a:lnTo>
                  <a:pt x="6388" y="4007"/>
                </a:lnTo>
                <a:lnTo>
                  <a:pt x="3163" y="3163"/>
                </a:lnTo>
                <a:lnTo>
                  <a:pt x="4085" y="6271"/>
                </a:lnTo>
                <a:lnTo>
                  <a:pt x="859" y="6580"/>
                </a:lnTo>
                <a:lnTo>
                  <a:pt x="2877" y="9116"/>
                </a:lnTo>
                <a:lnTo>
                  <a:pt x="0" y="10800"/>
                </a:lnTo>
                <a:close/>
              </a:path>
            </a:pathLst>
          </a:custGeom>
          <a:solidFill>
            <a:srgbClr val="61b2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5" name="立方体 26627"/>
          <p:cNvSpPr/>
          <p:nvPr/>
        </p:nvSpPr>
        <p:spPr>
          <a:xfrm rot="5400000">
            <a:off x="2567160" y="274320"/>
            <a:ext cx="885600" cy="2232000"/>
          </a:xfrm>
          <a:prstGeom prst="cube">
            <a:avLst>
              <a:gd name="adj" fmla="val 16074"/>
            </a:avLst>
          </a:prstGeom>
          <a:solidFill>
            <a:srgbClr val="a3a9fd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 Point Tex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6" name="立方体 26628"/>
          <p:cNvSpPr/>
          <p:nvPr/>
        </p:nvSpPr>
        <p:spPr>
          <a:xfrm rot="5400000">
            <a:off x="5691240" y="274320"/>
            <a:ext cx="885600" cy="2232000"/>
          </a:xfrm>
          <a:prstGeom prst="cube">
            <a:avLst>
              <a:gd name="adj" fmla="val 16074"/>
            </a:avLst>
          </a:prstGeom>
          <a:solidFill>
            <a:srgbClr val="a3a9fd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 Point Tex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7" name="立方体 26629"/>
          <p:cNvSpPr/>
          <p:nvPr/>
        </p:nvSpPr>
        <p:spPr>
          <a:xfrm rot="5400000">
            <a:off x="1157400" y="1398240"/>
            <a:ext cx="885600" cy="2232000"/>
          </a:xfrm>
          <a:prstGeom prst="cube">
            <a:avLst>
              <a:gd name="adj" fmla="val 16074"/>
            </a:avLst>
          </a:prstGeom>
          <a:solidFill>
            <a:srgbClr val="a3a9fd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 Point Tex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8" name="立方体 26630"/>
          <p:cNvSpPr/>
          <p:nvPr/>
        </p:nvSpPr>
        <p:spPr>
          <a:xfrm rot="5400000">
            <a:off x="7101000" y="1398240"/>
            <a:ext cx="885600" cy="2232000"/>
          </a:xfrm>
          <a:prstGeom prst="cube">
            <a:avLst>
              <a:gd name="adj" fmla="val 16074"/>
            </a:avLst>
          </a:prstGeom>
          <a:solidFill>
            <a:srgbClr val="a3a9fd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 Point Tex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9" name="立方体 26631"/>
          <p:cNvSpPr/>
          <p:nvPr/>
        </p:nvSpPr>
        <p:spPr>
          <a:xfrm rot="5400000">
            <a:off x="1157040" y="3655800"/>
            <a:ext cx="885960" cy="2232000"/>
          </a:xfrm>
          <a:prstGeom prst="cube">
            <a:avLst>
              <a:gd name="adj" fmla="val 16074"/>
            </a:avLst>
          </a:prstGeom>
          <a:solidFill>
            <a:srgbClr val="a3a9fd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 Point Tex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0" name="立方体 26632"/>
          <p:cNvSpPr/>
          <p:nvPr/>
        </p:nvSpPr>
        <p:spPr>
          <a:xfrm rot="5400000">
            <a:off x="7100640" y="3655800"/>
            <a:ext cx="885960" cy="2232000"/>
          </a:xfrm>
          <a:prstGeom prst="cube">
            <a:avLst>
              <a:gd name="adj" fmla="val 16074"/>
            </a:avLst>
          </a:prstGeom>
          <a:solidFill>
            <a:srgbClr val="a3a9fd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 Point Tex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1" name="立方体 26633"/>
          <p:cNvSpPr/>
          <p:nvPr/>
        </p:nvSpPr>
        <p:spPr>
          <a:xfrm rot="5400000">
            <a:off x="2566800" y="4884480"/>
            <a:ext cx="885960" cy="2232000"/>
          </a:xfrm>
          <a:prstGeom prst="cube">
            <a:avLst>
              <a:gd name="adj" fmla="val 16074"/>
            </a:avLst>
          </a:prstGeom>
          <a:solidFill>
            <a:srgbClr val="a3a9fd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 Point Tex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2" name="立方体 26634"/>
          <p:cNvSpPr/>
          <p:nvPr/>
        </p:nvSpPr>
        <p:spPr>
          <a:xfrm rot="5400000">
            <a:off x="5690880" y="4884480"/>
            <a:ext cx="885960" cy="2232000"/>
          </a:xfrm>
          <a:prstGeom prst="cube">
            <a:avLst>
              <a:gd name="adj" fmla="val 16074"/>
            </a:avLst>
          </a:prstGeom>
          <a:solidFill>
            <a:srgbClr val="a3a9fd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 Point Tex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3" name="十六角星 26635"/>
          <p:cNvSpPr/>
          <p:nvPr/>
        </p:nvSpPr>
        <p:spPr>
          <a:xfrm>
            <a:off x="2835360" y="2139840"/>
            <a:ext cx="3473280" cy="3124440"/>
          </a:xfrm>
          <a:custGeom>
            <a:avLst/>
            <a:gdLst>
              <a:gd name="textAreaLeft" fmla="*/ 815400 w 3473280"/>
              <a:gd name="textAreaRight" fmla="*/ 2657880 w 3473280"/>
              <a:gd name="textAreaTop" fmla="*/ 733680 h 3124440"/>
              <a:gd name="textAreaBottom" fmla="*/ 2390760 h 3124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849" y="12346"/>
                </a:lnTo>
                <a:lnTo>
                  <a:pt x="786" y="14846"/>
                </a:lnTo>
                <a:lnTo>
                  <a:pt x="4007" y="15212"/>
                </a:lnTo>
                <a:lnTo>
                  <a:pt x="3163" y="18437"/>
                </a:lnTo>
                <a:lnTo>
                  <a:pt x="6271" y="17515"/>
                </a:lnTo>
                <a:lnTo>
                  <a:pt x="6580" y="20741"/>
                </a:lnTo>
                <a:lnTo>
                  <a:pt x="9116" y="18723"/>
                </a:lnTo>
                <a:lnTo>
                  <a:pt x="10800" y="21600"/>
                </a:lnTo>
                <a:lnTo>
                  <a:pt x="12346" y="18751"/>
                </a:lnTo>
                <a:lnTo>
                  <a:pt x="14846" y="20814"/>
                </a:lnTo>
                <a:lnTo>
                  <a:pt x="15212" y="17593"/>
                </a:lnTo>
                <a:lnTo>
                  <a:pt x="18437" y="18437"/>
                </a:lnTo>
                <a:lnTo>
                  <a:pt x="17515" y="15329"/>
                </a:lnTo>
                <a:lnTo>
                  <a:pt x="20741" y="15020"/>
                </a:lnTo>
                <a:lnTo>
                  <a:pt x="18723" y="12484"/>
                </a:lnTo>
                <a:lnTo>
                  <a:pt x="21600" y="10800"/>
                </a:lnTo>
                <a:lnTo>
                  <a:pt x="18751" y="9254"/>
                </a:lnTo>
                <a:lnTo>
                  <a:pt x="20814" y="6754"/>
                </a:lnTo>
                <a:lnTo>
                  <a:pt x="17593" y="6388"/>
                </a:lnTo>
                <a:lnTo>
                  <a:pt x="18437" y="3163"/>
                </a:lnTo>
                <a:lnTo>
                  <a:pt x="15329" y="4085"/>
                </a:lnTo>
                <a:lnTo>
                  <a:pt x="15020" y="859"/>
                </a:lnTo>
                <a:lnTo>
                  <a:pt x="12484" y="2877"/>
                </a:lnTo>
                <a:lnTo>
                  <a:pt x="10800" y="0"/>
                </a:lnTo>
                <a:lnTo>
                  <a:pt x="9254" y="2849"/>
                </a:lnTo>
                <a:lnTo>
                  <a:pt x="6754" y="786"/>
                </a:lnTo>
                <a:lnTo>
                  <a:pt x="6388" y="4007"/>
                </a:lnTo>
                <a:lnTo>
                  <a:pt x="3163" y="3163"/>
                </a:lnTo>
                <a:lnTo>
                  <a:pt x="4085" y="6271"/>
                </a:lnTo>
                <a:lnTo>
                  <a:pt x="859" y="6580"/>
                </a:lnTo>
                <a:lnTo>
                  <a:pt x="2877" y="9116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dcdcdc"/>
              </a:gs>
              <a:gs pos="50000">
                <a:srgbClr val="ffffff"/>
              </a:gs>
              <a:gs pos="100000">
                <a:srgbClr val="dcdcdc"/>
              </a:gs>
            </a:gsLst>
            <a:lin ang="5400000"/>
          </a:gra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4" name="立方体 26636"/>
          <p:cNvSpPr/>
          <p:nvPr/>
        </p:nvSpPr>
        <p:spPr>
          <a:xfrm rot="5400000">
            <a:off x="833040" y="2492280"/>
            <a:ext cx="885960" cy="2232000"/>
          </a:xfrm>
          <a:prstGeom prst="cube">
            <a:avLst>
              <a:gd name="adj" fmla="val 16074"/>
            </a:avLst>
          </a:prstGeom>
          <a:solidFill>
            <a:srgbClr val="a3a9fd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 Point Tex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5" name="立方体 26637"/>
          <p:cNvSpPr/>
          <p:nvPr/>
        </p:nvSpPr>
        <p:spPr>
          <a:xfrm rot="5400000">
            <a:off x="7367400" y="2492280"/>
            <a:ext cx="885960" cy="2232000"/>
          </a:xfrm>
          <a:prstGeom prst="cube">
            <a:avLst>
              <a:gd name="adj" fmla="val 16074"/>
            </a:avLst>
          </a:prstGeom>
          <a:solidFill>
            <a:srgbClr val="a3a9fd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 Point Tex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 - Part Concept w Clip Ar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组合 6146"/>
          <p:cNvGrpSpPr/>
          <p:nvPr/>
        </p:nvGrpSpPr>
        <p:grpSpPr>
          <a:xfrm>
            <a:off x="1432440" y="1066680"/>
            <a:ext cx="6301800" cy="5410080"/>
            <a:chOff x="1432440" y="1066680"/>
            <a:chExt cx="6301800" cy="5410080"/>
          </a:xfrm>
        </p:grpSpPr>
        <p:sp>
          <p:nvSpPr>
            <p:cNvPr id="108" name="椭圆 6147"/>
            <p:cNvSpPr/>
            <p:nvPr/>
          </p:nvSpPr>
          <p:spPr>
            <a:xfrm>
              <a:off x="1780560" y="1113480"/>
              <a:ext cx="5590800" cy="5278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9" name="任意多边形 6148"/>
            <p:cNvSpPr/>
            <p:nvPr/>
          </p:nvSpPr>
          <p:spPr>
            <a:xfrm>
              <a:off x="4874400" y="2032920"/>
              <a:ext cx="2604240" cy="3448080"/>
            </a:xfrm>
            <a:custGeom>
              <a:avLst/>
              <a:gdLst/>
              <a:ahLst/>
              <a:rect l="l" t="t" r="r" b="b"/>
              <a:pathLst>
                <a:path fill="none" w="21600" h="30561">
                  <a:moveTo>
                    <a:pt x="15261" y="0"/>
                  </a:moveTo>
                  <a:cubicBezTo>
                    <a:pt x="19177" y="3910"/>
                    <a:pt x="21600" y="9315"/>
                    <a:pt x="21600" y="15286"/>
                  </a:cubicBezTo>
                  <a:cubicBezTo>
                    <a:pt x="21600" y="21252"/>
                    <a:pt x="19182" y="26653"/>
                    <a:pt x="15272" y="30562"/>
                  </a:cubicBezTo>
                </a:path>
                <a:path stroke="0" w="21600" h="30561">
                  <a:moveTo>
                    <a:pt x="15271" y="30561"/>
                  </a:moveTo>
                  <a:cubicBezTo>
                    <a:pt x="15602" y="33471"/>
                    <a:pt x="15794" y="36960"/>
                    <a:pt x="15794" y="40711"/>
                  </a:cubicBezTo>
                  <a:cubicBezTo>
                    <a:pt x="15794" y="41372"/>
                    <a:pt x="15788" y="42024"/>
                    <a:pt x="15776" y="42662"/>
                  </a:cubicBezTo>
                  <a:lnTo>
                    <a:pt x="15261" y="0"/>
                  </a:lnTo>
                  <a:close/>
                </a:path>
              </a:pathLst>
            </a:custGeom>
            <a:solidFill>
              <a:srgbClr val="61b2fb"/>
            </a:solidFill>
            <a:ln w="0">
              <a:noFill/>
            </a:ln>
            <a:effectLst>
              <a:outerShdw dist="89604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0" name="任意多边形 6149"/>
            <p:cNvSpPr/>
            <p:nvPr/>
          </p:nvSpPr>
          <p:spPr>
            <a:xfrm>
              <a:off x="2736000" y="4040280"/>
              <a:ext cx="3683160" cy="2436480"/>
            </a:xfrm>
            <a:custGeom>
              <a:avLst/>
              <a:gdLst/>
              <a:ahLst/>
              <a:rect l="l" t="t" r="r" b="b"/>
              <a:pathLst>
                <a:path fill="none" w="30554" h="21600">
                  <a:moveTo>
                    <a:pt x="30553" y="15275"/>
                  </a:moveTo>
                  <a:cubicBezTo>
                    <a:pt x="26644" y="19182"/>
                    <a:pt x="21245" y="21599"/>
                    <a:pt x="15281" y="21599"/>
                  </a:cubicBezTo>
                  <a:cubicBezTo>
                    <a:pt x="9312" y="21599"/>
                    <a:pt x="3908" y="19178"/>
                    <a:pt x="-2" y="15264"/>
                  </a:cubicBezTo>
                </a:path>
                <a:path stroke="0" w="30554" h="21600">
                  <a:moveTo>
                    <a:pt x="0" y="15264"/>
                  </a:moveTo>
                  <a:cubicBezTo>
                    <a:pt x="-70" y="16020"/>
                    <a:pt x="-406" y="16698"/>
                    <a:pt x="-913" y="17205"/>
                  </a:cubicBezTo>
                  <a:lnTo>
                    <a:pt x="30553" y="15275"/>
                  </a:lnTo>
                  <a:close/>
                </a:path>
              </a:pathLst>
            </a:custGeom>
            <a:solidFill>
              <a:srgbClr val="618ffd"/>
            </a:solidFill>
            <a:ln w="0">
              <a:noFill/>
            </a:ln>
            <a:effectLst>
              <a:outerShdw dist="89604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1" name="任意多边形 6150"/>
            <p:cNvSpPr/>
            <p:nvPr/>
          </p:nvSpPr>
          <p:spPr>
            <a:xfrm>
              <a:off x="1695960" y="2032920"/>
              <a:ext cx="2603880" cy="3444480"/>
            </a:xfrm>
            <a:custGeom>
              <a:avLst/>
              <a:gdLst/>
              <a:ahLst/>
              <a:rect l="l" t="t" r="r" b="b"/>
              <a:pathLst>
                <a:path fill="none" w="21600" h="30540">
                  <a:moveTo>
                    <a:pt x="6317" y="30539"/>
                  </a:moveTo>
                  <a:cubicBezTo>
                    <a:pt x="2414" y="26631"/>
                    <a:pt x="0" y="21235"/>
                    <a:pt x="0" y="15275"/>
                  </a:cubicBezTo>
                  <a:cubicBezTo>
                    <a:pt x="0" y="9310"/>
                    <a:pt x="2418" y="3909"/>
                    <a:pt x="6328" y="0"/>
                  </a:cubicBezTo>
                </a:path>
                <a:path stroke="0" w="21600" h="30540">
                  <a:moveTo>
                    <a:pt x="6328" y="0"/>
                  </a:moveTo>
                  <a:cubicBezTo>
                    <a:pt x="5761" y="9"/>
                    <a:pt x="5185" y="14"/>
                    <a:pt x="4603" y="14"/>
                  </a:cubicBezTo>
                  <a:cubicBezTo>
                    <a:pt x="-5582" y="14"/>
                    <a:pt x="-13838" y="-1404"/>
                    <a:pt x="-13838" y="-3154"/>
                  </a:cubicBezTo>
                  <a:cubicBezTo>
                    <a:pt x="-13838" y="-4904"/>
                    <a:pt x="-5582" y="-6322"/>
                    <a:pt x="4603" y="-6322"/>
                  </a:cubicBezTo>
                  <a:cubicBezTo>
                    <a:pt x="14788" y="-6322"/>
                    <a:pt x="23044" y="-4904"/>
                    <a:pt x="23044" y="-3154"/>
                  </a:cubicBezTo>
                  <a:cubicBezTo>
                    <a:pt x="23044" y="-1518"/>
                    <a:pt x="15821" y="-171"/>
                    <a:pt x="6558" y="-4"/>
                  </a:cubicBezTo>
                  <a:lnTo>
                    <a:pt x="6317" y="30539"/>
                  </a:lnTo>
                  <a:close/>
                </a:path>
              </a:pathLst>
            </a:custGeom>
            <a:solidFill>
              <a:srgbClr val="47e0ff"/>
            </a:solidFill>
            <a:ln w="0">
              <a:noFill/>
            </a:ln>
            <a:effectLst>
              <a:outerShdw dist="89604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2" name="任意多边形 6151"/>
            <p:cNvSpPr/>
            <p:nvPr/>
          </p:nvSpPr>
          <p:spPr>
            <a:xfrm>
              <a:off x="2739240" y="1066680"/>
              <a:ext cx="3681000" cy="2436480"/>
            </a:xfrm>
            <a:custGeom>
              <a:avLst/>
              <a:gdLst/>
              <a:ahLst/>
              <a:rect l="l" t="t" r="r" b="b"/>
              <a:pathLst>
                <a:path fill="none" w="30535" h="21600">
                  <a:moveTo>
                    <a:pt x="0" y="6322"/>
                  </a:moveTo>
                  <a:cubicBezTo>
                    <a:pt x="3909" y="2416"/>
                    <a:pt x="9307" y="0"/>
                    <a:pt x="15270" y="0"/>
                  </a:cubicBezTo>
                  <a:cubicBezTo>
                    <a:pt x="21230" y="0"/>
                    <a:pt x="26626" y="2414"/>
                    <a:pt x="30534" y="6317"/>
                  </a:cubicBezTo>
                </a:path>
                <a:path stroke="0" w="30535" h="21600">
                  <a:moveTo>
                    <a:pt x="30534" y="6317"/>
                  </a:moveTo>
                  <a:cubicBezTo>
                    <a:pt x="25520" y="3022"/>
                    <a:pt x="22212" y="-2653"/>
                    <a:pt x="22212" y="-9100"/>
                  </a:cubicBezTo>
                  <a:cubicBezTo>
                    <a:pt x="22212" y="-19284"/>
                    <a:pt x="30466" y="-27539"/>
                    <a:pt x="40647" y="-27539"/>
                  </a:cubicBezTo>
                  <a:cubicBezTo>
                    <a:pt x="50828" y="-27539"/>
                    <a:pt x="59082" y="-19284"/>
                    <a:pt x="59082" y="-9100"/>
                  </a:cubicBezTo>
                  <a:cubicBezTo>
                    <a:pt x="59082" y="-4009"/>
                    <a:pt x="57020" y="599"/>
                    <a:pt x="53685" y="3936"/>
                  </a:cubicBezTo>
                  <a:lnTo>
                    <a:pt x="0" y="6322"/>
                  </a:lnTo>
                  <a:close/>
                </a:path>
              </a:pathLst>
            </a:custGeom>
            <a:solidFill>
              <a:srgbClr val="d49fff"/>
            </a:solidFill>
            <a:ln w="0">
              <a:noFill/>
            </a:ln>
            <a:effectLst>
              <a:outerShdw dist="89604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3" name="十六角星 6152"/>
            <p:cNvSpPr/>
            <p:nvPr/>
          </p:nvSpPr>
          <p:spPr>
            <a:xfrm>
              <a:off x="3169440" y="2606400"/>
              <a:ext cx="2816640" cy="2294280"/>
            </a:xfrm>
            <a:custGeom>
              <a:avLst/>
              <a:gdLst>
                <a:gd name="textAreaLeft" fmla="*/ 661320 w 2816640"/>
                <a:gd name="textAreaRight" fmla="*/ 2155320 w 2816640"/>
                <a:gd name="textAreaTop" fmla="*/ 538560 h 2294280"/>
                <a:gd name="textAreaBottom" fmla="*/ 1755720 h 229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849" y="12346"/>
                  </a:lnTo>
                  <a:lnTo>
                    <a:pt x="786" y="14846"/>
                  </a:lnTo>
                  <a:lnTo>
                    <a:pt x="4007" y="15212"/>
                  </a:lnTo>
                  <a:lnTo>
                    <a:pt x="3163" y="18437"/>
                  </a:lnTo>
                  <a:lnTo>
                    <a:pt x="6271" y="17515"/>
                  </a:lnTo>
                  <a:lnTo>
                    <a:pt x="6580" y="20741"/>
                  </a:lnTo>
                  <a:lnTo>
                    <a:pt x="9116" y="18723"/>
                  </a:lnTo>
                  <a:lnTo>
                    <a:pt x="10800" y="21600"/>
                  </a:lnTo>
                  <a:lnTo>
                    <a:pt x="12346" y="18751"/>
                  </a:lnTo>
                  <a:lnTo>
                    <a:pt x="14846" y="20814"/>
                  </a:lnTo>
                  <a:lnTo>
                    <a:pt x="15212" y="17593"/>
                  </a:lnTo>
                  <a:lnTo>
                    <a:pt x="18437" y="18437"/>
                  </a:lnTo>
                  <a:lnTo>
                    <a:pt x="17515" y="15329"/>
                  </a:lnTo>
                  <a:lnTo>
                    <a:pt x="20741" y="15020"/>
                  </a:lnTo>
                  <a:lnTo>
                    <a:pt x="18723" y="12484"/>
                  </a:lnTo>
                  <a:lnTo>
                    <a:pt x="21600" y="10800"/>
                  </a:lnTo>
                  <a:lnTo>
                    <a:pt x="18751" y="9254"/>
                  </a:lnTo>
                  <a:lnTo>
                    <a:pt x="20814" y="6754"/>
                  </a:lnTo>
                  <a:lnTo>
                    <a:pt x="17593" y="6388"/>
                  </a:lnTo>
                  <a:lnTo>
                    <a:pt x="18437" y="3163"/>
                  </a:lnTo>
                  <a:lnTo>
                    <a:pt x="15329" y="4085"/>
                  </a:lnTo>
                  <a:lnTo>
                    <a:pt x="15020" y="859"/>
                  </a:lnTo>
                  <a:lnTo>
                    <a:pt x="12484" y="2877"/>
                  </a:lnTo>
                  <a:lnTo>
                    <a:pt x="10800" y="0"/>
                  </a:lnTo>
                  <a:lnTo>
                    <a:pt x="9254" y="2849"/>
                  </a:lnTo>
                  <a:lnTo>
                    <a:pt x="6754" y="786"/>
                  </a:lnTo>
                  <a:lnTo>
                    <a:pt x="6388" y="4007"/>
                  </a:lnTo>
                  <a:lnTo>
                    <a:pt x="3163" y="3163"/>
                  </a:lnTo>
                  <a:lnTo>
                    <a:pt x="4085" y="6271"/>
                  </a:lnTo>
                  <a:lnTo>
                    <a:pt x="859" y="6580"/>
                  </a:lnTo>
                  <a:lnTo>
                    <a:pt x="2877" y="9116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Gulim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oint</a:t>
              </a:r>
              <a:endParaRPr b="0" lang="en-US" sz="2400" spc="-1" strike="noStrike">
                <a:solidFill>
                  <a:srgbClr val="000000"/>
                </a:solidFill>
                <a:latin typeface="Gulim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4" name="矩形 6153"/>
            <p:cNvSpPr/>
            <p:nvPr/>
          </p:nvSpPr>
          <p:spPr>
            <a:xfrm>
              <a:off x="3557880" y="2013480"/>
              <a:ext cx="208260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4 Point Text</a:t>
              </a:r>
              <a:endParaRPr b="0" lang="en-US" sz="24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5" name="矩形 6154"/>
            <p:cNvSpPr/>
            <p:nvPr/>
          </p:nvSpPr>
          <p:spPr>
            <a:xfrm>
              <a:off x="3557880" y="5063760"/>
              <a:ext cx="208260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4 Point Text</a:t>
              </a:r>
              <a:endParaRPr b="0" lang="en-US" sz="24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6" name="矩形 6155"/>
            <p:cNvSpPr/>
            <p:nvPr/>
          </p:nvSpPr>
          <p:spPr>
            <a:xfrm>
              <a:off x="1432440" y="3729240"/>
              <a:ext cx="208260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4 Point Text</a:t>
              </a:r>
              <a:endParaRPr b="0" lang="en-US" sz="24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7" name="矩形 6156"/>
            <p:cNvSpPr/>
            <p:nvPr/>
          </p:nvSpPr>
          <p:spPr>
            <a:xfrm>
              <a:off x="5651640" y="3729240"/>
              <a:ext cx="208260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4 Point Text</a:t>
              </a:r>
              <a:endParaRPr b="0" lang="en-US" sz="24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118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d49f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d49ff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椭圆 7169"/>
          <p:cNvSpPr/>
          <p:nvPr/>
        </p:nvSpPr>
        <p:spPr>
          <a:xfrm rot="2700000">
            <a:off x="1982520" y="1351080"/>
            <a:ext cx="5178240" cy="517824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 Part Concept - I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椭圆 7171"/>
          <p:cNvSpPr/>
          <p:nvPr/>
        </p:nvSpPr>
        <p:spPr>
          <a:xfrm>
            <a:off x="2514600" y="1967040"/>
            <a:ext cx="4124160" cy="398304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2" name="任意多边形 7172"/>
          <p:cNvSpPr/>
          <p:nvPr/>
        </p:nvSpPr>
        <p:spPr>
          <a:xfrm rot="18900000">
            <a:off x="2066760" y="1929960"/>
            <a:ext cx="3075120" cy="2160720"/>
          </a:xfrm>
          <a:custGeom>
            <a:avLst/>
            <a:gdLst/>
            <a:ahLst/>
            <a:rect l="l" t="t" r="r" b="b"/>
            <a:pathLst>
              <a:path fill="none" w="30266" h="21600">
                <a:moveTo>
                  <a:pt x="0" y="6332"/>
                </a:moveTo>
                <a:cubicBezTo>
                  <a:pt x="3910" y="2420"/>
                  <a:pt x="9312" y="0"/>
                  <a:pt x="15280" y="0"/>
                </a:cubicBezTo>
                <a:cubicBezTo>
                  <a:pt x="21099" y="0"/>
                  <a:pt x="26381" y="2301"/>
                  <a:pt x="30265" y="6044"/>
                </a:cubicBezTo>
              </a:path>
              <a:path stroke="0" w="30266" h="21600">
                <a:moveTo>
                  <a:pt x="30265" y="6044"/>
                </a:moveTo>
                <a:cubicBezTo>
                  <a:pt x="25099" y="2778"/>
                  <a:pt x="21670" y="-2982"/>
                  <a:pt x="21670" y="-9543"/>
                </a:cubicBezTo>
                <a:cubicBezTo>
                  <a:pt x="21670" y="-19724"/>
                  <a:pt x="29926" y="-27977"/>
                  <a:pt x="40110" y="-27977"/>
                </a:cubicBezTo>
                <a:cubicBezTo>
                  <a:pt x="50294" y="-27977"/>
                  <a:pt x="58550" y="-19724"/>
                  <a:pt x="58550" y="-9543"/>
                </a:cubicBezTo>
                <a:cubicBezTo>
                  <a:pt x="58550" y="-4451"/>
                  <a:pt x="56485" y="159"/>
                  <a:pt x="53145" y="3496"/>
                </a:cubicBezTo>
                <a:lnTo>
                  <a:pt x="0" y="6332"/>
                </a:lnTo>
                <a:close/>
              </a:path>
            </a:pathLst>
          </a:custGeom>
          <a:solidFill>
            <a:srgbClr val="47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3" name="任意多边形 7173"/>
          <p:cNvSpPr/>
          <p:nvPr/>
        </p:nvSpPr>
        <p:spPr>
          <a:xfrm rot="13500000">
            <a:off x="2073960" y="3821760"/>
            <a:ext cx="3075120" cy="2158920"/>
          </a:xfrm>
          <a:custGeom>
            <a:avLst/>
            <a:gdLst/>
            <a:ahLst/>
            <a:rect l="l" t="t" r="r" b="b"/>
            <a:pathLst>
              <a:path fill="none" w="30276" h="21600">
                <a:moveTo>
                  <a:pt x="0" y="6329"/>
                </a:moveTo>
                <a:cubicBezTo>
                  <a:pt x="3910" y="2419"/>
                  <a:pt x="9311" y="0"/>
                  <a:pt x="15277" y="0"/>
                </a:cubicBezTo>
                <a:cubicBezTo>
                  <a:pt x="21103" y="0"/>
                  <a:pt x="26390" y="2306"/>
                  <a:pt x="30275" y="6056"/>
                </a:cubicBezTo>
              </a:path>
              <a:path stroke="0" w="30276" h="21600">
                <a:moveTo>
                  <a:pt x="30275" y="6056"/>
                </a:moveTo>
                <a:cubicBezTo>
                  <a:pt x="25116" y="2789"/>
                  <a:pt x="21694" y="-2967"/>
                  <a:pt x="21694" y="-9523"/>
                </a:cubicBezTo>
                <a:cubicBezTo>
                  <a:pt x="21694" y="-19704"/>
                  <a:pt x="29949" y="-27958"/>
                  <a:pt x="40132" y="-27958"/>
                </a:cubicBezTo>
                <a:cubicBezTo>
                  <a:pt x="50315" y="-27958"/>
                  <a:pt x="58570" y="-19704"/>
                  <a:pt x="58570" y="-9523"/>
                </a:cubicBezTo>
                <a:cubicBezTo>
                  <a:pt x="58570" y="-4431"/>
                  <a:pt x="56505" y="178"/>
                  <a:pt x="53168" y="3514"/>
                </a:cubicBezTo>
                <a:lnTo>
                  <a:pt x="0" y="6329"/>
                </a:lnTo>
                <a:close/>
              </a:path>
            </a:pathLst>
          </a:custGeom>
          <a:solidFill>
            <a:srgbClr val="61b2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4" name="任意多边形 7174"/>
          <p:cNvSpPr/>
          <p:nvPr/>
        </p:nvSpPr>
        <p:spPr>
          <a:xfrm rot="2700000">
            <a:off x="3971880" y="1923840"/>
            <a:ext cx="3083040" cy="2159280"/>
          </a:xfrm>
          <a:custGeom>
            <a:avLst/>
            <a:gdLst/>
            <a:ahLst/>
            <a:rect l="l" t="t" r="r" b="b"/>
            <a:pathLst>
              <a:path fill="none" w="30265" h="21600">
                <a:moveTo>
                  <a:pt x="0" y="6328"/>
                </a:moveTo>
                <a:cubicBezTo>
                  <a:pt x="3909" y="2418"/>
                  <a:pt x="9310" y="0"/>
                  <a:pt x="15275" y="0"/>
                </a:cubicBezTo>
                <a:cubicBezTo>
                  <a:pt x="21096" y="0"/>
                  <a:pt x="26380" y="2303"/>
                  <a:pt x="30264" y="6047"/>
                </a:cubicBezTo>
              </a:path>
              <a:path stroke="0" w="30265" h="21600">
                <a:moveTo>
                  <a:pt x="30264" y="6047"/>
                </a:moveTo>
                <a:cubicBezTo>
                  <a:pt x="25101" y="2780"/>
                  <a:pt x="21675" y="-2979"/>
                  <a:pt x="21675" y="-9539"/>
                </a:cubicBezTo>
                <a:cubicBezTo>
                  <a:pt x="21675" y="-19721"/>
                  <a:pt x="29930" y="-27975"/>
                  <a:pt x="40112" y="-27975"/>
                </a:cubicBezTo>
                <a:cubicBezTo>
                  <a:pt x="50294" y="-27975"/>
                  <a:pt x="58549" y="-19721"/>
                  <a:pt x="58549" y="-9539"/>
                </a:cubicBezTo>
                <a:cubicBezTo>
                  <a:pt x="58549" y="-4448"/>
                  <a:pt x="56485" y="162"/>
                  <a:pt x="53148" y="3498"/>
                </a:cubicBezTo>
                <a:lnTo>
                  <a:pt x="0" y="6328"/>
                </a:lnTo>
                <a:close/>
              </a:path>
            </a:pathLst>
          </a:custGeom>
          <a:solidFill>
            <a:srgbClr val="a3a9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5" name="任意多边形 7175"/>
          <p:cNvSpPr/>
          <p:nvPr/>
        </p:nvSpPr>
        <p:spPr>
          <a:xfrm rot="8100000">
            <a:off x="3919680" y="3822480"/>
            <a:ext cx="3076560" cy="2157120"/>
          </a:xfrm>
          <a:custGeom>
            <a:avLst/>
            <a:gdLst/>
            <a:ahLst/>
            <a:rect l="l" t="t" r="r" b="b"/>
            <a:pathLst>
              <a:path fill="none" w="30274" h="21600">
                <a:moveTo>
                  <a:pt x="0" y="6337"/>
                </a:moveTo>
                <a:cubicBezTo>
                  <a:pt x="3910" y="2422"/>
                  <a:pt x="9314" y="0"/>
                  <a:pt x="15284" y="0"/>
                </a:cubicBezTo>
                <a:cubicBezTo>
                  <a:pt x="21106" y="0"/>
                  <a:pt x="26390" y="2303"/>
                  <a:pt x="30274" y="6048"/>
                </a:cubicBezTo>
              </a:path>
              <a:path stroke="0" w="30274" h="21600">
                <a:moveTo>
                  <a:pt x="30274" y="6048"/>
                </a:moveTo>
                <a:cubicBezTo>
                  <a:pt x="25109" y="2782"/>
                  <a:pt x="21681" y="-2976"/>
                  <a:pt x="21681" y="-9535"/>
                </a:cubicBezTo>
                <a:cubicBezTo>
                  <a:pt x="21681" y="-19714"/>
                  <a:pt x="29938" y="-27966"/>
                  <a:pt x="40123" y="-27966"/>
                </a:cubicBezTo>
                <a:cubicBezTo>
                  <a:pt x="50308" y="-27966"/>
                  <a:pt x="58565" y="-19714"/>
                  <a:pt x="58565" y="-9535"/>
                </a:cubicBezTo>
                <a:cubicBezTo>
                  <a:pt x="58565" y="-4442"/>
                  <a:pt x="56498" y="168"/>
                  <a:pt x="53157" y="3504"/>
                </a:cubicBezTo>
                <a:lnTo>
                  <a:pt x="0" y="6337"/>
                </a:lnTo>
                <a:close/>
              </a:path>
            </a:pathLst>
          </a:custGeom>
          <a:solidFill>
            <a:srgbClr val="d49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6" name="椭圆 7176"/>
          <p:cNvSpPr/>
          <p:nvPr/>
        </p:nvSpPr>
        <p:spPr>
          <a:xfrm>
            <a:off x="3608280" y="2997360"/>
            <a:ext cx="1928880" cy="1903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Your</a:t>
            </a:r>
            <a:endParaRPr b="0" lang="en-US" sz="23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3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7" name="矩形 7177"/>
          <p:cNvSpPr/>
          <p:nvPr/>
        </p:nvSpPr>
        <p:spPr>
          <a:xfrm>
            <a:off x="3052800" y="2525760"/>
            <a:ext cx="74952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2560" bIns="52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Your</a:t>
            </a:r>
            <a:endParaRPr b="0" lang="en-US" sz="19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9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8" name="矩形 7178"/>
          <p:cNvSpPr/>
          <p:nvPr/>
        </p:nvSpPr>
        <p:spPr>
          <a:xfrm>
            <a:off x="5511960" y="2525760"/>
            <a:ext cx="74952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2560" bIns="52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Your</a:t>
            </a:r>
            <a:endParaRPr b="0" lang="en-US" sz="19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9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9" name="矩形 7179"/>
          <p:cNvSpPr/>
          <p:nvPr/>
        </p:nvSpPr>
        <p:spPr>
          <a:xfrm>
            <a:off x="3005280" y="4859280"/>
            <a:ext cx="74952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2560" bIns="52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Your</a:t>
            </a:r>
            <a:endParaRPr b="0" lang="en-US" sz="19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9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0" name="矩形 7180"/>
          <p:cNvSpPr/>
          <p:nvPr/>
        </p:nvSpPr>
        <p:spPr>
          <a:xfrm>
            <a:off x="5511960" y="4859280"/>
            <a:ext cx="74952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2560" bIns="52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Your</a:t>
            </a:r>
            <a:endParaRPr b="0" lang="en-US" sz="19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9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 Part Concept - II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椭圆 8194"/>
          <p:cNvSpPr/>
          <p:nvPr/>
        </p:nvSpPr>
        <p:spPr>
          <a:xfrm rot="2700000">
            <a:off x="1982520" y="1351080"/>
            <a:ext cx="5178240" cy="517824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3" name="椭圆 8195"/>
          <p:cNvSpPr/>
          <p:nvPr/>
        </p:nvSpPr>
        <p:spPr>
          <a:xfrm rot="2700000">
            <a:off x="2580840" y="1960560"/>
            <a:ext cx="3976560" cy="398304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4" name="任意多边形 8196"/>
          <p:cNvSpPr/>
          <p:nvPr/>
        </p:nvSpPr>
        <p:spPr>
          <a:xfrm>
            <a:off x="4824360" y="2405160"/>
            <a:ext cx="2158920" cy="3085920"/>
          </a:xfrm>
          <a:custGeom>
            <a:avLst/>
            <a:gdLst/>
            <a:ahLst/>
            <a:rect l="l" t="t" r="r" b="b"/>
            <a:pathLst>
              <a:path fill="none" w="21600" h="30297">
                <a:moveTo>
                  <a:pt x="15255" y="0"/>
                </a:moveTo>
                <a:cubicBezTo>
                  <a:pt x="19175" y="3910"/>
                  <a:pt x="21600" y="9317"/>
                  <a:pt x="21600" y="15291"/>
                </a:cubicBezTo>
                <a:cubicBezTo>
                  <a:pt x="21600" y="21121"/>
                  <a:pt x="19291" y="26411"/>
                  <a:pt x="15537" y="30297"/>
                </a:cubicBezTo>
              </a:path>
              <a:path stroke="0" w="21600" h="30297">
                <a:moveTo>
                  <a:pt x="15536" y="30296"/>
                </a:moveTo>
                <a:cubicBezTo>
                  <a:pt x="15901" y="33300"/>
                  <a:pt x="16115" y="36966"/>
                  <a:pt x="16115" y="40924"/>
                </a:cubicBezTo>
                <a:cubicBezTo>
                  <a:pt x="16115" y="41585"/>
                  <a:pt x="16109" y="42239"/>
                  <a:pt x="16097" y="42876"/>
                </a:cubicBezTo>
                <a:lnTo>
                  <a:pt x="15255" y="0"/>
                </a:lnTo>
                <a:close/>
              </a:path>
            </a:pathLst>
          </a:custGeom>
          <a:solidFill>
            <a:srgbClr val="61b2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5" name="任意多边形 8197"/>
          <p:cNvSpPr/>
          <p:nvPr/>
        </p:nvSpPr>
        <p:spPr>
          <a:xfrm>
            <a:off x="2981160" y="4170240"/>
            <a:ext cx="3078360" cy="2157480"/>
          </a:xfrm>
          <a:custGeom>
            <a:avLst/>
            <a:gdLst/>
            <a:ahLst/>
            <a:rect l="l" t="t" r="r" b="b"/>
            <a:pathLst>
              <a:path fill="none" w="30299" h="21600">
                <a:moveTo>
                  <a:pt x="30298" y="15270"/>
                </a:moveTo>
                <a:cubicBezTo>
                  <a:pt x="26388" y="19180"/>
                  <a:pt x="20987" y="21599"/>
                  <a:pt x="15021" y="21599"/>
                </a:cubicBezTo>
                <a:cubicBezTo>
                  <a:pt x="9183" y="21599"/>
                  <a:pt x="3886" y="19283"/>
                  <a:pt x="-1" y="15519"/>
                </a:cubicBezTo>
              </a:path>
              <a:path stroke="0" w="30299" h="21600">
                <a:moveTo>
                  <a:pt x="0" y="15520"/>
                </a:moveTo>
                <a:cubicBezTo>
                  <a:pt x="-66" y="16285"/>
                  <a:pt x="-402" y="16971"/>
                  <a:pt x="-913" y="17483"/>
                </a:cubicBezTo>
                <a:lnTo>
                  <a:pt x="30298" y="15270"/>
                </a:lnTo>
                <a:close/>
              </a:path>
            </a:pathLst>
          </a:custGeom>
          <a:solidFill>
            <a:srgbClr val="d49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6" name="任意多边形 8198"/>
          <p:cNvSpPr/>
          <p:nvPr/>
        </p:nvSpPr>
        <p:spPr>
          <a:xfrm>
            <a:off x="3011400" y="1522440"/>
            <a:ext cx="3075120" cy="2160720"/>
          </a:xfrm>
          <a:custGeom>
            <a:avLst/>
            <a:gdLst/>
            <a:ahLst/>
            <a:rect l="l" t="t" r="r" b="b"/>
            <a:pathLst>
              <a:path fill="none" w="30266" h="21600">
                <a:moveTo>
                  <a:pt x="0" y="6332"/>
                </a:moveTo>
                <a:cubicBezTo>
                  <a:pt x="3910" y="2420"/>
                  <a:pt x="9312" y="0"/>
                  <a:pt x="15280" y="0"/>
                </a:cubicBezTo>
                <a:cubicBezTo>
                  <a:pt x="21099" y="0"/>
                  <a:pt x="26381" y="2301"/>
                  <a:pt x="30265" y="6044"/>
                </a:cubicBezTo>
              </a:path>
              <a:path stroke="0" w="30266" h="21600">
                <a:moveTo>
                  <a:pt x="30265" y="6044"/>
                </a:moveTo>
                <a:cubicBezTo>
                  <a:pt x="25099" y="2778"/>
                  <a:pt x="21670" y="-2982"/>
                  <a:pt x="21670" y="-9543"/>
                </a:cubicBezTo>
                <a:cubicBezTo>
                  <a:pt x="21670" y="-19724"/>
                  <a:pt x="29926" y="-27977"/>
                  <a:pt x="40110" y="-27977"/>
                </a:cubicBezTo>
                <a:cubicBezTo>
                  <a:pt x="50294" y="-27977"/>
                  <a:pt x="58550" y="-19724"/>
                  <a:pt x="58550" y="-9543"/>
                </a:cubicBezTo>
                <a:cubicBezTo>
                  <a:pt x="58550" y="-4451"/>
                  <a:pt x="56485" y="159"/>
                  <a:pt x="53145" y="3496"/>
                </a:cubicBezTo>
                <a:lnTo>
                  <a:pt x="0" y="6332"/>
                </a:lnTo>
                <a:close/>
              </a:path>
            </a:pathLst>
          </a:custGeom>
          <a:solidFill>
            <a:srgbClr val="a3a9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7" name="任意多边形 8199"/>
          <p:cNvSpPr/>
          <p:nvPr/>
        </p:nvSpPr>
        <p:spPr>
          <a:xfrm>
            <a:off x="2138400" y="2405160"/>
            <a:ext cx="2158920" cy="3074760"/>
          </a:xfrm>
          <a:custGeom>
            <a:avLst/>
            <a:gdLst/>
            <a:ahLst/>
            <a:rect l="l" t="t" r="r" b="b"/>
            <a:pathLst>
              <a:path fill="none" w="21600" h="30270">
                <a:moveTo>
                  <a:pt x="6319" y="30270"/>
                </a:moveTo>
                <a:cubicBezTo>
                  <a:pt x="2415" y="26362"/>
                  <a:pt x="0" y="20965"/>
                  <a:pt x="0" y="15004"/>
                </a:cubicBezTo>
                <a:cubicBezTo>
                  <a:pt x="0" y="9175"/>
                  <a:pt x="2309" y="3886"/>
                  <a:pt x="6061" y="0"/>
                </a:cubicBezTo>
              </a:path>
              <a:path stroke="0" w="21600" h="30270">
                <a:moveTo>
                  <a:pt x="6061" y="0"/>
                </a:moveTo>
                <a:cubicBezTo>
                  <a:pt x="5482" y="10"/>
                  <a:pt x="4893" y="15"/>
                  <a:pt x="4298" y="15"/>
                </a:cubicBezTo>
                <a:cubicBezTo>
                  <a:pt x="-5886" y="15"/>
                  <a:pt x="-14142" y="-1403"/>
                  <a:pt x="-14142" y="-3152"/>
                </a:cubicBezTo>
                <a:cubicBezTo>
                  <a:pt x="-14142" y="-4901"/>
                  <a:pt x="-5886" y="-6319"/>
                  <a:pt x="4298" y="-6319"/>
                </a:cubicBezTo>
                <a:cubicBezTo>
                  <a:pt x="14482" y="-6319"/>
                  <a:pt x="22738" y="-4901"/>
                  <a:pt x="22738" y="-3152"/>
                </a:cubicBezTo>
                <a:cubicBezTo>
                  <a:pt x="22738" y="-1516"/>
                  <a:pt x="15515" y="-170"/>
                  <a:pt x="6253" y="-3"/>
                </a:cubicBezTo>
                <a:lnTo>
                  <a:pt x="6319" y="30270"/>
                </a:lnTo>
                <a:close/>
              </a:path>
            </a:pathLst>
          </a:custGeom>
          <a:solidFill>
            <a:srgbClr val="47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8" name="椭圆 8200"/>
          <p:cNvSpPr/>
          <p:nvPr/>
        </p:nvSpPr>
        <p:spPr>
          <a:xfrm>
            <a:off x="3606840" y="2990880"/>
            <a:ext cx="1928880" cy="1903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r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9" name="矩形 8201"/>
          <p:cNvSpPr/>
          <p:nvPr/>
        </p:nvSpPr>
        <p:spPr>
          <a:xfrm>
            <a:off x="2519280" y="3602160"/>
            <a:ext cx="74952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2560" bIns="52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Your</a:t>
            </a:r>
            <a:endParaRPr b="0" lang="en-US" sz="19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9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0" name="矩形 8202"/>
          <p:cNvSpPr/>
          <p:nvPr/>
        </p:nvSpPr>
        <p:spPr>
          <a:xfrm>
            <a:off x="5891040" y="3602160"/>
            <a:ext cx="74952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2560" bIns="52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Your</a:t>
            </a:r>
            <a:endParaRPr b="0" lang="en-US" sz="19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9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1" name="矩形 8203"/>
          <p:cNvSpPr/>
          <p:nvPr/>
        </p:nvSpPr>
        <p:spPr>
          <a:xfrm>
            <a:off x="4197240" y="2076480"/>
            <a:ext cx="74952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2560" bIns="52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Your</a:t>
            </a:r>
            <a:endParaRPr b="0" lang="en-US" sz="19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9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2" name="矩形 8204"/>
          <p:cNvSpPr/>
          <p:nvPr/>
        </p:nvSpPr>
        <p:spPr>
          <a:xfrm>
            <a:off x="4197240" y="5246640"/>
            <a:ext cx="74952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2560" bIns="52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Your</a:t>
            </a:r>
            <a:endParaRPr b="0" lang="en-US" sz="19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9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 Part Concept - I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椭圆 9218"/>
          <p:cNvSpPr/>
          <p:nvPr/>
        </p:nvSpPr>
        <p:spPr>
          <a:xfrm>
            <a:off x="228600" y="1295280"/>
            <a:ext cx="8501040" cy="476100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4080" rIns="154080" tIns="74520" bIns="745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5" name="椭圆 9219"/>
          <p:cNvSpPr/>
          <p:nvPr/>
        </p:nvSpPr>
        <p:spPr>
          <a:xfrm>
            <a:off x="961920" y="1736640"/>
            <a:ext cx="7020000" cy="393084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7080" rIns="127080" tIns="61920" bIns="619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249200"/>
                <a:tab algn="l" pos="2498760"/>
                <a:tab algn="l" pos="3747960"/>
                <a:tab algn="l" pos="4997520"/>
                <a:tab algn="l" pos="6246720"/>
                <a:tab algn="l" pos="7496280"/>
                <a:tab algn="l" pos="8745480"/>
                <a:tab algn="l" pos="9995040"/>
              </a:tabLst>
            </a:pPr>
            <a:endParaRPr b="0" lang="en-US" sz="27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249200"/>
                <a:tab algn="l" pos="2498760"/>
                <a:tab algn="l" pos="3747960"/>
                <a:tab algn="l" pos="4997520"/>
                <a:tab algn="l" pos="6246720"/>
                <a:tab algn="l" pos="7496280"/>
                <a:tab algn="l" pos="8745480"/>
                <a:tab algn="l" pos="9995040"/>
              </a:tabLst>
            </a:pPr>
            <a:endParaRPr b="0" lang="en-US" sz="27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249200"/>
                <a:tab algn="l" pos="2498760"/>
                <a:tab algn="l" pos="3747960"/>
                <a:tab algn="l" pos="4997520"/>
                <a:tab algn="l" pos="6246720"/>
                <a:tab algn="l" pos="7496280"/>
                <a:tab algn="l" pos="8745480"/>
                <a:tab algn="l" pos="9995040"/>
              </a:tabLst>
            </a:pPr>
            <a:endParaRPr b="0" lang="en-US" sz="27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6" name="椭圆 9220"/>
          <p:cNvSpPr/>
          <p:nvPr/>
        </p:nvSpPr>
        <p:spPr>
          <a:xfrm>
            <a:off x="1488960" y="2031840"/>
            <a:ext cx="5964480" cy="3340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2560" bIns="525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endParaRPr b="0" lang="en-US" sz="23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endParaRPr b="0" lang="en-US" sz="23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endParaRPr b="0" lang="en-US" sz="23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endParaRPr b="0" lang="en-US" sz="23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endParaRPr b="0" lang="en-US" sz="23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endParaRPr b="0" lang="en-US" sz="23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endParaRPr b="0" lang="en-US" sz="23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endParaRPr b="0" lang="en-US" sz="23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endParaRPr b="0" lang="en-US" sz="23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endParaRPr b="0" lang="en-US" sz="23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endParaRPr b="0" lang="en-US" sz="23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endParaRPr b="0" lang="en-US" sz="23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endParaRPr b="0" lang="en-US" sz="23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endParaRPr b="0" lang="en-US" sz="23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endParaRPr b="0" lang="en-US" sz="23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7" name="菱形 9221"/>
          <p:cNvSpPr/>
          <p:nvPr/>
        </p:nvSpPr>
        <p:spPr>
          <a:xfrm>
            <a:off x="2495520" y="2722680"/>
            <a:ext cx="3951360" cy="1958760"/>
          </a:xfrm>
          <a:prstGeom prst="diamond">
            <a:avLst/>
          </a:prstGeom>
          <a:solidFill>
            <a:srgbClr val="3793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8" name="立方体 9222"/>
          <p:cNvSpPr/>
          <p:nvPr/>
        </p:nvSpPr>
        <p:spPr>
          <a:xfrm rot="5400000">
            <a:off x="4028040" y="886320"/>
            <a:ext cx="882360" cy="2763720"/>
          </a:xfrm>
          <a:prstGeom prst="cube">
            <a:avLst>
              <a:gd name="adj" fmla="val 11666"/>
            </a:avLst>
          </a:prstGeom>
          <a:solidFill>
            <a:srgbClr val="47e0ff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ategy,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ucture, Rivalry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9" name="立方体 9223"/>
          <p:cNvSpPr/>
          <p:nvPr/>
        </p:nvSpPr>
        <p:spPr>
          <a:xfrm rot="5400000">
            <a:off x="4027680" y="3737520"/>
            <a:ext cx="882720" cy="2763720"/>
          </a:xfrm>
          <a:prstGeom prst="cube">
            <a:avLst>
              <a:gd name="adj" fmla="val 11666"/>
            </a:avLst>
          </a:prstGeom>
          <a:solidFill>
            <a:srgbClr val="61b2fb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porting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ustries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0" name="立方体 9224"/>
          <p:cNvSpPr/>
          <p:nvPr/>
        </p:nvSpPr>
        <p:spPr>
          <a:xfrm rot="5400000">
            <a:off x="982440" y="2573280"/>
            <a:ext cx="825480" cy="2257200"/>
          </a:xfrm>
          <a:prstGeom prst="cube">
            <a:avLst>
              <a:gd name="adj" fmla="val 11666"/>
            </a:avLst>
          </a:prstGeom>
          <a:solidFill>
            <a:srgbClr val="a3a9fd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ctor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1" name="立方体 9225"/>
          <p:cNvSpPr/>
          <p:nvPr/>
        </p:nvSpPr>
        <p:spPr>
          <a:xfrm rot="5400000">
            <a:off x="7167240" y="2573280"/>
            <a:ext cx="825480" cy="2253960"/>
          </a:xfrm>
          <a:prstGeom prst="cube">
            <a:avLst>
              <a:gd name="adj" fmla="val 11666"/>
            </a:avLst>
          </a:prstGeom>
          <a:solidFill>
            <a:srgbClr val="d49fff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and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2" name="椭圆 9226"/>
          <p:cNvSpPr/>
          <p:nvPr/>
        </p:nvSpPr>
        <p:spPr>
          <a:xfrm>
            <a:off x="3436920" y="3160800"/>
            <a:ext cx="2068560" cy="108252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rm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 - Part Concept w Clip Ar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椭圆 10242"/>
          <p:cNvSpPr/>
          <p:nvPr/>
        </p:nvSpPr>
        <p:spPr>
          <a:xfrm>
            <a:off x="1805040" y="1252440"/>
            <a:ext cx="5438880" cy="4859280"/>
          </a:xfrm>
          <a:prstGeom prst="ellipse">
            <a:avLst/>
          </a:prstGeom>
          <a:gradFill rotWithShape="0">
            <a:gsLst>
              <a:gs pos="0">
                <a:srgbClr val="6c6c6c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904000" y="3683160"/>
            <a:ext cx="1347840" cy="360"/>
            <a:chOff x="5904000" y="3683160"/>
            <a:chExt cx="1347840" cy="360"/>
          </a:xfrm>
        </p:grpSpPr>
        <p:sp>
          <p:nvSpPr>
            <p:cNvPr id="156" name="直接连接符 10243"/>
            <p:cNvSpPr/>
            <p:nvPr/>
          </p:nvSpPr>
          <p:spPr>
            <a:xfrm>
              <a:off x="5904000" y="3683160"/>
              <a:ext cx="1347840" cy="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7" name=""/>
            <p:cNvSpPr txBox="1"/>
            <p:nvPr/>
          </p:nvSpPr>
          <p:spPr>
            <a:xfrm>
              <a:off x="5904000" y="3683160"/>
              <a:ext cx="13478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1827360" y="3683160"/>
            <a:ext cx="1349280" cy="360"/>
            <a:chOff x="1827360" y="3683160"/>
            <a:chExt cx="1349280" cy="360"/>
          </a:xfrm>
        </p:grpSpPr>
        <p:sp>
          <p:nvSpPr>
            <p:cNvPr id="159" name="直接连接符 10244"/>
            <p:cNvSpPr/>
            <p:nvPr/>
          </p:nvSpPr>
          <p:spPr>
            <a:xfrm>
              <a:off x="1827360" y="3683160"/>
              <a:ext cx="1349280" cy="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0" name=""/>
            <p:cNvSpPr txBox="1"/>
            <p:nvPr/>
          </p:nvSpPr>
          <p:spPr>
            <a:xfrm>
              <a:off x="1827360" y="3683160"/>
              <a:ext cx="1349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161" name="椭圆 10245"/>
          <p:cNvSpPr/>
          <p:nvPr/>
        </p:nvSpPr>
        <p:spPr>
          <a:xfrm>
            <a:off x="3166920" y="2470320"/>
            <a:ext cx="2714760" cy="2425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524120" y="1266480"/>
            <a:ext cx="360" cy="1198440"/>
            <a:chOff x="4524120" y="1266480"/>
            <a:chExt cx="360" cy="1198440"/>
          </a:xfrm>
        </p:grpSpPr>
        <p:sp>
          <p:nvSpPr>
            <p:cNvPr id="163" name="直接连接符 10246"/>
            <p:cNvSpPr/>
            <p:nvPr/>
          </p:nvSpPr>
          <p:spPr>
            <a:xfrm flipV="1">
              <a:off x="4524480" y="1266480"/>
              <a:ext cx="0" cy="11984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4" name=""/>
            <p:cNvSpPr txBox="1"/>
            <p:nvPr/>
          </p:nvSpPr>
          <p:spPr>
            <a:xfrm rot="10800000">
              <a:off x="4524120" y="1266480"/>
              <a:ext cx="360" cy="119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4513320" y="4900680"/>
            <a:ext cx="360" cy="1208160"/>
            <a:chOff x="4513320" y="4900680"/>
            <a:chExt cx="360" cy="1208160"/>
          </a:xfrm>
        </p:grpSpPr>
        <p:sp>
          <p:nvSpPr>
            <p:cNvPr id="166" name="直接连接符 10247"/>
            <p:cNvSpPr/>
            <p:nvPr/>
          </p:nvSpPr>
          <p:spPr>
            <a:xfrm>
              <a:off x="4513320" y="4900680"/>
              <a:ext cx="0" cy="12081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7" name=""/>
            <p:cNvSpPr txBox="1"/>
            <p:nvPr/>
          </p:nvSpPr>
          <p:spPr>
            <a:xfrm>
              <a:off x="4513320" y="4900680"/>
              <a:ext cx="360" cy="1208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168" name="立方体 10248"/>
          <p:cNvSpPr/>
          <p:nvPr/>
        </p:nvSpPr>
        <p:spPr>
          <a:xfrm rot="5400000">
            <a:off x="2209320" y="4027680"/>
            <a:ext cx="887400" cy="1833480"/>
          </a:xfrm>
          <a:prstGeom prst="cube">
            <a:avLst>
              <a:gd name="adj" fmla="val 12796"/>
            </a:avLst>
          </a:prstGeom>
          <a:solidFill>
            <a:srgbClr val="61b2fb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4 Point Tex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9" name="立方体 10249"/>
          <p:cNvSpPr/>
          <p:nvPr/>
        </p:nvSpPr>
        <p:spPr>
          <a:xfrm rot="5400000">
            <a:off x="6017040" y="4025160"/>
            <a:ext cx="887400" cy="1832040"/>
          </a:xfrm>
          <a:prstGeom prst="cube">
            <a:avLst>
              <a:gd name="adj" fmla="val 12796"/>
            </a:avLst>
          </a:prstGeom>
          <a:solidFill>
            <a:srgbClr val="d49fff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4 Point Tex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0" name="立方体 10250"/>
          <p:cNvSpPr/>
          <p:nvPr/>
        </p:nvSpPr>
        <p:spPr>
          <a:xfrm rot="5400000">
            <a:off x="2219040" y="1085400"/>
            <a:ext cx="887400" cy="1833480"/>
          </a:xfrm>
          <a:prstGeom prst="cube">
            <a:avLst>
              <a:gd name="adj" fmla="val 12796"/>
            </a:avLst>
          </a:prstGeom>
          <a:solidFill>
            <a:srgbClr val="47e0ff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4 Point Tex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1" name="立方体 10251"/>
          <p:cNvSpPr/>
          <p:nvPr/>
        </p:nvSpPr>
        <p:spPr>
          <a:xfrm rot="5400000">
            <a:off x="6030720" y="1085400"/>
            <a:ext cx="887400" cy="1833840"/>
          </a:xfrm>
          <a:prstGeom prst="cube">
            <a:avLst>
              <a:gd name="adj" fmla="val 12796"/>
            </a:avLst>
          </a:prstGeom>
          <a:solidFill>
            <a:srgbClr val="a3a9fd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4 Point Tex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 Part Concep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椭圆 11266"/>
          <p:cNvSpPr/>
          <p:nvPr/>
        </p:nvSpPr>
        <p:spPr>
          <a:xfrm>
            <a:off x="2063880" y="1036800"/>
            <a:ext cx="5016240" cy="4784400"/>
          </a:xfrm>
          <a:prstGeom prst="ellipse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4" name="任意多边形 11267"/>
          <p:cNvSpPr/>
          <p:nvPr/>
        </p:nvSpPr>
        <p:spPr>
          <a:xfrm>
            <a:off x="4791240" y="2795760"/>
            <a:ext cx="2295360" cy="2462040"/>
          </a:xfrm>
          <a:custGeom>
            <a:avLst/>
            <a:gdLst/>
            <a:ahLst/>
            <a:rect l="l" t="t" r="r" b="b"/>
            <a:pathLst>
              <a:path fill="none" w="21600" h="24157">
                <a:moveTo>
                  <a:pt x="20540" y="0"/>
                </a:moveTo>
                <a:cubicBezTo>
                  <a:pt x="21230" y="2100"/>
                  <a:pt x="21600" y="4348"/>
                  <a:pt x="21600" y="6682"/>
                </a:cubicBezTo>
                <a:cubicBezTo>
                  <a:pt x="21600" y="13866"/>
                  <a:pt x="18092" y="20232"/>
                  <a:pt x="12697" y="24158"/>
                </a:cubicBezTo>
              </a:path>
              <a:path stroke="0" w="21600" h="24157">
                <a:moveTo>
                  <a:pt x="12695" y="24157"/>
                </a:moveTo>
                <a:cubicBezTo>
                  <a:pt x="12696" y="24366"/>
                  <a:pt x="12696" y="24578"/>
                  <a:pt x="12696" y="24790"/>
                </a:cubicBezTo>
                <a:cubicBezTo>
                  <a:pt x="12696" y="24911"/>
                  <a:pt x="12696" y="25032"/>
                  <a:pt x="12696" y="25151"/>
                </a:cubicBezTo>
                <a:lnTo>
                  <a:pt x="20540" y="0"/>
                </a:lnTo>
                <a:close/>
              </a:path>
            </a:pathLst>
          </a:custGeom>
          <a:solidFill>
            <a:srgbClr val="fda4b5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5" name="任意多边形 11268"/>
          <p:cNvSpPr/>
          <p:nvPr/>
        </p:nvSpPr>
        <p:spPr>
          <a:xfrm>
            <a:off x="3222720" y="3629160"/>
            <a:ext cx="2698560" cy="2201760"/>
          </a:xfrm>
          <a:custGeom>
            <a:avLst/>
            <a:gdLst/>
            <a:ahLst/>
            <a:rect l="l" t="t" r="r" b="b"/>
            <a:pathLst>
              <a:path fill="none" w="25393" h="21600">
                <a:moveTo>
                  <a:pt x="25392" y="17477"/>
                </a:moveTo>
                <a:cubicBezTo>
                  <a:pt x="21830" y="20070"/>
                  <a:pt x="17444" y="21599"/>
                  <a:pt x="12700" y="21599"/>
                </a:cubicBezTo>
                <a:cubicBezTo>
                  <a:pt x="7953" y="21599"/>
                  <a:pt x="3563" y="20068"/>
                  <a:pt x="-1" y="17472"/>
                </a:cubicBezTo>
              </a:path>
              <a:path stroke="0" w="25393" h="21600">
                <a:moveTo>
                  <a:pt x="0" y="17472"/>
                </a:moveTo>
                <a:cubicBezTo>
                  <a:pt x="-229" y="18185"/>
                  <a:pt x="-1244" y="18778"/>
                  <a:pt x="-2624" y="19057"/>
                </a:cubicBezTo>
                <a:lnTo>
                  <a:pt x="25392" y="17477"/>
                </a:lnTo>
                <a:close/>
              </a:path>
            </a:pathLst>
          </a:custGeom>
          <a:solidFill>
            <a:srgbClr val="47e0ff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6" name="任意多边形 11269"/>
          <p:cNvSpPr/>
          <p:nvPr/>
        </p:nvSpPr>
        <p:spPr>
          <a:xfrm>
            <a:off x="2057400" y="2797200"/>
            <a:ext cx="2295360" cy="2460600"/>
          </a:xfrm>
          <a:custGeom>
            <a:avLst/>
            <a:gdLst/>
            <a:ahLst/>
            <a:rect l="l" t="t" r="r" b="b"/>
            <a:pathLst>
              <a:path fill="none" w="21600" h="24149">
                <a:moveTo>
                  <a:pt x="8897" y="24149"/>
                </a:moveTo>
                <a:cubicBezTo>
                  <a:pt x="3504" y="20222"/>
                  <a:pt x="0" y="13860"/>
                  <a:pt x="0" y="6679"/>
                </a:cubicBezTo>
                <a:cubicBezTo>
                  <a:pt x="0" y="4345"/>
                  <a:pt x="370" y="2097"/>
                  <a:pt x="1054" y="-5"/>
                </a:cubicBezTo>
              </a:path>
              <a:path stroke="0" w="21600" h="24149">
                <a:moveTo>
                  <a:pt x="1058" y="0"/>
                </a:moveTo>
                <a:cubicBezTo>
                  <a:pt x="843" y="3"/>
                  <a:pt x="626" y="5"/>
                  <a:pt x="411" y="7"/>
                </a:cubicBezTo>
                <a:lnTo>
                  <a:pt x="8897" y="24149"/>
                </a:lnTo>
                <a:close/>
              </a:path>
            </a:pathLst>
          </a:custGeom>
          <a:solidFill>
            <a:srgbClr val="a3a9fd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7" name="任意多边形 11270"/>
          <p:cNvSpPr/>
          <p:nvPr/>
        </p:nvSpPr>
        <p:spPr>
          <a:xfrm>
            <a:off x="2255760" y="1028880"/>
            <a:ext cx="2181240" cy="2201760"/>
          </a:xfrm>
          <a:custGeom>
            <a:avLst/>
            <a:gdLst/>
            <a:ahLst/>
            <a:rect l="l" t="t" r="r" b="b"/>
            <a:pathLst>
              <a:path fill="none" w="20541" h="21600">
                <a:moveTo>
                  <a:pt x="0" y="14921"/>
                </a:moveTo>
                <a:cubicBezTo>
                  <a:pt x="2812" y="6259"/>
                  <a:pt x="10940" y="5"/>
                  <a:pt x="20530" y="0"/>
                </a:cubicBezTo>
              </a:path>
              <a:path stroke="0" w="20541" h="21600">
                <a:moveTo>
                  <a:pt x="20530" y="0"/>
                </a:moveTo>
                <a:cubicBezTo>
                  <a:pt x="20442" y="1"/>
                  <a:pt x="20355" y="1"/>
                  <a:pt x="20267" y="1"/>
                </a:cubicBezTo>
                <a:cubicBezTo>
                  <a:pt x="8630" y="1"/>
                  <a:pt x="-803" y="-6329"/>
                  <a:pt x="-803" y="-14138"/>
                </a:cubicBezTo>
                <a:cubicBezTo>
                  <a:pt x="-803" y="-21947"/>
                  <a:pt x="8630" y="-28277"/>
                  <a:pt x="20267" y="-28277"/>
                </a:cubicBezTo>
                <a:cubicBezTo>
                  <a:pt x="31904" y="-28277"/>
                  <a:pt x="41337" y="-21947"/>
                  <a:pt x="41337" y="-14138"/>
                </a:cubicBezTo>
                <a:cubicBezTo>
                  <a:pt x="41337" y="-8647"/>
                  <a:pt x="36673" y="-3887"/>
                  <a:pt x="29860" y="-1546"/>
                </a:cubicBezTo>
                <a:lnTo>
                  <a:pt x="0" y="14921"/>
                </a:lnTo>
                <a:close/>
              </a:path>
            </a:pathLst>
          </a:custGeom>
          <a:solidFill>
            <a:srgbClr val="d49fff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8" name="任意多边形 11271"/>
          <p:cNvSpPr/>
          <p:nvPr/>
        </p:nvSpPr>
        <p:spPr>
          <a:xfrm>
            <a:off x="4705200" y="1028880"/>
            <a:ext cx="2183040" cy="2201760"/>
          </a:xfrm>
          <a:custGeom>
            <a:avLst/>
            <a:gdLst/>
            <a:ahLst/>
            <a:rect l="l" t="t" r="r" b="b"/>
            <a:pathLst>
              <a:path fill="none" w="20551" h="21600">
                <a:moveTo>
                  <a:pt x="0" y="0"/>
                </a:moveTo>
                <a:cubicBezTo>
                  <a:pt x="-7" y="0"/>
                  <a:pt x="-4" y="0"/>
                  <a:pt x="0" y="0"/>
                </a:cubicBezTo>
                <a:cubicBezTo>
                  <a:pt x="9595" y="0"/>
                  <a:pt x="17729" y="6257"/>
                  <a:pt x="20543" y="14908"/>
                </a:cubicBezTo>
              </a:path>
              <a:path stroke="0" w="20551" h="21600">
                <a:moveTo>
                  <a:pt x="20551" y="14918"/>
                </a:moveTo>
                <a:cubicBezTo>
                  <a:pt x="20172" y="12725"/>
                  <a:pt x="19967" y="10366"/>
                  <a:pt x="19967" y="7911"/>
                </a:cubicBezTo>
                <a:cubicBezTo>
                  <a:pt x="19967" y="-4018"/>
                  <a:pt x="24805" y="-13689"/>
                  <a:pt x="30772" y="-13689"/>
                </a:cubicBezTo>
                <a:cubicBezTo>
                  <a:pt x="36739" y="-13689"/>
                  <a:pt x="41577" y="-4018"/>
                  <a:pt x="41577" y="7911"/>
                </a:cubicBezTo>
                <a:cubicBezTo>
                  <a:pt x="41577" y="10303"/>
                  <a:pt x="41382" y="12604"/>
                  <a:pt x="41024" y="14751"/>
                </a:cubicBezTo>
                <a:lnTo>
                  <a:pt x="0" y="0"/>
                </a:lnTo>
                <a:close/>
              </a:path>
            </a:pathLst>
          </a:custGeom>
          <a:solidFill>
            <a:srgbClr val="61b2fb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9" name="十六角星 11272"/>
          <p:cNvSpPr/>
          <p:nvPr/>
        </p:nvSpPr>
        <p:spPr>
          <a:xfrm>
            <a:off x="3395520" y="2475000"/>
            <a:ext cx="2351160" cy="1947600"/>
          </a:xfrm>
          <a:custGeom>
            <a:avLst/>
            <a:gdLst>
              <a:gd name="textAreaLeft" fmla="*/ 551880 w 2351160"/>
              <a:gd name="textAreaRight" fmla="*/ 1799280 w 2351160"/>
              <a:gd name="textAreaTop" fmla="*/ 457200 h 1947600"/>
              <a:gd name="textAreaBottom" fmla="*/ 1490400 h 1947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849" y="12346"/>
                </a:lnTo>
                <a:lnTo>
                  <a:pt x="786" y="14846"/>
                </a:lnTo>
                <a:lnTo>
                  <a:pt x="4007" y="15212"/>
                </a:lnTo>
                <a:lnTo>
                  <a:pt x="3163" y="18437"/>
                </a:lnTo>
                <a:lnTo>
                  <a:pt x="6271" y="17515"/>
                </a:lnTo>
                <a:lnTo>
                  <a:pt x="6580" y="20741"/>
                </a:lnTo>
                <a:lnTo>
                  <a:pt x="9116" y="18723"/>
                </a:lnTo>
                <a:lnTo>
                  <a:pt x="10800" y="21600"/>
                </a:lnTo>
                <a:lnTo>
                  <a:pt x="12346" y="18751"/>
                </a:lnTo>
                <a:lnTo>
                  <a:pt x="14846" y="20814"/>
                </a:lnTo>
                <a:lnTo>
                  <a:pt x="15212" y="17593"/>
                </a:lnTo>
                <a:lnTo>
                  <a:pt x="18437" y="18437"/>
                </a:lnTo>
                <a:lnTo>
                  <a:pt x="17515" y="15329"/>
                </a:lnTo>
                <a:lnTo>
                  <a:pt x="20741" y="15020"/>
                </a:lnTo>
                <a:lnTo>
                  <a:pt x="18723" y="12484"/>
                </a:lnTo>
                <a:lnTo>
                  <a:pt x="21600" y="10800"/>
                </a:lnTo>
                <a:lnTo>
                  <a:pt x="18751" y="9254"/>
                </a:lnTo>
                <a:lnTo>
                  <a:pt x="20814" y="6754"/>
                </a:lnTo>
                <a:lnTo>
                  <a:pt x="17593" y="6388"/>
                </a:lnTo>
                <a:lnTo>
                  <a:pt x="18437" y="3163"/>
                </a:lnTo>
                <a:lnTo>
                  <a:pt x="15329" y="4085"/>
                </a:lnTo>
                <a:lnTo>
                  <a:pt x="15020" y="859"/>
                </a:lnTo>
                <a:lnTo>
                  <a:pt x="12484" y="2877"/>
                </a:lnTo>
                <a:lnTo>
                  <a:pt x="10800" y="0"/>
                </a:lnTo>
                <a:lnTo>
                  <a:pt x="9254" y="2849"/>
                </a:lnTo>
                <a:lnTo>
                  <a:pt x="6754" y="786"/>
                </a:lnTo>
                <a:lnTo>
                  <a:pt x="6388" y="4007"/>
                </a:lnTo>
                <a:lnTo>
                  <a:pt x="3163" y="3163"/>
                </a:lnTo>
                <a:lnTo>
                  <a:pt x="4085" y="6271"/>
                </a:lnTo>
                <a:lnTo>
                  <a:pt x="859" y="6580"/>
                </a:lnTo>
                <a:lnTo>
                  <a:pt x="2877" y="9116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4 p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0" name="矩形 11273"/>
          <p:cNvSpPr/>
          <p:nvPr/>
        </p:nvSpPr>
        <p:spPr>
          <a:xfrm>
            <a:off x="5215680" y="1635120"/>
            <a:ext cx="89676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4 p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1" name="矩形 11274"/>
          <p:cNvSpPr/>
          <p:nvPr/>
        </p:nvSpPr>
        <p:spPr>
          <a:xfrm>
            <a:off x="3098160" y="1635120"/>
            <a:ext cx="89676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4 p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2" name="矩形 11275"/>
          <p:cNvSpPr/>
          <p:nvPr/>
        </p:nvSpPr>
        <p:spPr>
          <a:xfrm>
            <a:off x="2404440" y="3670200"/>
            <a:ext cx="89676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4 p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3" name="矩形 11276"/>
          <p:cNvSpPr/>
          <p:nvPr/>
        </p:nvSpPr>
        <p:spPr>
          <a:xfrm>
            <a:off x="5892120" y="3670200"/>
            <a:ext cx="89676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4 p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4" name="矩形 11277"/>
          <p:cNvSpPr/>
          <p:nvPr/>
        </p:nvSpPr>
        <p:spPr>
          <a:xfrm>
            <a:off x="4122000" y="4849920"/>
            <a:ext cx="89676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4 p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 Part Concept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任意多边形 12290"/>
          <p:cNvSpPr/>
          <p:nvPr/>
        </p:nvSpPr>
        <p:spPr>
          <a:xfrm>
            <a:off x="4807080" y="1666800"/>
            <a:ext cx="2446200" cy="2706840"/>
          </a:xfrm>
          <a:custGeom>
            <a:avLst/>
            <a:gdLst/>
            <a:ahLst/>
            <a:rect l="l" t="t" r="r" b="b"/>
            <a:pathLst>
              <a:path fill="none" w="21600" h="24155">
                <a:moveTo>
                  <a:pt x="12687" y="0"/>
                </a:moveTo>
                <a:cubicBezTo>
                  <a:pt x="18089" y="3925"/>
                  <a:pt x="21600" y="10293"/>
                  <a:pt x="21600" y="17481"/>
                </a:cubicBezTo>
                <a:cubicBezTo>
                  <a:pt x="21600" y="19813"/>
                  <a:pt x="21230" y="22059"/>
                  <a:pt x="20548" y="24159"/>
                </a:cubicBezTo>
              </a:path>
              <a:path stroke="0" w="21600" h="24155">
                <a:moveTo>
                  <a:pt x="20543" y="24154"/>
                </a:moveTo>
                <a:cubicBezTo>
                  <a:pt x="21105" y="16178"/>
                  <a:pt x="22798" y="10391"/>
                  <a:pt x="24800" y="10391"/>
                </a:cubicBezTo>
                <a:cubicBezTo>
                  <a:pt x="27261" y="10391"/>
                  <a:pt x="29256" y="19139"/>
                  <a:pt x="29256" y="29931"/>
                </a:cubicBezTo>
                <a:cubicBezTo>
                  <a:pt x="29256" y="30848"/>
                  <a:pt x="29242" y="31751"/>
                  <a:pt x="29214" y="32629"/>
                </a:cubicBezTo>
                <a:lnTo>
                  <a:pt x="12687" y="0"/>
                </a:lnTo>
                <a:close/>
              </a:path>
            </a:pathLst>
          </a:custGeom>
          <a:solidFill>
            <a:srgbClr val="fda4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7" name="任意多边形 12291"/>
          <p:cNvSpPr/>
          <p:nvPr/>
        </p:nvSpPr>
        <p:spPr>
          <a:xfrm>
            <a:off x="3132000" y="1031760"/>
            <a:ext cx="2873520" cy="2422800"/>
          </a:xfrm>
          <a:custGeom>
            <a:avLst/>
            <a:gdLst/>
            <a:ahLst/>
            <a:rect l="l" t="t" r="r" b="b"/>
            <a:pathLst>
              <a:path fill="none" w="25376" h="21600">
                <a:moveTo>
                  <a:pt x="0" y="4122"/>
                </a:moveTo>
                <a:cubicBezTo>
                  <a:pt x="3563" y="1528"/>
                  <a:pt x="7949" y="-1"/>
                  <a:pt x="12693" y="-1"/>
                </a:cubicBezTo>
                <a:cubicBezTo>
                  <a:pt x="17432" y="-1"/>
                  <a:pt x="21815" y="1525"/>
                  <a:pt x="25377" y="4113"/>
                </a:cubicBezTo>
              </a:path>
              <a:path stroke="0" w="25376" h="21600">
                <a:moveTo>
                  <a:pt x="25376" y="4115"/>
                </a:moveTo>
                <a:cubicBezTo>
                  <a:pt x="19618" y="965"/>
                  <a:pt x="15647" y="-5740"/>
                  <a:pt x="15647" y="-13501"/>
                </a:cubicBezTo>
                <a:cubicBezTo>
                  <a:pt x="15647" y="-24292"/>
                  <a:pt x="23324" y="-33040"/>
                  <a:pt x="32793" y="-33040"/>
                </a:cubicBezTo>
                <a:cubicBezTo>
                  <a:pt x="42262" y="-33040"/>
                  <a:pt x="49939" y="-24292"/>
                  <a:pt x="49939" y="-13501"/>
                </a:cubicBezTo>
                <a:cubicBezTo>
                  <a:pt x="49939" y="-8896"/>
                  <a:pt x="48541" y="-4663"/>
                  <a:pt x="46202" y="-1323"/>
                </a:cubicBezTo>
                <a:lnTo>
                  <a:pt x="0" y="4122"/>
                </a:lnTo>
                <a:close/>
              </a:path>
            </a:pathLst>
          </a:custGeom>
          <a:solidFill>
            <a:srgbClr val="47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8" name="任意多边形 12292"/>
          <p:cNvSpPr/>
          <p:nvPr/>
        </p:nvSpPr>
        <p:spPr>
          <a:xfrm>
            <a:off x="1892160" y="1670040"/>
            <a:ext cx="2448000" cy="2705040"/>
          </a:xfrm>
          <a:custGeom>
            <a:avLst/>
            <a:gdLst/>
            <a:ahLst/>
            <a:rect l="l" t="t" r="r" b="b"/>
            <a:pathLst>
              <a:path fill="none" w="21600" h="24138">
                <a:moveTo>
                  <a:pt x="1054" y="24137"/>
                </a:moveTo>
                <a:cubicBezTo>
                  <a:pt x="367" y="22041"/>
                  <a:pt x="-1" y="19798"/>
                  <a:pt x="-1" y="17470"/>
                </a:cubicBezTo>
                <a:cubicBezTo>
                  <a:pt x="-1" y="10289"/>
                  <a:pt x="3503" y="3927"/>
                  <a:pt x="8894" y="0"/>
                </a:cubicBezTo>
              </a:path>
              <a:path stroke="0" w="21600" h="24138">
                <a:moveTo>
                  <a:pt x="8896" y="0"/>
                </a:moveTo>
                <a:cubicBezTo>
                  <a:pt x="7889" y="54"/>
                  <a:pt x="6855" y="81"/>
                  <a:pt x="5804" y="81"/>
                </a:cubicBezTo>
                <a:cubicBezTo>
                  <a:pt x="-5834" y="81"/>
                  <a:pt x="-15269" y="-3262"/>
                  <a:pt x="-15269" y="-7385"/>
                </a:cubicBezTo>
                <a:cubicBezTo>
                  <a:pt x="-15269" y="-11508"/>
                  <a:pt x="-5834" y="-14851"/>
                  <a:pt x="5804" y="-14851"/>
                </a:cubicBezTo>
                <a:cubicBezTo>
                  <a:pt x="17442" y="-14851"/>
                  <a:pt x="26877" y="-11508"/>
                  <a:pt x="26877" y="-7385"/>
                </a:cubicBezTo>
                <a:cubicBezTo>
                  <a:pt x="26877" y="-3811"/>
                  <a:pt x="19790" y="-824"/>
                  <a:pt x="10330" y="-92"/>
                </a:cubicBezTo>
                <a:lnTo>
                  <a:pt x="1054" y="24137"/>
                </a:lnTo>
                <a:close/>
              </a:path>
            </a:pathLst>
          </a:custGeom>
          <a:solidFill>
            <a:srgbClr val="a3a9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9" name="任意多边形 12293"/>
          <p:cNvSpPr/>
          <p:nvPr/>
        </p:nvSpPr>
        <p:spPr>
          <a:xfrm>
            <a:off x="2103480" y="3894120"/>
            <a:ext cx="2328840" cy="2422440"/>
          </a:xfrm>
          <a:custGeom>
            <a:avLst/>
            <a:gdLst/>
            <a:ahLst/>
            <a:rect l="l" t="t" r="r" b="b"/>
            <a:pathLst>
              <a:path fill="none" w="20550" h="21600">
                <a:moveTo>
                  <a:pt x="20535" y="21599"/>
                </a:moveTo>
                <a:cubicBezTo>
                  <a:pt x="10935" y="21592"/>
                  <a:pt x="2800" y="15323"/>
                  <a:pt x="-3" y="6661"/>
                </a:cubicBezTo>
              </a:path>
              <a:path stroke="0" w="20550" h="21600">
                <a:moveTo>
                  <a:pt x="0" y="6652"/>
                </a:moveTo>
                <a:cubicBezTo>
                  <a:pt x="8998" y="6651"/>
                  <a:pt x="7869" y="6651"/>
                  <a:pt x="6482" y="6651"/>
                </a:cubicBezTo>
                <a:lnTo>
                  <a:pt x="20535" y="21599"/>
                </a:lnTo>
                <a:close/>
              </a:path>
            </a:pathLst>
          </a:custGeom>
          <a:solidFill>
            <a:srgbClr val="61b2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0" name="任意多边形 12294"/>
          <p:cNvSpPr/>
          <p:nvPr/>
        </p:nvSpPr>
        <p:spPr>
          <a:xfrm>
            <a:off x="4711680" y="3894120"/>
            <a:ext cx="2327400" cy="2422440"/>
          </a:xfrm>
          <a:custGeom>
            <a:avLst/>
            <a:gdLst/>
            <a:ahLst/>
            <a:rect l="l" t="t" r="r" b="b"/>
            <a:pathLst>
              <a:path fill="none" w="20548" h="21600">
                <a:moveTo>
                  <a:pt x="20547" y="6659"/>
                </a:moveTo>
                <a:cubicBezTo>
                  <a:pt x="17740" y="15335"/>
                  <a:pt x="9601" y="21600"/>
                  <a:pt x="-1" y="21600"/>
                </a:cubicBezTo>
              </a:path>
              <a:path stroke="0" w="20548" h="21600">
                <a:moveTo>
                  <a:pt x="0" y="21600"/>
                </a:moveTo>
                <a:cubicBezTo>
                  <a:pt x="0" y="21661"/>
                  <a:pt x="0" y="21724"/>
                  <a:pt x="0" y="21786"/>
                </a:cubicBezTo>
                <a:cubicBezTo>
                  <a:pt x="0" y="21934"/>
                  <a:pt x="0" y="22081"/>
                  <a:pt x="-1" y="22226"/>
                </a:cubicBezTo>
                <a:lnTo>
                  <a:pt x="20547" y="6659"/>
                </a:lnTo>
                <a:close/>
              </a:path>
            </a:pathLst>
          </a:custGeom>
          <a:solidFill>
            <a:srgbClr val="d49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1" name="椭圆 12295"/>
          <p:cNvSpPr/>
          <p:nvPr/>
        </p:nvSpPr>
        <p:spPr>
          <a:xfrm>
            <a:off x="3425760" y="2527200"/>
            <a:ext cx="2295720" cy="2295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2" name="任意多边形 12296"/>
          <p:cNvSpPr/>
          <p:nvPr/>
        </p:nvSpPr>
        <p:spPr>
          <a:xfrm rot="18900000">
            <a:off x="3330720" y="2711160"/>
            <a:ext cx="1523880" cy="1000080"/>
          </a:xfrm>
          <a:custGeom>
            <a:avLst/>
            <a:gdLst/>
            <a:ahLst/>
            <a:rect l="l" t="t" r="r" b="b"/>
            <a:pathLst>
              <a:path fill="none" w="30238" h="21600">
                <a:moveTo>
                  <a:pt x="0" y="6325"/>
                </a:moveTo>
                <a:cubicBezTo>
                  <a:pt x="3909" y="2417"/>
                  <a:pt x="9308" y="0"/>
                  <a:pt x="15272" y="0"/>
                </a:cubicBezTo>
                <a:cubicBezTo>
                  <a:pt x="21082" y="0"/>
                  <a:pt x="26356" y="2294"/>
                  <a:pt x="30238" y="6025"/>
                </a:cubicBezTo>
              </a:path>
              <a:path stroke="0" w="30238" h="21600">
                <a:moveTo>
                  <a:pt x="30238" y="6025"/>
                </a:moveTo>
                <a:cubicBezTo>
                  <a:pt x="25063" y="2761"/>
                  <a:pt x="21628" y="-3006"/>
                  <a:pt x="21628" y="-9575"/>
                </a:cubicBezTo>
                <a:cubicBezTo>
                  <a:pt x="21628" y="-19757"/>
                  <a:pt x="29882" y="-28012"/>
                  <a:pt x="40064" y="-28012"/>
                </a:cubicBezTo>
                <a:cubicBezTo>
                  <a:pt x="50246" y="-28012"/>
                  <a:pt x="58500" y="-19757"/>
                  <a:pt x="58500" y="-9575"/>
                </a:cubicBezTo>
                <a:cubicBezTo>
                  <a:pt x="58500" y="-4484"/>
                  <a:pt x="56437" y="125"/>
                  <a:pt x="53101" y="3461"/>
                </a:cubicBezTo>
                <a:lnTo>
                  <a:pt x="0" y="6325"/>
                </a:lnTo>
                <a:close/>
              </a:path>
            </a:pathLst>
          </a:custGeom>
          <a:solidFill>
            <a:srgbClr val="dadada"/>
          </a:solidFill>
          <a:ln cap="rnd"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3" name="任意多边形 12297"/>
          <p:cNvSpPr/>
          <p:nvPr/>
        </p:nvSpPr>
        <p:spPr>
          <a:xfrm rot="13500000">
            <a:off x="3373200" y="3639240"/>
            <a:ext cx="1438200" cy="1009800"/>
          </a:xfrm>
          <a:custGeom>
            <a:avLst/>
            <a:gdLst/>
            <a:ahLst/>
            <a:rect l="l" t="t" r="r" b="b"/>
            <a:pathLst>
              <a:path fill="none" w="30260" h="21600">
                <a:moveTo>
                  <a:pt x="0" y="6336"/>
                </a:moveTo>
                <a:cubicBezTo>
                  <a:pt x="3910" y="2422"/>
                  <a:pt x="9313" y="0"/>
                  <a:pt x="15283" y="0"/>
                </a:cubicBezTo>
                <a:cubicBezTo>
                  <a:pt x="21098" y="0"/>
                  <a:pt x="26377" y="2298"/>
                  <a:pt x="30260" y="6035"/>
                </a:cubicBezTo>
              </a:path>
              <a:path stroke="0" w="30260" h="21600">
                <a:moveTo>
                  <a:pt x="30260" y="6035"/>
                </a:moveTo>
                <a:cubicBezTo>
                  <a:pt x="25089" y="2771"/>
                  <a:pt x="21656" y="-2992"/>
                  <a:pt x="21656" y="-9556"/>
                </a:cubicBezTo>
                <a:cubicBezTo>
                  <a:pt x="21656" y="-19736"/>
                  <a:pt x="29912" y="-27988"/>
                  <a:pt x="40097" y="-27988"/>
                </a:cubicBezTo>
                <a:cubicBezTo>
                  <a:pt x="50282" y="-27988"/>
                  <a:pt x="58538" y="-19736"/>
                  <a:pt x="58538" y="-9556"/>
                </a:cubicBezTo>
                <a:cubicBezTo>
                  <a:pt x="58538" y="-4463"/>
                  <a:pt x="56472" y="147"/>
                  <a:pt x="53131" y="3483"/>
                </a:cubicBezTo>
                <a:lnTo>
                  <a:pt x="0" y="6336"/>
                </a:lnTo>
                <a:close/>
              </a:path>
            </a:pathLst>
          </a:custGeom>
          <a:solidFill>
            <a:srgbClr val="dadada"/>
          </a:solidFill>
          <a:ln cap="rnd"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4" name="任意多边形 12298"/>
          <p:cNvSpPr/>
          <p:nvPr/>
        </p:nvSpPr>
        <p:spPr>
          <a:xfrm rot="2700000">
            <a:off x="4267080" y="2663280"/>
            <a:ext cx="1501920" cy="1067040"/>
          </a:xfrm>
          <a:custGeom>
            <a:avLst/>
            <a:gdLst/>
            <a:ahLst/>
            <a:rect l="l" t="t" r="r" b="b"/>
            <a:pathLst>
              <a:path fill="none" w="30966" h="21600">
                <a:moveTo>
                  <a:pt x="0" y="7085"/>
                </a:moveTo>
                <a:cubicBezTo>
                  <a:pt x="3951" y="2733"/>
                  <a:pt x="9655" y="0"/>
                  <a:pt x="15996" y="0"/>
                </a:cubicBezTo>
                <a:cubicBezTo>
                  <a:pt x="21808" y="0"/>
                  <a:pt x="27084" y="2295"/>
                  <a:pt x="30966" y="6029"/>
                </a:cubicBezTo>
              </a:path>
              <a:path stroke="0" w="30966" h="21600">
                <a:moveTo>
                  <a:pt x="30966" y="6029"/>
                </a:moveTo>
                <a:cubicBezTo>
                  <a:pt x="25572" y="2856"/>
                  <a:pt x="21975" y="-2857"/>
                  <a:pt x="21975" y="-9376"/>
                </a:cubicBezTo>
                <a:cubicBezTo>
                  <a:pt x="21975" y="-19349"/>
                  <a:pt x="30391" y="-27433"/>
                  <a:pt x="40773" y="-27433"/>
                </a:cubicBezTo>
                <a:cubicBezTo>
                  <a:pt x="51155" y="-27433"/>
                  <a:pt x="59571" y="-19349"/>
                  <a:pt x="59571" y="-9376"/>
                </a:cubicBezTo>
                <a:cubicBezTo>
                  <a:pt x="59571" y="-4162"/>
                  <a:pt x="57271" y="535"/>
                  <a:pt x="53592" y="3831"/>
                </a:cubicBezTo>
                <a:lnTo>
                  <a:pt x="0" y="7085"/>
                </a:lnTo>
                <a:close/>
              </a:path>
            </a:pathLst>
          </a:custGeom>
          <a:solidFill>
            <a:srgbClr val="dadada"/>
          </a:solidFill>
          <a:ln cap="rnd"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5" name="任意多边形 12299"/>
          <p:cNvSpPr/>
          <p:nvPr/>
        </p:nvSpPr>
        <p:spPr>
          <a:xfrm rot="8100000">
            <a:off x="4249440" y="3605040"/>
            <a:ext cx="1528560" cy="1027440"/>
          </a:xfrm>
          <a:custGeom>
            <a:avLst/>
            <a:gdLst/>
            <a:ahLst/>
            <a:rect l="l" t="t" r="r" b="b"/>
            <a:pathLst>
              <a:path fill="none" w="30224" h="21600">
                <a:moveTo>
                  <a:pt x="0" y="6015"/>
                </a:moveTo>
                <a:cubicBezTo>
                  <a:pt x="3881" y="2290"/>
                  <a:pt x="9151" y="0"/>
                  <a:pt x="14956" y="0"/>
                </a:cubicBezTo>
                <a:cubicBezTo>
                  <a:pt x="20917" y="0"/>
                  <a:pt x="26315" y="2415"/>
                  <a:pt x="30223" y="6320"/>
                </a:cubicBezTo>
              </a:path>
              <a:path stroke="0" w="30224" h="21600">
                <a:moveTo>
                  <a:pt x="30223" y="6320"/>
                </a:moveTo>
                <a:cubicBezTo>
                  <a:pt x="25302" y="2989"/>
                  <a:pt x="22060" y="-2703"/>
                  <a:pt x="22060" y="-9166"/>
                </a:cubicBezTo>
                <a:cubicBezTo>
                  <a:pt x="22060" y="-19434"/>
                  <a:pt x="30243" y="-27758"/>
                  <a:pt x="40338" y="-27758"/>
                </a:cubicBezTo>
                <a:cubicBezTo>
                  <a:pt x="50433" y="-27758"/>
                  <a:pt x="58616" y="-19434"/>
                  <a:pt x="58616" y="-9166"/>
                </a:cubicBezTo>
                <a:cubicBezTo>
                  <a:pt x="58616" y="-4131"/>
                  <a:pt x="56649" y="436"/>
                  <a:pt x="53453" y="3784"/>
                </a:cubicBezTo>
                <a:lnTo>
                  <a:pt x="0" y="6015"/>
                </a:lnTo>
                <a:close/>
              </a:path>
            </a:pathLst>
          </a:custGeom>
          <a:solidFill>
            <a:srgbClr val="dadada"/>
          </a:solidFill>
          <a:ln cap="rnd"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6" name="椭圆 12300"/>
          <p:cNvSpPr/>
          <p:nvPr/>
        </p:nvSpPr>
        <p:spPr>
          <a:xfrm>
            <a:off x="3986280" y="3124080"/>
            <a:ext cx="1190520" cy="1140120"/>
          </a:xfrm>
          <a:prstGeom prst="ellipse">
            <a:avLst/>
          </a:prstGeom>
          <a:gradFill rotWithShape="0">
            <a:gsLst>
              <a:gs pos="0">
                <a:srgbClr val="dcdcdc"/>
              </a:gs>
              <a:gs pos="50000">
                <a:srgbClr val="ffffff"/>
              </a:gs>
              <a:gs pos="100000">
                <a:srgbClr val="dcdcdc"/>
              </a:gs>
            </a:gsLst>
            <a:lin ang="5400000"/>
          </a:gradFill>
          <a:ln w="12600">
            <a:solidFill>
              <a:srgbClr val="000000"/>
            </a:solidFill>
            <a:round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 Pt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7" name="矩形 12301"/>
          <p:cNvSpPr/>
          <p:nvPr/>
        </p:nvSpPr>
        <p:spPr>
          <a:xfrm>
            <a:off x="3810240" y="2987640"/>
            <a:ext cx="45864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2 Pt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8" name="矩形 12302"/>
          <p:cNvSpPr/>
          <p:nvPr/>
        </p:nvSpPr>
        <p:spPr>
          <a:xfrm>
            <a:off x="4932360" y="2987640"/>
            <a:ext cx="45864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2 Pt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9" name="矩形 12303"/>
          <p:cNvSpPr/>
          <p:nvPr/>
        </p:nvSpPr>
        <p:spPr>
          <a:xfrm>
            <a:off x="3760920" y="4167360"/>
            <a:ext cx="45864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2 Pt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0" name="矩形 12304"/>
          <p:cNvSpPr/>
          <p:nvPr/>
        </p:nvSpPr>
        <p:spPr>
          <a:xfrm>
            <a:off x="4880160" y="4167360"/>
            <a:ext cx="45864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2 Pt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1" name="矩形 12305"/>
          <p:cNvSpPr/>
          <p:nvPr/>
        </p:nvSpPr>
        <p:spPr>
          <a:xfrm>
            <a:off x="4058640" y="1316160"/>
            <a:ext cx="10303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 Poin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2" name="矩形 12306"/>
          <p:cNvSpPr/>
          <p:nvPr/>
        </p:nvSpPr>
        <p:spPr>
          <a:xfrm>
            <a:off x="2197800" y="2768760"/>
            <a:ext cx="10303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 Poin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3" name="矩形 12307"/>
          <p:cNvSpPr/>
          <p:nvPr/>
        </p:nvSpPr>
        <p:spPr>
          <a:xfrm>
            <a:off x="5998320" y="2768760"/>
            <a:ext cx="10303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 Poin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4" name="矩形 12308"/>
          <p:cNvSpPr/>
          <p:nvPr/>
        </p:nvSpPr>
        <p:spPr>
          <a:xfrm>
            <a:off x="2912400" y="4851360"/>
            <a:ext cx="10303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 Poin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5" name="矩形 12309"/>
          <p:cNvSpPr/>
          <p:nvPr/>
        </p:nvSpPr>
        <p:spPr>
          <a:xfrm>
            <a:off x="5226840" y="4851360"/>
            <a:ext cx="10303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 Poin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6" name="文本框 8199"/>
          <p:cNvSpPr/>
          <p:nvPr/>
        </p:nvSpPr>
        <p:spPr>
          <a:xfrm>
            <a:off x="1494000" y="5796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d49f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d49ff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6T01:17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6:26Z</dcterms:modified>
  <cp:revision>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