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4D093-B537-474E-B576-653677BBE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0040" y="3572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6D457-314E-4C20-8F1D-75A49678E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0040" y="3572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17080" y="3572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F3038-5F28-4361-B2E0-5686FC936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82480" y="1208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64920" y="1208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0040" y="3572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82480" y="3572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64920" y="3572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03303-B81B-4564-8D4A-F368C622D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B26A2-CF0A-4B18-AC83-F7AF3873C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0040" y="1208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27EED-A166-4D91-B4BE-BF56D616A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E73A4-9A98-4C42-B358-803638DDB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5FB2E-E071-497B-A7C9-607950186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ACFE3-DC88-4827-B823-EFFC55E24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66760" y="132840"/>
            <a:ext cx="734544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83702-D7A4-4A19-90E7-83C6CD7D4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0040" y="3572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333D4-07F3-4EC4-B825-15D28A3E9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0040" y="1208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46A98-DCA8-45B4-AA01-A01C8F6E3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17080" y="3572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998F8-D1FD-4241-B267-EAB562F47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0040" y="3572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BE842-C7BD-467D-B676-A13ED31F8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0040" y="3572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4E59D-2EC7-42BB-99A8-96AA4669E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0040" y="3572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17080" y="3572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4F2BA-4956-4F72-996F-0DD88EF33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82480" y="1208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64920" y="1208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0040" y="3572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82480" y="3572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64920" y="3572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5366C-58EE-4031-A878-7A96E4BE5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61AFF0-BFF0-49C2-BF04-A73C0F8EA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500040" y="1208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41B998-4BDF-4361-B8EB-248DB72C9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646FAE-E6EC-486B-91B4-683730CD5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A14023-C57D-4AF8-8714-3BEA30B32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4626A7-C504-4036-845E-325E68E8C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A4B76-E006-4E7A-ABF8-41F5F2401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66760" y="132840"/>
            <a:ext cx="734544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128762-57C9-4A9C-B89D-C498E6ECB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00040" y="3572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534032-4619-40B1-95CE-22F3F6F61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717080" y="3572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19D31C-7E64-4E4E-A8F9-FCE6946C7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00040" y="3572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86F23D-9061-4B07-A956-F31EFD847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00040" y="3572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769AB4-0268-4DCD-BF0E-C16C0F0F4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00040" y="3572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717080" y="3572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3A330A-B0C7-4C53-986E-7935BA82B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82480" y="1208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64920" y="1208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00040" y="3572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82480" y="3572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64920" y="3572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6E03D6-17BB-4495-BC08-739906F25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D9766-12C5-4A29-9993-A52F4BBED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A03D5-B288-4D3C-8600-2D8196B46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66760" y="132840"/>
            <a:ext cx="734544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BA447-88BF-475B-AD67-A77E08611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0040" y="3572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EA76B-6757-4637-AD1C-1412E28FB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17080" y="3572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B988D-7C9B-4B2F-A20A-5A16ADB50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0040" y="3572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CF4E6-F4AC-4780-A08A-39AE790B0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0040" y="1208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黑体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黑体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黑体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黑体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黑体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  <a:p>
            <a:pPr lvl="5" marL="2057400" indent="-228600">
              <a:spcBef>
                <a:spcPts val="499"/>
              </a:spcBef>
              <a:buClr>
                <a:srgbClr val="0c0c0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黑体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  <a:p>
            <a:pPr lvl="6" marL="2057400" indent="-228600">
              <a:spcBef>
                <a:spcPts val="499"/>
              </a:spcBef>
              <a:buClr>
                <a:srgbClr val="0c0c0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黑体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a8a8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68ECF-57E6-4052-8A11-D7AB42357A90}" type="datetime">
              <a:rPr b="0" lang="zh-CN" sz="1200" spc="-1" strike="noStrike">
                <a:solidFill>
                  <a:srgbClr val="8a8a8a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32000" y="6308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a8a8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4BCD7-0A8A-4661-8B80-C0A7E47EE0B4}" type="slidenum">
              <a:rPr b="0" lang="zh-CN" sz="1200" spc="-1" strike="noStrike">
                <a:solidFill>
                  <a:srgbClr val="8a8a8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0040" y="1208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黑体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黑体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黑体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黑体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黑体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  <a:p>
            <a:pPr lvl="5" marL="2057400" indent="-228600">
              <a:spcBef>
                <a:spcPts val="499"/>
              </a:spcBef>
              <a:buClr>
                <a:srgbClr val="0c0c0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黑体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  <a:p>
            <a:pPr lvl="6" marL="2057400" indent="-228600">
              <a:spcBef>
                <a:spcPts val="499"/>
              </a:spcBef>
              <a:buClr>
                <a:srgbClr val="0c0c0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黑体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a8a8a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A07F6-8D10-45B8-924D-CA61F788CD10}" type="datetime">
              <a:rPr b="0" lang="zh-CN" sz="1200" spc="-1" strike="noStrike">
                <a:solidFill>
                  <a:srgbClr val="8a8a8a"/>
                </a:solidFill>
                <a:latin typeface="Arial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a8a8a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2EA19-C745-49CB-B816-4F6ED785EAD5}" type="slidenum">
              <a:rPr b="0" lang="zh-CN" sz="1200" spc="-1" strike="noStrike">
                <a:solidFill>
                  <a:srgbClr val="8a8a8a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E4E7D-9D36-460F-B566-909DE411E09E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DACCF-EF9D-4D09-8176-3D1387BF4DB7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99640" y="404640"/>
            <a:ext cx="7161480" cy="135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10101"/>
                </a:solidFill>
                <a:latin typeface="黑体"/>
                <a:ea typeface="굴림"/>
              </a:rPr>
              <a:t>天文文学报告</a:t>
            </a:r>
            <a:r>
              <a:rPr b="1" lang="en-US" sz="4000" spc="-1" strike="noStrike">
                <a:solidFill>
                  <a:srgbClr val="010101"/>
                </a:solidFill>
                <a:latin typeface="黑体"/>
                <a:ea typeface="굴림"/>
              </a:rPr>
              <a:t>PPT</a:t>
            </a:r>
            <a:r>
              <a:rPr b="1" lang="zh-CN" sz="4000" spc="-1" strike="noStrike">
                <a:solidFill>
                  <a:srgbClr val="010101"/>
                </a:solidFill>
                <a:latin typeface="黑体"/>
                <a:ea typeface="굴림"/>
              </a:rPr>
              <a:t>模板打包下载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7" name="文本框 8199"/>
          <p:cNvSpPr/>
          <p:nvPr/>
        </p:nvSpPr>
        <p:spPr>
          <a:xfrm>
            <a:off x="2266920" y="638172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81db9f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81db9f"/>
                </a:solidFill>
                <a:uFillTx/>
                <a:latin typeface="Arial"/>
                <a:ea typeface="宋体"/>
                <a:hlinkClick r:id="rId2"/>
              </a:rPr>
              <a:t>模版免费下载</a:t>
            </a:r>
            <a:r>
              <a:rPr b="0" lang="en-US" sz="1600" spc="-1" strike="noStrike">
                <a:solidFill>
                  <a:srgbClr val="0c0c0c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c0c0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c0c0c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131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6CDE2-D8E2-49B1-AF23-EC0212101BC4}" type="slidenum">
              <a:rPr b="0" lang="zh-CN" sz="1400" spc="-1" strike="noStrike">
                <a:solidFill>
                  <a:srgbClr val="0c0c0c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c0c0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WordArt 4"/>
          <p:cNvSpPr txBox="1"/>
          <p:nvPr/>
        </p:nvSpPr>
        <p:spPr>
          <a:xfrm>
            <a:off x="3362400" y="4797360"/>
            <a:ext cx="27939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ln w="0">
                  <a:noFill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0c0c0c"/>
                  </a:outerShdw>
                </a:effectLst>
                <a:latin typeface="黑体"/>
              </a:rPr>
              <a:t>谢谢观赏！</a:t>
            </a:r>
            <a:endParaRPr b="1" lang="en-US" sz="2400" spc="-1" strike="noStrike">
              <a:ln w="0">
                <a:noFill/>
              </a:ln>
              <a:solidFill>
                <a:srgbClr val="ffffff"/>
              </a:solidFill>
              <a:effectLst>
                <a:outerShdw dist="17819" dir="2700000" blurRad="0" rotWithShape="0">
                  <a:srgbClr val="0c0c0c"/>
                </a:outerShdw>
              </a:effectLst>
              <a:latin typeface="黑体"/>
              <a:ea typeface="黑体"/>
            </a:endParaRPr>
          </a:p>
        </p:txBody>
      </p:sp>
      <p:sp>
        <p:nvSpPr>
          <p:cNvPr id="133" name="WordArt 5"/>
          <p:cNvSpPr txBox="1"/>
          <p:nvPr/>
        </p:nvSpPr>
        <p:spPr>
          <a:xfrm>
            <a:off x="3840120" y="5511960"/>
            <a:ext cx="1728720" cy="28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ln w="0">
                  <a:noFill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0c0c0c"/>
                  </a:outerShdw>
                </a:effectLst>
                <a:latin typeface="黑体"/>
              </a:rPr>
              <a:t>Thanks!</a:t>
            </a:r>
            <a:endParaRPr b="1" lang="en-US" sz="2400" spc="-1" strike="noStrike">
              <a:ln w="0">
                <a:noFill/>
              </a:ln>
              <a:solidFill>
                <a:srgbClr val="ffffff"/>
              </a:solidFill>
              <a:effectLst>
                <a:outerShdw dist="17819" dir="2700000" blurRad="0" rotWithShape="0">
                  <a:srgbClr val="0c0c0c"/>
                </a:outerShdw>
              </a:effectLst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6T13:54:0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2-12T07:09:19Z</dcterms:modified>
  <cp:revision>133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00</vt:lpwstr>
  </property>
</Properties>
</file>