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4D38-A7D2-483E-B09C-499EAB8B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ECFE-D00C-447C-8993-648FB969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4B9F-8B75-4F3E-A88D-2670FAFE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95E-D5EB-44C9-9710-3D5F3804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9A86-F17F-4108-A3A1-75DE436C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1628-FFC3-4F16-8D8C-4D9A9254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CF44-4857-4914-86C9-E03E78AF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A2C7-0A20-4E09-B31B-BAD1427A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C3A2-FA4A-4336-B366-2B9A43D3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CFF3-2991-474C-8305-FD1718AB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00E1-1961-4D87-AE56-1D98CB4D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EB97-E365-4DAB-BDD5-F689FEE7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0E38-C167-4CCA-808D-DBF43DC0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DE1D-1467-478E-BEE3-6EE904CE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460F-6943-4420-934E-F57C4648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9053-4FDF-4572-9FA8-79A6F9B7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C996-09DF-4CE0-BFD5-23C75202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BA64-3B85-4809-ABCA-11C0B17C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2B11-F37A-4724-8652-E671A8B9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8498-D65E-421E-A53D-0831B36C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D24-0B94-4AFE-913D-F5AE4BF2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A93-171E-4A3E-9998-A6A6B73D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4716-1339-40B5-BEF7-CCE41091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D2B1-4871-47D3-977A-0DF32D0A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95BE-7B7F-42B7-85DB-4732D88DA9C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92B0-BDAE-49A8-9C94-9B9323C53C15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2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7169" descr="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7170" descr="LOGO"/>
          <p:cNvPicPr/>
          <p:nvPr/>
        </p:nvPicPr>
        <p:blipFill>
          <a:blip r:embed="rId2"/>
          <a:stretch/>
        </p:blipFill>
        <p:spPr>
          <a:xfrm>
            <a:off x="2413080" y="2781360"/>
            <a:ext cx="4464000" cy="11905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7171" descr="文字"/>
          <p:cNvPicPr/>
          <p:nvPr/>
        </p:nvPicPr>
        <p:blipFill>
          <a:blip r:embed="rId3"/>
          <a:stretch/>
        </p:blipFill>
        <p:spPr>
          <a:xfrm>
            <a:off x="3232080" y="4005360"/>
            <a:ext cx="2924280" cy="66996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"/>
          <p:cNvSpPr/>
          <p:nvPr/>
        </p:nvSpPr>
        <p:spPr>
          <a:xfrm>
            <a:off x="1193760" y="907920"/>
            <a:ext cx="741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文化传媒公司简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8193" descr="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8194" descr="蓝色底线"/>
          <p:cNvPicPr/>
          <p:nvPr/>
        </p:nvPicPr>
        <p:blipFill>
          <a:blip r:embed="rId2"/>
          <a:stretch/>
        </p:blipFill>
        <p:spPr>
          <a:xfrm>
            <a:off x="2522520" y="1076400"/>
            <a:ext cx="4237200" cy="58086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8195" descr="目录"/>
          <p:cNvPicPr/>
          <p:nvPr/>
        </p:nvPicPr>
        <p:blipFill>
          <a:blip r:embed="rId3"/>
          <a:stretch/>
        </p:blipFill>
        <p:spPr>
          <a:xfrm>
            <a:off x="3255840" y="0"/>
            <a:ext cx="2827440" cy="11620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8196" descr="粉丝红色块"/>
          <p:cNvPicPr/>
          <p:nvPr/>
        </p:nvPicPr>
        <p:blipFill>
          <a:blip r:embed="rId4"/>
          <a:stretch/>
        </p:blipFill>
        <p:spPr>
          <a:xfrm>
            <a:off x="3995640" y="177336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8197" descr="蓝色块"/>
          <p:cNvPicPr/>
          <p:nvPr/>
        </p:nvPicPr>
        <p:blipFill>
          <a:blip r:embed="rId5"/>
          <a:stretch/>
        </p:blipFill>
        <p:spPr>
          <a:xfrm>
            <a:off x="1846440" y="278136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8198" descr="黄色块"/>
          <p:cNvPicPr/>
          <p:nvPr/>
        </p:nvPicPr>
        <p:blipFill>
          <a:blip r:embed="rId6"/>
          <a:stretch/>
        </p:blipFill>
        <p:spPr>
          <a:xfrm>
            <a:off x="6083280" y="364500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8199" descr="绿色块"/>
          <p:cNvPicPr/>
          <p:nvPr/>
        </p:nvPicPr>
        <p:blipFill>
          <a:blip r:embed="rId7"/>
          <a:stretch/>
        </p:blipFill>
        <p:spPr>
          <a:xfrm>
            <a:off x="3198960" y="499752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9217" descr="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9218" descr="男主角"/>
          <p:cNvPicPr/>
          <p:nvPr/>
        </p:nvPicPr>
        <p:blipFill>
          <a:blip r:embed="rId2"/>
          <a:stretch/>
        </p:blipFill>
        <p:spPr>
          <a:xfrm rot="20940000">
            <a:off x="6229440" y="2997360"/>
            <a:ext cx="3951360" cy="44463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9219" descr="关于WILL文字"/>
          <p:cNvPicPr/>
          <p:nvPr/>
        </p:nvPicPr>
        <p:blipFill>
          <a:blip r:embed="rId3"/>
          <a:stretch/>
        </p:blipFill>
        <p:spPr>
          <a:xfrm>
            <a:off x="971640" y="693720"/>
            <a:ext cx="5040360" cy="567072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8199"/>
          <p:cNvSpPr/>
          <p:nvPr/>
        </p:nvSpPr>
        <p:spPr>
          <a:xfrm>
            <a:off x="971640" y="527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52 -0.045833 C 0.044348 -0.045833 0.100348 0.028837 0.100348 0.120837 C 0.100348 0.212837 0.044348 0.287497 -0.024652 0.287497 C -0.093652 0.287497 -0.149652 0.212837 -0.149652 0.120837 C -0.149652 0.028837 -0.093652 -0.045833 -0.024652 -0.045833 Z">
                                      <p:cBhvr>
                                        <p:cTn id="125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0241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10242" descr="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0243" descr="长条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9716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0244" descr="圆圈"/>
          <p:cNvPicPr/>
          <p:nvPr/>
        </p:nvPicPr>
        <p:blipFill>
          <a:blip r:embed="rId3"/>
          <a:stretch/>
        </p:blipFill>
        <p:spPr>
          <a:xfrm>
            <a:off x="324000" y="404640"/>
            <a:ext cx="1704960" cy="148608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0245" descr="关于"/>
          <p:cNvPicPr/>
          <p:nvPr/>
        </p:nvPicPr>
        <p:blipFill>
          <a:blip r:embed="rId4"/>
          <a:stretch/>
        </p:blipFill>
        <p:spPr>
          <a:xfrm>
            <a:off x="395280" y="476280"/>
            <a:ext cx="3325680" cy="12650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0246" descr="威尔薇儿人物"/>
          <p:cNvPicPr/>
          <p:nvPr/>
        </p:nvPicPr>
        <p:blipFill>
          <a:blip r:embed="rId5"/>
          <a:stretch/>
        </p:blipFill>
        <p:spPr>
          <a:xfrm>
            <a:off x="3067200" y="1557360"/>
            <a:ext cx="3282840" cy="190980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0247" descr="LOGO"/>
          <p:cNvPicPr/>
          <p:nvPr/>
        </p:nvPicPr>
        <p:blipFill>
          <a:blip r:embed="rId6"/>
          <a:stretch/>
        </p:blipFill>
        <p:spPr>
          <a:xfrm>
            <a:off x="2411280" y="3246480"/>
            <a:ext cx="4464360" cy="11905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0248" descr="文字解释"/>
          <p:cNvPicPr/>
          <p:nvPr/>
        </p:nvPicPr>
        <p:blipFill>
          <a:blip r:embed="rId7"/>
          <a:stretch/>
        </p:blipFill>
        <p:spPr>
          <a:xfrm>
            <a:off x="1260360" y="4941720"/>
            <a:ext cx="6336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8F44-E2FB-4F9C-B0E8-002ABCA9507B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1265" descr="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1266" descr="THANKS"/>
          <p:cNvPicPr/>
          <p:nvPr/>
        </p:nvPicPr>
        <p:blipFill>
          <a:blip r:embed="rId2"/>
          <a:stretch/>
        </p:blipFill>
        <p:spPr>
          <a:xfrm>
            <a:off x="2266920" y="2637000"/>
            <a:ext cx="4897440" cy="10936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1267" descr="白线"/>
          <p:cNvPicPr/>
          <p:nvPr/>
        </p:nvPicPr>
        <p:blipFill>
          <a:blip r:embed="rId3"/>
          <a:stretch/>
        </p:blipFill>
        <p:spPr>
          <a:xfrm>
            <a:off x="828720" y="4043520"/>
            <a:ext cx="7343640" cy="28728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1268" descr="谢谢观赏"/>
          <p:cNvPicPr/>
          <p:nvPr/>
        </p:nvPicPr>
        <p:blipFill>
          <a:blip r:embed="rId4"/>
          <a:stretch/>
        </p:blipFill>
        <p:spPr>
          <a:xfrm>
            <a:off x="3813120" y="4075200"/>
            <a:ext cx="133524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01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