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FAD-8B21-4156-B759-87B480DD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96F-98E4-4204-85B0-222094D8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B6C-014C-4715-A8BC-3E41EA8A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42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23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642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23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F89-88BC-41C0-AAB6-73769257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0EB4-E7F3-4CBB-98F5-717D048B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ACEF-087E-4BB0-98A9-F4868ADF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D43B-F504-4904-88BF-DD5466F1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7FB7-ADA0-41D8-A092-240C096E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C579-06BA-4608-9EEA-4D8EA9F4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6FA0-1AC1-4094-8FCE-48070527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4ABC-928E-443B-9017-E7A38B4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57A-A233-4BC5-BC35-97D96A31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6A19-90F3-4677-9843-C3A87379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B7A6-7A3D-416A-810C-A16CEB5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273-0C90-4092-8C9D-2A2829C3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3011-84CF-4D5B-B9C3-F6B32308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42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23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1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642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23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CB4B-18F7-4B9A-9275-B3364059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9CD0D-860B-4236-917F-BCF53B9E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09A7-62D3-43E3-A818-17222F7A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3FD8-B7A6-47D6-8950-71DF64C8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29F0-A0B5-4CFB-B4AD-DB840C8E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E9D38-4BA6-4339-AFB8-339AD499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5C1-25CD-4C8F-BD54-749A52EF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6347-3136-4285-87AB-B6B553E7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0194-56FE-4F44-84C7-13A8C7C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2B85-FA92-4A80-903C-CF613DD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785F-61FE-47DA-AA91-C978C71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3B7A-C3FC-401F-B68D-B1A71FE8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362A-45C8-46C0-8F04-260F71C8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42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23760" y="144792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1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42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523760" y="3796200"/>
            <a:ext cx="179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FFB0-1965-4DF7-BF8F-5A8EBF61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C51-DE51-4AF0-B0D9-970687B4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FCB-2BEA-48CD-896C-7A90E9A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C86-0ABD-44A5-91E2-24C87984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AC0-F7E9-4237-91A5-70E153B7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12240" y="379620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0A1-00FB-4CE8-9462-0B63AC5D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12240" y="1447920"/>
            <a:ext cx="2714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796200"/>
            <a:ext cx="556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D14-6F33-4F10-81AE-FE3EB16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F61-A541-4D86-BC29-564D2A1447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0" descr="dome_snowman_md_clr"/>
          <p:cNvPicPr/>
          <p:nvPr/>
        </p:nvPicPr>
        <p:blipFill>
          <a:blip r:embed="rId3"/>
          <a:stretch/>
        </p:blipFill>
        <p:spPr>
          <a:xfrm>
            <a:off x="7924680" y="2362320"/>
            <a:ext cx="990720" cy="699840"/>
          </a:xfrm>
          <a:prstGeom prst="rect">
            <a:avLst/>
          </a:prstGeom>
          <a:ln w="0">
            <a:noFill/>
          </a:ln>
        </p:spPr>
      </p:pic>
      <p:pic>
        <p:nvPicPr>
          <p:cNvPr id="6" name="图片 1031" descr="fireplace_stockings_lg_clr"/>
          <p:cNvPicPr/>
          <p:nvPr/>
        </p:nvPicPr>
        <p:blipFill>
          <a:blip r:embed="rId4"/>
          <a:stretch/>
        </p:blipFill>
        <p:spPr>
          <a:xfrm>
            <a:off x="7829640" y="403848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7" name="图片 1032" descr="happy_holidays_md_clr"/>
          <p:cNvPicPr/>
          <p:nvPr/>
        </p:nvPicPr>
        <p:blipFill>
          <a:blip r:embed="rId5"/>
          <a:stretch/>
        </p:blipFill>
        <p:spPr>
          <a:xfrm>
            <a:off x="7162920" y="5722920"/>
            <a:ext cx="91440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BAA-31D4-470A-B0B9-596E9D44032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57BA-C35C-4CCA-8918-5BD024B43C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CC1D-9A0C-4528-B1E3-DE64E70266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19720" y="2590560"/>
            <a:ext cx="39621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cyber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419720" y="33523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entury Gothic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426760" y="228600"/>
            <a:ext cx="51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线条背景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2F45-E4AD-49CE-8145-56E8AC96F3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61760" y="14479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6:31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6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