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967-5A32-48C3-9C47-354DADB2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9A45-CD64-4802-97BE-1E7C3EE4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24B-57B6-4CC5-8913-79E67D76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5CD-3D3E-4065-86B9-D68D2561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7743-5B6F-477B-A033-6E40ED12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1764-F6C0-43F2-A0B8-4C460804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D06D-3DAB-4E41-B34C-DB99305F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67E6-DEE6-4FEB-A18D-251EB829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B7B6-521C-4AF6-94FC-CEE2A55C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0311-1DFC-491B-B947-194C9B90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35E5-346E-4827-85F2-3F9929E7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0419-7D43-4232-83BB-F9298984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230B-3D16-4763-8EE7-A1CCF04E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25A6-38DC-41C1-B59C-53A1B46E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7839-888A-441A-95C4-C453DA71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53A9-A737-4690-856E-BFCA247E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F2D5-59A4-4C2A-AAFF-77FA330D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D34DA-0A63-4FDE-AE8F-5062FBD6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022A8-1552-4EF5-ABB9-7BEA141F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16246-86B4-4C7F-9D3B-93D4388C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F1BA2-6D87-4DB1-AFE7-31BE5639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97BDD-61A5-4547-830D-2C40AB68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C45-6D8C-484E-A67A-86CBD0BC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C32CA-5E56-42C3-A752-8C9A66FD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D06EA-1A9F-434E-ABCC-D49A5D3C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F574B-CE75-46B9-B280-CE3F0E03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A503B-6D16-46DE-86CC-B81004C1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69FAE-7DA0-4AD6-8AB5-E879CC1E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A301F-0292-408D-BF84-E437471C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645BC-9527-4A13-8414-84DC5F14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1CD2F-C352-4093-ABEA-5EDB028E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4B90F-674C-4F52-A0AE-5B04B7F9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DC750-4B86-44DA-B332-F7CAB388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A0F-77B6-49F6-AE8F-3B538A95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E75FA-572B-4B54-A247-600D9CFBB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C0241-AF61-476A-92CF-D55025A1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3B52B-29E0-4AA0-AE5F-AC081501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B690B-8A82-4299-BF4B-D9AA2A49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C1450-C2E9-4451-816A-313508BC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270DC-253E-48F4-B718-D8B5160A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EE4A0-B6B6-4FD7-8A0C-DA6C881A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708C0-1E7A-46AE-AD5A-EF41883C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4DD6A-2489-4770-A5B8-32E74587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81C2C-FC7E-486F-BC72-320827E8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3A4-4DAC-4F09-A735-6E210408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6A77C-F89A-4C93-AD30-29091BB0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504CC-4398-4B89-841E-CEF369CA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1F3A3-1BF3-48FC-8D97-0A86C700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A9BFB-44B8-4157-A229-8FD67AB7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13617-CB71-4B73-9B64-D97ABAF3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08BB2-6B2C-435E-BDE5-AD6043EE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03B56-6D9E-4863-A26D-302B5494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65443-050E-4E8F-81A6-B7225C10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08A4E-9E0D-4C28-B3F1-A9443485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E4877-603A-48F9-BD4E-B5BADABE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8FDC-40AF-4FCD-81A7-8F331E82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A1AB3-E783-4E58-BE40-6CD9678D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7B28-78F5-438E-86DA-2E75BAA3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78B-C936-4572-96F8-63D19E58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EA48-A89F-435F-9AB8-7EFB1C83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6D70-A322-4481-9EA7-A484E526448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1296-509D-474A-8049-3AE2376E30A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973E-7827-4846-94A0-EB400FB9911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6B20-8C86-47E8-9E0E-2AF0BA79E26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8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Documents and Settings\guoliang_liu\桌面\中国移动通信logo.png"/>
          <p:cNvPicPr/>
          <p:nvPr/>
        </p:nvPicPr>
        <p:blipFill>
          <a:blip r:embed="rId3"/>
          <a:stretch/>
        </p:blipFill>
        <p:spPr>
          <a:xfrm>
            <a:off x="271440" y="222120"/>
            <a:ext cx="1919160" cy="673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guoliang_liu\桌面\移动改变生活副本.png"/>
          <p:cNvPicPr/>
          <p:nvPr/>
        </p:nvPicPr>
        <p:blipFill>
          <a:blip r:embed="rId4"/>
          <a:srcRect l="0" t="50057" r="0" b="0"/>
          <a:stretch/>
        </p:blipFill>
        <p:spPr>
          <a:xfrm>
            <a:off x="7236000" y="446040"/>
            <a:ext cx="1577880" cy="316080"/>
          </a:xfrm>
          <a:prstGeom prst="rect">
            <a:avLst/>
          </a:prstGeom>
          <a:ln w="0">
            <a:noFill/>
          </a:ln>
        </p:spPr>
      </p:pic>
      <p:sp>
        <p:nvSpPr>
          <p:cNvPr id="85" name="标题 1"/>
          <p:cNvSpPr/>
          <p:nvPr/>
        </p:nvSpPr>
        <p:spPr>
          <a:xfrm>
            <a:off x="826920" y="443700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76B1-9ABF-4E66-8D7C-97358C0C717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7785-EAFD-49ED-A251-496ADB30E06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1339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C:\Documents and Settings\guoliang_liu\桌面\中国移动通信logo.png"/>
          <p:cNvPicPr/>
          <p:nvPr/>
        </p:nvPicPr>
        <p:blipFill>
          <a:blip r:embed="rId3"/>
          <a:stretch/>
        </p:blipFill>
        <p:spPr>
          <a:xfrm>
            <a:off x="8007480" y="90360"/>
            <a:ext cx="1101600" cy="3859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B293-9CF3-4F1E-A1F9-CC4EBE841B0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D997-3813-453F-BA86-ABC75305D4A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组合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1" name="副标题 2"/>
            <p:cNvSpPr/>
            <p:nvPr/>
          </p:nvSpPr>
          <p:spPr>
            <a:xfrm>
              <a:off x="3803760" y="2924280"/>
              <a:ext cx="15364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谢 谢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1457280"/>
              <a:ext cx="9144000" cy="540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" descr="C:\Documents and Settings\guoliang_liu\桌面\中国移动通信logo.png"/>
            <p:cNvPicPr/>
            <p:nvPr/>
          </p:nvPicPr>
          <p:blipFill>
            <a:blip r:embed="rId3"/>
            <a:srcRect l="0" t="50037" r="0" b="0"/>
            <a:stretch/>
          </p:blipFill>
          <p:spPr>
            <a:xfrm>
              <a:off x="7428960" y="6243480"/>
              <a:ext cx="1422720" cy="48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" descr="C:\Documents and Settings\guoliang_liu\桌面\移动改变生活副本.png"/>
            <p:cNvPicPr/>
            <p:nvPr/>
          </p:nvPicPr>
          <p:blipFill>
            <a:blip r:embed="rId4"/>
            <a:srcRect l="0" t="0" r="0" b="50057"/>
            <a:stretch/>
          </p:blipFill>
          <p:spPr>
            <a:xfrm>
              <a:off x="329400" y="6309360"/>
              <a:ext cx="1578240" cy="3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3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16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Box 11"/>
            <p:cNvSpPr/>
            <p:nvPr/>
          </p:nvSpPr>
          <p:spPr>
            <a:xfrm>
              <a:off x="3058920" y="2492280"/>
              <a:ext cx="2952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华文中宋"/>
                  <a:ea typeface="华文中宋"/>
                </a:rPr>
                <a:t>谢 谢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DB64-A105-4DD1-8A7E-FE85A673443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54A8-49E1-4E12-A5E1-887B8BEB367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23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华文中宋"/>
              </a:rPr>
              <a:t>移动背景卡通</a:t>
            </a:r>
            <a:r>
              <a:rPr b="1" lang="en-US" sz="4000" spc="-1" strike="noStrike">
                <a:solidFill>
                  <a:srgbClr val="ffffff"/>
                </a:solidFill>
                <a:latin typeface="华文中宋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华文中宋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8920" y="198360"/>
            <a:ext cx="396108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Calibri"/>
                <a:ea typeface="华文中宋"/>
              </a:rPr>
              <a:t>本页标题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86B5-41A9-43D0-B265-05060CF3055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5T05:20:0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15:58Z</dcterms:modified>
  <cp:revision>44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