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996-F137-47E9-9710-F077BE0E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41F-0026-456C-B525-E243D461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072-44BA-4F1D-BB14-0FAE8536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F3E-D507-4902-9A78-E01F1256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86E8-6F1C-452A-BF08-F073B7E7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F04-9BEC-45F7-B07C-5423AF68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BEB-F50A-4961-A828-C8CDF813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45F-B48A-4328-9452-73B11D9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FBA-79F3-41AA-A672-7C5DD51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6A6-1C7E-4B04-A3C3-A4B498C7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D58-D6CF-471A-B638-6EB0D5B0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583-DEF0-458F-9E3F-18DF1165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4E20-338F-4157-957C-8D65BED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92B5-4FC2-429B-B77C-4FEF37D9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2380-AAB0-4F5F-A524-3E64BB4F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8628-C981-42BB-9805-879D83E8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DABC-8950-47BD-BF07-8B509670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B93F-BEDC-41EE-B5B7-ACBF34F8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7DE3-14DE-4149-9691-A445B4A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DEF-353F-4711-956E-D443F74E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7EB7-9C00-4400-B225-37DEAA97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8BC2-BDF5-4CD3-B525-7BA58B12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0930-16B3-454E-9E2B-0172BBE5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5D86-6633-4048-B289-BE36D5B9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DD8B-AD55-4A41-B52E-8AE1DE02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9978A-AB83-40D7-A5B2-47E17ED5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7764-F526-4DD6-812C-93FC6E0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098F-28A7-48F3-B1A7-6D9F7B0A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9D1B7-EF41-458F-8587-5A08A054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6471-4DC2-4041-8B65-1FE3A241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EA2E-1811-4A3C-8824-A127CE2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4B23F-B476-4471-AF9B-A9E436B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3D84A-8773-43F5-874E-E9460FA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333D-6C94-4941-8709-723E55A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3B67-8EB1-488D-A176-2604183F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FC9D-D31F-424F-95B8-AFC3B4FB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模板内页灰色112`12`1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复件 模板内页灰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49FA-2A6E-4A6E-A1AE-8437017E7AC9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324000" y="0"/>
            <a:ext cx="8820000" cy="10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324000" y="1052640"/>
            <a:ext cx="8820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title"/>
          </p:nvPr>
        </p:nvSpPr>
        <p:spPr>
          <a:xfrm>
            <a:off x="323640" y="-36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3"/>
          <a:stretch/>
        </p:blipFill>
        <p:spPr>
          <a:xfrm>
            <a:off x="8317080" y="685800"/>
            <a:ext cx="755640" cy="511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5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</a:t>
            </a:r>
            <a:fld id="{CAEDB316-AAB6-449D-B721-1913D85492F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7339-45C8-42AE-ADCD-18B198BA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复件 模板内页灰色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复件 模板内页灰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华文细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75E-22D9-41D9-82CB-7682E2FBFF7E}" type="slidenum"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24000" y="0"/>
            <a:ext cx="8820000" cy="1052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24000" y="1052640"/>
            <a:ext cx="8820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title"/>
          </p:nvPr>
        </p:nvSpPr>
        <p:spPr>
          <a:xfrm>
            <a:off x="323640" y="-36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8317080" y="685800"/>
            <a:ext cx="755640" cy="511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313200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</a:t>
            </a:r>
            <a:fld id="{4F884CFF-CD08-47C0-9E62-6FCA5FEF1FD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&lt;number&gt;</a:t>
            </a:fld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5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灯片编号占位符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9A86-BA92-4E9A-AADC-68CA6DB7683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5"/>
          <p:cNvSpPr/>
          <p:nvPr/>
        </p:nvSpPr>
        <p:spPr>
          <a:xfrm>
            <a:off x="2077200" y="227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移动公司工作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5:58:09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5:57Z</dcterms:modified>
  <cp:revision>886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