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FBBFFD-DF89-4AA6-93D5-60BD62724B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3716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2408400"/>
            <a:ext cx="822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57200" y="4533840"/>
            <a:ext cx="822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586C16-D817-4E46-9028-E756EFAD5E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3716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2408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674240" y="2408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457200" y="453384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674240" y="453384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FB048A-A363-4CB9-9E22-002396F972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3716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240840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239640" y="240840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22080" y="240840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57200" y="453384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239640" y="453384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022080" y="453384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2D9414-4426-43FA-AC88-3ED2A0625E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D7160D-B29D-4FAF-889D-26500CAF92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3716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2408400"/>
            <a:ext cx="8229600" cy="4068720"/>
          </a:xfrm>
          <a:prstGeom prst="rect">
            <a:avLst/>
          </a:prstGeom>
          <a:noFill/>
          <a:ln w="0">
            <a:noFill/>
          </a:ln>
        </p:spPr>
        <p:txBody>
          <a:bodyPr lIns="0" rIns="0" tIns="0" bIns="0" anchor="ctr">
            <a:noAutofit/>
          </a:bodyPr>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F91199-9D39-474D-BA4A-CF2E662EBC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3716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2408400"/>
            <a:ext cx="82296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44A37B-2B76-4C8E-AA4E-C5845DF769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3716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2408400"/>
            <a:ext cx="40158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3"/>
          <p:cNvSpPr>
            <a:spLocks noGrp="1"/>
          </p:cNvSpPr>
          <p:nvPr>
            <p:ph/>
          </p:nvPr>
        </p:nvSpPr>
        <p:spPr>
          <a:xfrm>
            <a:off x="4674240" y="2408400"/>
            <a:ext cx="40158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58B653-947C-4DCB-8E31-BB2861687D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3716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DB43B5-7F30-432D-939A-9FFF5555A4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1371600"/>
            <a:ext cx="8229600" cy="4240080"/>
          </a:xfrm>
          <a:prstGeom prst="rect">
            <a:avLst/>
          </a:prstGeom>
          <a:noFill/>
          <a:ln w="0">
            <a:noFill/>
          </a:ln>
        </p:spPr>
        <p:txBody>
          <a:bodyPr lIns="0" rIns="0" tIns="0" bIns="0" anchor="ctr">
            <a:noAutofit/>
          </a:bodyPr>
          <a:p>
            <a:pPr algn="ctr">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9E068F-D46E-4687-8D32-562D8BE9E5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3716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2408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674240" y="2408400"/>
            <a:ext cx="40158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457200" y="453384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0AB46E-5D31-4A28-AC7B-C997634C37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3716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2408400"/>
            <a:ext cx="8229600" cy="4068720"/>
          </a:xfrm>
          <a:prstGeom prst="rect">
            <a:avLst/>
          </a:prstGeom>
          <a:noFill/>
          <a:ln w="0">
            <a:noFill/>
          </a:ln>
        </p:spPr>
        <p:txBody>
          <a:bodyPr lIns="0" rIns="0" tIns="0" bIns="0" anchor="ctr">
            <a:noAutofit/>
          </a:bodyPr>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8316B5-4C34-4B17-A1A6-41CE795E45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3716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2408400"/>
            <a:ext cx="40158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74240" y="2408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674240" y="453384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BDA29D-0856-4EA6-AA80-5FC93B5191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3716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2408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674240" y="2408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457200" y="4533840"/>
            <a:ext cx="822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A18B86-3536-451F-B510-C1377C057F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3716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2408400"/>
            <a:ext cx="822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57200" y="4533840"/>
            <a:ext cx="822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13E934-18B8-47AA-B9DF-56CAFA2D46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3716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2408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4674240" y="2408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457200" y="453384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5"/>
          <p:cNvSpPr>
            <a:spLocks noGrp="1"/>
          </p:cNvSpPr>
          <p:nvPr>
            <p:ph/>
          </p:nvPr>
        </p:nvSpPr>
        <p:spPr>
          <a:xfrm>
            <a:off x="4674240" y="453384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5B5E10-572A-4BAF-8D78-200F36C5E2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3716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240840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3239640" y="240840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6022080" y="240840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457200" y="453384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6"/>
          <p:cNvSpPr>
            <a:spLocks noGrp="1"/>
          </p:cNvSpPr>
          <p:nvPr>
            <p:ph/>
          </p:nvPr>
        </p:nvSpPr>
        <p:spPr>
          <a:xfrm>
            <a:off x="3239640" y="453384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7"/>
          <p:cNvSpPr>
            <a:spLocks noGrp="1"/>
          </p:cNvSpPr>
          <p:nvPr>
            <p:ph/>
          </p:nvPr>
        </p:nvSpPr>
        <p:spPr>
          <a:xfrm>
            <a:off x="6022080" y="453384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39CCB4-972B-41FA-A696-76426E7FE8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3716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2408400"/>
            <a:ext cx="82296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ED0A2E-611B-44F8-AF44-AC1D8F2E58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3716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2408400"/>
            <a:ext cx="40158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674240" y="2408400"/>
            <a:ext cx="40158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74F6F6-FEAE-44A7-895A-E20DEEBC1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3716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19276A-0A77-40A3-91E5-69DB2C7037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371600"/>
            <a:ext cx="8229600" cy="4240080"/>
          </a:xfrm>
          <a:prstGeom prst="rect">
            <a:avLst/>
          </a:prstGeom>
          <a:noFill/>
          <a:ln w="0">
            <a:noFill/>
          </a:ln>
        </p:spPr>
        <p:txBody>
          <a:bodyPr lIns="0" rIns="0" tIns="0" bIns="0" anchor="ctr">
            <a:noAutofit/>
          </a:bodyPr>
          <a:p>
            <a:pPr algn="ctr">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CA23D9-D225-409B-8027-4EC09A9143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3716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2408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74240" y="2408400"/>
            <a:ext cx="40158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457200" y="453384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993A2-286B-4E1A-B593-F5B0AEEAFE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3716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2408400"/>
            <a:ext cx="40158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674240" y="2408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674240" y="453384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CF2C1-B27F-45E2-964D-E4F3A965FC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3716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2408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74240" y="2408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457200" y="4533840"/>
            <a:ext cx="822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CFD02-3DE8-40FF-8070-688DF98C08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3716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2408400"/>
            <a:ext cx="8229600" cy="4068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B53EE-F770-4645-9548-F59AE5FC642F}" type="datetime">
              <a:rPr b="0" lang="zh-CN" sz="1200" spc="-1" strike="noStrike">
                <a:solidFill>
                  <a:srgbClr val="898989"/>
                </a:solidFill>
                <a:latin typeface="Times New Roman"/>
                <a:ea typeface="宋体"/>
              </a:rPr>
              <a:t>26/7/31</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2657E-28B5-432A-87C7-75915A9465D4}" type="slidenum">
              <a:rPr b="0" lang="zh-CN" sz="1200" spc="-1" strike="noStrike">
                <a:solidFill>
                  <a:srgbClr val="898989"/>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3716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2408400"/>
            <a:ext cx="8229600" cy="4068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35162-FFE8-42BC-A961-CF3AA3AB07E2}" type="datetime">
              <a:rPr b="0" lang="zh-CN" sz="1200" spc="-1" strike="noStrike">
                <a:solidFill>
                  <a:srgbClr val="898989"/>
                </a:solidFill>
                <a:latin typeface="Calibri"/>
                <a:ea typeface="宋体"/>
              </a:rPr>
              <a:t>26/7/31</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182F0-617D-4BC2-A815-910D3E091B77}"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itle 1"/>
          <p:cNvSpPr/>
          <p:nvPr/>
        </p:nvSpPr>
        <p:spPr>
          <a:xfrm>
            <a:off x="5562720" y="228600"/>
            <a:ext cx="3429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宋体"/>
              </a:rPr>
              <a:t>Presentation Title</a:t>
            </a:r>
            <a:endParaRPr b="0" lang="en-US" sz="2800" spc="-1" strike="noStrike">
              <a:solidFill>
                <a:srgbClr val="000000"/>
              </a:solidFill>
              <a:latin typeface="Calibri"/>
            </a:endParaRPr>
          </a:p>
        </p:txBody>
      </p:sp>
      <p:sp>
        <p:nvSpPr>
          <p:cNvPr id="83" name="Content Placeholder 2"/>
          <p:cNvSpPr/>
          <p:nvPr/>
        </p:nvSpPr>
        <p:spPr>
          <a:xfrm>
            <a:off x="5943600" y="838080"/>
            <a:ext cx="32004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宋体"/>
              </a:rPr>
              <a:t>Presentation Subtitle</a:t>
            </a:r>
            <a:endParaRPr b="0" lang="en-US" sz="2200" spc="-1" strike="noStrike">
              <a:solidFill>
                <a:srgbClr val="000000"/>
              </a:solidFill>
              <a:latin typeface="Calibri"/>
            </a:endParaRPr>
          </a:p>
        </p:txBody>
      </p:sp>
      <p:sp>
        <p:nvSpPr>
          <p:cNvPr id="84"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Calibri"/>
            </a:endParaRPr>
          </a:p>
        </p:txBody>
      </p:sp>
      <p:sp>
        <p:nvSpPr>
          <p:cNvPr id="85" name="PlaceHolder 1"/>
          <p:cNvSpPr>
            <a:spLocks noGrp="1"/>
          </p:cNvSpPr>
          <p:nvPr>
            <p:ph type="title"/>
          </p:nvPr>
        </p:nvSpPr>
        <p:spPr>
          <a:xfrm>
            <a:off x="682200" y="1052640"/>
            <a:ext cx="802332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医疗测试仪幻灯片下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457200" y="2742840"/>
            <a:ext cx="8305920" cy="3809880"/>
          </a:xfrm>
          <a:prstGeom prst="rect">
            <a:avLst/>
          </a:prstGeom>
          <a:noFill/>
          <a:ln w="0">
            <a:noFill/>
          </a:ln>
        </p:spPr>
        <p:txBody>
          <a:bodyPr lIns="90000" rIns="90000" tIns="46800" bIns="46800" anchor="t">
            <a:normAutofit fontScale="95000"/>
          </a:bodyPr>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Your Text here</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Lorem ipsum dolor sit amet, consectetuer adip iscing elit, sed diam no nu mmy nibh euismod tincidunt ut laoreet do lore magna aliquam er at volut pat. Ut wisi enim ad mi ni m venia m, quis nostrud exerci tatio n ullamco rp er susc ip it lobor tis nisl ut aliquip ex ea commodo cons equat. </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Duis autem vel eum iriure dolor in hendrerit in vulputate velit esse mo les tie consequat, vel illum dolore eu feugiat nulla fac ilisis at vero eros et ac cu msan et iusto odio dign issim qui bla ndit praesent lup tatum zzril dele nit augue duis dolore te fe ug ait nulla facilisi</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PlaceHolder 1"/>
          <p:cNvSpPr>
            <a:spLocks noGrp="1"/>
          </p:cNvSpPr>
          <p:nvPr>
            <p:ph type="title"/>
          </p:nvPr>
        </p:nvSpPr>
        <p:spPr>
          <a:xfrm>
            <a:off x="380880" y="160020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Slide Mast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89"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00ff"/>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00ff"/>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00ff"/>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00ff"/>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00ff"/>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00ff"/>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00ff"/>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00ff"/>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00ff"/>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00ff"/>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00ff"/>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0"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Calibri"/>
            </a:endParaRPr>
          </a:p>
        </p:txBody>
      </p:sp>
      <p:sp>
        <p:nvSpPr>
          <p:cNvPr id="91"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88E41-6A3F-4667-8EF0-36FDB473955F}" type="slidenum">
              <a:rPr b="0" lang="zh-CN" sz="1200" spc="-1" strike="noStrike">
                <a:solidFill>
                  <a:srgbClr val="898989"/>
                </a:solidFill>
                <a:latin typeface="Arial"/>
                <a:ea typeface="宋体"/>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2" name=""/>
          <p:cNvSpPr txBox="1"/>
          <p:nvPr/>
        </p:nvSpPr>
        <p:spPr>
          <a:xfrm>
            <a:off x="1676520" y="1905120"/>
            <a:ext cx="7238880" cy="4419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Your Text he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Lorem ipsum dolor sit amet, consectetuer adip iscing elit, sed d iam no nu mmy nibh euismod tincidunt ut laoreet do lore ma gn a aliquam er at volut pat. Ut wisi enim ad mi ni m venia m, q uis nostrud exerci tatio n ullamco rper susc ip it lobor tis nisl ut aliq uip ex ea commodo cons equ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Duis autem vel eum iriure dolor in hendrerit in vulputate velit es se mo les tie consequat, vel illum dolore eu feugiat nulla fac ilisis at vero eros et ac cumsan et iusto odio dign issim qui bla ndit pr aesent lup tatum zzril dele nit augue duis dolore te fe ug ait nulla facilisi</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1"/>
          <p:cNvSpPr>
            <a:spLocks noGrp="1"/>
          </p:cNvSpPr>
          <p:nvPr>
            <p:ph type="title"/>
          </p:nvPr>
        </p:nvSpPr>
        <p:spPr>
          <a:xfrm>
            <a:off x="1676520" y="380880"/>
            <a:ext cx="7238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Print Master</a:t>
            </a:r>
            <a:endParaRPr b="0" lang="en-US" sz="4400" spc="-1" strike="noStrike">
              <a:solidFill>
                <a:srgbClr val="000000"/>
              </a:solidFill>
              <a:latin typeface="Arial"/>
            </a:endParaRPr>
          </a:p>
        </p:txBody>
      </p:sp>
      <p:sp>
        <p:nvSpPr>
          <p:cNvPr id="94" name="文本框 8199"/>
          <p:cNvSpPr/>
          <p:nvPr/>
        </p:nvSpPr>
        <p:spPr>
          <a:xfrm>
            <a:off x="755640" y="134136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ea typeface="宋体"/>
                <a:hlinkClick r:id="rId2"/>
              </a:rPr>
              <a:t>ppt</a:t>
            </a:r>
            <a:r>
              <a:rPr b="0" lang="zh-CN" sz="1600" spc="-1" strike="noStrike" u="sng">
                <a:solidFill>
                  <a:srgbClr val="0000ff"/>
                </a:solidFill>
                <a:uFillTx/>
                <a:latin typeface="Arial"/>
                <a:ea typeface="宋体"/>
                <a:hlinkClick r:id="rId3"/>
              </a:rPr>
              <a:t>模版免费下载</a:t>
            </a:r>
            <a:r>
              <a:rPr b="0" lang="en-US" sz="1600" spc="-1" strike="noStrike">
                <a:solidFill>
                  <a:srgbClr val="000000"/>
                </a:solidFill>
                <a:latin typeface="Arial"/>
                <a:ea typeface="宋体"/>
              </a:rPr>
              <a:t>http://www.eeppt.com</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8T11:06:24Z</dcterms:created>
  <dc:creator>幻灯片之家：www.eeppt.com</dc:creator>
  <dc:description>幻灯片之家：www.eeppt.com</dc:description>
  <cp:keywords>幻灯片之家：www.eeppt.com</cp:keywords>
  <dc:language>en-US</dc:language>
  <cp:lastModifiedBy>pc</cp:lastModifiedBy>
  <dcterms:modified xsi:type="dcterms:W3CDTF">2015-12-12T07:04:26Z</dcterms:modified>
  <cp:revision>3</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400</vt:lpwstr>
  </property>
</Properties>
</file>