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592-A54E-4118-A0A7-341ADE51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D92-1131-44A0-93D1-E370592A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95D-139A-42CC-A64C-F8550A95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6F5-5F05-42CB-841F-BA5CFAE1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9DF-E931-4556-B8B2-761CAF0B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068-B654-421C-AC30-C1D64CF7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A59-DF23-4DCC-A5AF-3AEDD71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A93-87C7-41AD-87BB-C98F4F2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5B1-681C-4724-B0D6-EE3B6562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D48-BC5B-4EDC-9613-3FA412F7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874-1AF9-4CEE-A9FA-F7401CF2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FD2-FFC8-407B-8CDA-9B5E0B34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4109-A456-4E90-98C7-B9969D713FA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B9C8-E375-45A5-9A55-D6D8592CFE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52320" y="1523880"/>
            <a:ext cx="61246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1111"/>
                </a:solidFill>
                <a:latin typeface="Arial"/>
              </a:rPr>
              <a:t>Lessons from the Pharmaceutical Scandals: Preventing Misconduct in Clinical Research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2880" y="3300480"/>
            <a:ext cx="2865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Jason Anderson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Spring 2008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057400" y="304920"/>
            <a:ext cx="68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Arial"/>
              </a:rPr>
              <a:t>医疗试管</a:t>
            </a:r>
            <a:r>
              <a:rPr b="0" lang="en-US" sz="4000" spc="-1" strike="noStrike">
                <a:solidFill>
                  <a:srgbClr val="111111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Recent Scandal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Zetia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Used to lower cholesterol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Enhance study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elayed release of resul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r. Kastelei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Zetia as a last resort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Avandi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Used to treat diabete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wo black box warnings for heart risk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GlaxoSmithKline’s improper influence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DA’s internal struggle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NEJM peer reviewer: Dr. Haffner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068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1484280"/>
            <a:ext cx="7072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omplaints and Calls for Chang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About the pharmaceutical companies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ocus on profi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Medical knowledge became a private commodity</a:t>
            </a:r>
            <a:r>
              <a:rPr b="1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0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Location and control of clinical trial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Bias in medical journal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Ghostwriting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rial design manipula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Exploitation of regulation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文本框 164867"/>
          <p:cNvSpPr/>
          <p:nvPr/>
        </p:nvSpPr>
        <p:spPr>
          <a:xfrm>
            <a:off x="222120" y="6202440"/>
            <a:ext cx="26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0) Abramson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note 9, at 696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1484280"/>
            <a:ext cx="7072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omplaints and Calls for Chang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About the FDA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urrogate endpoin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op-down pressure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DUFA and speed vs. safety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enator Grassley: on a miss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48" name="图片 169988" descr="grassley"/>
          <p:cNvPicPr/>
          <p:nvPr/>
        </p:nvPicPr>
        <p:blipFill>
          <a:blip r:embed="rId1"/>
          <a:stretch/>
        </p:blipFill>
        <p:spPr>
          <a:xfrm>
            <a:off x="7010280" y="2895480"/>
            <a:ext cx="1737000" cy="3318120"/>
          </a:xfrm>
          <a:prstGeom prst="rect">
            <a:avLst/>
          </a:prstGeom>
          <a:ln w="9360">
            <a:solidFill>
              <a:srgbClr val="1111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636560"/>
            <a:ext cx="81392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  <a:ea typeface="굴림"/>
              </a:rPr>
              <a:t>Proposals for Regulatory</a:t>
            </a:r>
            <a:br>
              <a:rPr sz="3200"/>
            </a:br>
            <a:r>
              <a:rPr b="1" lang="en-US" sz="3200" spc="-1" strike="noStrike">
                <a:solidFill>
                  <a:srgbClr val="111111"/>
                </a:solidFill>
                <a:latin typeface="Verdana"/>
                <a:ea typeface="굴림"/>
              </a:rPr>
              <a:t>Chang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7920" y="252540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rovide or require differences of opinion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1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Drug specific procedural safeguard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2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Strictly enforce existing regulation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3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enalize improper industry influence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4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Modify adverse event reporting system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5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Modify inspections program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6</a:t>
            </a: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文本框 165891"/>
          <p:cNvSpPr/>
          <p:nvPr/>
        </p:nvSpPr>
        <p:spPr>
          <a:xfrm>
            <a:off x="207000" y="5410080"/>
            <a:ext cx="8128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1)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굴림"/>
              </a:rPr>
              <a:t>Baswell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굴림"/>
              </a:rPr>
              <a:t>supra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굴림"/>
              </a:rPr>
              <a:t> note 3, at 1804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굴림"/>
              </a:rPr>
              <a:t>12)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McGrath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note 1, at 617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3)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Id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at 622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4)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Id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at 623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5)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Id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6) Stephen A. Goldman, U.S. Postmarketing Pharmacovigilance Compliance in the Midst of Regulatory Uncertainty,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62 Food &amp; Drug L. J. 513, 513 (2007).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636560"/>
            <a:ext cx="874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  <a:ea typeface="굴림"/>
              </a:rPr>
              <a:t>Proposals for Changes to </a:t>
            </a:r>
            <a:br>
              <a:rPr sz="3200"/>
            </a:br>
            <a:r>
              <a:rPr b="1" lang="en-US" sz="3200" spc="-1" strike="noStrike">
                <a:solidFill>
                  <a:srgbClr val="111111"/>
                </a:solidFill>
                <a:latin typeface="Verdana"/>
                <a:ea typeface="굴림"/>
              </a:rPr>
              <a:t>Industry Practic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437920" y="260172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ocus more on social responsibility and less on profit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Increase pharmacovigilance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7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top using “competitive enrollment”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8</a:t>
            </a: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Voluntary moratorium on ghostwriting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文本框 171011"/>
          <p:cNvSpPr/>
          <p:nvPr/>
        </p:nvSpPr>
        <p:spPr>
          <a:xfrm>
            <a:off x="204840" y="6019920"/>
            <a:ext cx="824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7)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ee generally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tephen A. Goldman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U.S. Postmarketing Pharmacovigilance Compliance in the Midst of Regulatory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Uncertainty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, 62 Food &amp; Drug L. J. 513, 514 (2007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8) Woodin &amp; Schneider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note 5, at 218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8080-635B-4758-A4CA-70F3DED83BA9}" type="slidenum">
              <a:rPr b="0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27636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Questions or Comments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矩形 157699"/>
          <p:cNvSpPr/>
          <p:nvPr/>
        </p:nvSpPr>
        <p:spPr>
          <a:xfrm>
            <a:off x="2594520" y="6299280"/>
            <a:ext cx="37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Template Design by PoweredTemplates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Road Map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Historical context of regulation and pharmaceutical compani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Current Regulatory Framework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Current Industry Practic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cent Scandal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Complaints and Calls for Chang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roposals for Regulatory Chang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roposals for Changes to Industry Practic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Questions or Comments?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Historical Contex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gulation of drugs vs. regulation of clinical research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Government regulation prompted by tragedie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gulation of food and drugs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r. Wiley, the Poison Squad, and food additives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Pure Food and Drugs Act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ulfanilamide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Food, Drug, and Cosmetic Act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halidomide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Kefauver-Harris Amendmen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文本框 159747"/>
          <p:cNvSpPr/>
          <p:nvPr/>
        </p:nvSpPr>
        <p:spPr>
          <a:xfrm>
            <a:off x="194760" y="5937120"/>
            <a:ext cx="84168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1)</a:t>
            </a:r>
            <a:r>
              <a:rPr b="0" lang="en-US" sz="1200" spc="-1" strike="noStrike" baseline="30000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e McGrath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Only a Matter of Time: Lessons Unlearned at the Food and Drug Administration Keep Americans at Risk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,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60 Food &amp; Drug L.J. 603, 603 (2005).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Historical Contex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gulation of clinical research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Nazi experiments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Nuremberg Code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Other subject abuses: 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Tuskegee Syphilis study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Jewish Chronic Disease Hospita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Willowbrook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eclaration of Helsinki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Belmont Report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Historical Contex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harmaceutical industry evolution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Influences government/market through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Litiga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Intense marketing effor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Lobbying (PhRMA)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Prescription Drug User Fee Act: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ecreased review times</a:t>
            </a:r>
            <a:r>
              <a:rPr b="0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2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Affects FDA’s funding</a:t>
            </a:r>
            <a:r>
              <a:rPr b="0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3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文本框 167939"/>
          <p:cNvSpPr/>
          <p:nvPr/>
        </p:nvSpPr>
        <p:spPr>
          <a:xfrm>
            <a:off x="208800" y="5900760"/>
            <a:ext cx="790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2) Sonia Shah, The Body Hunters: Testing New Drugs on the World’s Poorest Patients 40 (The New Press 2006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3) Karen Baswell, Note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Time For A Change: Why the FDA Should Require Greater Disclosure of Differences of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Opinion on the Safety and Efficacy of Approved Drugs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, 35 Hofstra L. Rev. 1799, 1828 (2007)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1484280"/>
            <a:ext cx="6615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urrent Regulatory Framework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Kefauver-Harris Amendments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Requires IND application</a:t>
            </a:r>
            <a:r>
              <a:rPr b="1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4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Requires minimal amount of safety</a:t>
            </a:r>
            <a:r>
              <a:rPr b="1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5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Three phases of clinical trials: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6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hase I – safety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hase II – efficacy (and safety)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hase III – efficacy, safety, and side-effec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Phase IV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DA mandated post-market safety trials</a:t>
            </a:r>
            <a:r>
              <a:rPr b="1" lang="en-US" sz="18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7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ost-market treatment as experimenta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文本框 160771"/>
          <p:cNvSpPr/>
          <p:nvPr/>
        </p:nvSpPr>
        <p:spPr>
          <a:xfrm>
            <a:off x="208800" y="5776920"/>
            <a:ext cx="8440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4) McGrath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note 1, at 609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5) Karen E. Woodin, &amp; John C. Schneider, The CRA's Guide to Monitoring Clinical Research 37-38 (CenterWatch 2003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6) McGrath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pra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note 1, at 609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7) Carl H. Coleman, Jerry A. Menikoff, Jesse A. Goldner &amp; Nancy Neveloff Dubler, The Ethics and Regulation of Research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with Human Subjects 153 (LexisNexis 2005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1484280"/>
            <a:ext cx="66913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urrent Regulatory Framework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Types of disclosure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NDA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Adverse events and alert repor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Dissemination of off-label use informa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ood and Drug Administration Modernization Act of 2007 </a:t>
            </a:r>
            <a:r>
              <a:rPr b="1" lang="en-US" sz="1800" spc="-1" strike="noStrike">
                <a:solidFill>
                  <a:srgbClr val="111111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 Clinicaltrials.gov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Efficacy requirements for serious or life-threatening illness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Accelerated approval – 6 month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urrogate endpoint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1484280"/>
            <a:ext cx="56246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Current Industry Practic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Maximize profit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Reduce costs: CROs and SMO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8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Transition from academic medical centers to CROs</a:t>
            </a:r>
            <a:r>
              <a:rPr b="0" lang="en-US" sz="2000" spc="-1" strike="noStrike" baseline="30000">
                <a:solidFill>
                  <a:srgbClr val="111111"/>
                </a:solidFill>
                <a:latin typeface="Verdana"/>
                <a:ea typeface="굴림"/>
              </a:rPr>
              <a:t>9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Cost avoidance strategi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Good Clinical Practices (GCPs)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文本框 162819"/>
          <p:cNvSpPr/>
          <p:nvPr/>
        </p:nvSpPr>
        <p:spPr>
          <a:xfrm>
            <a:off x="206640" y="5943600"/>
            <a:ext cx="82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8) Richard A. Rettig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The Industrialization of Clinical Research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in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The Ethics and Regulation of Research with Human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Subjects 80-81 (LexisNexis 2005).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9) John Abramson, </a:t>
            </a:r>
            <a:r>
              <a:rPr b="0" i="1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The Reliability of Our Medical Knowledge as a Product of Industry Relationships,</a:t>
            </a: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 35 Hofstra L. Rev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Arial"/>
              </a:rPr>
              <a:t>691, 695-96 (2006). 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59280" y="148428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ahoma"/>
              </a:rPr>
              <a:t>Recent Scandal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37920" y="2285640"/>
            <a:ext cx="63817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Improper reporting of trial results and other misconduc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111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Verdana"/>
                <a:ea typeface="굴림"/>
              </a:rPr>
              <a:t>Ketek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Used to treat bacterial infection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Reports of liver injury and failure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2007: FDA removed two indications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Study 3014 and Dr. Kirkman-Campbell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PPD and Aventis’ inac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Verdana"/>
                <a:ea typeface="굴림"/>
              </a:rPr>
              <a:t>FDA’s inaction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11111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1:42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31Z</dcterms:modified>
  <cp:revision>7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