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E01-40C0-4860-A4BE-7B230F36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043-F9FD-4C5C-A250-FABA97E4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BBE-B694-4995-8417-EAAB000B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4D1-20F0-400B-9095-AB32BFAE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72A3-4EDF-4406-8098-F88D691A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F9B1-AA41-4C21-A7A6-59A29608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345-B353-45AF-BBA4-F784D7D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D41D-4F43-4B69-8F12-36C351F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E79-D706-4405-AC8F-E8C1D81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74C9-9537-4760-A116-635F85E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BF7-EF57-4D2F-8DBC-1CFF3AF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90A-CAB4-414F-977C-88C94050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0618-F326-45EC-BF9B-4580D4A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DB31-A839-4604-B033-B999665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B0F9-57A2-41D6-AF3A-ADAA5DF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772-0A52-4D52-9CC3-AC58FA8A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86F1-B039-48D4-9C10-D280640E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C58-5959-495E-9723-B671C14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0C2-BFC2-4CC8-8DCF-02412E7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F4B-2F1F-41D3-9740-591A28AA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CE6-F6A0-4A4B-B8AA-FF2D093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1F0-0657-44AD-9970-83126E4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D39-E900-42D0-949F-9926ED0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A93-3A2A-4A22-B91A-29BD534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481-E3BF-4D04-8490-8F3DDA489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5F8-7900-4139-ACE3-3AD6EC4B07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DDF8-C560-442C-A2BC-D9F4ED6BF4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50819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18021.htm" TargetMode="External"/><Relationship Id="rId3" Type="http://schemas.openxmlformats.org/officeDocument/2006/relationships/hyperlink" Target="http://baike.baidu.com/view/18021.htm" TargetMode="External"/><Relationship Id="rId4" Type="http://schemas.openxmlformats.org/officeDocument/2006/relationships/hyperlink" Target="http://baike.baidu.com/view/231006.htm" TargetMode="External"/><Relationship Id="rId5" Type="http://schemas.openxmlformats.org/officeDocument/2006/relationships/hyperlink" Target="http://baike.baidu.com/view/41732.htm" TargetMode="External"/><Relationship Id="rId6" Type="http://schemas.openxmlformats.org/officeDocument/2006/relationships/hyperlink" Target="http://baike.baidu.com/view/54569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875616.htm" TargetMode="External"/><Relationship Id="rId3" Type="http://schemas.openxmlformats.org/officeDocument/2006/relationships/hyperlink" Target="http://baike.baidu.com/view/61891.htm" TargetMode="External"/><Relationship Id="rId4" Type="http://schemas.openxmlformats.org/officeDocument/2006/relationships/hyperlink" Target="http://baike.baidu.com/view/2472394.htm" TargetMode="External"/><Relationship Id="rId5" Type="http://schemas.openxmlformats.org/officeDocument/2006/relationships/hyperlink" Target="http://baike.baidu.com/view/2487647.htm" TargetMode="External"/><Relationship Id="rId6" Type="http://schemas.openxmlformats.org/officeDocument/2006/relationships/hyperlink" Target="http://baike.baidu.com/view/1373138.htm" TargetMode="External"/><Relationship Id="rId7" Type="http://schemas.openxmlformats.org/officeDocument/2006/relationships/hyperlink" Target="http://baike.baidu.com/view/261098.ht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4004680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109749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21765.htm" TargetMode="External"/><Relationship Id="rId3" Type="http://schemas.openxmlformats.org/officeDocument/2006/relationships/hyperlink" Target="http://baike.baidu.com/view/1527.htm" TargetMode="External"/><Relationship Id="rId4" Type="http://schemas.openxmlformats.org/officeDocument/2006/relationships/hyperlink" Target="http://baike.baidu.com/view/324716.ht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医疗行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357880" y="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357720" y="471492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行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9"/>
          <p:cNvSpPr/>
          <p:nvPr/>
        </p:nvSpPr>
        <p:spPr>
          <a:xfrm>
            <a:off x="3429000" y="5214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037B-8864-4CF1-A177-CDAFDFB548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饼形 10"/>
          <p:cNvSpPr/>
          <p:nvPr/>
        </p:nvSpPr>
        <p:spPr>
          <a:xfrm>
            <a:off x="2428920" y="3429000"/>
            <a:ext cx="250020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饼形 11"/>
          <p:cNvSpPr/>
          <p:nvPr/>
        </p:nvSpPr>
        <p:spPr>
          <a:xfrm flipV="1">
            <a:off x="2428920" y="927720"/>
            <a:ext cx="250020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饼形 12"/>
          <p:cNvSpPr/>
          <p:nvPr/>
        </p:nvSpPr>
        <p:spPr>
          <a:xfrm flipH="1" flipV="1">
            <a:off x="4929120" y="928080"/>
            <a:ext cx="250056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饼形 13"/>
          <p:cNvSpPr/>
          <p:nvPr/>
        </p:nvSpPr>
        <p:spPr>
          <a:xfrm flipH="1">
            <a:off x="4929120" y="3429000"/>
            <a:ext cx="250056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714840" y="25718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 基本医疗保险待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3714840" y="3000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统筹基金的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4153320" y="3500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个人帐户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153320" y="3929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四）统筹基金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9" descr="2.png"/>
          <p:cNvPicPr/>
          <p:nvPr/>
        </p:nvPicPr>
        <p:blipFill>
          <a:blip r:embed="rId2"/>
          <a:stretch/>
        </p:blipFill>
        <p:spPr>
          <a:xfrm>
            <a:off x="3422520" y="1960560"/>
            <a:ext cx="3149640" cy="296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3500280" y="1405080"/>
            <a:ext cx="342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汉语拼音为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ī liá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解释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治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疾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治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2"/>
          <p:cNvGrpSpPr/>
          <p:nvPr/>
        </p:nvGrpSpPr>
        <p:grpSpPr>
          <a:xfrm>
            <a:off x="3201480" y="1749600"/>
            <a:ext cx="1078560" cy="536400"/>
            <a:chOff x="3201480" y="1749600"/>
            <a:chExt cx="1078560" cy="536400"/>
          </a:xfrm>
        </p:grpSpPr>
        <p:sp>
          <p:nvSpPr>
            <p:cNvPr id="101" name="流程图: 延期 10"/>
            <p:cNvSpPr/>
            <p:nvPr/>
          </p:nvSpPr>
          <p:spPr>
            <a:xfrm flipV="1">
              <a:off x="3743280" y="17496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延期 11"/>
            <p:cNvSpPr/>
            <p:nvPr/>
          </p:nvSpPr>
          <p:spPr>
            <a:xfrm flipH="1" flipV="1">
              <a:off x="3201120" y="17496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3"/>
          <p:cNvGrpSpPr/>
          <p:nvPr/>
        </p:nvGrpSpPr>
        <p:grpSpPr>
          <a:xfrm>
            <a:off x="3208320" y="2534760"/>
            <a:ext cx="1077840" cy="536760"/>
            <a:chOff x="3208320" y="2534760"/>
            <a:chExt cx="1077840" cy="536760"/>
          </a:xfrm>
        </p:grpSpPr>
        <p:sp>
          <p:nvSpPr>
            <p:cNvPr id="104" name="流程图: 延期 14"/>
            <p:cNvSpPr/>
            <p:nvPr/>
          </p:nvSpPr>
          <p:spPr>
            <a:xfrm flipV="1">
              <a:off x="3749760" y="2534400"/>
              <a:ext cx="53640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流程图: 延期 15"/>
            <p:cNvSpPr/>
            <p:nvPr/>
          </p:nvSpPr>
          <p:spPr>
            <a:xfrm flipH="1" flipV="1">
              <a:off x="3208320" y="2534400"/>
              <a:ext cx="53640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6"/>
          <p:cNvGrpSpPr/>
          <p:nvPr/>
        </p:nvGrpSpPr>
        <p:grpSpPr>
          <a:xfrm>
            <a:off x="3201480" y="3429000"/>
            <a:ext cx="1078560" cy="536400"/>
            <a:chOff x="3201480" y="3429000"/>
            <a:chExt cx="1078560" cy="536400"/>
          </a:xfrm>
        </p:grpSpPr>
        <p:sp>
          <p:nvSpPr>
            <p:cNvPr id="107" name="流程图: 延期 17"/>
            <p:cNvSpPr/>
            <p:nvPr/>
          </p:nvSpPr>
          <p:spPr>
            <a:xfrm flipV="1">
              <a:off x="3743280" y="34290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流程图: 延期 18"/>
            <p:cNvSpPr/>
            <p:nvPr/>
          </p:nvSpPr>
          <p:spPr>
            <a:xfrm flipH="1" flipV="1">
              <a:off x="3201120" y="34290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9"/>
          <p:cNvGrpSpPr/>
          <p:nvPr/>
        </p:nvGrpSpPr>
        <p:grpSpPr>
          <a:xfrm>
            <a:off x="3208320" y="4249800"/>
            <a:ext cx="1077840" cy="536400"/>
            <a:chOff x="3208320" y="4249800"/>
            <a:chExt cx="1077840" cy="536400"/>
          </a:xfrm>
        </p:grpSpPr>
        <p:sp>
          <p:nvSpPr>
            <p:cNvPr id="110" name="流程图: 延期 20"/>
            <p:cNvSpPr/>
            <p:nvPr/>
          </p:nvSpPr>
          <p:spPr>
            <a:xfrm flipV="1">
              <a:off x="3749760" y="42498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流程图: 延期 21"/>
            <p:cNvSpPr/>
            <p:nvPr/>
          </p:nvSpPr>
          <p:spPr>
            <a:xfrm flipH="1" flipV="1">
              <a:off x="3208320" y="42498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34"/>
          <p:cNvSpPr/>
          <p:nvPr/>
        </p:nvSpPr>
        <p:spPr>
          <a:xfrm>
            <a:off x="3214800" y="1844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321480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21480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3214800" y="430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8"/>
          <p:cNvGrpSpPr/>
          <p:nvPr/>
        </p:nvGrpSpPr>
        <p:grpSpPr>
          <a:xfrm>
            <a:off x="5357880" y="1749600"/>
            <a:ext cx="1077840" cy="536400"/>
            <a:chOff x="5357880" y="1749600"/>
            <a:chExt cx="1077840" cy="536400"/>
          </a:xfrm>
        </p:grpSpPr>
        <p:sp>
          <p:nvSpPr>
            <p:cNvPr id="117" name="流程图: 延期 39"/>
            <p:cNvSpPr/>
            <p:nvPr/>
          </p:nvSpPr>
          <p:spPr>
            <a:xfrm flipV="1">
              <a:off x="5899320" y="17496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延期 40"/>
            <p:cNvSpPr/>
            <p:nvPr/>
          </p:nvSpPr>
          <p:spPr>
            <a:xfrm flipH="1" flipV="1">
              <a:off x="5357880" y="17496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1"/>
          <p:cNvGrpSpPr/>
          <p:nvPr/>
        </p:nvGrpSpPr>
        <p:grpSpPr>
          <a:xfrm>
            <a:off x="5363640" y="2534760"/>
            <a:ext cx="1078560" cy="536760"/>
            <a:chOff x="5363640" y="2534760"/>
            <a:chExt cx="1078560" cy="536760"/>
          </a:xfrm>
        </p:grpSpPr>
        <p:sp>
          <p:nvSpPr>
            <p:cNvPr id="120" name="流程图: 延期 42"/>
            <p:cNvSpPr/>
            <p:nvPr/>
          </p:nvSpPr>
          <p:spPr>
            <a:xfrm flipV="1">
              <a:off x="5905440" y="2534400"/>
              <a:ext cx="53676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延期 43"/>
            <p:cNvSpPr/>
            <p:nvPr/>
          </p:nvSpPr>
          <p:spPr>
            <a:xfrm flipH="1" flipV="1">
              <a:off x="5363280" y="2534400"/>
              <a:ext cx="53676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4"/>
          <p:cNvGrpSpPr/>
          <p:nvPr/>
        </p:nvGrpSpPr>
        <p:grpSpPr>
          <a:xfrm>
            <a:off x="5357880" y="3429000"/>
            <a:ext cx="1077840" cy="536400"/>
            <a:chOff x="5357880" y="3429000"/>
            <a:chExt cx="1077840" cy="536400"/>
          </a:xfrm>
        </p:grpSpPr>
        <p:sp>
          <p:nvSpPr>
            <p:cNvPr id="123" name="流程图: 延期 45"/>
            <p:cNvSpPr/>
            <p:nvPr/>
          </p:nvSpPr>
          <p:spPr>
            <a:xfrm flipV="1">
              <a:off x="5899320" y="34290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延期 46"/>
            <p:cNvSpPr/>
            <p:nvPr/>
          </p:nvSpPr>
          <p:spPr>
            <a:xfrm flipH="1" flipV="1">
              <a:off x="5357880" y="34290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47"/>
          <p:cNvGrpSpPr/>
          <p:nvPr/>
        </p:nvGrpSpPr>
        <p:grpSpPr>
          <a:xfrm>
            <a:off x="5363640" y="4249800"/>
            <a:ext cx="1078560" cy="536400"/>
            <a:chOff x="5363640" y="4249800"/>
            <a:chExt cx="1078560" cy="536400"/>
          </a:xfrm>
        </p:grpSpPr>
        <p:sp>
          <p:nvSpPr>
            <p:cNvPr id="126" name="流程图: 延期 48"/>
            <p:cNvSpPr/>
            <p:nvPr/>
          </p:nvSpPr>
          <p:spPr>
            <a:xfrm flipV="1">
              <a:off x="5905440" y="42498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流程图: 延期 49"/>
            <p:cNvSpPr/>
            <p:nvPr/>
          </p:nvSpPr>
          <p:spPr>
            <a:xfrm flipH="1" flipV="1">
              <a:off x="5363280" y="42498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50"/>
          <p:cNvSpPr/>
          <p:nvPr/>
        </p:nvSpPr>
        <p:spPr>
          <a:xfrm>
            <a:off x="5370480" y="182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"/>
          <p:cNvSpPr/>
          <p:nvPr/>
        </p:nvSpPr>
        <p:spPr>
          <a:xfrm>
            <a:off x="535788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2"/>
          <p:cNvSpPr/>
          <p:nvPr/>
        </p:nvSpPr>
        <p:spPr>
          <a:xfrm>
            <a:off x="535788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3"/>
          <p:cNvSpPr/>
          <p:nvPr/>
        </p:nvSpPr>
        <p:spPr>
          <a:xfrm>
            <a:off x="5357880" y="432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平行四边形 14"/>
          <p:cNvSpPr/>
          <p:nvPr/>
        </p:nvSpPr>
        <p:spPr>
          <a:xfrm>
            <a:off x="1428840" y="4357800"/>
            <a:ext cx="6786360" cy="1000080"/>
          </a:xfrm>
          <a:prstGeom prst="parallelogram">
            <a:avLst>
              <a:gd name="adj" fmla="val 25007"/>
            </a:avLst>
          </a:pr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1714680" y="4500720"/>
            <a:ext cx="65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spitalization; remedy; benefit; medical treatment ; medical; 1.medical treatment ; give medical treatment to somebody; medical attendance; medical care; medical treatment to so me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1" descr="902397dda144ad3420c8461dd0a20cf431ad8531.jpg"/>
          <p:cNvPicPr/>
          <p:nvPr/>
        </p:nvPicPr>
        <p:blipFill>
          <a:blip r:embed="rId2"/>
          <a:stretch/>
        </p:blipFill>
        <p:spPr>
          <a:xfrm>
            <a:off x="2398680" y="1130400"/>
            <a:ext cx="4745160" cy="31557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1"/>
          <p:cNvGrpSpPr/>
          <p:nvPr/>
        </p:nvGrpSpPr>
        <p:grpSpPr>
          <a:xfrm>
            <a:off x="1999800" y="1833480"/>
            <a:ext cx="5748840" cy="2881440"/>
            <a:chOff x="1999800" y="1833480"/>
            <a:chExt cx="5748840" cy="2881440"/>
          </a:xfrm>
        </p:grpSpPr>
        <p:sp>
          <p:nvSpPr>
            <p:cNvPr id="142" name="流程图: 延期 9"/>
            <p:cNvSpPr/>
            <p:nvPr/>
          </p:nvSpPr>
          <p:spPr>
            <a:xfrm flipV="1">
              <a:off x="4866840" y="1833120"/>
              <a:ext cx="2881800" cy="288144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流程图: 延期 10"/>
            <p:cNvSpPr/>
            <p:nvPr/>
          </p:nvSpPr>
          <p:spPr>
            <a:xfrm flipH="1" flipV="1">
              <a:off x="1999080" y="1833480"/>
              <a:ext cx="2881800" cy="288144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214960" y="2548080"/>
            <a:ext cx="2214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健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健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们共同追求的，但疾病也一路伴随人生。每人都会有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生老病死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无可厚非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2357280" y="2529000"/>
            <a:ext cx="2643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医史几千年，而这个字眼是在近几十年才出现，其实这是为了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国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轨而新生的字眼，之前大多使用治疗。然而医疗也包含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保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85920" y="1928880"/>
            <a:ext cx="6929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计划经济体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，医疗卫生体系定位明确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中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医疗卫生创造了一系列辉煌，在医疗服务、预防保健等各个方面都取得了很大的成就。农村和城镇的医疗服务也在这时全面展开，医疗服务的可及性大大增强。由于社会经济发展和综合国力的影响以及“政事一体化”的管理，中国在医疗技术，服务水平和基础设施建设方面都不同程度地存在一定问题。这就要求人们不断探索新的发展途径。中国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医疗保障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在新中国成立后逐步建立和发展起来的。由于各种原因，中国的医疗保障制度是城乡分离的，各自有不同的特点和发展过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城镇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先后经历了公费、劳保医疗制度，城镇医疗保险改革和试点阶段，全国范围内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城镇职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医疗保险制度的确立，以及多层次医疗保障体系的探索等阶段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伴随着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合作医疗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的兴衰，努力开展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新型农村合作医疗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建设工作，进而对农村医疗保障制度多样化进行探索与完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1000080" y="1643040"/>
            <a:ext cx="7286760" cy="321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箭头连接符 9"/>
          <p:cNvCxnSpPr/>
          <p:nvPr/>
        </p:nvCxnSpPr>
        <p:spPr>
          <a:xfrm>
            <a:off x="1285560" y="3571920"/>
            <a:ext cx="6715800" cy="2160"/>
          </a:xfrm>
          <a:prstGeom prst="straightConnector1">
            <a:avLst/>
          </a:prstGeom>
          <a:ln w="28440">
            <a:solidFill>
              <a:srgbClr val="00c0ca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五边形 8"/>
          <p:cNvSpPr/>
          <p:nvPr/>
        </p:nvSpPr>
        <p:spPr>
          <a:xfrm flipH="1">
            <a:off x="928080" y="3214800"/>
            <a:ext cx="7429320" cy="928440"/>
          </a:xfrm>
          <a:custGeom>
            <a:avLst/>
            <a:gdLst>
              <a:gd name="textAreaLeft" fmla="*/ -360 w 7429320"/>
              <a:gd name="textAreaRight" fmla="*/ 742932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>
            <a:off x="928800" y="2071800"/>
            <a:ext cx="7429320" cy="928440"/>
          </a:xfrm>
          <a:custGeom>
            <a:avLst/>
            <a:gdLst>
              <a:gd name="textAreaLeft" fmla="*/ 0 w 7429320"/>
              <a:gd name="textAreaRight" fmla="*/ 742968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143000" y="2286000"/>
            <a:ext cx="70009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医疗机构及其医务人员在医疗活动中，违反医疗卫生管理法律、行政法规、部门规章和诊疗护理规范、常规，过失就会造成患者人身损害的事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是否为医疗事故目前需要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医疗事故鉴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委员会鉴定才能认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7"/>
          <p:cNvSpPr/>
          <p:nvPr/>
        </p:nvSpPr>
        <p:spPr>
          <a:xfrm>
            <a:off x="1285920" y="1571760"/>
            <a:ext cx="2786040" cy="385740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400"/>
              <a:gd name="textAreaBottom" fmla="*/ 3721680 h 3857400"/>
            </a:gdLst>
            <a:ahLst/>
            <a:rect l="textAreaLeft" t="textAreaTop" r="textAreaRight" b="textAreaBottom"/>
            <a:pathLst>
              <a:path w="21600" h="29905">
                <a:moveTo>
                  <a:pt x="3600" y="0"/>
                </a:moveTo>
                <a:arcTo wR="3600" hR="3600" stAng="16200000" swAng="-5400000"/>
                <a:lnTo>
                  <a:pt x="0" y="26305"/>
                </a:lnTo>
                <a:arcTo wR="3600" hR="3600" stAng="10800000" swAng="-5400000"/>
                <a:lnTo>
                  <a:pt x="18000" y="29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8"/>
          <p:cNvSpPr/>
          <p:nvPr/>
        </p:nvSpPr>
        <p:spPr>
          <a:xfrm>
            <a:off x="5357880" y="1643040"/>
            <a:ext cx="2786040" cy="385776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760"/>
              <a:gd name="textAreaBottom" fmla="*/ 3722040 h 3857760"/>
            </a:gdLst>
            <a:ahLst/>
            <a:rect l="textAreaLeft" t="textAreaTop" r="textAreaRight" b="textAreaBottom"/>
            <a:pathLst>
              <a:path w="21600" h="29908">
                <a:moveTo>
                  <a:pt x="3600" y="0"/>
                </a:moveTo>
                <a:arcTo wR="3600" hR="3600" stAng="16200000" swAng="-5400000"/>
                <a:lnTo>
                  <a:pt x="0" y="26308"/>
                </a:lnTo>
                <a:arcTo wR="3600" hR="3600" stAng="10800000" swAng="-5400000"/>
                <a:lnTo>
                  <a:pt x="18000" y="29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1500120" y="1611360"/>
            <a:ext cx="235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国家统计局公布的第六次全国人口普查数据显示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2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比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人口普查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9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87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91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仅如此，根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老龄事业发展“十二五”规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将迎来第一个老年人口增长高峰：全国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上老年人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7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，老年人口比重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人口老龄化日益加重，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3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老年人口规模将会翻一番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572080" y="1828800"/>
            <a:ext cx="25002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此，老龄化趋势日益严重、老年人口增加引发的“银发经济”也成为资本市场关注的焦点。因此平安网记者从发掘受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人口老龄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业去看，医疗机构当数受益第一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年人由于生理的功能普遍降低，对疾病的易感性增加，患病率明显高于中青年人，成为疾病的高危人群。统计数据显示，老年人住院率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62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远高于青年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而且随着社会保障制度的健全，以及本身对健康的需求，老年人在健康领域的投入越来越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11"/>
          <p:cNvSpPr/>
          <p:nvPr/>
        </p:nvSpPr>
        <p:spPr>
          <a:xfrm>
            <a:off x="4429080" y="328608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波形 11"/>
          <p:cNvSpPr/>
          <p:nvPr/>
        </p:nvSpPr>
        <p:spPr>
          <a:xfrm>
            <a:off x="928800" y="1500120"/>
            <a:ext cx="7500960" cy="3071880"/>
          </a:xfrm>
          <a:custGeom>
            <a:avLst/>
            <a:gdLst>
              <a:gd name="textAreaLeft" fmla="*/ 0 w 7500960"/>
              <a:gd name="textAreaRight" fmla="*/ 7501320 w 7500960"/>
              <a:gd name="textAreaTop" fmla="*/ 767880 h 3071880"/>
              <a:gd name="textAreaBottom" fmla="*/ 230400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571760" y="2214720"/>
            <a:ext cx="6500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一般会建设一个共同体协管中心，共同体协管中心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医院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社区医院、卫生院和诊所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信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集点，使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患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诊信息的双向传递成为可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建设的建设能提升了社区医院、乡镇卫生院和诊所的服务水平，能够有名医会诊，可以双向转诊，大大降低了患者就医的风险，越来越多的患者开始了首诊就医在社区，中小医院、乡镇卫生院或诊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协管中心是整个共同体的信息聚集点和协调部门，目前共同体的建设处于试点阶段，尚未全面实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0Z</dcterms:modified>
  <cp:revision>3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