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0CD8-2C8F-43BD-A572-6AE308B99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6108-5372-4B68-8DC0-7FECEBFD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ABBE-FE0B-4FD0-8C63-31CA88209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7682-5795-4B2C-A187-1F5E72807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3F39-D0F4-41D9-BBAC-BBF880374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9BD7-33D2-4127-AB95-AF055B6C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AD12-AA04-480D-A757-195FE695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2521-B6B9-466F-AF05-815B02D6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E5C7E-19A0-4ED1-98D3-BE07F90C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C455-AE80-4C69-B2EC-346FD687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31BC-4B04-4B4C-A037-1DCBA59F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7856-4C10-4B4E-A198-AB93C088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EA07-5D9E-42E8-A1D5-C1160E5D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65B9-A617-46EF-8711-448E9CAB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2F0A-B11E-4CAE-B1BD-AABD5A32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9384-537B-4B2E-8D5D-47C01C708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E286-6438-4AC2-BDF0-706119DF1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1A51-E728-4433-A237-76B234ED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8BC0-FF66-4C1C-9294-FA5AD674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0000-8F9D-4041-89C3-EC0D73B4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6456-787D-4931-8F48-0AEC74B4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27AE-455E-4FC6-91D8-2851BFE2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0A32-EB33-4A69-B4A2-BFA6A5C0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FBD8-4575-47A3-8A70-2B368A20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25C8-E21F-4760-A208-16F1D6D5D4F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F7AD-72F9-4F04-9469-E5D413BF712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C294-56D5-4F5E-84AD-43F7561A00D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药物医学治疗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3214800" y="4429080"/>
            <a:ext cx="4857480" cy="16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医疗医学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9"/>
          <p:cNvSpPr/>
          <p:nvPr/>
        </p:nvSpPr>
        <p:spPr>
          <a:xfrm>
            <a:off x="3286080" y="4929120"/>
            <a:ext cx="300060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6155"/>
          <p:cNvSpPr/>
          <p:nvPr/>
        </p:nvSpPr>
        <p:spPr>
          <a:xfrm>
            <a:off x="34920" y="60930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ADBE-4885-41DD-8ECC-D549B730787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组合 12"/>
          <p:cNvGrpSpPr/>
          <p:nvPr/>
        </p:nvGrpSpPr>
        <p:grpSpPr>
          <a:xfrm>
            <a:off x="1356840" y="1685880"/>
            <a:ext cx="7061760" cy="4743360"/>
            <a:chOff x="1356840" y="1685880"/>
            <a:chExt cx="7061760" cy="4743360"/>
          </a:xfrm>
        </p:grpSpPr>
        <p:sp>
          <p:nvSpPr>
            <p:cNvPr id="215" name="五边形 10"/>
            <p:cNvSpPr/>
            <p:nvPr/>
          </p:nvSpPr>
          <p:spPr>
            <a:xfrm>
              <a:off x="3566160" y="1685880"/>
              <a:ext cx="4852440" cy="2404080"/>
            </a:xfrm>
            <a:custGeom>
              <a:avLst/>
              <a:gdLst>
                <a:gd name="textAreaLeft" fmla="*/ 0 w 4852440"/>
                <a:gd name="textAreaRight" fmla="*/ 4852800 w 4852440"/>
                <a:gd name="textAreaTop" fmla="*/ 0 h 2404080"/>
                <a:gd name="textAreaBottom" fmla="*/ 2404440 h 240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50" y="0"/>
                  </a:lnTo>
                  <a:lnTo>
                    <a:pt x="21600" y="10800"/>
                  </a:lnTo>
                  <a:lnTo>
                    <a:pt x="1625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五边形 11"/>
            <p:cNvSpPr/>
            <p:nvPr/>
          </p:nvSpPr>
          <p:spPr>
            <a:xfrm flipH="1">
              <a:off x="1356480" y="4025160"/>
              <a:ext cx="4852440" cy="2404080"/>
            </a:xfrm>
            <a:custGeom>
              <a:avLst/>
              <a:gdLst>
                <a:gd name="textAreaLeft" fmla="*/ -360 w 4852440"/>
                <a:gd name="textAreaRight" fmla="*/ 4852440 w 4852440"/>
                <a:gd name="textAreaTop" fmla="*/ 0 h 2404080"/>
                <a:gd name="textAreaBottom" fmla="*/ 2404440 h 240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50" y="0"/>
                  </a:lnTo>
                  <a:lnTo>
                    <a:pt x="21600" y="10800"/>
                  </a:lnTo>
                  <a:lnTo>
                    <a:pt x="1625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b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6"/>
          <p:cNvSpPr/>
          <p:nvPr/>
        </p:nvSpPr>
        <p:spPr>
          <a:xfrm>
            <a:off x="422208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64076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321192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组合 16"/>
          <p:cNvGrpSpPr/>
          <p:nvPr/>
        </p:nvGrpSpPr>
        <p:grpSpPr>
          <a:xfrm>
            <a:off x="3002040" y="2286000"/>
            <a:ext cx="3784680" cy="428760"/>
            <a:chOff x="3002040" y="2286000"/>
            <a:chExt cx="3784680" cy="428760"/>
          </a:xfrm>
        </p:grpSpPr>
        <p:sp>
          <p:nvSpPr>
            <p:cNvPr id="89" name="矩形 13"/>
            <p:cNvSpPr/>
            <p:nvPr/>
          </p:nvSpPr>
          <p:spPr>
            <a:xfrm>
              <a:off x="3002040" y="2286000"/>
              <a:ext cx="3784680" cy="71280"/>
            </a:xfrm>
            <a:prstGeom prst="rect">
              <a:avLst/>
            </a:prstGeom>
            <a:solidFill>
              <a:srgbClr val="cb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矩形 14"/>
            <p:cNvSpPr/>
            <p:nvPr/>
          </p:nvSpPr>
          <p:spPr>
            <a:xfrm>
              <a:off x="3002040" y="2357280"/>
              <a:ext cx="3784680" cy="35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17"/>
          <p:cNvGrpSpPr/>
          <p:nvPr/>
        </p:nvGrpSpPr>
        <p:grpSpPr>
          <a:xfrm>
            <a:off x="3002040" y="2928960"/>
            <a:ext cx="3784680" cy="428760"/>
            <a:chOff x="3002040" y="2928960"/>
            <a:chExt cx="3784680" cy="428760"/>
          </a:xfrm>
        </p:grpSpPr>
        <p:sp>
          <p:nvSpPr>
            <p:cNvPr id="92" name="矩形 18"/>
            <p:cNvSpPr/>
            <p:nvPr/>
          </p:nvSpPr>
          <p:spPr>
            <a:xfrm>
              <a:off x="3002040" y="2928960"/>
              <a:ext cx="3784680" cy="71280"/>
            </a:xfrm>
            <a:prstGeom prst="rect">
              <a:avLst/>
            </a:prstGeom>
            <a:solidFill>
              <a:srgbClr val="cb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矩形 19"/>
            <p:cNvSpPr/>
            <p:nvPr/>
          </p:nvSpPr>
          <p:spPr>
            <a:xfrm>
              <a:off x="3002040" y="3000240"/>
              <a:ext cx="3784680" cy="35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20"/>
          <p:cNvGrpSpPr/>
          <p:nvPr/>
        </p:nvGrpSpPr>
        <p:grpSpPr>
          <a:xfrm>
            <a:off x="3002040" y="3571920"/>
            <a:ext cx="3784680" cy="428760"/>
            <a:chOff x="3002040" y="3571920"/>
            <a:chExt cx="3784680" cy="428760"/>
          </a:xfrm>
        </p:grpSpPr>
        <p:sp>
          <p:nvSpPr>
            <p:cNvPr id="95" name="矩形 21"/>
            <p:cNvSpPr/>
            <p:nvPr/>
          </p:nvSpPr>
          <p:spPr>
            <a:xfrm>
              <a:off x="3002040" y="3571920"/>
              <a:ext cx="3784680" cy="71280"/>
            </a:xfrm>
            <a:prstGeom prst="rect">
              <a:avLst/>
            </a:prstGeom>
            <a:solidFill>
              <a:srgbClr val="cb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22"/>
            <p:cNvSpPr/>
            <p:nvPr/>
          </p:nvSpPr>
          <p:spPr>
            <a:xfrm>
              <a:off x="3002040" y="3643200"/>
              <a:ext cx="3784680" cy="35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23"/>
          <p:cNvGrpSpPr/>
          <p:nvPr/>
        </p:nvGrpSpPr>
        <p:grpSpPr>
          <a:xfrm>
            <a:off x="3002040" y="4214880"/>
            <a:ext cx="3784680" cy="428400"/>
            <a:chOff x="3002040" y="4214880"/>
            <a:chExt cx="3784680" cy="428400"/>
          </a:xfrm>
        </p:grpSpPr>
        <p:sp>
          <p:nvSpPr>
            <p:cNvPr id="98" name="矩形 24"/>
            <p:cNvSpPr/>
            <p:nvPr/>
          </p:nvSpPr>
          <p:spPr>
            <a:xfrm>
              <a:off x="3002040" y="4214880"/>
              <a:ext cx="3784680" cy="71280"/>
            </a:xfrm>
            <a:prstGeom prst="rect">
              <a:avLst/>
            </a:prstGeom>
            <a:solidFill>
              <a:srgbClr val="cb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25"/>
            <p:cNvSpPr/>
            <p:nvPr/>
          </p:nvSpPr>
          <p:spPr>
            <a:xfrm>
              <a:off x="3002040" y="4286160"/>
              <a:ext cx="3784680" cy="35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4214880" y="85716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20"/>
          <p:cNvSpPr/>
          <p:nvPr/>
        </p:nvSpPr>
        <p:spPr>
          <a:xfrm>
            <a:off x="442656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1"/>
          <p:cNvSpPr/>
          <p:nvPr/>
        </p:nvSpPr>
        <p:spPr>
          <a:xfrm>
            <a:off x="44265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2"/>
          <p:cNvSpPr/>
          <p:nvPr/>
        </p:nvSpPr>
        <p:spPr>
          <a:xfrm>
            <a:off x="4499280" y="427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1"/>
          <p:cNvSpPr/>
          <p:nvPr/>
        </p:nvSpPr>
        <p:spPr>
          <a:xfrm>
            <a:off x="442656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半闭框 10"/>
          <p:cNvSpPr/>
          <p:nvPr/>
        </p:nvSpPr>
        <p:spPr>
          <a:xfrm>
            <a:off x="4857840" y="3857760"/>
            <a:ext cx="2000160" cy="2000160"/>
          </a:xfrm>
          <a:custGeom>
            <a:avLst/>
            <a:gdLst/>
            <a:ahLst/>
            <a:rect l="l" t="t" r="r" b="b"/>
            <a:pathLst>
              <a:path w="2000250" h="2000250">
                <a:moveTo>
                  <a:pt x="0" y="0"/>
                </a:moveTo>
                <a:lnTo>
                  <a:pt x="2000250" y="0"/>
                </a:lnTo>
                <a:lnTo>
                  <a:pt x="1333506" y="666743"/>
                </a:lnTo>
                <a:lnTo>
                  <a:pt x="666743" y="666743"/>
                </a:lnTo>
                <a:lnTo>
                  <a:pt x="666743" y="1333506"/>
                </a:lnTo>
                <a:lnTo>
                  <a:pt x="0" y="2000250"/>
                </a:lnTo>
                <a:close/>
              </a:path>
            </a:pathLst>
          </a:custGeom>
          <a:solidFill>
            <a:srgbClr val="cbc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半闭框 11"/>
          <p:cNvSpPr/>
          <p:nvPr/>
        </p:nvSpPr>
        <p:spPr>
          <a:xfrm flipH="1">
            <a:off x="2786040" y="3857760"/>
            <a:ext cx="2000160" cy="2000160"/>
          </a:xfrm>
          <a:custGeom>
            <a:avLst/>
            <a:gdLst/>
            <a:ahLst/>
            <a:rect l="l" t="t" r="r" b="b"/>
            <a:pathLst>
              <a:path w="2000250" h="2000250">
                <a:moveTo>
                  <a:pt x="0" y="0"/>
                </a:moveTo>
                <a:lnTo>
                  <a:pt x="2000250" y="0"/>
                </a:lnTo>
                <a:lnTo>
                  <a:pt x="1333506" y="666743"/>
                </a:lnTo>
                <a:lnTo>
                  <a:pt x="666743" y="666743"/>
                </a:lnTo>
                <a:lnTo>
                  <a:pt x="666743" y="1333506"/>
                </a:lnTo>
                <a:lnTo>
                  <a:pt x="0" y="20002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半闭框 12"/>
          <p:cNvSpPr/>
          <p:nvPr/>
        </p:nvSpPr>
        <p:spPr>
          <a:xfrm flipH="1" flipV="1">
            <a:off x="2786040" y="1785960"/>
            <a:ext cx="2000160" cy="2000160"/>
          </a:xfrm>
          <a:custGeom>
            <a:avLst/>
            <a:gdLst/>
            <a:ahLst/>
            <a:rect l="l" t="t" r="r" b="b"/>
            <a:pathLst>
              <a:path w="2000250" h="2000250">
                <a:moveTo>
                  <a:pt x="0" y="0"/>
                </a:moveTo>
                <a:lnTo>
                  <a:pt x="2000250" y="0"/>
                </a:lnTo>
                <a:lnTo>
                  <a:pt x="1333506" y="666743"/>
                </a:lnTo>
                <a:lnTo>
                  <a:pt x="666743" y="666743"/>
                </a:lnTo>
                <a:lnTo>
                  <a:pt x="666743" y="1333506"/>
                </a:lnTo>
                <a:lnTo>
                  <a:pt x="0" y="2000250"/>
                </a:lnTo>
                <a:close/>
              </a:path>
            </a:pathLst>
          </a:custGeom>
          <a:solidFill>
            <a:srgbClr val="cbc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半闭框 13"/>
          <p:cNvSpPr/>
          <p:nvPr/>
        </p:nvSpPr>
        <p:spPr>
          <a:xfrm flipV="1">
            <a:off x="4857840" y="1785960"/>
            <a:ext cx="2000160" cy="2000160"/>
          </a:xfrm>
          <a:custGeom>
            <a:avLst/>
            <a:gdLst/>
            <a:ahLst/>
            <a:rect l="l" t="t" r="r" b="b"/>
            <a:pathLst>
              <a:path w="2000250" h="2000250">
                <a:moveTo>
                  <a:pt x="0" y="0"/>
                </a:moveTo>
                <a:lnTo>
                  <a:pt x="2000250" y="0"/>
                </a:lnTo>
                <a:lnTo>
                  <a:pt x="1333506" y="666743"/>
                </a:lnTo>
                <a:lnTo>
                  <a:pt x="666743" y="666743"/>
                </a:lnTo>
                <a:lnTo>
                  <a:pt x="666743" y="1333506"/>
                </a:lnTo>
                <a:lnTo>
                  <a:pt x="0" y="20002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422208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2"/>
          <p:cNvSpPr/>
          <p:nvPr/>
        </p:nvSpPr>
        <p:spPr>
          <a:xfrm>
            <a:off x="34977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3"/>
          <p:cNvSpPr/>
          <p:nvPr/>
        </p:nvSpPr>
        <p:spPr>
          <a:xfrm>
            <a:off x="514080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4"/>
          <p:cNvSpPr/>
          <p:nvPr/>
        </p:nvSpPr>
        <p:spPr>
          <a:xfrm>
            <a:off x="34977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5"/>
          <p:cNvSpPr/>
          <p:nvPr/>
        </p:nvSpPr>
        <p:spPr>
          <a:xfrm>
            <a:off x="5140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斜纹 10"/>
          <p:cNvSpPr/>
          <p:nvPr/>
        </p:nvSpPr>
        <p:spPr>
          <a:xfrm>
            <a:off x="2593800" y="1951200"/>
            <a:ext cx="2478240" cy="2477880"/>
          </a:xfrm>
          <a:custGeom>
            <a:avLst/>
            <a:gdLst/>
            <a:ahLst/>
            <a:rect l="l" t="t" r="r" b="b"/>
            <a:pathLst>
              <a:path w="2478087" h="2478087">
                <a:moveTo>
                  <a:pt x="0" y="1239043"/>
                </a:moveTo>
                <a:lnTo>
                  <a:pt x="1239043" y="0"/>
                </a:lnTo>
                <a:lnTo>
                  <a:pt x="2478087" y="0"/>
                </a:lnTo>
                <a:lnTo>
                  <a:pt x="0" y="247808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斜纹 11"/>
          <p:cNvSpPr/>
          <p:nvPr/>
        </p:nvSpPr>
        <p:spPr>
          <a:xfrm flipV="1">
            <a:off x="2593800" y="3236760"/>
            <a:ext cx="2478240" cy="2478240"/>
          </a:xfrm>
          <a:custGeom>
            <a:avLst/>
            <a:gdLst/>
            <a:ahLst/>
            <a:rect l="l" t="t" r="r" b="b"/>
            <a:pathLst>
              <a:path w="2478087" h="2478087">
                <a:moveTo>
                  <a:pt x="0" y="1239043"/>
                </a:moveTo>
                <a:lnTo>
                  <a:pt x="1239043" y="0"/>
                </a:lnTo>
                <a:lnTo>
                  <a:pt x="2478087" y="0"/>
                </a:lnTo>
                <a:lnTo>
                  <a:pt x="0" y="2478087"/>
                </a:lnTo>
                <a:close/>
              </a:path>
            </a:pathLst>
          </a:custGeom>
          <a:solidFill>
            <a:srgbClr val="cbc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斜纹 12"/>
          <p:cNvSpPr/>
          <p:nvPr/>
        </p:nvSpPr>
        <p:spPr>
          <a:xfrm flipH="1" flipV="1">
            <a:off x="5022720" y="3236760"/>
            <a:ext cx="2478240" cy="2478240"/>
          </a:xfrm>
          <a:custGeom>
            <a:avLst/>
            <a:gdLst/>
            <a:ahLst/>
            <a:rect l="l" t="t" r="r" b="b"/>
            <a:pathLst>
              <a:path w="2478087" h="2478087">
                <a:moveTo>
                  <a:pt x="0" y="1239043"/>
                </a:moveTo>
                <a:lnTo>
                  <a:pt x="1239043" y="0"/>
                </a:lnTo>
                <a:lnTo>
                  <a:pt x="2478087" y="0"/>
                </a:lnTo>
                <a:lnTo>
                  <a:pt x="0" y="247808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斜纹 13"/>
          <p:cNvSpPr/>
          <p:nvPr/>
        </p:nvSpPr>
        <p:spPr>
          <a:xfrm flipH="1">
            <a:off x="5022720" y="1951200"/>
            <a:ext cx="2478240" cy="2477880"/>
          </a:xfrm>
          <a:custGeom>
            <a:avLst/>
            <a:gdLst/>
            <a:ahLst/>
            <a:rect l="l" t="t" r="r" b="b"/>
            <a:pathLst>
              <a:path w="2478087" h="2478087">
                <a:moveTo>
                  <a:pt x="0" y="1239043"/>
                </a:moveTo>
                <a:lnTo>
                  <a:pt x="1239043" y="0"/>
                </a:lnTo>
                <a:lnTo>
                  <a:pt x="2478087" y="0"/>
                </a:lnTo>
                <a:lnTo>
                  <a:pt x="0" y="2478087"/>
                </a:lnTo>
                <a:close/>
              </a:path>
            </a:pathLst>
          </a:custGeom>
          <a:solidFill>
            <a:srgbClr val="cbc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6"/>
          <p:cNvSpPr/>
          <p:nvPr/>
        </p:nvSpPr>
        <p:spPr>
          <a:xfrm>
            <a:off x="422208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2"/>
          <p:cNvSpPr/>
          <p:nvPr/>
        </p:nvSpPr>
        <p:spPr>
          <a:xfrm>
            <a:off x="33548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3"/>
          <p:cNvSpPr/>
          <p:nvPr/>
        </p:nvSpPr>
        <p:spPr>
          <a:xfrm>
            <a:off x="621252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4"/>
          <p:cNvSpPr/>
          <p:nvPr/>
        </p:nvSpPr>
        <p:spPr>
          <a:xfrm>
            <a:off x="31406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5"/>
          <p:cNvSpPr/>
          <p:nvPr/>
        </p:nvSpPr>
        <p:spPr>
          <a:xfrm>
            <a:off x="606960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11"/>
          <p:cNvSpPr/>
          <p:nvPr/>
        </p:nvSpPr>
        <p:spPr>
          <a:xfrm>
            <a:off x="928800" y="2500200"/>
            <a:ext cx="1071360" cy="30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2928960" y="2500200"/>
            <a:ext cx="1071720" cy="30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5"/>
          <p:cNvSpPr/>
          <p:nvPr/>
        </p:nvSpPr>
        <p:spPr>
          <a:xfrm>
            <a:off x="5006880" y="2500200"/>
            <a:ext cx="1071720" cy="30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6"/>
          <p:cNvSpPr/>
          <p:nvPr/>
        </p:nvSpPr>
        <p:spPr>
          <a:xfrm>
            <a:off x="7215120" y="2428920"/>
            <a:ext cx="1071720" cy="30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上弧形箭头 10"/>
          <p:cNvSpPr/>
          <p:nvPr/>
        </p:nvSpPr>
        <p:spPr>
          <a:xfrm>
            <a:off x="2071800" y="1928880"/>
            <a:ext cx="850680" cy="511200"/>
          </a:xfrm>
          <a:custGeom>
            <a:avLst/>
            <a:gdLst>
              <a:gd name="textAreaLeft" fmla="*/ 164520 w 850680"/>
              <a:gd name="textAreaRight" fmla="*/ 622080 w 850680"/>
              <a:gd name="textAreaTop" fmla="*/ 68400 h 511200"/>
              <a:gd name="textAreaBottom" fmla="*/ 442800 h 511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67" hR="21600" stAng="10800000" swAng="5400000"/>
                <a:lnTo>
                  <a:pt x="11611" y="0"/>
                </a:lnTo>
                <a:arcTo wR="8367" hR="21600" stAng="-5400000" swAng="3378853"/>
                <a:lnTo>
                  <a:pt x="21334" y="16200"/>
                </a:lnTo>
                <a:lnTo>
                  <a:pt x="18356" y="21600"/>
                </a:lnTo>
                <a:lnTo>
                  <a:pt x="14846" y="16200"/>
                </a:lnTo>
                <a:lnTo>
                  <a:pt x="16468" y="16200"/>
                </a:lnTo>
                <a:arcTo wR="8367" hR="21600" stAng="-2021147" swAng="-3116224"/>
                <a:lnTo>
                  <a:pt x="9989" y="410"/>
                </a:lnTo>
                <a:arcTo wR="8367" hR="21600" stAng="-5662629" swAng="-5137371"/>
                <a:close/>
              </a:path>
              <a:path fill="darkenLess" w="21600" h="21600">
                <a:moveTo>
                  <a:pt x="0" y="21600"/>
                </a:moveTo>
                <a:arcTo wR="8367" hR="21600" stAng="10800000" swAng="5400000"/>
                <a:lnTo>
                  <a:pt x="8367" y="0"/>
                </a:lnTo>
                <a:arcTo wR="8367" hR="21600" stAng="-5400000" swAng="262629"/>
                <a:lnTo>
                  <a:pt x="9989" y="410"/>
                </a:lnTo>
                <a:arcTo wR="8367" hR="21600" stAng="-5662629" swAng="-5137371"/>
                <a:close/>
              </a:path>
            </a:pathLst>
          </a:custGeom>
          <a:solidFill>
            <a:srgbClr val="cbc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上弧形箭头 12"/>
          <p:cNvSpPr/>
          <p:nvPr/>
        </p:nvSpPr>
        <p:spPr>
          <a:xfrm>
            <a:off x="4071960" y="1928880"/>
            <a:ext cx="851040" cy="511200"/>
          </a:xfrm>
          <a:custGeom>
            <a:avLst/>
            <a:gdLst>
              <a:gd name="textAreaLeft" fmla="*/ 164880 w 851040"/>
              <a:gd name="textAreaRight" fmla="*/ 622440 w 851040"/>
              <a:gd name="textAreaTop" fmla="*/ 68400 h 511200"/>
              <a:gd name="textAreaBottom" fmla="*/ 442800 h 511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67" hR="21600" stAng="10800000" swAng="5400000"/>
                <a:lnTo>
                  <a:pt x="11611" y="0"/>
                </a:lnTo>
                <a:arcTo wR="8367" hR="21600" stAng="-5400000" swAng="3378853"/>
                <a:lnTo>
                  <a:pt x="21334" y="16200"/>
                </a:lnTo>
                <a:lnTo>
                  <a:pt x="18356" y="21600"/>
                </a:lnTo>
                <a:lnTo>
                  <a:pt x="14846" y="16200"/>
                </a:lnTo>
                <a:lnTo>
                  <a:pt x="16468" y="16200"/>
                </a:lnTo>
                <a:arcTo wR="8367" hR="21600" stAng="-2021147" swAng="-3116224"/>
                <a:lnTo>
                  <a:pt x="9989" y="410"/>
                </a:lnTo>
                <a:arcTo wR="8367" hR="21600" stAng="-5662629" swAng="-5137371"/>
                <a:close/>
              </a:path>
              <a:path fill="darkenLess" w="21600" h="21600">
                <a:moveTo>
                  <a:pt x="0" y="21600"/>
                </a:moveTo>
                <a:arcTo wR="8367" hR="21600" stAng="10800000" swAng="5400000"/>
                <a:lnTo>
                  <a:pt x="8367" y="0"/>
                </a:lnTo>
                <a:arcTo wR="8367" hR="21600" stAng="-5400000" swAng="262629"/>
                <a:lnTo>
                  <a:pt x="9989" y="410"/>
                </a:lnTo>
                <a:arcTo wR="8367" hR="21600" stAng="-5662629" swAng="-5137371"/>
                <a:close/>
              </a:path>
            </a:pathLst>
          </a:custGeom>
          <a:solidFill>
            <a:srgbClr val="cbc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上弧形箭头 14"/>
          <p:cNvSpPr/>
          <p:nvPr/>
        </p:nvSpPr>
        <p:spPr>
          <a:xfrm>
            <a:off x="6149880" y="1928880"/>
            <a:ext cx="851040" cy="511200"/>
          </a:xfrm>
          <a:custGeom>
            <a:avLst/>
            <a:gdLst>
              <a:gd name="textAreaLeft" fmla="*/ 164880 w 851040"/>
              <a:gd name="textAreaRight" fmla="*/ 622440 w 851040"/>
              <a:gd name="textAreaTop" fmla="*/ 68400 h 511200"/>
              <a:gd name="textAreaBottom" fmla="*/ 442800 h 511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67" hR="21600" stAng="10800000" swAng="5400000"/>
                <a:lnTo>
                  <a:pt x="11611" y="0"/>
                </a:lnTo>
                <a:arcTo wR="8367" hR="21600" stAng="-5400000" swAng="3378853"/>
                <a:lnTo>
                  <a:pt x="21334" y="16200"/>
                </a:lnTo>
                <a:lnTo>
                  <a:pt x="18356" y="21600"/>
                </a:lnTo>
                <a:lnTo>
                  <a:pt x="14846" y="16200"/>
                </a:lnTo>
                <a:lnTo>
                  <a:pt x="16468" y="16200"/>
                </a:lnTo>
                <a:arcTo wR="8367" hR="21600" stAng="-2021147" swAng="-3116224"/>
                <a:lnTo>
                  <a:pt x="9989" y="410"/>
                </a:lnTo>
                <a:arcTo wR="8367" hR="21600" stAng="-5662629" swAng="-5137371"/>
                <a:close/>
              </a:path>
              <a:path fill="darkenLess" w="21600" h="21600">
                <a:moveTo>
                  <a:pt x="0" y="21600"/>
                </a:moveTo>
                <a:arcTo wR="8367" hR="21600" stAng="10800000" swAng="5400000"/>
                <a:lnTo>
                  <a:pt x="8367" y="0"/>
                </a:lnTo>
                <a:arcTo wR="8367" hR="21600" stAng="-5400000" swAng="262629"/>
                <a:lnTo>
                  <a:pt x="9989" y="410"/>
                </a:lnTo>
                <a:arcTo wR="8367" hR="21600" stAng="-5662629" swAng="-5137371"/>
                <a:close/>
              </a:path>
            </a:pathLst>
          </a:custGeom>
          <a:solidFill>
            <a:srgbClr val="cbc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6"/>
          <p:cNvSpPr/>
          <p:nvPr/>
        </p:nvSpPr>
        <p:spPr>
          <a:xfrm>
            <a:off x="422208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2"/>
          <p:cNvSpPr/>
          <p:nvPr/>
        </p:nvSpPr>
        <p:spPr>
          <a:xfrm>
            <a:off x="30690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3"/>
          <p:cNvSpPr/>
          <p:nvPr/>
        </p:nvSpPr>
        <p:spPr>
          <a:xfrm>
            <a:off x="72140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4"/>
          <p:cNvSpPr/>
          <p:nvPr/>
        </p:nvSpPr>
        <p:spPr>
          <a:xfrm>
            <a:off x="507096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5"/>
          <p:cNvSpPr/>
          <p:nvPr/>
        </p:nvSpPr>
        <p:spPr>
          <a:xfrm>
            <a:off x="9259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圆角矩形 10"/>
          <p:cNvSpPr/>
          <p:nvPr/>
        </p:nvSpPr>
        <p:spPr>
          <a:xfrm>
            <a:off x="3071880" y="2000160"/>
            <a:ext cx="378612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圆角矩形 11"/>
          <p:cNvSpPr/>
          <p:nvPr/>
        </p:nvSpPr>
        <p:spPr>
          <a:xfrm>
            <a:off x="3071880" y="2786040"/>
            <a:ext cx="378612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圆角矩形 12"/>
          <p:cNvSpPr/>
          <p:nvPr/>
        </p:nvSpPr>
        <p:spPr>
          <a:xfrm>
            <a:off x="3071880" y="3500280"/>
            <a:ext cx="3786120" cy="50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圆角矩形 13"/>
          <p:cNvSpPr/>
          <p:nvPr/>
        </p:nvSpPr>
        <p:spPr>
          <a:xfrm>
            <a:off x="3071880" y="4286160"/>
            <a:ext cx="378612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圆角矩形 14"/>
          <p:cNvSpPr/>
          <p:nvPr/>
        </p:nvSpPr>
        <p:spPr>
          <a:xfrm>
            <a:off x="3071880" y="5072040"/>
            <a:ext cx="378612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左大括号 15"/>
          <p:cNvSpPr/>
          <p:nvPr/>
        </p:nvSpPr>
        <p:spPr>
          <a:xfrm>
            <a:off x="2357280" y="2143080"/>
            <a:ext cx="500400" cy="3071880"/>
          </a:xfrm>
          <a:custGeom>
            <a:avLst/>
            <a:gdLst>
              <a:gd name="textAreaLeft" fmla="*/ 319680 w 500400"/>
              <a:gd name="textAreaRight" fmla="*/ 500760 w 500400"/>
              <a:gd name="textAreaTop" fmla="*/ 72360 h 3071880"/>
              <a:gd name="textAreaBottom" fmla="*/ 2999520 h 307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15"/>
                  <a:pt x="10800" y="1629"/>
                </a:cubicBezTo>
                <a:lnTo>
                  <a:pt x="10800" y="9171"/>
                </a:lnTo>
                <a:cubicBezTo>
                  <a:pt x="10800" y="9986"/>
                  <a:pt x="5400" y="10800"/>
                  <a:pt x="0" y="10800"/>
                </a:cubicBezTo>
                <a:cubicBezTo>
                  <a:pt x="5400" y="10800"/>
                  <a:pt x="10800" y="11615"/>
                  <a:pt x="10800" y="12429"/>
                </a:cubicBezTo>
                <a:lnTo>
                  <a:pt x="10800" y="19971"/>
                </a:lnTo>
                <a:cubicBezTo>
                  <a:pt x="10800" y="20786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cbcb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6"/>
          <p:cNvSpPr/>
          <p:nvPr/>
        </p:nvSpPr>
        <p:spPr>
          <a:xfrm>
            <a:off x="422208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2"/>
          <p:cNvSpPr/>
          <p:nvPr/>
        </p:nvSpPr>
        <p:spPr>
          <a:xfrm>
            <a:off x="442800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3"/>
          <p:cNvSpPr/>
          <p:nvPr/>
        </p:nvSpPr>
        <p:spPr>
          <a:xfrm>
            <a:off x="449784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4"/>
          <p:cNvSpPr/>
          <p:nvPr/>
        </p:nvSpPr>
        <p:spPr>
          <a:xfrm>
            <a:off x="44978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5"/>
          <p:cNvSpPr/>
          <p:nvPr/>
        </p:nvSpPr>
        <p:spPr>
          <a:xfrm>
            <a:off x="449784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5"/>
          <p:cNvSpPr/>
          <p:nvPr/>
        </p:nvSpPr>
        <p:spPr>
          <a:xfrm>
            <a:off x="449784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流程图: 终止 10"/>
          <p:cNvSpPr/>
          <p:nvPr/>
        </p:nvSpPr>
        <p:spPr>
          <a:xfrm>
            <a:off x="4405320" y="2357280"/>
            <a:ext cx="2309760" cy="762120"/>
          </a:xfrm>
          <a:prstGeom prst="flowChartTermina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流程图: 终止 11"/>
          <p:cNvSpPr/>
          <p:nvPr/>
        </p:nvSpPr>
        <p:spPr>
          <a:xfrm rot="16200000">
            <a:off x="2916720" y="3130920"/>
            <a:ext cx="2310120" cy="761760"/>
          </a:xfrm>
          <a:prstGeom prst="flowChartTerminator">
            <a:avLst/>
          </a:prstGeom>
          <a:solidFill>
            <a:srgbClr val="cbc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流程图: 终止 12"/>
          <p:cNvSpPr/>
          <p:nvPr/>
        </p:nvSpPr>
        <p:spPr>
          <a:xfrm>
            <a:off x="3309840" y="4595760"/>
            <a:ext cx="2309760" cy="762120"/>
          </a:xfrm>
          <a:prstGeom prst="flowChartTermina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流程图: 终止 13"/>
          <p:cNvSpPr/>
          <p:nvPr/>
        </p:nvSpPr>
        <p:spPr>
          <a:xfrm rot="16200000">
            <a:off x="4845600" y="3893040"/>
            <a:ext cx="2309760" cy="762120"/>
          </a:xfrm>
          <a:prstGeom prst="flowChartTerminator">
            <a:avLst/>
          </a:prstGeom>
          <a:solidFill>
            <a:srgbClr val="cbc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6"/>
          <p:cNvSpPr/>
          <p:nvPr/>
        </p:nvSpPr>
        <p:spPr>
          <a:xfrm>
            <a:off x="422208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3"/>
          <p:cNvSpPr/>
          <p:nvPr/>
        </p:nvSpPr>
        <p:spPr>
          <a:xfrm>
            <a:off x="51408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4"/>
          <p:cNvSpPr/>
          <p:nvPr/>
        </p:nvSpPr>
        <p:spPr>
          <a:xfrm>
            <a:off x="39265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5"/>
          <p:cNvSpPr/>
          <p:nvPr/>
        </p:nvSpPr>
        <p:spPr>
          <a:xfrm>
            <a:off x="5929200" y="3429000"/>
            <a:ext cx="7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5"/>
          <p:cNvSpPr/>
          <p:nvPr/>
        </p:nvSpPr>
        <p:spPr>
          <a:xfrm>
            <a:off x="3929040" y="2643120"/>
            <a:ext cx="7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矩形 10"/>
          <p:cNvSpPr/>
          <p:nvPr/>
        </p:nvSpPr>
        <p:spPr>
          <a:xfrm>
            <a:off x="1714680" y="2857680"/>
            <a:ext cx="1500120" cy="3643200"/>
          </a:xfrm>
          <a:prstGeom prst="rect">
            <a:avLst/>
          </a:prstGeom>
          <a:solidFill>
            <a:srgbClr val="cbc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1"/>
          <p:cNvSpPr/>
          <p:nvPr/>
        </p:nvSpPr>
        <p:spPr>
          <a:xfrm>
            <a:off x="3286080" y="2643120"/>
            <a:ext cx="1500120" cy="364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12"/>
          <p:cNvSpPr/>
          <p:nvPr/>
        </p:nvSpPr>
        <p:spPr>
          <a:xfrm>
            <a:off x="4857840" y="2143080"/>
            <a:ext cx="1500120" cy="3643200"/>
          </a:xfrm>
          <a:prstGeom prst="rect">
            <a:avLst/>
          </a:prstGeom>
          <a:solidFill>
            <a:srgbClr val="cbc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3"/>
          <p:cNvSpPr/>
          <p:nvPr/>
        </p:nvSpPr>
        <p:spPr>
          <a:xfrm>
            <a:off x="6429240" y="1500120"/>
            <a:ext cx="1500480" cy="364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6"/>
          <p:cNvSpPr/>
          <p:nvPr/>
        </p:nvSpPr>
        <p:spPr>
          <a:xfrm>
            <a:off x="422208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2"/>
          <p:cNvSpPr/>
          <p:nvPr/>
        </p:nvSpPr>
        <p:spPr>
          <a:xfrm>
            <a:off x="349776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3"/>
          <p:cNvSpPr/>
          <p:nvPr/>
        </p:nvSpPr>
        <p:spPr>
          <a:xfrm>
            <a:off x="67140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4"/>
          <p:cNvSpPr/>
          <p:nvPr/>
        </p:nvSpPr>
        <p:spPr>
          <a:xfrm>
            <a:off x="51422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5"/>
          <p:cNvSpPr/>
          <p:nvPr/>
        </p:nvSpPr>
        <p:spPr>
          <a:xfrm>
            <a:off x="199764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组合 18"/>
          <p:cNvGrpSpPr/>
          <p:nvPr/>
        </p:nvGrpSpPr>
        <p:grpSpPr>
          <a:xfrm>
            <a:off x="3357720" y="1643040"/>
            <a:ext cx="3165480" cy="4860720"/>
            <a:chOff x="3357720" y="1643040"/>
            <a:chExt cx="3165480" cy="4860720"/>
          </a:xfrm>
        </p:grpSpPr>
        <p:sp>
          <p:nvSpPr>
            <p:cNvPr id="196" name="矩形 10"/>
            <p:cNvSpPr/>
            <p:nvPr/>
          </p:nvSpPr>
          <p:spPr>
            <a:xfrm rot="16200000">
              <a:off x="4177080" y="4158720"/>
              <a:ext cx="1525680" cy="3164400"/>
            </a:xfrm>
            <a:prstGeom prst="rect">
              <a:avLst/>
            </a:prstGeom>
            <a:solidFill>
              <a:srgbClr val="cb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矩形 11"/>
            <p:cNvSpPr/>
            <p:nvPr/>
          </p:nvSpPr>
          <p:spPr>
            <a:xfrm rot="16200000">
              <a:off x="4177080" y="2520000"/>
              <a:ext cx="1525680" cy="3164400"/>
            </a:xfrm>
            <a:prstGeom prst="rect">
              <a:avLst/>
            </a:prstGeom>
            <a:solidFill>
              <a:srgbClr val="cb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矩形 12"/>
            <p:cNvSpPr/>
            <p:nvPr/>
          </p:nvSpPr>
          <p:spPr>
            <a:xfrm rot="16200000">
              <a:off x="4177080" y="881280"/>
              <a:ext cx="1525680" cy="3164400"/>
            </a:xfrm>
            <a:prstGeom prst="rect">
              <a:avLst/>
            </a:prstGeom>
            <a:solidFill>
              <a:srgbClr val="cb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直接连接符 14"/>
            <p:cNvSpPr/>
            <p:nvPr/>
          </p:nvSpPr>
          <p:spPr>
            <a:xfrm>
              <a:off x="3357720" y="4920840"/>
              <a:ext cx="3165480" cy="1080"/>
            </a:xfrm>
            <a:prstGeom prst="line">
              <a:avLst/>
            </a:prstGeom>
            <a:ln w="4428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直接连接符 15"/>
            <p:cNvSpPr/>
            <p:nvPr/>
          </p:nvSpPr>
          <p:spPr>
            <a:xfrm>
              <a:off x="3357720" y="1643040"/>
              <a:ext cx="3164400" cy="1080"/>
            </a:xfrm>
            <a:prstGeom prst="line">
              <a:avLst/>
            </a:prstGeom>
            <a:ln w="4428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直接连接符 17"/>
            <p:cNvSpPr/>
            <p:nvPr/>
          </p:nvSpPr>
          <p:spPr>
            <a:xfrm>
              <a:off x="3357720" y="3283200"/>
              <a:ext cx="3164400" cy="1080"/>
            </a:xfrm>
            <a:prstGeom prst="line">
              <a:avLst/>
            </a:prstGeom>
            <a:ln w="4428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6"/>
          <p:cNvSpPr/>
          <p:nvPr/>
        </p:nvSpPr>
        <p:spPr>
          <a:xfrm>
            <a:off x="422208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2"/>
          <p:cNvSpPr/>
          <p:nvPr/>
        </p:nvSpPr>
        <p:spPr>
          <a:xfrm>
            <a:off x="442656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13"/>
          <p:cNvSpPr/>
          <p:nvPr/>
        </p:nvSpPr>
        <p:spPr>
          <a:xfrm>
            <a:off x="45691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4"/>
          <p:cNvSpPr/>
          <p:nvPr/>
        </p:nvSpPr>
        <p:spPr>
          <a:xfrm>
            <a:off x="442656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7:26Z</dcterms:modified>
  <cp:revision>29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