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9B33-843E-4B2D-83BB-6C8502C43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3872160"/>
            <a:ext cx="85341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1741-CEA1-4578-8EB2-5F20D00AF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3872160"/>
            <a:ext cx="41644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7840" y="3872160"/>
            <a:ext cx="41644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3F13-E142-4EB8-B15E-9595B0CB0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27478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90680" y="1523520"/>
            <a:ext cx="27478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6080" y="1523520"/>
            <a:ext cx="27478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3872160"/>
            <a:ext cx="27478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90680" y="3872160"/>
            <a:ext cx="27478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6080" y="3872160"/>
            <a:ext cx="27478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5E5F-9E4C-489F-8D6A-0962270BB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1523520"/>
            <a:ext cx="853416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8534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3872160"/>
            <a:ext cx="41644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1523520"/>
            <a:ext cx="853416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6AD6-53D8-4BA4-9782-9DA2C8A69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7840" y="3872160"/>
            <a:ext cx="41644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3872160"/>
            <a:ext cx="85341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3872160"/>
            <a:ext cx="85341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3872160"/>
            <a:ext cx="41644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7840" y="3872160"/>
            <a:ext cx="41644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27478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90680" y="1523520"/>
            <a:ext cx="27478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080" y="1523520"/>
            <a:ext cx="27478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3872160"/>
            <a:ext cx="27478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90680" y="3872160"/>
            <a:ext cx="27478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080" y="3872160"/>
            <a:ext cx="27478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155D-DFA4-4083-AE9D-39C8551BD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035E-8F6B-4586-80B0-7D1A45457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DDDD-8666-43DF-8BDB-2909E49F4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8534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6F3F-F7F9-4E72-AD71-F5B97974B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3872160"/>
            <a:ext cx="41644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E689-D901-4E4C-892F-9B64FE391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7840" y="3872160"/>
            <a:ext cx="41644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1693-DC05-4F4D-AC5A-4D5504B04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872160"/>
            <a:ext cx="85341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C8FD-F2FF-47DB-AE27-FEAD26D6D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1031" descr="j0289289"/>
          <p:cNvPicPr/>
          <p:nvPr/>
        </p:nvPicPr>
        <p:blipFill>
          <a:blip r:embed="rId2"/>
          <a:stretch/>
        </p:blipFill>
        <p:spPr>
          <a:xfrm>
            <a:off x="0" y="0"/>
            <a:ext cx="9144000" cy="6324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04920" y="1523520"/>
            <a:ext cx="8534160" cy="4496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rebuchet MS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3D3CF-EF30-44E0-B312-C529CAC3A7C8}" type="datetime">
              <a:rPr b="0" lang="zh-CN" sz="1400" spc="-1" strike="noStrike">
                <a:solidFill>
                  <a:srgbClr val="ffffff"/>
                </a:solidFill>
                <a:latin typeface="Trebuchet MS"/>
                <a:ea typeface="宋体"/>
              </a:rPr>
              <a:t>26/7/30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133720" y="6400800"/>
            <a:ext cx="487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rebuchet MS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rebuchet MS"/>
                <a:ea typeface="宋体"/>
              </a:rPr>
              <a:t>copyright (your organization)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rebuchet MS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9F161-BF41-4A75-9021-062C1063B34C}" type="slidenum">
              <a:rPr b="0" lang="zh-CN" sz="1400" spc="-1" strike="noStrike">
                <a:solidFill>
                  <a:srgbClr val="ffffff"/>
                </a:solidFill>
                <a:latin typeface="Trebuchet MS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3079" descr="j0289289"/>
          <p:cNvPicPr/>
          <p:nvPr/>
        </p:nvPicPr>
        <p:blipFill>
          <a:blip r:embed="rId2"/>
          <a:stretch/>
        </p:blipFill>
        <p:spPr>
          <a:xfrm>
            <a:off x="0" y="0"/>
            <a:ext cx="9144000" cy="63244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04920" y="1523520"/>
            <a:ext cx="8534160" cy="4496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7875360" cy="2819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医院胸透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光照片幻灯片下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Rectangle 9"/>
          <p:cNvSpPr/>
          <p:nvPr/>
        </p:nvSpPr>
        <p:spPr>
          <a:xfrm>
            <a:off x="250920" y="3429000"/>
            <a:ext cx="518472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单击添加副标题或公司署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灯片编号占位符 1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CB49D-658A-4382-95B6-34C60D7859F8}" type="slidenum">
              <a: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04920" y="1523520"/>
            <a:ext cx="8534160" cy="4496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日期占位符 1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98782-DC05-4B97-A391-74A15C982F62}" type="datetime">
              <a: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灯片编号占位符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762B3-2951-4719-9DFC-DEA8275C8516}" type="slidenum">
              <a: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文本框 8199"/>
          <p:cNvSpPr/>
          <p:nvPr/>
        </p:nvSpPr>
        <p:spPr>
          <a:xfrm>
            <a:off x="2124000" y="638172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11:51:4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04:34Z</dcterms:modified>
  <cp:revision>5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