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D3F-A5BD-4204-8C86-DE5E348F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5DF-3C2B-40C6-8519-1B33435B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86C-86E5-48B2-ADC7-58430737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5E6-6610-4E80-94E4-1DBC34BC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EADD-2557-40BC-B722-8EC29D4C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CF74-F1D0-422E-A64D-1521890B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9EA6-7AFA-47DD-B77E-7954E354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CFE4-8129-4399-9567-4CE6D626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C5FA-7490-4C09-A307-3EEFA7DB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C2B6-FAA3-4FBE-B65A-270CA50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2357-4590-45C9-A831-EEFEE663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E41-840D-42AC-86B6-156BF86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427-59AA-4017-8F7D-6528717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28A9-E5BD-4C45-8084-9DDACB97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132F-6E2B-46E1-A3E2-245294A9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473D-8C5F-41ED-86DF-939DE353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0C13-0FA7-4790-B566-BB4D9140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6B94-F794-4894-BA55-31CE38B4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3B5A7-9F61-4D48-9194-CFB95E9E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5D8A-2A0B-45A9-8C07-40333B88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46864-D413-47F3-955F-F12DA7FB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34AC-7BBF-4F6F-AD94-AEBF632D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A27-FEEB-4216-8950-52649882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F173-BB96-4B29-86C5-D9501250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97B2-F99C-41BB-B6BD-B328D023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01E47-8DDD-45F9-A4DF-6FC5BCA0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F2FF-6726-4797-B6E0-EBFB4851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D8FE-17D2-4DF0-BA18-AF61DDB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5E99-635C-4F8A-8F89-3DE6AD89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AA93-55CB-4C6A-A434-2FE291B3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C64B4-44A8-4E71-B19A-F67ABB50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41EAE-C671-483F-99B9-D13D0A3B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0142-64A3-46F9-B742-BD0B28E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37F-3252-4179-A72B-B346408A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29A4-F2A3-4398-AB09-4093E4F0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BD8B6-4697-48A4-B6C7-4BC3669C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9020-CE36-4B60-BF46-98303AEE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15588-CF2B-454E-B740-2D526853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67A40-6893-4FA5-86F1-2667F32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7AE64-099C-4746-ACFD-C2A5316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2D69-A99B-4714-8B36-2662DD49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AFBC-52AA-45BC-BD26-A8A0C830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69EE5-50E3-4673-B687-80821732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865-562C-4278-8AB3-60DDCF94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85E7-98A5-4D2A-81DB-DA1C0270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0DC-20EB-4C17-888E-7A068E7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620-EE6A-4651-A156-CE8FC139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9CA-128E-4FD4-877E-2B770BB7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349200" indent="-349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66560" indent="466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3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0040" indent="-466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66960" indent="-933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66960" indent="-933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66960" indent="-9334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9D72-D67D-406E-B18A-9CB7B4B5D16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349200" indent="-349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466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46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933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933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933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3995-B294-4581-B725-D0F43355FB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5415-F441-4FE3-820A-FC967B2583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8CF6-7319-48D0-BC3F-817BDAA299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7,3,&#27010;&#36848;" TargetMode="External"/><Relationship Id="rId2" Type="http://schemas.openxmlformats.org/officeDocument/2006/relationships/hyperlink" Target="258,4,&#32463;&#33829;&#29702;&#24565;&#19968;" TargetMode="External"/><Relationship Id="rId3" Type="http://schemas.openxmlformats.org/officeDocument/2006/relationships/hyperlink" Target="259,5,&#32463;&#33829;&#29702;&#24565;&#20108;" TargetMode="External"/><Relationship Id="rId4" Type="http://schemas.openxmlformats.org/officeDocument/2006/relationships/hyperlink" Target="260,6,&#32463;&#33829;&#29702;&#24565;&#19977;" TargetMode="External"/><Relationship Id="rId5" Type="http://schemas.openxmlformats.org/officeDocument/2006/relationships/hyperlink" Target="261,7,&#32463;&#33829;&#29702;&#24565;&#22235;" TargetMode="External"/><Relationship Id="rId6" Type="http://schemas.openxmlformats.org/officeDocument/2006/relationships/hyperlink" Target="262,8,&#29616;&#23384;&#30340;&#38382;&#39064;" TargetMode="External"/><Relationship Id="rId7" Type="http://schemas.openxmlformats.org/officeDocument/2006/relationships/hyperlink" Target="263,9,&#27835;&#30103;&#25216;&#26415;&#21644;&#30103;&#25928;&#30340;&#38382;&#39064;" TargetMode="External"/><Relationship Id="rId8" Type="http://schemas.openxmlformats.org/officeDocument/2006/relationships/hyperlink" Target="264,10,&#32463;&#33829;&#36807;&#31243;&#20013;&#20986;&#29616;&#30340;&#38382;&#39064;" TargetMode="External"/><Relationship Id="rId9" Type="http://schemas.openxmlformats.org/officeDocument/2006/relationships/hyperlink" Target="265,11,&#32426;&#24459;&#12289;&#34892;&#20026;&#35268;&#33539;&#21450;&#26381;&#21153;&#30340;&#38382;&#39064;" TargetMode="External"/><Relationship Id="rId10" Type="http://schemas.openxmlformats.org/officeDocument/2006/relationships/hyperlink" Target="266,12,&#20869;&#37096;&#22242;&#32467;&#21644;&#30456;&#20114;&#37197;&#21512;&#30340;&#38382;&#39064;" TargetMode="External"/><Relationship Id="rId11" Type="http://schemas.openxmlformats.org/officeDocument/2006/relationships/hyperlink" Target="267,13,&#29615;&#22659;&#21355;&#29983;&#21644;&#35774;&#22791;&#32500;&#25252;&#30340;&#38382;&#39064;" TargetMode="External"/><Relationship Id="rId12" Type="http://schemas.openxmlformats.org/officeDocument/2006/relationships/hyperlink" Target="268,14,&#24187;&#28783;&#29255; 14" TargetMode="External"/><Relationship Id="rId13" Type="http://schemas.openxmlformats.org/officeDocument/2006/relationships/hyperlink" Target="269,15,&#24739;&#32773;&#23545;&#27835;&#30103;&#20154;&#21592;&#26159;&#21542;&#20449;&#20219;&#20851;&#38190;&#21462;&#20915;&#20110;&#20197;&#19979;5&#20010;&#26041;&#38754;" TargetMode="External"/><Relationship Id="rId14" Type="http://schemas.openxmlformats.org/officeDocument/2006/relationships/hyperlink" Target="270,16,&#22312;&#24066;&#22330;&#32463;&#27982;&#30340;&#22823;&#29615;&#22659;&#19979;&#65292; &#27665;&#33829;&#21307;&#38498;&#30340;&#21307;&#25216;&#20154;&#21592;&#23454;&#38469;&#19978;&#26159;&#21452;&#37325;&#36523;&#20221;&#65306;" TargetMode="External"/><Relationship Id="rId15" Type="http://schemas.openxmlformats.org/officeDocument/2006/relationships/hyperlink" Target="272,18,&#19987;&#23478;&#23545;&#27835;&#30103;&#20154;&#21592;&#30340;&#8220;&#22235;&#24597;&#8221;" TargetMode="External"/><Relationship Id="rId16" Type="http://schemas.openxmlformats.org/officeDocument/2006/relationships/hyperlink" Target="273,19,&#35299;&#20915;&#30340;&#26041;&#27861;" TargetMode="External"/><Relationship Id="rId1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9200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科治疗室现存的问题和解决办法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：经营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文本框 1"/>
          <p:cNvSpPr/>
          <p:nvPr/>
        </p:nvSpPr>
        <p:spPr>
          <a:xfrm>
            <a:off x="685800" y="549360"/>
            <a:ext cx="757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院治疗室问题幻灯片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经营过程中出现的问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经营水平和技巧存在缺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与接诊专家的沟通意识和配合默契不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对质量差的患者存在心态不平衡和不认真对待的现象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经营过程中的细节做不到位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与患者的沟通不深入，患者的信任感不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左箭头 15363"/>
          <p:cNvSpPr/>
          <p:nvPr/>
        </p:nvSpPr>
        <p:spPr>
          <a:xfrm>
            <a:off x="611280" y="6237360"/>
            <a:ext cx="433440" cy="433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纪律、行为规范及服务的问题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纪律松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行为规范不到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上班打手机、吃东西，大声喧哗，说粗话，打瞌睡，无视病人的存在，谈论应该保密的话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服务意识和行为规范不到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左箭头 16387"/>
          <p:cNvSpPr/>
          <p:nvPr/>
        </p:nvSpPr>
        <p:spPr>
          <a:xfrm>
            <a:off x="468360" y="6310440"/>
            <a:ext cx="503280" cy="431640"/>
          </a:xfrm>
          <a:prstGeom prst="leftArrow">
            <a:avLst>
              <a:gd name="adj1" fmla="val 50000"/>
              <a:gd name="adj2" fmla="val 29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内部团结和相互配合的问题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集体观念不强，个人意识往往占上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愿意帮助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形成小团体排斥他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同事之间沟通不够，不能相互理解、关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同事和其他部门的员工不能很好的相互尊重、相互配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左箭头 17411"/>
          <p:cNvSpPr/>
          <p:nvPr/>
        </p:nvSpPr>
        <p:spPr>
          <a:xfrm>
            <a:off x="539640" y="631044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环境卫生和设备维护的问题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环境卫生的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设备保养、维护的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耗材的浪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左箭头 18435"/>
          <p:cNvSpPr/>
          <p:nvPr/>
        </p:nvSpPr>
        <p:spPr>
          <a:xfrm>
            <a:off x="468360" y="6237360"/>
            <a:ext cx="431640" cy="433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727236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者对治疗人员的信任是能否完成治疗程序和达到经营目的的关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左箭头 19458"/>
          <p:cNvSpPr/>
          <p:nvPr/>
        </p:nvSpPr>
        <p:spPr>
          <a:xfrm>
            <a:off x="539640" y="6021360"/>
            <a:ext cx="505080" cy="576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患者对治疗人员是否信任关键取决于以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方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治疗人员的技术水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治疗人员与患者之间的沟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治疗人员对患者的关心程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治疗室的管理和服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治疗设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治疗室的硬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左箭头 20483"/>
          <p:cNvSpPr/>
          <p:nvPr/>
        </p:nvSpPr>
        <p:spPr>
          <a:xfrm>
            <a:off x="468360" y="6310440"/>
            <a:ext cx="43164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6933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市场经济的大环境下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民营医院的医技人员实际上是双重身份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5280" y="3141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患者——是医治病痛的医疗工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就医顾客——是满足顾客需求并从中获取收益的经营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左箭头 21507"/>
          <p:cNvSpPr/>
          <p:nvPr/>
        </p:nvSpPr>
        <p:spPr>
          <a:xfrm>
            <a:off x="468360" y="6237360"/>
            <a:ext cx="358560" cy="50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91736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“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专家选择治疗人员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的正确认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专家对治疗人员的“四怕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怕治疗人员配合不默契，与专家说法冲突，反而帮倒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怕治疗人员与病人的沟通技巧不好，说服和影响病人的能力不够，大单接不下来，而且不能延续或增加疗程和治疗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怕治疗人员的治疗技术不好，或治疗过程中不负责任，导致疗效不好，甚至对病人造成伤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怕治疗人员在治疗和服务过程中的细节做不到位，导致病人的不信任甚至反感，中断治疗或造成纠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左箭头 23555"/>
          <p:cNvSpPr/>
          <p:nvPr/>
        </p:nvSpPr>
        <p:spPr>
          <a:xfrm>
            <a:off x="611280" y="631044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解决的方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57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有良好的心态，正视自己的缺陷，找出存在的问题，并积极加以改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实践中不断提高自己的经营意识和沟通技巧，观察和学习其他同事好的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强与专家的沟通和配合，从专家身上学到经营技巧和治疗技术，并取得专家的信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努力钻研，提高治疗技术，善于总结和提高，在治疗过程中要一丝不苟，严格遵守操作规范，达到尽可能好的疗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树立“病人就是上帝”的观念，提高服务水平，努力做好服务过程中的每一个细节，培养与患者之间的感情，赢得病人的信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左箭头 24579"/>
          <p:cNvSpPr/>
          <p:nvPr/>
        </p:nvSpPr>
        <p:spPr>
          <a:xfrm>
            <a:off x="611280" y="6310440"/>
            <a:ext cx="433440" cy="431640"/>
          </a:xfrm>
          <a:prstGeom prst="leftArrow">
            <a:avLst>
              <a:gd name="adj1" fmla="val 50000"/>
              <a:gd name="adj2" fmla="val 2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经营理念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经营理念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经营理念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经营理念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治疗技术和疗效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经营过程中出现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纪律、行为规范及服务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内部团结和相互配合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环境卫生和设备维护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什么是完成治疗程序和达成经营目的的关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患者对治疗人员的信任取决于哪些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医技人员的双重身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专家对治疗人员的“四怕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解决办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D99C-EAC2-43EB-8378-480BAE4766BD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以致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0160" y="3506760"/>
            <a:ext cx="777744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努力提高经营水平和医技水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专科治疗室自实施首治负责制以来，经营业绩和业务水平有了很大的提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但是，现存的各种问题不仅造成了医疗质量、服务水平和患者满意度的下降，而且也直接阻碍了经营业绩的进一步提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左箭头 8195"/>
          <p:cNvSpPr/>
          <p:nvPr/>
        </p:nvSpPr>
        <p:spPr>
          <a:xfrm>
            <a:off x="468360" y="6021360"/>
            <a:ext cx="576360" cy="504720"/>
          </a:xfrm>
          <a:prstGeom prst="leftArrow">
            <a:avLst>
              <a:gd name="adj1" fmla="val 50000"/>
              <a:gd name="adj2" fmla="val 285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人都是经营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左箭头 9219"/>
          <p:cNvSpPr/>
          <p:nvPr/>
        </p:nvSpPr>
        <p:spPr>
          <a:xfrm>
            <a:off x="468360" y="6094440"/>
            <a:ext cx="503280" cy="503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68000" y="1919160"/>
            <a:ext cx="820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者”是医院最珍贵的资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的根本目的就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各种合理的方法，充分挖掘资源潜力，使其发挥出最大的经济效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左箭头 10243"/>
          <p:cNvSpPr/>
          <p:nvPr/>
        </p:nvSpPr>
        <p:spPr>
          <a:xfrm>
            <a:off x="396720" y="6022800"/>
            <a:ext cx="503280" cy="505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01800" y="2423880"/>
            <a:ext cx="763272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者是医院的衣食父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诊疗和服务水平，做好诊疗过程中的每一个细节，让患者得到最好的医疗服务，就是对其最好的回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左箭头 11267"/>
          <p:cNvSpPr/>
          <p:nvPr/>
        </p:nvSpPr>
        <p:spPr>
          <a:xfrm>
            <a:off x="539640" y="6237360"/>
            <a:ext cx="505080" cy="433440"/>
          </a:xfrm>
          <a:prstGeom prst="leftArrow">
            <a:avLst>
              <a:gd name="adj1" fmla="val 50000"/>
              <a:gd name="adj2" fmla="val 291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四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12720" y="2927160"/>
            <a:ext cx="79200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经营水准和服务意识，让患者感受到医疗服务的价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左箭头 12291"/>
          <p:cNvSpPr/>
          <p:nvPr/>
        </p:nvSpPr>
        <p:spPr>
          <a:xfrm>
            <a:off x="324000" y="6165720"/>
            <a:ext cx="576000" cy="505080"/>
          </a:xfrm>
          <a:prstGeom prst="leftArrow">
            <a:avLst>
              <a:gd name="adj1" fmla="val 50000"/>
              <a:gd name="adj2" fmla="val 28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现存的问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治疗技术和疗效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营过程中出现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纪律和行为规范及服务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内部团结及相互配合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环境卫生及设备维护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左箭头 13315"/>
          <p:cNvSpPr/>
          <p:nvPr/>
        </p:nvSpPr>
        <p:spPr>
          <a:xfrm>
            <a:off x="468360" y="6237360"/>
            <a:ext cx="431640" cy="433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治疗技术和疗效的问题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治疗技术不过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操作规范不到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治疗过程不细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对患者的疗效责任心不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左箭头 14339"/>
          <p:cNvSpPr/>
          <p:nvPr/>
        </p:nvSpPr>
        <p:spPr>
          <a:xfrm>
            <a:off x="611280" y="6165720"/>
            <a:ext cx="576000" cy="505080"/>
          </a:xfrm>
          <a:prstGeom prst="leftArrow">
            <a:avLst>
              <a:gd name="adj1" fmla="val 50000"/>
              <a:gd name="adj2" fmla="val 28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3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