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A494-6BBB-4C06-B993-5E3832934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7CEF-7053-476A-B34A-B9C7ABAD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9691-6168-49E6-9F8B-86AA60875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3C6E-5DFC-4C17-B9DF-840FC0C21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29497-AD0E-43C5-B748-FC729B30B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8383-1AB0-4045-BE48-7850FA27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0FAB-BA16-4925-B554-51D41D29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FA30-D4A3-440E-B647-9D43BF4D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72EE-02C6-478E-A491-BC8122B3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4AEEB-9501-472E-9E13-87C9279E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8B99-776A-445D-B8B3-58350D8A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2FA8-6BC3-4AD0-9B81-967BF6C6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43A5-2328-481C-8D41-7FD5718F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03D8-F55A-4E00-9A1C-BD49EE82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61D9-2862-4936-9BAC-4F73F4A1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6178C-F955-4CB8-B7E5-43AABC2C5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00B0-D5C4-44BD-A3B9-1EEB9D8D9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01FB-A560-400D-9465-66EFE6C8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F99D-5BA3-4F59-9AF0-90FA6876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3C3F-AB41-4A6D-81D7-4E079573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B7F9-8C1D-47B3-A6D4-2459A830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A41E-EAEA-45CB-BAC5-8DA8485E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984E-278F-4E46-B19F-8B071F4E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6540-2AD7-494A-BFCB-69E6806D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09C6-7450-41C0-856A-6FE3E1BB927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37E1-DA2E-44F3-8D90-BFD6992330E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88B4-7C7B-41C5-ADBD-A9A4085B9D5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E7FE-099C-4B6A-8D15-09A9A19FD32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3075" descr="图片6"/>
          <p:cNvPicPr/>
          <p:nvPr/>
        </p:nvPicPr>
        <p:blipFill>
          <a:blip r:embed="rId1"/>
          <a:stretch/>
        </p:blipFill>
        <p:spPr>
          <a:xfrm>
            <a:off x="144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Box 3"/>
          <p:cNvSpPr/>
          <p:nvPr/>
        </p:nvSpPr>
        <p:spPr>
          <a:xfrm>
            <a:off x="3929040" y="4643280"/>
            <a:ext cx="528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5214960" y="569268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清爽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1"/>
          <p:cNvSpPr/>
          <p:nvPr/>
        </p:nvSpPr>
        <p:spPr>
          <a:xfrm>
            <a:off x="1908000" y="836640"/>
            <a:ext cx="650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纸船办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571680" y="42876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364068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6"/>
          <p:cNvSpPr/>
          <p:nvPr/>
        </p:nvSpPr>
        <p:spPr>
          <a:xfrm>
            <a:off x="37119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7"/>
          <p:cNvSpPr/>
          <p:nvPr/>
        </p:nvSpPr>
        <p:spPr>
          <a:xfrm>
            <a:off x="371196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8"/>
          <p:cNvSpPr/>
          <p:nvPr/>
        </p:nvSpPr>
        <p:spPr>
          <a:xfrm>
            <a:off x="371196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8"/>
          <p:cNvSpPr/>
          <p:nvPr/>
        </p:nvSpPr>
        <p:spPr>
          <a:xfrm>
            <a:off x="94860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"/>
          <p:cNvSpPr/>
          <p:nvPr/>
        </p:nvSpPr>
        <p:spPr>
          <a:xfrm>
            <a:off x="5688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9"/>
          <p:cNvSpPr/>
          <p:nvPr/>
        </p:nvSpPr>
        <p:spPr>
          <a:xfrm>
            <a:off x="28548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5"/>
          <p:cNvSpPr/>
          <p:nvPr/>
        </p:nvSpPr>
        <p:spPr>
          <a:xfrm>
            <a:off x="57121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/>
          <p:cNvSpPr/>
          <p:nvPr/>
        </p:nvSpPr>
        <p:spPr>
          <a:xfrm>
            <a:off x="649800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717200" y="4357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8"/>
          <p:cNvSpPr/>
          <p:nvPr/>
        </p:nvSpPr>
        <p:spPr>
          <a:xfrm>
            <a:off x="2931840" y="4071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9"/>
          <p:cNvSpPr/>
          <p:nvPr/>
        </p:nvSpPr>
        <p:spPr>
          <a:xfrm>
            <a:off x="4074840" y="3714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0"/>
          <p:cNvSpPr/>
          <p:nvPr/>
        </p:nvSpPr>
        <p:spPr>
          <a:xfrm>
            <a:off x="528912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6107-F02F-487C-AD72-AAD8DF79D09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1"/>
          <p:cNvSpPr/>
          <p:nvPr/>
        </p:nvSpPr>
        <p:spPr>
          <a:xfrm>
            <a:off x="614088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4"/>
          <p:cNvSpPr/>
          <p:nvPr/>
        </p:nvSpPr>
        <p:spPr>
          <a:xfrm>
            <a:off x="214056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5"/>
          <p:cNvSpPr/>
          <p:nvPr/>
        </p:nvSpPr>
        <p:spPr>
          <a:xfrm>
            <a:off x="101988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5"/>
          <p:cNvSpPr/>
          <p:nvPr/>
        </p:nvSpPr>
        <p:spPr>
          <a:xfrm>
            <a:off x="428364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6149"/>
          <p:cNvSpPr/>
          <p:nvPr/>
        </p:nvSpPr>
        <p:spPr>
          <a:xfrm>
            <a:off x="7852680" y="6021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站长素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6:45Z</dcterms:modified>
  <cp:revision>2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