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3003213" cy="888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4AE-3237-4DA7-972C-9AD4ADC6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06B-8DF7-4510-B0DA-FBCB8AC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78F-7846-4CA4-B70F-13F1E555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0BB-746D-4052-A411-1F3A0709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6C15-5C4D-4309-B743-6F6401E1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D571-7D59-42CA-8E1B-B69D7D04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47D0-F342-49E2-8DD8-2858F9DD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B167-83D9-41FE-8DA7-8D61B19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018D-DB64-4DBF-9C69-29B0382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FBA-A32F-43A6-B1FA-44CE1F74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82D-A38C-4BCC-8279-65C355D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641-8AC1-4923-A424-FD8F9923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67DC-DBEA-4338-93B3-F21D7B69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7FC-2097-4687-BFCE-3BB2E24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C79-24AC-417C-8A2E-D67F4813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E002-BF3A-47B1-BD62-6E2CE663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5E39-900E-40C7-A720-D98DCE12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F03B-64B8-4537-93DD-97CEE552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3EF4-E5FF-45BE-A663-323BDEE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C8279-6F68-4ABA-A772-D393443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4239C-F3E0-4CB3-8ED8-C9A8999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C23E-4D46-4017-B03D-C3654A9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D81-9250-4A2B-8AAD-CFF1B5E4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46C29-0A27-426F-A9C8-41AE129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90A3B-776F-4B74-A2AB-F8F7807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98A9-2C4A-4C9A-9FF0-1247EC44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430C-95EB-4BA5-9431-34237315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5F72C-9695-4A13-BCEA-B3CBE65A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8CF1-BC8C-459D-95A4-FFCD282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C855-49C6-4AC1-A945-5903DC9E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064-F383-46A7-B4EF-6F9C2F10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B27-01EB-4CA4-B22F-8D8C8D2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7E5-6D57-4A0A-AE9B-92E5B78F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588-82FB-4A8C-BEFB-E963EA0F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1E4-7606-45F2-9FA4-80017747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078-BA86-4372-A5E5-F356236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9E64-4CE8-48BA-A3E0-76A65FEADCE0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F56-ECB6-4AA9-A3A6-6FB880ECE194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DE0-834D-423C-BFB9-051E9B8AEFE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281A-F443-4609-A83D-7C0FDB69AB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FDF2-F664-4183-8015-3689E9D5AD67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E635-2F2E-42BB-97D0-CB8F6D24E240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6520" indent="-50652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6746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347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2022480" indent="-674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2"/>
          <p:cNvSpPr/>
          <p:nvPr/>
        </p:nvSpPr>
        <p:spPr>
          <a:xfrm>
            <a:off x="3144960" y="1301760"/>
            <a:ext cx="6715080" cy="60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6" descr="dian.png"/>
          <p:cNvPicPr/>
          <p:nvPr/>
        </p:nvPicPr>
        <p:blipFill>
          <a:blip r:embed="rId3"/>
          <a:stretch/>
        </p:blipFill>
        <p:spPr>
          <a:xfrm>
            <a:off x="2001960" y="1727280"/>
            <a:ext cx="6143400" cy="57182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2" descr="蜻蜓1.png"/>
          <p:cNvPicPr/>
          <p:nvPr/>
        </p:nvPicPr>
        <p:blipFill>
          <a:blip r:embed="rId4">
            <a:grayscl/>
          </a:blip>
          <a:stretch/>
        </p:blipFill>
        <p:spPr>
          <a:xfrm>
            <a:off x="2502000" y="3087720"/>
            <a:ext cx="59364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3" descr="蜻蜓2.png"/>
          <p:cNvPicPr/>
          <p:nvPr/>
        </p:nvPicPr>
        <p:blipFill>
          <a:blip r:embed="rId5"/>
          <a:stretch/>
        </p:blipFill>
        <p:spPr>
          <a:xfrm>
            <a:off x="7288200" y="474516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4"/>
          <p:cNvSpPr/>
          <p:nvPr/>
        </p:nvSpPr>
        <p:spPr>
          <a:xfrm>
            <a:off x="7931160" y="587376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f3f3f"/>
                </a:solidFill>
                <a:latin typeface="华文行楷"/>
                <a:ea typeface="华文行楷"/>
              </a:rPr>
              <a:t>拉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zuo.png"/>
          <p:cNvPicPr/>
          <p:nvPr/>
        </p:nvPicPr>
        <p:blipFill>
          <a:blip r:embed="rId6">
            <a:grayscl/>
          </a:blip>
          <a:stretch/>
        </p:blipFill>
        <p:spPr>
          <a:xfrm>
            <a:off x="9531360" y="0"/>
            <a:ext cx="3471840" cy="4714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you.png"/>
          <p:cNvPicPr/>
          <p:nvPr/>
        </p:nvPicPr>
        <p:blipFill>
          <a:blip r:embed="rId7">
            <a:grayscl/>
          </a:blip>
          <a:stretch/>
        </p:blipFill>
        <p:spPr>
          <a:xfrm>
            <a:off x="-68400" y="4633920"/>
            <a:ext cx="3213360" cy="416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乌"/>
          <p:cNvPicPr/>
          <p:nvPr/>
        </p:nvPicPr>
        <p:blipFill>
          <a:blip r:embed="rId8"/>
          <a:stretch/>
        </p:blipFill>
        <p:spPr>
          <a:xfrm>
            <a:off x="5002200" y="2587680"/>
            <a:ext cx="2249640" cy="311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Administrator\桌面\图片1.png"/>
          <p:cNvPicPr/>
          <p:nvPr/>
        </p:nvPicPr>
        <p:blipFill>
          <a:blip r:embed="rId9">
            <a:grayscl/>
          </a:blip>
          <a:stretch/>
        </p:blipFill>
        <p:spPr>
          <a:xfrm>
            <a:off x="11003040" y="4505400"/>
            <a:ext cx="969840" cy="35114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55"/>
          <p:cNvSpPr/>
          <p:nvPr/>
        </p:nvSpPr>
        <p:spPr>
          <a:xfrm>
            <a:off x="1281240" y="84405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1353960" y="484200"/>
            <a:ext cx="9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黄金研究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76" name="矩形 6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600520" y="2063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观观点解析黄金不保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0"/>
          <p:cNvSpPr/>
          <p:nvPr/>
        </p:nvSpPr>
        <p:spPr>
          <a:xfrm>
            <a:off x="5536800" y="2079720"/>
            <a:ext cx="2367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da2627"/>
                </a:solidFill>
                <a:latin typeface="微软雅黑"/>
                <a:ea typeface="微软雅黑"/>
              </a:rPr>
              <a:t>微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1539440" y="5302080"/>
            <a:ext cx="1465200" cy="3117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82" name="矩形 3"/>
          <p:cNvSpPr/>
          <p:nvPr/>
        </p:nvSpPr>
        <p:spPr>
          <a:xfrm>
            <a:off x="1930320" y="6099120"/>
            <a:ext cx="1007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值最重要的特点就是稀缺性，也就是不可再生性，让我们看看黄金是否有稀缺性，我们知道黄金是不能消耗的，也就是说在世界上黄金不可能消失，而黄金的开采确是越来越多，每天都有新的黄金被人类开采出来，所以黄金在世界上的保有量是不断增加的，而这种不断增加的保有量注定了黄金没有稀缺性，从而也就不能真正的保值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"/>
          <p:cNvSpPr/>
          <p:nvPr/>
        </p:nvSpPr>
        <p:spPr>
          <a:xfrm>
            <a:off x="4215600" y="548172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断增加的保有量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保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7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中国元素－皮影图片"/>
          <p:cNvPicPr/>
          <p:nvPr/>
        </p:nvPicPr>
        <p:blipFill>
          <a:blip r:embed="rId2"/>
          <a:srcRect l="0" t="8079" r="0" b="0"/>
          <a:stretch/>
        </p:blipFill>
        <p:spPr>
          <a:xfrm>
            <a:off x="3359160" y="1730520"/>
            <a:ext cx="5715000" cy="3501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0"/>
          <p:cNvGrpSpPr/>
          <p:nvPr/>
        </p:nvGrpSpPr>
        <p:grpSpPr>
          <a:xfrm>
            <a:off x="1787040" y="5659560"/>
            <a:ext cx="9930240" cy="1714320"/>
            <a:chOff x="1787040" y="5659560"/>
            <a:chExt cx="9930240" cy="1714320"/>
          </a:xfrm>
        </p:grpSpPr>
        <p:grpSp>
          <p:nvGrpSpPr>
            <p:cNvPr id="290" name=""/>
            <p:cNvGrpSpPr/>
            <p:nvPr/>
          </p:nvGrpSpPr>
          <p:grpSpPr>
            <a:xfrm>
              <a:off x="1787040" y="5659560"/>
              <a:ext cx="360" cy="1714320"/>
              <a:chOff x="1787040" y="5659560"/>
              <a:chExt cx="360" cy="1714320"/>
            </a:xfrm>
          </p:grpSpPr>
          <p:sp>
            <p:nvSpPr>
              <p:cNvPr id="291" name="直接连接符 22"/>
              <p:cNvSpPr/>
              <p:nvPr/>
            </p:nvSpPr>
            <p:spPr>
              <a:xfrm>
                <a:off x="178740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 rot="5400000">
                <a:off x="92988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1716920" y="5659560"/>
              <a:ext cx="360" cy="1714320"/>
              <a:chOff x="11716920" y="5659560"/>
              <a:chExt cx="360" cy="1714320"/>
            </a:xfrm>
          </p:grpSpPr>
          <p:sp>
            <p:nvSpPr>
              <p:cNvPr id="294" name="直接连接符 23"/>
              <p:cNvSpPr/>
              <p:nvPr/>
            </p:nvSpPr>
            <p:spPr>
              <a:xfrm>
                <a:off x="1171728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5400000">
                <a:off x="1085976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97" name="矩形 3"/>
          <p:cNvSpPr/>
          <p:nvPr/>
        </p:nvSpPr>
        <p:spPr>
          <a:xfrm>
            <a:off x="2001960" y="6172200"/>
            <a:ext cx="97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没有任何使用价值，也就是说黄金不能应用在任何领域，黄金唯一的用处是装饰作用，如做成戒指或项链，而装饰作用并不能真正的消耗黄金，即使黄金从一个人的脖子上没有了，那也只能是跑到另一个人的脖子上，而黄金的存在总量却在世界上永远增加的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中国元素－皮影图片"/>
          <p:cNvPicPr/>
          <p:nvPr/>
        </p:nvPicPr>
        <p:blipFill>
          <a:blip r:embed="rId2"/>
          <a:srcRect l="0" t="9959" r="0" b="20042"/>
          <a:stretch/>
        </p:blipFill>
        <p:spPr>
          <a:xfrm>
            <a:off x="3930480" y="1801800"/>
            <a:ext cx="5715000" cy="2666880"/>
          </a:xfrm>
          <a:prstGeom prst="rect">
            <a:avLst/>
          </a:prstGeom>
          <a:ln w="0">
            <a:noFill/>
          </a:ln>
        </p:spPr>
      </p:pic>
      <p:sp>
        <p:nvSpPr>
          <p:cNvPr id="299" name="矩形 1"/>
          <p:cNvSpPr/>
          <p:nvPr/>
        </p:nvSpPr>
        <p:spPr>
          <a:xfrm>
            <a:off x="3955320" y="5481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没有使用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1787040" y="5659560"/>
            <a:ext cx="9930240" cy="1714320"/>
            <a:chOff x="1787040" y="5659560"/>
            <a:chExt cx="9930240" cy="1714320"/>
          </a:xfrm>
        </p:grpSpPr>
        <p:grpSp>
          <p:nvGrpSpPr>
            <p:cNvPr id="304" name=""/>
            <p:cNvGrpSpPr/>
            <p:nvPr/>
          </p:nvGrpSpPr>
          <p:grpSpPr>
            <a:xfrm>
              <a:off x="1787040" y="5659560"/>
              <a:ext cx="360" cy="1714320"/>
              <a:chOff x="1787040" y="5659560"/>
              <a:chExt cx="360" cy="1714320"/>
            </a:xfrm>
          </p:grpSpPr>
          <p:sp>
            <p:nvSpPr>
              <p:cNvPr id="305" name="直接连接符 22"/>
              <p:cNvSpPr/>
              <p:nvPr/>
            </p:nvSpPr>
            <p:spPr>
              <a:xfrm>
                <a:off x="178740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5400000">
                <a:off x="92988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716920" y="5659560"/>
              <a:ext cx="360" cy="1714320"/>
              <a:chOff x="11716920" y="5659560"/>
              <a:chExt cx="360" cy="1714320"/>
            </a:xfrm>
          </p:grpSpPr>
          <p:sp>
            <p:nvSpPr>
              <p:cNvPr id="308" name="直接连接符 23"/>
              <p:cNvSpPr/>
              <p:nvPr/>
            </p:nvSpPr>
            <p:spPr>
              <a:xfrm>
                <a:off x="1171728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 rot="5400000">
                <a:off x="1085976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12" name="矩形 1"/>
          <p:cNvSpPr/>
          <p:nvPr/>
        </p:nvSpPr>
        <p:spPr>
          <a:xfrm>
            <a:off x="3955320" y="5481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没有回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7"/>
          <p:cNvGrpSpPr/>
          <p:nvPr/>
        </p:nvGrpSpPr>
        <p:grpSpPr>
          <a:xfrm>
            <a:off x="1787040" y="5886360"/>
            <a:ext cx="9930240" cy="1781280"/>
            <a:chOff x="1787040" y="5886360"/>
            <a:chExt cx="9930240" cy="1781280"/>
          </a:xfrm>
        </p:grpSpPr>
        <p:grpSp>
          <p:nvGrpSpPr>
            <p:cNvPr id="317" name=""/>
            <p:cNvGrpSpPr/>
            <p:nvPr/>
          </p:nvGrpSpPr>
          <p:grpSpPr>
            <a:xfrm>
              <a:off x="1787040" y="5886360"/>
              <a:ext cx="360" cy="1781280"/>
              <a:chOff x="1787040" y="5886360"/>
              <a:chExt cx="360" cy="1781280"/>
            </a:xfrm>
          </p:grpSpPr>
          <p:sp>
            <p:nvSpPr>
              <p:cNvPr id="318" name="直接连接符 22"/>
              <p:cNvSpPr/>
              <p:nvPr/>
            </p:nvSpPr>
            <p:spPr>
              <a:xfrm>
                <a:off x="1787400" y="5886360"/>
                <a:ext cx="0" cy="17812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5400000">
                <a:off x="896400" y="6776640"/>
                <a:ext cx="17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716920" y="5886360"/>
              <a:ext cx="360" cy="1781280"/>
              <a:chOff x="11716920" y="5886360"/>
              <a:chExt cx="360" cy="1781280"/>
            </a:xfrm>
          </p:grpSpPr>
          <p:sp>
            <p:nvSpPr>
              <p:cNvPr id="321" name="直接连接符 23"/>
              <p:cNvSpPr/>
              <p:nvPr/>
            </p:nvSpPr>
            <p:spPr>
              <a:xfrm>
                <a:off x="11717280" y="5886360"/>
                <a:ext cx="0" cy="17812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 rot="5400000">
                <a:off x="10826280" y="6776640"/>
                <a:ext cx="17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2001960" y="6087960"/>
            <a:ext cx="95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没有回报作用，黄金不能通过出租获取回报，反而因为要妥善保存而必须取出保管的代价。黄金唯一获利的方法就是战争的爆发，因为战争会让其他的投资品暂时失去投资的价值，而让大众购买黄金达到保值的作用。可是我们知道现在社会发生战争的可能性已经越来越小。尤其世界大战的可能几乎没有了，因为核武器的不断研制已经让战争没有了胜利者。 所以黄金的避险功能更多的体现在金融风暴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中国元素－皮影图片"/>
          <p:cNvPicPr/>
          <p:nvPr/>
        </p:nvPicPr>
        <p:blipFill>
          <a:blip r:embed="rId2"/>
          <a:srcRect l="0" t="9081" r="0" b="0"/>
          <a:stretch/>
        </p:blipFill>
        <p:spPr>
          <a:xfrm>
            <a:off x="3859200" y="1695600"/>
            <a:ext cx="571500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27" name="矩形 1"/>
          <p:cNvSpPr/>
          <p:nvPr/>
        </p:nvSpPr>
        <p:spPr>
          <a:xfrm>
            <a:off x="4039200" y="5481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的价值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1787040" y="5886360"/>
            <a:ext cx="9930240" cy="2171880"/>
            <a:chOff x="1787040" y="5886360"/>
            <a:chExt cx="9930240" cy="2171880"/>
          </a:xfrm>
        </p:grpSpPr>
        <p:grpSp>
          <p:nvGrpSpPr>
            <p:cNvPr id="332" name=""/>
            <p:cNvGrpSpPr/>
            <p:nvPr/>
          </p:nvGrpSpPr>
          <p:grpSpPr>
            <a:xfrm>
              <a:off x="1787040" y="5886360"/>
              <a:ext cx="360" cy="2171880"/>
              <a:chOff x="1787040" y="5886360"/>
              <a:chExt cx="360" cy="2171880"/>
            </a:xfrm>
          </p:grpSpPr>
          <p:sp>
            <p:nvSpPr>
              <p:cNvPr id="333" name="直接连接符 22"/>
              <p:cNvSpPr/>
              <p:nvPr/>
            </p:nvSpPr>
            <p:spPr>
              <a:xfrm>
                <a:off x="1787400" y="5886360"/>
                <a:ext cx="0" cy="21718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5400000">
                <a:off x="700920" y="6972120"/>
                <a:ext cx="217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716920" y="5886360"/>
              <a:ext cx="360" cy="2171880"/>
              <a:chOff x="11716920" y="5886360"/>
              <a:chExt cx="360" cy="2171880"/>
            </a:xfrm>
          </p:grpSpPr>
          <p:sp>
            <p:nvSpPr>
              <p:cNvPr id="336" name="直接连接符 23"/>
              <p:cNvSpPr/>
              <p:nvPr/>
            </p:nvSpPr>
            <p:spPr>
              <a:xfrm>
                <a:off x="11717280" y="5886360"/>
                <a:ext cx="0" cy="21718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 rot="5400000">
                <a:off x="10631160" y="6972120"/>
                <a:ext cx="217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4"/>
          <p:cNvSpPr/>
          <p:nvPr/>
        </p:nvSpPr>
        <p:spPr>
          <a:xfrm>
            <a:off x="2001960" y="6087960"/>
            <a:ext cx="96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品的多元化已经让黄金的投资价值越来越小。历史上黄金曾经是很好的投资品，但现在社会的投资品已经越来越多，获取持续的汇报成为现在投资者价值投资的最重要标准。比如股票的投资价值越来越得到投资者的认可，能得到分红的股票将会越来越得到投资着的青睐。还有现在投资房产的人越来越多，因为房产不仅能够自住，还能得到出租回报，还由于优质地段的房产都是有限的，不可能增加供应量，所以优质地段的房产将会越来越达到全体投资者的认可，成为发展中国家最具潜力的投资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中国元素--皮影图片"/>
          <p:cNvPicPr/>
          <p:nvPr/>
        </p:nvPicPr>
        <p:blipFill>
          <a:blip r:embed="rId2"/>
          <a:srcRect l="0" t="48757" r="2532" b="0"/>
          <a:stretch/>
        </p:blipFill>
        <p:spPr>
          <a:xfrm>
            <a:off x="2787480" y="1730520"/>
            <a:ext cx="7753680" cy="271764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8194"/>
          <p:cNvSpPr/>
          <p:nvPr/>
        </p:nvSpPr>
        <p:spPr>
          <a:xfrm>
            <a:off x="2470320" y="4192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43" name="矩形 3"/>
          <p:cNvSpPr/>
          <p:nvPr/>
        </p:nvSpPr>
        <p:spPr>
          <a:xfrm>
            <a:off x="1930320" y="6024600"/>
            <a:ext cx="66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现在黄金的上涨顶多是一种补涨行为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3106800" y="1881360"/>
            <a:ext cx="41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能很多人说现在黄金的价格不是上涨了吗</a:t>
            </a: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823400" y="3173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017440" y="3610080"/>
            <a:ext cx="269640" cy="269640"/>
            <a:chOff x="2017440" y="3610080"/>
            <a:chExt cx="269640" cy="269640"/>
          </a:xfrm>
        </p:grpSpPr>
        <p:sp>
          <p:nvSpPr>
            <p:cNvPr id="347" name="直接连接符 6"/>
            <p:cNvSpPr/>
            <p:nvPr/>
          </p:nvSpPr>
          <p:spPr>
            <a:xfrm flipH="1">
              <a:off x="2017440" y="361008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5400000">
              <a:off x="2017440" y="361008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7"/>
          <p:cNvSpPr/>
          <p:nvPr/>
        </p:nvSpPr>
        <p:spPr>
          <a:xfrm>
            <a:off x="2854440" y="276696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其实现在黄金上涨的原因主要有两点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8"/>
          <p:cNvSpPr/>
          <p:nvPr/>
        </p:nvSpPr>
        <p:spPr>
          <a:xfrm>
            <a:off x="2287440" y="329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金融危机给了黄金一次很好的机会，当股市楼市暂时下跌时，这些从获利中涌出的资金都投资了黄金，但当国际经济逐步稳定，股市楼市重新焕发活力时，那些出逃的资金还会重新流回股市和楼市的，因为在股市楼市中才能得到持续的现金回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1790280" y="4602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984320" y="5038560"/>
            <a:ext cx="270000" cy="270000"/>
            <a:chOff x="1984320" y="5038560"/>
            <a:chExt cx="270000" cy="270000"/>
          </a:xfrm>
        </p:grpSpPr>
        <p:sp>
          <p:nvSpPr>
            <p:cNvPr id="353" name="直接连接符 10"/>
            <p:cNvSpPr/>
            <p:nvPr/>
          </p:nvSpPr>
          <p:spPr>
            <a:xfrm flipH="1">
              <a:off x="1984320" y="5038560"/>
              <a:ext cx="27000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5400000">
              <a:off x="1984320" y="5038560"/>
              <a:ext cx="2700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矩形 11"/>
          <p:cNvSpPr/>
          <p:nvPr/>
        </p:nvSpPr>
        <p:spPr>
          <a:xfrm>
            <a:off x="2287440" y="490680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近二十年来的涨幅太小了，远远跑输通货膨胀率，甚至比不上石油，金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828800" y="2666880"/>
            <a:ext cx="9772560" cy="360"/>
            <a:chOff x="1828800" y="2666880"/>
            <a:chExt cx="9772560" cy="360"/>
          </a:xfrm>
        </p:grpSpPr>
        <p:sp>
          <p:nvSpPr>
            <p:cNvPr id="357" name="直接连接符 13"/>
            <p:cNvSpPr/>
            <p:nvPr/>
          </p:nvSpPr>
          <p:spPr>
            <a:xfrm>
              <a:off x="1828800" y="2666880"/>
              <a:ext cx="977256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828800" y="2666880"/>
              <a:ext cx="977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16120" y="5810400"/>
            <a:ext cx="9772560" cy="360"/>
            <a:chOff x="1716120" y="5810400"/>
            <a:chExt cx="9772560" cy="360"/>
          </a:xfrm>
        </p:grpSpPr>
        <p:sp>
          <p:nvSpPr>
            <p:cNvPr id="360" name="直接连接符 14"/>
            <p:cNvSpPr/>
            <p:nvPr/>
          </p:nvSpPr>
          <p:spPr>
            <a:xfrm>
              <a:off x="1716120" y="5810400"/>
              <a:ext cx="977256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716120" y="5810400"/>
              <a:ext cx="977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C163-8489-4CC2-951C-0228844644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3603600" y="3097080"/>
            <a:ext cx="6113520" cy="1800"/>
            <a:chOff x="3603600" y="3097080"/>
            <a:chExt cx="6113520" cy="1800"/>
          </a:xfrm>
        </p:grpSpPr>
        <p:sp>
          <p:nvSpPr>
            <p:cNvPr id="368" name="Line 6"/>
            <p:cNvSpPr/>
            <p:nvPr/>
          </p:nvSpPr>
          <p:spPr>
            <a:xfrm>
              <a:off x="3603600" y="3097080"/>
              <a:ext cx="6113520" cy="1800"/>
            </a:xfrm>
            <a:prstGeom prst="line">
              <a:avLst/>
            </a:prstGeom>
            <a:ln w="38160">
              <a:solidFill>
                <a:srgbClr val="da26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3603600" y="3097080"/>
              <a:ext cx="6113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1"/>
          <p:cNvSpPr/>
          <p:nvPr/>
        </p:nvSpPr>
        <p:spPr>
          <a:xfrm>
            <a:off x="4755240" y="3063960"/>
            <a:ext cx="394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中国老百姓理财篇</a:t>
            </a:r>
            <a:r>
              <a:rPr b="1" lang="en-US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2-</a:t>
            </a:r>
            <a:r>
              <a:rPr b="1" lang="zh-CN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黄金为什么不保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8"/>
          <p:cNvSpPr/>
          <p:nvPr/>
        </p:nvSpPr>
        <p:spPr>
          <a:xfrm>
            <a:off x="3573360" y="2301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2627"/>
                </a:solidFill>
                <a:latin typeface="Times New Roman"/>
                <a:ea typeface="Nuggim"/>
              </a:rPr>
              <a:t>Gold Investment 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6"/>
          <p:cNvGrpSpPr/>
          <p:nvPr/>
        </p:nvGrpSpPr>
        <p:grpSpPr>
          <a:xfrm>
            <a:off x="4580640" y="3481200"/>
            <a:ext cx="3812760" cy="3814200"/>
            <a:chOff x="4580640" y="3481200"/>
            <a:chExt cx="3812760" cy="3814200"/>
          </a:xfrm>
        </p:grpSpPr>
        <p:pic>
          <p:nvPicPr>
            <p:cNvPr id="373" name="Picture 3" descr=""/>
            <p:cNvPicPr/>
            <p:nvPr/>
          </p:nvPicPr>
          <p:blipFill>
            <a:blip r:embed="rId2"/>
            <a:stretch/>
          </p:blipFill>
          <p:spPr>
            <a:xfrm rot="1800000">
              <a:off x="5156640" y="4037040"/>
              <a:ext cx="2702520" cy="270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 rot="4500000">
              <a:off x="4929480" y="3831840"/>
              <a:ext cx="3114720" cy="311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G:\图片\psds13814.jpg"/>
          <p:cNvPicPr/>
          <p:nvPr/>
        </p:nvPicPr>
        <p:blipFill>
          <a:blip r:embed="rId2"/>
          <a:stretch/>
        </p:blipFill>
        <p:spPr>
          <a:xfrm>
            <a:off x="1440" y="2036880"/>
            <a:ext cx="13003200" cy="4551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Administrator\桌面\参赛\参赛图片\a2_146.jpg"/>
          <p:cNvPicPr/>
          <p:nvPr/>
        </p:nvPicPr>
        <p:blipFill>
          <a:blip r:embed="rId3"/>
          <a:stretch/>
        </p:blipFill>
        <p:spPr>
          <a:xfrm>
            <a:off x="4761000" y="2614680"/>
            <a:ext cx="3313080" cy="311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乌"/>
          <p:cNvPicPr/>
          <p:nvPr/>
        </p:nvPicPr>
        <p:blipFill>
          <a:blip r:embed="rId4"/>
          <a:stretch/>
        </p:blipFill>
        <p:spPr>
          <a:xfrm>
            <a:off x="6002280" y="3257640"/>
            <a:ext cx="1000080" cy="1385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9080" y="2016000"/>
            <a:ext cx="13030200" cy="360"/>
            <a:chOff x="19080" y="2016000"/>
            <a:chExt cx="13030200" cy="360"/>
          </a:xfrm>
        </p:grpSpPr>
        <p:sp>
          <p:nvSpPr>
            <p:cNvPr id="139" name="直接连接符 8"/>
            <p:cNvSpPr/>
            <p:nvPr/>
          </p:nvSpPr>
          <p:spPr>
            <a:xfrm>
              <a:off x="19080" y="2016000"/>
              <a:ext cx="13030200" cy="0"/>
            </a:xfrm>
            <a:prstGeom prst="line">
              <a:avLst/>
            </a:prstGeom>
            <a:ln w="57240">
              <a:solidFill>
                <a:srgbClr val="e8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9080" y="2016000"/>
              <a:ext cx="1303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0" y="6588000"/>
            <a:ext cx="13030200" cy="360"/>
            <a:chOff x="0" y="6588000"/>
            <a:chExt cx="13030200" cy="360"/>
          </a:xfrm>
        </p:grpSpPr>
        <p:sp>
          <p:nvSpPr>
            <p:cNvPr id="142" name="直接连接符 9"/>
            <p:cNvSpPr/>
            <p:nvPr/>
          </p:nvSpPr>
          <p:spPr>
            <a:xfrm>
              <a:off x="0" y="6588000"/>
              <a:ext cx="13030200" cy="0"/>
            </a:xfrm>
            <a:prstGeom prst="line">
              <a:avLst/>
            </a:prstGeom>
            <a:ln w="57240">
              <a:solidFill>
                <a:srgbClr val="e8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0" y="6588000"/>
              <a:ext cx="1303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8"/>
          <p:cNvSpPr/>
          <p:nvPr/>
        </p:nvSpPr>
        <p:spPr>
          <a:xfrm>
            <a:off x="5193000" y="3022560"/>
            <a:ext cx="30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国老百姓理财篇</a:t>
            </a:r>
            <a:r>
              <a:rPr b="0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4502160" y="3730680"/>
            <a:ext cx="43578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5299560" y="37306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黄 金 为 什 么 不 保 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4430880" y="445140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是最珍贵的金属之一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古至今都被视为保值品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说黄金不保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8"/>
          <p:cNvSpPr/>
          <p:nvPr/>
        </p:nvSpPr>
        <p:spPr>
          <a:xfrm>
            <a:off x="5672160" y="2063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宏观观点解析黄金不保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0"/>
          <p:cNvSpPr/>
          <p:nvPr/>
        </p:nvSpPr>
        <p:spPr>
          <a:xfrm>
            <a:off x="5536800" y="2079720"/>
            <a:ext cx="2367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da2627"/>
                </a:solidFill>
                <a:latin typeface="微软雅黑"/>
                <a:ea typeface="微软雅黑"/>
              </a:rPr>
              <a:t>宏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1539440" y="5302080"/>
            <a:ext cx="1465200" cy="3117960"/>
          </a:xfrm>
          <a:prstGeom prst="rect">
            <a:avLst/>
          </a:prstGeom>
          <a:ln w="0">
            <a:noFill/>
          </a:ln>
        </p:spPr>
      </p:pic>
      <p:sp>
        <p:nvSpPr>
          <p:cNvPr id="155" name="矩形 2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3"/>
          <p:cNvSpPr/>
          <p:nvPr/>
        </p:nvSpPr>
        <p:spPr>
          <a:xfrm>
            <a:off x="8791560" y="201132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蒸汽机车图片"/>
          <p:cNvPicPr/>
          <p:nvPr/>
        </p:nvPicPr>
        <p:blipFill>
          <a:blip r:embed="rId2"/>
          <a:srcRect l="0" t="7920" r="0" b="0"/>
          <a:stretch/>
        </p:blipFill>
        <p:spPr>
          <a:xfrm>
            <a:off x="8931240" y="2230560"/>
            <a:ext cx="298440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圆角矩形 6"/>
          <p:cNvSpPr/>
          <p:nvPr/>
        </p:nvSpPr>
        <p:spPr>
          <a:xfrm>
            <a:off x="8859960" y="4595760"/>
            <a:ext cx="3157560" cy="28526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8885160" y="4654440"/>
            <a:ext cx="3189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“货币之王”的美誉，也必定如同历史上各种曾经的货币一样，当其完成了时代赋予的使命后，渐渐其时代的局限性就会展露，最终被更新一代的货币取替。这是事物发展的客观规律，货币发展的规律也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3204000" y="2146320"/>
            <a:ext cx="31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货币的历史演变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发展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1954440" y="3979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2827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分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4024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携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5221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伪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548760" y="397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变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084760" y="3230640"/>
            <a:ext cx="23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成为货币之王的优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43316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60320" y="4103640"/>
            <a:ext cx="269640" cy="270000"/>
            <a:chOff x="1660320" y="4103640"/>
            <a:chExt cx="269640" cy="270000"/>
          </a:xfrm>
        </p:grpSpPr>
        <p:sp>
          <p:nvSpPr>
            <p:cNvPr id="171" name="直接连接符 16"/>
            <p:cNvSpPr/>
            <p:nvPr/>
          </p:nvSpPr>
          <p:spPr>
            <a:xfrm flipH="1">
              <a:off x="1660320" y="4103640"/>
              <a:ext cx="26964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5400000">
              <a:off x="1659960" y="410364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236160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603520" y="4086360"/>
            <a:ext cx="270000" cy="269640"/>
            <a:chOff x="2603520" y="4086360"/>
            <a:chExt cx="270000" cy="269640"/>
          </a:xfrm>
        </p:grpSpPr>
        <p:sp>
          <p:nvSpPr>
            <p:cNvPr id="175" name="直接连接符 18"/>
            <p:cNvSpPr/>
            <p:nvPr/>
          </p:nvSpPr>
          <p:spPr>
            <a:xfrm flipH="1">
              <a:off x="2603520" y="408636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5400000">
              <a:off x="2603520" y="408600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5"/>
          <p:cNvSpPr/>
          <p:nvPr/>
        </p:nvSpPr>
        <p:spPr>
          <a:xfrm>
            <a:off x="350460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60560" y="3970440"/>
            <a:ext cx="269640" cy="269640"/>
            <a:chOff x="3760560" y="3970440"/>
            <a:chExt cx="269640" cy="269640"/>
          </a:xfrm>
        </p:grpSpPr>
        <p:sp>
          <p:nvSpPr>
            <p:cNvPr id="179" name="直接连接符 20"/>
            <p:cNvSpPr/>
            <p:nvPr/>
          </p:nvSpPr>
          <p:spPr>
            <a:xfrm flipH="1">
              <a:off x="3760560" y="397044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5400000">
              <a:off x="3760560" y="397044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5"/>
          <p:cNvSpPr/>
          <p:nvPr/>
        </p:nvSpPr>
        <p:spPr>
          <a:xfrm>
            <a:off x="471132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64040" y="3970440"/>
            <a:ext cx="270000" cy="269640"/>
            <a:chOff x="4964040" y="3970440"/>
            <a:chExt cx="270000" cy="269640"/>
          </a:xfrm>
        </p:grpSpPr>
        <p:sp>
          <p:nvSpPr>
            <p:cNvPr id="183" name="直接连接符 22"/>
            <p:cNvSpPr/>
            <p:nvPr/>
          </p:nvSpPr>
          <p:spPr>
            <a:xfrm flipH="1">
              <a:off x="4964040" y="397044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5400000">
              <a:off x="4964040" y="397008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5"/>
          <p:cNvSpPr/>
          <p:nvPr/>
        </p:nvSpPr>
        <p:spPr>
          <a:xfrm>
            <a:off x="600516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32320" y="4032360"/>
            <a:ext cx="269640" cy="269640"/>
            <a:chOff x="6232320" y="4032360"/>
            <a:chExt cx="269640" cy="269640"/>
          </a:xfrm>
        </p:grpSpPr>
        <p:sp>
          <p:nvSpPr>
            <p:cNvPr id="187" name="直接连接符 24"/>
            <p:cNvSpPr/>
            <p:nvPr/>
          </p:nvSpPr>
          <p:spPr>
            <a:xfrm flipH="1">
              <a:off x="6232320" y="403236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5400000">
              <a:off x="6232320" y="403236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25"/>
          <p:cNvSpPr/>
          <p:nvPr/>
        </p:nvSpPr>
        <p:spPr>
          <a:xfrm>
            <a:off x="1359000" y="46594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商品贸易的发展，科技水平的提升，黄金的优点逐渐失去优势。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耐用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始终会有点磨损……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割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算分割得再细，也不可能拿黄金去买东西购物</a:t>
            </a:r>
            <a:r>
              <a:rPr b="0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携带？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能携带贵重物品去逛街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伪造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最信任的</a:t>
            </a:r>
            <a:r>
              <a:rPr b="0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CBC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6"/>
          <p:cNvSpPr/>
          <p:nvPr/>
        </p:nvSpPr>
        <p:spPr>
          <a:xfrm>
            <a:off x="4689720" y="6802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反，纸币与电子货币，几乎很好地解决了上面全部的难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8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9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0"/>
          <p:cNvSpPr/>
          <p:nvPr/>
        </p:nvSpPr>
        <p:spPr>
          <a:xfrm>
            <a:off x="140220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1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4"/>
          <p:cNvSpPr/>
          <p:nvPr/>
        </p:nvSpPr>
        <p:spPr>
          <a:xfrm>
            <a:off x="2577960" y="1781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98" name="矩形 1"/>
          <p:cNvSpPr/>
          <p:nvPr/>
        </p:nvSpPr>
        <p:spPr>
          <a:xfrm>
            <a:off x="3215160" y="214632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保值的逻辑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与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4"/>
          <p:cNvSpPr/>
          <p:nvPr/>
        </p:nvSpPr>
        <p:spPr>
          <a:xfrm>
            <a:off x="8791560" y="201132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6"/>
          <p:cNvSpPr/>
          <p:nvPr/>
        </p:nvSpPr>
        <p:spPr>
          <a:xfrm>
            <a:off x="8859960" y="4629240"/>
            <a:ext cx="3157560" cy="28382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359000" y="3184560"/>
            <a:ext cx="74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黄金保值的最具代表性的货币战争的作者宋鸿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黄金之所以能保值的逻辑如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27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9"/>
          <p:cNvSpPr/>
          <p:nvPr/>
        </p:nvSpPr>
        <p:spPr>
          <a:xfrm>
            <a:off x="136872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epaper.tianjinwe.com/xjrgcb/images/1/542/2011-03/21/58/res01_attpic_brief.jpg"/>
          <p:cNvPicPr/>
          <p:nvPr/>
        </p:nvPicPr>
        <p:blipFill>
          <a:blip r:embed="rId2"/>
          <a:stretch/>
        </p:blipFill>
        <p:spPr>
          <a:xfrm>
            <a:off x="8931240" y="2087640"/>
            <a:ext cx="300024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矩形 32"/>
          <p:cNvSpPr/>
          <p:nvPr/>
        </p:nvSpPr>
        <p:spPr>
          <a:xfrm>
            <a:off x="1359000" y="415908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505"/>
                </a:solidFill>
                <a:latin typeface="微软雅黑"/>
                <a:ea typeface="微软雅黑"/>
              </a:rPr>
              <a:t>纸币会因滥发而长期贬值，黄金因不能滥发而将长期保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3"/>
          <p:cNvSpPr/>
          <p:nvPr/>
        </p:nvSpPr>
        <p:spPr>
          <a:xfrm>
            <a:off x="3527280" y="4659480"/>
            <a:ext cx="294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似很正确，实质是谬误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逻辑成立的一个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前提是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黄金是货币”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4"/>
          <p:cNvSpPr/>
          <p:nvPr/>
        </p:nvSpPr>
        <p:spPr>
          <a:xfrm>
            <a:off x="1359000" y="56912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71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“金本位”的废除，黄金早就不是货币了。先不论这是人为阴谋，还是历史规律，你首先要明确，这是一个客观事实。至于黄金在流通中的残余作用——比如我用黄金去购买商品，比如我用金币去缴税——这是因为黄金纵然不是货币了，但其作为商品，依然具备价值。请你不要以为，黄金这依然残留的价值，是“货币属性”赋予的，这只是“商品属性”赋予的。是任何商品都有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6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8859960" y="4603680"/>
            <a:ext cx="3286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保值”就是“保住购买力”，它的大环境是纸币的不断贬值。“保值”绝对不是黄金特有的，在纸币不断贬值的环境下，任何商品对纸币都是不断升值的——都是保值的。说黄金保值，只不过是说，黄金比较其他商品更“保”，因为。黄金的物理与化学性质更稳定</a:t>
            </a:r>
            <a:r>
              <a:rPr b="0" lang="en-US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859040" y="3404160"/>
            <a:ext cx="105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为铜币的废除，已经很久远的历史，大概晚清倒台，铜币就已经绝迹于中国的经济生活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1216080" y="2111400"/>
            <a:ext cx="10858320" cy="56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368360" y="1839960"/>
            <a:ext cx="7777080" cy="431640"/>
          </a:xfrm>
          <a:prstGeom prst="rect">
            <a:avLst/>
          </a:prstGeom>
          <a:solidFill>
            <a:srgbClr val="a5a5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E:\仝德志文件，勿删！\03-参考文档\！PPT图片及版面资源\06-PPT精选插图\12-标签\橙色把手-阴影.png"/>
          <p:cNvPicPr/>
          <p:nvPr/>
        </p:nvPicPr>
        <p:blipFill>
          <a:blip r:embed="rId2"/>
          <a:stretch/>
        </p:blipFill>
        <p:spPr>
          <a:xfrm>
            <a:off x="2216160" y="1690560"/>
            <a:ext cx="1062000" cy="827280"/>
          </a:xfrm>
          <a:prstGeom prst="rect">
            <a:avLst/>
          </a:prstGeom>
          <a:ln w="0">
            <a:noFill/>
          </a:ln>
        </p:spPr>
      </p:pic>
      <p:sp>
        <p:nvSpPr>
          <p:cNvPr id="218" name="椭圆 12"/>
          <p:cNvSpPr/>
          <p:nvPr/>
        </p:nvSpPr>
        <p:spPr>
          <a:xfrm>
            <a:off x="1360440" y="187632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3948480" y="18414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黄金保值的逻辑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本位与否附加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5"/>
          <p:cNvSpPr/>
          <p:nvPr/>
        </p:nvSpPr>
        <p:spPr>
          <a:xfrm>
            <a:off x="1073160" y="130968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1288800" y="18032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1398240" y="14097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4"/>
          <p:cNvSpPr/>
          <p:nvPr/>
        </p:nvSpPr>
        <p:spPr>
          <a:xfrm>
            <a:off x="1787400" y="5049720"/>
            <a:ext cx="10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面对金本位废除后，通货膨胀、经济危机、纸币滥发、黄金保值等现象，也进一步促使黄金作为货币的观念，难以磨灭。但历史辩证地看，恢复金本位，跟辛亥革命之后帝制复辟，没什么两样。只不过后者，民主共和深入民心，帝制复辟只能昙花一现；而前者，黄金保值的思想深入民心，金本位复辟仿佛众望所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5"/>
          <p:cNvSpPr/>
          <p:nvPr/>
        </p:nvSpPr>
        <p:spPr>
          <a:xfrm>
            <a:off x="1216080" y="2730600"/>
            <a:ext cx="111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铜也是曾经的货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现在也一样有价值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甚至还有融通手段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什么没人说铜是货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1395000" y="3133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89040" y="3505320"/>
            <a:ext cx="270000" cy="269640"/>
            <a:chOff x="1589040" y="3505320"/>
            <a:chExt cx="270000" cy="269640"/>
          </a:xfrm>
        </p:grpSpPr>
        <p:sp>
          <p:nvSpPr>
            <p:cNvPr id="227" name="直接连接符 27"/>
            <p:cNvSpPr/>
            <p:nvPr/>
          </p:nvSpPr>
          <p:spPr>
            <a:xfrm flipH="1">
              <a:off x="1589040" y="350532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5400000">
              <a:off x="1589040" y="350496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矩形 28"/>
          <p:cNvSpPr/>
          <p:nvPr/>
        </p:nvSpPr>
        <p:spPr>
          <a:xfrm>
            <a:off x="1859040" y="3759120"/>
            <a:ext cx="104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已经过去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年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换来了深入民心。为什么有宋鸿兵等人呼唤金本位的恢复？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71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金本位的废除，不过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。黄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来货币之王的地位，不是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时间就能平息。人们从思维习惯上，接受黄金是货币比接受黄金不是货币要容易得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1433160" y="4672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27200" y="5045040"/>
            <a:ext cx="270000" cy="270000"/>
            <a:chOff x="1627200" y="5045040"/>
            <a:chExt cx="270000" cy="270000"/>
          </a:xfrm>
        </p:grpSpPr>
        <p:sp>
          <p:nvSpPr>
            <p:cNvPr id="232" name="直接连接符 30"/>
            <p:cNvSpPr/>
            <p:nvPr/>
          </p:nvSpPr>
          <p:spPr>
            <a:xfrm flipH="1">
              <a:off x="1627200" y="5045040"/>
              <a:ext cx="27000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5400000">
              <a:off x="1627200" y="5045040"/>
              <a:ext cx="2700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1"/>
          <p:cNvSpPr/>
          <p:nvPr/>
        </p:nvSpPr>
        <p:spPr>
          <a:xfrm>
            <a:off x="1287360" y="6643800"/>
            <a:ext cx="10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现在的“保值”与一定的货币融通效果，是一般商品都具备的“商品属性”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因其稳定的物理性质，使其在“保值”方面比其他商品略有优势。至于货币融通效果，在现代抵押贷款的金融制度下，任何有价值的商品，都能通过抵押，获得贷款，体现融通效果，并非黄金独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36" name="矩形 1"/>
          <p:cNvSpPr/>
          <p:nvPr/>
        </p:nvSpPr>
        <p:spPr>
          <a:xfrm>
            <a:off x="3465360" y="2146320"/>
            <a:ext cx="41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不能恢复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实现货币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8791560" y="229716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6"/>
          <p:cNvSpPr/>
          <p:nvPr/>
        </p:nvSpPr>
        <p:spPr>
          <a:xfrm>
            <a:off x="8859960" y="4915080"/>
            <a:ext cx="3157560" cy="28382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27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8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9"/>
          <p:cNvSpPr/>
          <p:nvPr/>
        </p:nvSpPr>
        <p:spPr>
          <a:xfrm>
            <a:off x="136872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6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5"/>
          <p:cNvSpPr/>
          <p:nvPr/>
        </p:nvSpPr>
        <p:spPr>
          <a:xfrm>
            <a:off x="1359000" y="30877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币是社会财富（商品与劳务）的“凭据”，用于个体之间的贸易（商品与劳务的交换）。在这里，是不讨论货币的形式，假定货币的量是恒定不变的，这会产生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6"/>
          <p:cNvSpPr/>
          <p:nvPr/>
        </p:nvSpPr>
        <p:spPr>
          <a:xfrm>
            <a:off x="1287360" y="408780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随着生产力的发展，财富增加，而货币量不变的话，必然使到每单位货币的购买力上升—因为货币对应的财富量增加了。而单位货币购买力的上升，展现在物价上，就是物价的下降—因为钱更值钱。这样首先导致一个问题，小额交易无法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苹果图片"/>
          <p:cNvPicPr/>
          <p:nvPr/>
        </p:nvPicPr>
        <p:blipFill>
          <a:blip r:embed="rId2"/>
          <a:srcRect l="0" t="8029" r="0" b="0"/>
          <a:stretch/>
        </p:blipFill>
        <p:spPr>
          <a:xfrm>
            <a:off x="8879040" y="2425680"/>
            <a:ext cx="3071520" cy="2428920"/>
          </a:xfrm>
          <a:prstGeom prst="rect">
            <a:avLst/>
          </a:prstGeom>
          <a:ln w="0">
            <a:noFill/>
          </a:ln>
        </p:spPr>
      </p:pic>
      <p:sp>
        <p:nvSpPr>
          <p:cNvPr id="247" name="矩形 19"/>
          <p:cNvSpPr/>
          <p:nvPr/>
        </p:nvSpPr>
        <p:spPr>
          <a:xfrm>
            <a:off x="1287360" y="544500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样的货币，不但非常保值，而且随着社会财富的增加，会不断升值。这会出现一个问题—制约生产力！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为你完全不用劳动啦！你只要拿着货币，拿着黄金就好了！你等人家生产，等社会财富增加，到时你手上的货币购买力自然随之升值，你自自然然就分享到社会进步、财富累积的好处！这样一来，就跟我们建国初期的“共产主义”“农民合作社”没什么两样——吃大锅饭。大家都倾向于持有货币，都等他人生产，自己坐享其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1"/>
          <p:cNvSpPr/>
          <p:nvPr/>
        </p:nvSpPr>
        <p:spPr>
          <a:xfrm>
            <a:off x="8858160" y="4923000"/>
            <a:ext cx="32162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以存量固定的货币，是不能适应生产力不断发展、财富不断累积的社会，这会造成“通货紧缩”——物价下降，货币购买力上升——导致生产商品的人无利润可言，而不生产只管持有货币的人却瓜分社会财富——这是一种制约生产力，把经济推向萧条的货币制度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50" name="矩形 13"/>
          <p:cNvSpPr/>
          <p:nvPr/>
        </p:nvSpPr>
        <p:spPr>
          <a:xfrm>
            <a:off x="1216080" y="2111400"/>
            <a:ext cx="10858320" cy="56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4"/>
          <p:cNvSpPr/>
          <p:nvPr/>
        </p:nvSpPr>
        <p:spPr>
          <a:xfrm>
            <a:off x="1368360" y="1839960"/>
            <a:ext cx="7777080" cy="431640"/>
          </a:xfrm>
          <a:prstGeom prst="rect">
            <a:avLst/>
          </a:prstGeom>
          <a:solidFill>
            <a:srgbClr val="a5a5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E:\仝德志文件，勿删！\03-参考文档\！PPT图片及版面资源\06-PPT精选插图\12-标签\橙色把手-阴影.png"/>
          <p:cNvPicPr/>
          <p:nvPr/>
        </p:nvPicPr>
        <p:blipFill>
          <a:blip r:embed="rId2"/>
          <a:stretch/>
        </p:blipFill>
        <p:spPr>
          <a:xfrm>
            <a:off x="2216160" y="1690560"/>
            <a:ext cx="1062000" cy="827280"/>
          </a:xfrm>
          <a:prstGeom prst="rect">
            <a:avLst/>
          </a:prstGeom>
          <a:ln w="0">
            <a:noFill/>
          </a:ln>
        </p:spPr>
      </p:pic>
      <p:sp>
        <p:nvSpPr>
          <p:cNvPr id="253" name="椭圆 16"/>
          <p:cNvSpPr/>
          <p:nvPr/>
        </p:nvSpPr>
        <p:spPr>
          <a:xfrm>
            <a:off x="1360440" y="187632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8"/>
          <p:cNvSpPr/>
          <p:nvPr/>
        </p:nvSpPr>
        <p:spPr>
          <a:xfrm>
            <a:off x="1073160" y="130968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9"/>
          <p:cNvSpPr/>
          <p:nvPr/>
        </p:nvSpPr>
        <p:spPr>
          <a:xfrm>
            <a:off x="1288800" y="18032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0"/>
          <p:cNvSpPr/>
          <p:nvPr/>
        </p:nvSpPr>
        <p:spPr>
          <a:xfrm>
            <a:off x="1398240" y="14097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2"/>
          <p:cNvSpPr/>
          <p:nvPr/>
        </p:nvSpPr>
        <p:spPr>
          <a:xfrm>
            <a:off x="1359000" y="2873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的弊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"/>
          <p:cNvSpPr/>
          <p:nvPr/>
        </p:nvSpPr>
        <p:spPr>
          <a:xfrm>
            <a:off x="3885840" y="183996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本位不能恢复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能实现货币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1"/>
          <p:cNvSpPr/>
          <p:nvPr/>
        </p:nvSpPr>
        <p:spPr>
          <a:xfrm>
            <a:off x="1359000" y="3599280"/>
            <a:ext cx="108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是一种自然矿物，从地球诞生的那一天开始，黄金存量基本就固定了，但人类的社会财富在数千年来，是不断生产与累积的。固定的货币量，与不断增长的财富，形成两难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95000" y="4159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89040" y="4597560"/>
            <a:ext cx="270000" cy="269640"/>
            <a:chOff x="1589040" y="4597560"/>
            <a:chExt cx="270000" cy="269640"/>
          </a:xfrm>
        </p:grpSpPr>
        <p:sp>
          <p:nvSpPr>
            <p:cNvPr id="262" name="直接连接符 34"/>
            <p:cNvSpPr/>
            <p:nvPr/>
          </p:nvSpPr>
          <p:spPr>
            <a:xfrm flipH="1">
              <a:off x="1589040" y="459756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 rot="5400000">
              <a:off x="1589040" y="459720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5"/>
          <p:cNvSpPr/>
          <p:nvPr/>
        </p:nvSpPr>
        <p:spPr>
          <a:xfrm>
            <a:off x="1433160" y="49449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27200" y="5318280"/>
            <a:ext cx="270000" cy="269640"/>
            <a:chOff x="1627200" y="5318280"/>
            <a:chExt cx="270000" cy="269640"/>
          </a:xfrm>
        </p:grpSpPr>
        <p:sp>
          <p:nvSpPr>
            <p:cNvPr id="266" name="直接连接符 36"/>
            <p:cNvSpPr/>
            <p:nvPr/>
          </p:nvSpPr>
          <p:spPr>
            <a:xfrm flipH="1">
              <a:off x="1627200" y="531828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5400000">
              <a:off x="1627200" y="531792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37"/>
          <p:cNvSpPr/>
          <p:nvPr/>
        </p:nvSpPr>
        <p:spPr>
          <a:xfrm>
            <a:off x="1859040" y="4373640"/>
            <a:ext cx="103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要稳定币值，那么其购买力必定随财富增长而增长，届时将无人愿意生产劳动，只管持有货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8"/>
          <p:cNvSpPr/>
          <p:nvPr/>
        </p:nvSpPr>
        <p:spPr>
          <a:xfrm>
            <a:off x="1859040" y="5159520"/>
            <a:ext cx="103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要稳定物价，那么就必然要降低单位货币的购买力，届时将无人愿意持有货币，货币无法流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9"/>
          <p:cNvSpPr/>
          <p:nvPr/>
        </p:nvSpPr>
        <p:spPr>
          <a:xfrm>
            <a:off x="1428840" y="6137280"/>
            <a:ext cx="1064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的货币制度，必然是货币的增量与社会财富的增量，相适应地，并驾齐驱。这样才能既保持币值，也稳定物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0"/>
          <p:cNvSpPr/>
          <p:nvPr/>
        </p:nvSpPr>
        <p:spPr>
          <a:xfrm>
            <a:off x="1430280" y="7054920"/>
            <a:ext cx="106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金本位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恰恰以存量固定的黄金为“本”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黄金为本的货币体系自然会崩溃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1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42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8194"/>
          <p:cNvSpPr/>
          <p:nvPr/>
        </p:nvSpPr>
        <p:spPr>
          <a:xfrm>
            <a:off x="3549600" y="2897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8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07Z</dcterms:modified>
  <cp:revision>2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