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50DD-AC5F-48EB-A29F-BB8DF720C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7455-A7C6-454D-BDFB-75CE26E16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4DB7-5B10-4D74-BCF6-EE917184F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6751-F3EB-42D8-B3BE-681572D78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A128-CCA2-4AD7-90CF-20C168DB4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A0243-C956-47E8-9641-9DC271A7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9C9E8-B75D-477D-9E1C-8086BFE6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C5993-3781-4A02-A9D2-D37C520F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007FB-97FE-45F4-B98F-26D949AD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3F5E9-6687-4F34-BC15-2C6C1F6A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C2F5-4646-4274-903C-B32D83CD95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1C373-72C3-468D-881B-56398243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7A242-1760-437E-908A-9B34080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57124-414F-48F2-970A-5CE70035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7496B-3058-433F-A5C8-019A00B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DB235-D50D-4D79-8F60-80604AAC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517C0-8D95-4B50-9407-4BA94468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9AAA0-AEA6-427D-B262-EB5B1FC5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FFB6-424E-4460-BFF2-6FF3DB642D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E589-88FB-4FD1-8579-6FE54A7D4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9248-E994-4F42-BF87-745D106B3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32A6-AFE1-42AB-B612-2A70C2211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8503-87CC-4151-9D38-000A7C6C1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573A-FCFE-42C0-A98C-AA2DC05C8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0113" descr="2008-4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文本框 90114"/>
          <p:cNvSpPr/>
          <p:nvPr/>
        </p:nvSpPr>
        <p:spPr>
          <a:xfrm>
            <a:off x="7524720" y="333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90116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90118"/>
          <p:cNvSpPr/>
          <p:nvPr/>
        </p:nvSpPr>
        <p:spPr>
          <a:xfrm>
            <a:off x="1547640" y="627696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文本框 90119"/>
          <p:cNvSpPr/>
          <p:nvPr/>
        </p:nvSpPr>
        <p:spPr>
          <a:xfrm>
            <a:off x="611280" y="6132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0" y="6565680"/>
            <a:ext cx="914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D2D7-8462-4A4D-B606-83252AF66367}" type="slidenum"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>
            <a:hlinkClick r:id="rId5"/>
          </p:cNvPr>
          <p:cNvSpPr/>
          <p:nvPr/>
        </p:nvSpPr>
        <p:spPr>
          <a:xfrm>
            <a:off x="236880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3317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318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3319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51" name="图片 13320" descr="soft7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3321" descr="soft7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矩形 13322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323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324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3326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3330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  <a:ea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3331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63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3348720" y="1125360"/>
              <a:ext cx="360" cy="576360"/>
              <a:chOff x="3348720" y="1125360"/>
              <a:chExt cx="360" cy="576360"/>
            </a:xfrm>
          </p:grpSpPr>
          <p:sp>
            <p:nvSpPr>
              <p:cNvPr id="66" name="直接连接符 13334"/>
              <p:cNvSpPr/>
              <p:nvPr/>
            </p:nvSpPr>
            <p:spPr>
              <a:xfrm>
                <a:off x="3348720" y="1125360"/>
                <a:ext cx="0" cy="57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3348720" y="1125360"/>
                <a:ext cx="3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D5DD-22A5-48C9-8E97-649E7249E13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1800-33F6-408A-A1CF-7A169CA485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91137" descr="2008-4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91138" descr="2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91139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2064"/>
          <p:cNvSpPr txBox="1"/>
          <p:nvPr/>
        </p:nvSpPr>
        <p:spPr>
          <a:xfrm>
            <a:off x="755640" y="4724280"/>
            <a:ext cx="35272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i="1" lang="en-US" sz="1800" spc="-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87" name="矩形 2065"/>
          <p:cNvSpPr txBox="1"/>
          <p:nvPr/>
        </p:nvSpPr>
        <p:spPr>
          <a:xfrm>
            <a:off x="-2771640" y="486828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i="1" lang="en-US" sz="18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70264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紫色背景工作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5DB2-AA48-472B-9102-2F919FB83E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0263" descr="2008-4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0264" descr="2008-4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6" name="矩形 10260"/>
          <p:cNvSpPr txBox="1"/>
          <p:nvPr/>
        </p:nvSpPr>
        <p:spPr>
          <a:xfrm>
            <a:off x="1258920" y="278136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-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97" name="矩形 10261"/>
          <p:cNvSpPr txBox="1"/>
          <p:nvPr/>
        </p:nvSpPr>
        <p:spPr>
          <a:xfrm>
            <a:off x="-89892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808080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-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808080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9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42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