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1B4-7378-47B5-8F46-27FC7C4F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B02-4DEE-4962-8C52-1CDA0452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CC3-BB87-4F7C-9538-CFAE834E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8C5-645F-4068-AC7A-0D018240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524-751A-461A-84B5-AE6529B2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CD4-08C0-4D8A-ACFE-02A0F650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E96-B1D5-4A51-A6FC-11BDF0E4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2BF-7317-4FEF-B3E4-2471773A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755-012A-4028-A4A7-82A75849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4C0-3670-4793-B1F1-70F876ED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C67-E33D-483E-963D-C39D3667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EE8-D628-40D8-84AA-10A3389B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38"/>
          <p:cNvSpPr/>
          <p:nvPr/>
        </p:nvSpPr>
        <p:spPr>
          <a:xfrm>
            <a:off x="6156360" y="54936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框 1039"/>
          <p:cNvSpPr/>
          <p:nvPr/>
        </p:nvSpPr>
        <p:spPr>
          <a:xfrm>
            <a:off x="7859880" y="4366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图片 1043" descr="ND-1"/>
          <p:cNvPicPr/>
          <p:nvPr/>
        </p:nvPicPr>
        <p:blipFill>
          <a:blip r:embed="rId3"/>
          <a:stretch/>
        </p:blipFill>
        <p:spPr>
          <a:xfrm>
            <a:off x="7586640" y="5445000"/>
            <a:ext cx="1017720" cy="101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C827-FD38-454B-B367-9BF1DE924FB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7787-5B24-43DE-97E3-E29894B5E6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1773360"/>
            <a:ext cx="867708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正式的报告总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3098-8EDA-4039-B828-3E26CD13FF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6148"/>
          <p:cNvSpPr/>
          <p:nvPr/>
        </p:nvSpPr>
        <p:spPr>
          <a:xfrm>
            <a:off x="2416320" y="1628640"/>
            <a:ext cx="457344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8194"/>
          <p:cNvSpPr/>
          <p:nvPr/>
        </p:nvSpPr>
        <p:spPr>
          <a:xfrm>
            <a:off x="2195640" y="3141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8080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39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