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FD1-A09A-47F7-81E7-9A15FD6F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37C-E181-4113-BF07-4FC4B51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A42-88E8-49AF-9F19-821030E0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968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968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F5F-DBAC-4E59-830B-D4B75E40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AEB2-308D-4AA6-B68D-DF8F3D54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3E7-AD2F-483F-9C50-252DBF94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B70-91AB-4F96-940F-D9ECF7E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9370-A491-4F02-89A6-F787C875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BB59-DB99-4389-88DE-15467288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B6DE-DA15-4D04-8C61-DBBC5872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F782-6FF1-4AFD-AD27-7B32584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5B8-D230-4669-AECC-5306CD0B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967-3527-4A71-82BE-9B5569F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3884-12D1-44E7-9905-D9D732C2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E8AC-8B24-4651-B5E0-E2A9854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3929-5A2E-44D3-9CA4-D7E2C972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1968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584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1968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584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2E75-4441-40E0-BF91-CA71C98A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88DA-982E-467E-9528-FC0D44A0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80CA-75AB-46FA-AC12-4CECBCF2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2629E-DD9D-4063-85A9-29792B19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4E1E-A35C-465D-9D34-3E604FB8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0EF0-C045-422C-BBAB-F1A912B2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003-DF2A-486C-B015-2B182B70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2E41-C81B-498E-BDB9-39D82776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EAC1-5D09-4317-8E6C-06FA9CA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411D-3A9F-4E91-BD90-A0BB242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1070-A99D-4302-AA75-97296C9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6507-D9A5-4A3F-BC93-1609A171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65AD-14BE-4EEF-ABC6-CFF82488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1968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15840" y="175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52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1968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15840" y="3822120"/>
            <a:ext cx="2281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8045-A134-4336-B13D-73824F6E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A4A-0424-43C4-92F4-4F4BD87F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7CD-B826-4FBD-BB3B-2BA99D4E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8A3-E672-4E63-8790-E4D089C1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67F-9CE6-4333-A4B2-18C6F2A8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82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369-705C-4640-B52C-6D8FDAF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120"/>
            <a:ext cx="34581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822120"/>
            <a:ext cx="7086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DF0-5628-40F0-A259-CF1239B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7406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DC63-FFE6-4145-844B-13F4F9C60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496D-9FE4-4473-BB54-44AFF07927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375E-009D-4674-BB60-C8BE4E10AC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7406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7406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F751-B83E-4E94-B88E-B2F7EEBC4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OBAL BACKY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4647960"/>
            <a:ext cx="7925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062b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697040" y="380880"/>
            <a:ext cx="566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紫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色国外经典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打包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Arial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406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062b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pic>
        <p:nvPicPr>
          <p:cNvPr id="129" name="图片 9219" descr="safari_man_with_a_map_hg_clr"/>
          <p:cNvPicPr/>
          <p:nvPr/>
        </p:nvPicPr>
        <p:blipFill>
          <a:blip r:embed="rId1"/>
          <a:stretch/>
        </p:blipFill>
        <p:spPr>
          <a:xfrm>
            <a:off x="6934320" y="3733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74062b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2133720" y="289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5B45-C64C-4E4A-BB81-E1E53854D3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062b"/>
                </a:solidFill>
                <a:latin typeface="Arial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图片 10245" descr="road_trip_hg_clr"/>
          <p:cNvPicPr/>
          <p:nvPr/>
        </p:nvPicPr>
        <p:blipFill>
          <a:blip r:embed="rId2"/>
          <a:stretch/>
        </p:blipFill>
        <p:spPr>
          <a:xfrm>
            <a:off x="5867280" y="236232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2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