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826-E716-4153-8EAD-6C158FE5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844-14D9-4FBA-9CF7-BE491A9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500-4C41-4556-829C-F2C391A4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BA3-BDF9-43CF-A5D7-85FCF007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DE99-1627-4941-9E32-B7518BAF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5A4-01B0-4C7E-A3F8-0259C36F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423D-13F9-4047-BF8A-0B80E39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E70E-1C4C-4D01-B583-A518BBA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663-75C1-489B-9360-8026673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418-752E-4A25-8C2B-58CC2316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6B1-CBF8-4F6F-9DB8-83DAD718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7B5-2C87-4BDE-B953-85E1131F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CC40-A61D-4165-BC43-FCE519C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D9F2-B013-4145-8F16-5C3CCE3C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B6B-2A04-4047-9040-0C3124F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B234-EE67-4716-BB3E-EE06785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D108-BCBB-49F2-ACBA-6A83EEB8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A2B-F12E-49AA-96F0-2A86DCB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038-DD83-45FD-909B-FBA64EA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D4C-1CBE-4FC9-B3F1-0BAAF59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EBF-D54A-44F2-8BDE-B0F4A7B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EB6-986A-4250-848C-AF07D10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B0F-EE80-43F0-BCAB-4AD1B6A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90D-070F-4B67-8BBC-A5138106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6E8C-49EE-4A49-9501-224ACADE26F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6BA-8966-4F65-B3BC-DB1679DDC33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6FA2-9134-43D4-9E0E-C5F07A3EC6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69C5-70F1-4B34-B69D-04F046206A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928880" y="384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592668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4"/>
          <p:cNvSpPr/>
          <p:nvPr/>
        </p:nvSpPr>
        <p:spPr>
          <a:xfrm>
            <a:off x="1258920" y="981000"/>
            <a:ext cx="68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喵星人卡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"/>
          <p:cNvSpPr/>
          <p:nvPr/>
        </p:nvSpPr>
        <p:spPr>
          <a:xfrm>
            <a:off x="3429000" y="492912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4926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2283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D47-8BB8-42E2-80BE-1328ADEF38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3859200" y="321480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1997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6:33Z</dcterms:modified>
  <cp:revision>20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