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E79-25A5-4DE8-AD4D-C25B1222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3C7-7A3C-4097-87B6-2F9F0A2D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57D1-0909-4306-A33E-F4ECDA79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3B5F-F3C4-41E3-89DC-8AC48808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CB19-1EA4-4024-AA43-65733DA6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C568-765E-4077-8B95-9997BE4F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BE39-0916-4178-B849-44DF5588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486E-8656-4917-8B7A-CCBA862F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575D-47E3-4E5E-91F1-F17082F0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3AE0-0481-4F39-AE60-932876EC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90A3-0441-4E97-AAED-9C2678F9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8B97-D51C-4E72-BCFF-349C06F8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2FDB-254B-4FC0-AAB1-07F8415C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F61B-8377-420A-BC6E-E197509A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C170-5547-42DD-B287-D2EFCE8E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BB3E-87AE-4488-9E83-A7A2D977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3A66-FF48-4F9A-812A-FA8A3577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4AA-EE5B-44AE-85DD-6DEF80AB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487-D43A-4CFB-8E81-EC684E0A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B5E8-016F-419A-A08A-6F33CD2B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CAA7-E56C-4FD5-A68C-8414DC3A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76B8-2C72-4376-A354-32F8F6E6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2AC4-E00C-4B7B-93F1-9B51CC2C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3413-B51E-43D3-A3CD-26D42269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4DED-F395-43EA-8511-B19969A4F1A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EF47-1AD6-446D-8F7E-8755FEDE989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E649-BEBC-497E-A358-1DD675BFAE0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14"/>
          <p:cNvGrpSpPr/>
          <p:nvPr/>
        </p:nvGrpSpPr>
        <p:grpSpPr>
          <a:xfrm>
            <a:off x="4162320" y="1495440"/>
            <a:ext cx="3867120" cy="3867120"/>
            <a:chOff x="4162320" y="1495440"/>
            <a:chExt cx="3867120" cy="3867120"/>
          </a:xfrm>
        </p:grpSpPr>
        <p:sp>
          <p:nvSpPr>
            <p:cNvPr id="86" name="椭圆 5"/>
            <p:cNvSpPr/>
            <p:nvPr/>
          </p:nvSpPr>
          <p:spPr>
            <a:xfrm>
              <a:off x="4162320" y="1495440"/>
              <a:ext cx="3867120" cy="3867120"/>
            </a:xfrm>
            <a:prstGeom prst="ellipse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6"/>
            <p:cNvSpPr/>
            <p:nvPr/>
          </p:nvSpPr>
          <p:spPr>
            <a:xfrm>
              <a:off x="4376520" y="1709640"/>
              <a:ext cx="3438720" cy="34387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图片 1" descr=""/>
          <p:cNvPicPr/>
          <p:nvPr/>
        </p:nvPicPr>
        <p:blipFill>
          <a:blip r:embed="rId2"/>
          <a:stretch/>
        </p:blipFill>
        <p:spPr>
          <a:xfrm>
            <a:off x="4330800" y="2252520"/>
            <a:ext cx="3530520" cy="2352960"/>
          </a:xfrm>
          <a:prstGeom prst="rect">
            <a:avLst/>
          </a:prstGeom>
          <a:ln w="0">
            <a:noFill/>
          </a:ln>
        </p:spPr>
      </p:pic>
      <p:sp>
        <p:nvSpPr>
          <p:cNvPr id="89" name="圆角矩形 10"/>
          <p:cNvSpPr/>
          <p:nvPr/>
        </p:nvSpPr>
        <p:spPr>
          <a:xfrm>
            <a:off x="5214960" y="4110120"/>
            <a:ext cx="1762200" cy="409320"/>
          </a:xfrm>
          <a:prstGeom prst="roundRect">
            <a:avLst>
              <a:gd name="adj" fmla="val 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1"/>
          <p:cNvSpPr/>
          <p:nvPr/>
        </p:nvSpPr>
        <p:spPr>
          <a:xfrm>
            <a:off x="5214960" y="4160880"/>
            <a:ext cx="176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Design By ZHUZ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等腰三角形 8"/>
          <p:cNvSpPr/>
          <p:nvPr/>
        </p:nvSpPr>
        <p:spPr>
          <a:xfrm rot="10800000">
            <a:off x="3257280" y="1868400"/>
            <a:ext cx="584280" cy="503280"/>
          </a:xfrm>
          <a:prstGeom prst="triangle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等腰三角形 9"/>
          <p:cNvSpPr/>
          <p:nvPr/>
        </p:nvSpPr>
        <p:spPr>
          <a:xfrm rot="8399400">
            <a:off x="3763080" y="1837800"/>
            <a:ext cx="584280" cy="50508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等腰三角形 12"/>
          <p:cNvSpPr/>
          <p:nvPr/>
        </p:nvSpPr>
        <p:spPr>
          <a:xfrm rot="8399400">
            <a:off x="3704760" y="2281320"/>
            <a:ext cx="58428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等腰三角形 15"/>
          <p:cNvSpPr/>
          <p:nvPr/>
        </p:nvSpPr>
        <p:spPr>
          <a:xfrm rot="9174000">
            <a:off x="8213040" y="4300560"/>
            <a:ext cx="58428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等腰三角形 16"/>
          <p:cNvSpPr/>
          <p:nvPr/>
        </p:nvSpPr>
        <p:spPr>
          <a:xfrm rot="10800000">
            <a:off x="8069400" y="3691080"/>
            <a:ext cx="583920" cy="504720"/>
          </a:xfrm>
          <a:prstGeom prst="triangle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等腰三角形 17"/>
          <p:cNvSpPr/>
          <p:nvPr/>
        </p:nvSpPr>
        <p:spPr>
          <a:xfrm rot="17223000">
            <a:off x="8275680" y="3855600"/>
            <a:ext cx="58716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"/>
          <p:cNvSpPr/>
          <p:nvPr/>
        </p:nvSpPr>
        <p:spPr>
          <a:xfrm>
            <a:off x="2136600" y="189000"/>
            <a:ext cx="831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杂志风工作报告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 15"/>
          <p:cNvSpPr/>
          <p:nvPr/>
        </p:nvSpPr>
        <p:spPr>
          <a:xfrm>
            <a:off x="4162320" y="1495440"/>
            <a:ext cx="3867120" cy="386712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17"/>
          <p:cNvSpPr/>
          <p:nvPr/>
        </p:nvSpPr>
        <p:spPr>
          <a:xfrm>
            <a:off x="4376880" y="1709640"/>
            <a:ext cx="3438360" cy="343872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5"/>
          <p:cNvSpPr/>
          <p:nvPr/>
        </p:nvSpPr>
        <p:spPr>
          <a:xfrm>
            <a:off x="4933800" y="2060640"/>
            <a:ext cx="147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Impact"/>
                <a:ea typeface="宋体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7"/>
          <p:cNvSpPr/>
          <p:nvPr/>
        </p:nvSpPr>
        <p:spPr>
          <a:xfrm>
            <a:off x="4567320" y="3573360"/>
            <a:ext cx="30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等腰三角形 8"/>
          <p:cNvSpPr/>
          <p:nvPr/>
        </p:nvSpPr>
        <p:spPr>
          <a:xfrm rot="10800000">
            <a:off x="5811480" y="4309560"/>
            <a:ext cx="585720" cy="50508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2"/>
          <p:cNvSpPr/>
          <p:nvPr/>
        </p:nvSpPr>
        <p:spPr>
          <a:xfrm>
            <a:off x="5811840" y="2463840"/>
            <a:ext cx="151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等腰三角形 9"/>
          <p:cNvSpPr/>
          <p:nvPr/>
        </p:nvSpPr>
        <p:spPr>
          <a:xfrm rot="10800000">
            <a:off x="3257280" y="1868400"/>
            <a:ext cx="584280" cy="503280"/>
          </a:xfrm>
          <a:prstGeom prst="triangle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等腰三角形 10"/>
          <p:cNvSpPr/>
          <p:nvPr/>
        </p:nvSpPr>
        <p:spPr>
          <a:xfrm rot="8399400">
            <a:off x="3763080" y="1837800"/>
            <a:ext cx="584280" cy="50508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等腰三角形 11"/>
          <p:cNvSpPr/>
          <p:nvPr/>
        </p:nvSpPr>
        <p:spPr>
          <a:xfrm rot="8399400">
            <a:off x="3704760" y="2281320"/>
            <a:ext cx="58428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等腰三角形 13"/>
          <p:cNvSpPr/>
          <p:nvPr/>
        </p:nvSpPr>
        <p:spPr>
          <a:xfrm rot="9174000">
            <a:off x="8213040" y="4300560"/>
            <a:ext cx="58428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等腰三角形 14"/>
          <p:cNvSpPr/>
          <p:nvPr/>
        </p:nvSpPr>
        <p:spPr>
          <a:xfrm rot="10800000">
            <a:off x="8069400" y="3691080"/>
            <a:ext cx="583920" cy="504720"/>
          </a:xfrm>
          <a:prstGeom prst="triangle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等腰三角形 16"/>
          <p:cNvSpPr/>
          <p:nvPr/>
        </p:nvSpPr>
        <p:spPr>
          <a:xfrm rot="17223000">
            <a:off x="8275680" y="3855600"/>
            <a:ext cx="58716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31"/>
          <p:cNvSpPr/>
          <p:nvPr/>
        </p:nvSpPr>
        <p:spPr>
          <a:xfrm>
            <a:off x="1279440" y="1968480"/>
            <a:ext cx="2521080" cy="136044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33"/>
          <p:cNvSpPr/>
          <p:nvPr/>
        </p:nvSpPr>
        <p:spPr>
          <a:xfrm>
            <a:off x="8642520" y="1989000"/>
            <a:ext cx="2519280" cy="136080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280880" y="3754440"/>
            <a:ext cx="2386080" cy="360"/>
            <a:chOff x="1280880" y="3754440"/>
            <a:chExt cx="2386080" cy="360"/>
          </a:xfrm>
        </p:grpSpPr>
        <p:sp>
          <p:nvSpPr>
            <p:cNvPr id="306" name="直接连接符 36"/>
            <p:cNvSpPr/>
            <p:nvPr/>
          </p:nvSpPr>
          <p:spPr>
            <a:xfrm flipH="1">
              <a:off x="1280880" y="3754440"/>
              <a:ext cx="2385720" cy="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1281240" y="3754440"/>
              <a:ext cx="2385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279440" y="4473720"/>
            <a:ext cx="2386080" cy="1440"/>
            <a:chOff x="1279440" y="4473720"/>
            <a:chExt cx="2386080" cy="1440"/>
          </a:xfrm>
        </p:grpSpPr>
        <p:sp>
          <p:nvSpPr>
            <p:cNvPr id="309" name="直接连接符 38"/>
            <p:cNvSpPr/>
            <p:nvPr/>
          </p:nvSpPr>
          <p:spPr>
            <a:xfrm flipH="1">
              <a:off x="1279440" y="4473720"/>
              <a:ext cx="2386080" cy="144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1279440" y="4473720"/>
              <a:ext cx="2386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902120" y="3754440"/>
            <a:ext cx="2387520" cy="360"/>
            <a:chOff x="4902120" y="3754440"/>
            <a:chExt cx="2387520" cy="360"/>
          </a:xfrm>
        </p:grpSpPr>
        <p:sp>
          <p:nvSpPr>
            <p:cNvPr id="312" name="直接连接符 40"/>
            <p:cNvSpPr/>
            <p:nvPr/>
          </p:nvSpPr>
          <p:spPr>
            <a:xfrm flipH="1">
              <a:off x="4902120" y="3754440"/>
              <a:ext cx="2387520" cy="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4902120" y="3754440"/>
              <a:ext cx="2387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900680" y="4473720"/>
            <a:ext cx="2386080" cy="1440"/>
            <a:chOff x="4900680" y="4473720"/>
            <a:chExt cx="2386080" cy="1440"/>
          </a:xfrm>
        </p:grpSpPr>
        <p:sp>
          <p:nvSpPr>
            <p:cNvPr id="315" name="直接连接符 41"/>
            <p:cNvSpPr/>
            <p:nvPr/>
          </p:nvSpPr>
          <p:spPr>
            <a:xfrm flipH="1">
              <a:off x="4900680" y="4473720"/>
              <a:ext cx="2386080" cy="144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4900680" y="4473720"/>
              <a:ext cx="2386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8709120" y="3789360"/>
            <a:ext cx="2386080" cy="360"/>
            <a:chOff x="8709120" y="3789360"/>
            <a:chExt cx="2386080" cy="360"/>
          </a:xfrm>
        </p:grpSpPr>
        <p:sp>
          <p:nvSpPr>
            <p:cNvPr id="318" name="直接连接符 42"/>
            <p:cNvSpPr/>
            <p:nvPr/>
          </p:nvSpPr>
          <p:spPr>
            <a:xfrm flipH="1">
              <a:off x="8709120" y="3789360"/>
              <a:ext cx="2386080" cy="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8709120" y="3789360"/>
              <a:ext cx="2386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8705880" y="4508640"/>
            <a:ext cx="2387520" cy="1440"/>
            <a:chOff x="8705880" y="4508640"/>
            <a:chExt cx="2387520" cy="1440"/>
          </a:xfrm>
        </p:grpSpPr>
        <p:sp>
          <p:nvSpPr>
            <p:cNvPr id="321" name="直接连接符 43"/>
            <p:cNvSpPr/>
            <p:nvPr/>
          </p:nvSpPr>
          <p:spPr>
            <a:xfrm flipH="1">
              <a:off x="8705880" y="4508640"/>
              <a:ext cx="2387520" cy="144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8705880" y="4508640"/>
              <a:ext cx="23875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文本框 44"/>
          <p:cNvSpPr/>
          <p:nvPr/>
        </p:nvSpPr>
        <p:spPr>
          <a:xfrm>
            <a:off x="1432080" y="473220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45"/>
          <p:cNvSpPr/>
          <p:nvPr/>
        </p:nvSpPr>
        <p:spPr>
          <a:xfrm>
            <a:off x="5016600" y="473220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48"/>
          <p:cNvSpPr/>
          <p:nvPr/>
        </p:nvSpPr>
        <p:spPr>
          <a:xfrm>
            <a:off x="8826480" y="476892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49"/>
          <p:cNvSpPr/>
          <p:nvPr/>
        </p:nvSpPr>
        <p:spPr>
          <a:xfrm>
            <a:off x="1432080" y="391176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52"/>
          <p:cNvSpPr/>
          <p:nvPr/>
        </p:nvSpPr>
        <p:spPr>
          <a:xfrm>
            <a:off x="5016600" y="391176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53"/>
          <p:cNvSpPr/>
          <p:nvPr/>
        </p:nvSpPr>
        <p:spPr>
          <a:xfrm>
            <a:off x="8821800" y="391788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32"/>
          <p:cNvSpPr/>
          <p:nvPr/>
        </p:nvSpPr>
        <p:spPr>
          <a:xfrm>
            <a:off x="4848120" y="1968480"/>
            <a:ext cx="2521080" cy="136044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55"/>
          <p:cNvGrpSpPr/>
          <p:nvPr/>
        </p:nvGrpSpPr>
        <p:grpSpPr>
          <a:xfrm>
            <a:off x="5911920" y="2444760"/>
            <a:ext cx="407880" cy="407880"/>
            <a:chOff x="5911920" y="2444760"/>
            <a:chExt cx="407880" cy="407880"/>
          </a:xfrm>
        </p:grpSpPr>
        <p:sp>
          <p:nvSpPr>
            <p:cNvPr id="331" name="弧形 56"/>
            <p:cNvSpPr/>
            <p:nvPr/>
          </p:nvSpPr>
          <p:spPr>
            <a:xfrm>
              <a:off x="5911920" y="2444760"/>
              <a:ext cx="407880" cy="407880"/>
            </a:xfrm>
            <a:custGeom>
              <a:avLst/>
              <a:gdLst/>
              <a:ahLst/>
              <a:rect l="l" t="t" r="r" b="b"/>
              <a:pathLst>
                <a:path stroke="0" w="408302" h="408302">
                  <a:moveTo>
                    <a:pt x="303629" y="382424"/>
                  </a:moveTo>
                  <a:cubicBezTo>
                    <a:pt x="274216" y="398916"/>
                    <a:pt x="240279" y="408301"/>
                    <a:pt x="204150" y="408301"/>
                  </a:cubicBezTo>
                  <a:cubicBezTo>
                    <a:pt x="91401" y="408301"/>
                    <a:pt x="-1" y="316899"/>
                    <a:pt x="-1" y="204150"/>
                  </a:cubicBezTo>
                  <a:cubicBezTo>
                    <a:pt x="-1" y="91401"/>
                    <a:pt x="91401" y="-1"/>
                    <a:pt x="204150" y="-1"/>
                  </a:cubicBezTo>
                  <a:cubicBezTo>
                    <a:pt x="316899" y="-1"/>
                    <a:pt x="408301" y="91401"/>
                    <a:pt x="408301" y="204150"/>
                  </a:cubicBezTo>
                  <a:cubicBezTo>
                    <a:pt x="408301" y="237356"/>
                    <a:pt x="400373" y="268710"/>
                    <a:pt x="386316" y="296406"/>
                  </a:cubicBezTo>
                  <a:lnTo>
                    <a:pt x="204151" y="204151"/>
                  </a:lnTo>
                  <a:close/>
                </a:path>
                <a:path fill="none" w="408302" h="408302">
                  <a:moveTo>
                    <a:pt x="303629" y="382424"/>
                  </a:moveTo>
                  <a:cubicBezTo>
                    <a:pt x="274216" y="398916"/>
                    <a:pt x="240279" y="408301"/>
                    <a:pt x="204150" y="408301"/>
                  </a:cubicBezTo>
                  <a:cubicBezTo>
                    <a:pt x="91401" y="408301"/>
                    <a:pt x="-1" y="316899"/>
                    <a:pt x="-1" y="204150"/>
                  </a:cubicBezTo>
                  <a:cubicBezTo>
                    <a:pt x="-1" y="91401"/>
                    <a:pt x="91401" y="-1"/>
                    <a:pt x="204150" y="-1"/>
                  </a:cubicBezTo>
                  <a:cubicBezTo>
                    <a:pt x="316899" y="-1"/>
                    <a:pt x="408301" y="91401"/>
                    <a:pt x="408301" y="204150"/>
                  </a:cubicBezTo>
                  <a:cubicBezTo>
                    <a:pt x="408301" y="237356"/>
                    <a:pt x="400373" y="268710"/>
                    <a:pt x="386316" y="296406"/>
                  </a:cubicBezTo>
                </a:path>
              </a:pathLst>
            </a:custGeom>
            <a:noFill/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6115320" y="2525040"/>
              <a:ext cx="360" cy="123480"/>
              <a:chOff x="6115320" y="2525040"/>
              <a:chExt cx="360" cy="123480"/>
            </a:xfrm>
          </p:grpSpPr>
          <p:sp>
            <p:nvSpPr>
              <p:cNvPr id="333" name="直接连接符 57"/>
              <p:cNvSpPr/>
              <p:nvPr/>
            </p:nvSpPr>
            <p:spPr>
              <a:xfrm flipV="1">
                <a:off x="6115680" y="2525040"/>
                <a:ext cx="0" cy="12348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 txBox="1"/>
              <p:nvPr/>
            </p:nvSpPr>
            <p:spPr>
              <a:xfrm rot="10800000">
                <a:off x="6115320" y="2525040"/>
                <a:ext cx="360" cy="12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116040" y="2648880"/>
              <a:ext cx="95760" cy="360"/>
              <a:chOff x="6116040" y="2648880"/>
              <a:chExt cx="95760" cy="360"/>
            </a:xfrm>
          </p:grpSpPr>
          <p:sp>
            <p:nvSpPr>
              <p:cNvPr id="336" name="直接连接符 58"/>
              <p:cNvSpPr/>
              <p:nvPr/>
            </p:nvSpPr>
            <p:spPr>
              <a:xfrm>
                <a:off x="6116040" y="2648880"/>
                <a:ext cx="9576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 txBox="1"/>
              <p:nvPr/>
            </p:nvSpPr>
            <p:spPr>
              <a:xfrm>
                <a:off x="6116040" y="2648880"/>
                <a:ext cx="9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组合 59"/>
          <p:cNvGrpSpPr/>
          <p:nvPr/>
        </p:nvGrpSpPr>
        <p:grpSpPr>
          <a:xfrm>
            <a:off x="9653040" y="2423160"/>
            <a:ext cx="492840" cy="492840"/>
            <a:chOff x="9653040" y="2423160"/>
            <a:chExt cx="492840" cy="492840"/>
          </a:xfrm>
        </p:grpSpPr>
        <p:sp>
          <p:nvSpPr>
            <p:cNvPr id="339" name="泪滴形 60"/>
            <p:cNvSpPr/>
            <p:nvPr/>
          </p:nvSpPr>
          <p:spPr>
            <a:xfrm rot="8100000">
              <a:off x="9724680" y="2495520"/>
              <a:ext cx="349200" cy="347760"/>
            </a:xfrm>
            <a:custGeom>
              <a:avLst/>
              <a:gdLst/>
              <a:ahLst/>
              <a:rect l="l" t="t" r="r" b="b"/>
              <a:pathLst>
                <a:path w="348210" h="348210">
                  <a:moveTo>
                    <a:pt x="0" y="174105"/>
                  </a:moveTo>
                  <a:cubicBezTo>
                    <a:pt x="0" y="77949"/>
                    <a:pt x="77949" y="0"/>
                    <a:pt x="174105" y="0"/>
                  </a:cubicBezTo>
                  <a:cubicBezTo>
                    <a:pt x="232139" y="0"/>
                    <a:pt x="290174" y="0"/>
                    <a:pt x="348210" y="0"/>
                  </a:cubicBezTo>
                  <a:cubicBezTo>
                    <a:pt x="348210" y="58034"/>
                    <a:pt x="348210" y="116069"/>
                    <a:pt x="348210" y="174105"/>
                  </a:cubicBezTo>
                  <a:cubicBezTo>
                    <a:pt x="348210" y="270261"/>
                    <a:pt x="270261" y="348210"/>
                    <a:pt x="174105" y="348210"/>
                  </a:cubicBezTo>
                  <a:cubicBezTo>
                    <a:pt x="77949" y="348210"/>
                    <a:pt x="0" y="270261"/>
                    <a:pt x="0" y="174105"/>
                  </a:cubicBez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弧形 61"/>
            <p:cNvSpPr/>
            <p:nvPr/>
          </p:nvSpPr>
          <p:spPr>
            <a:xfrm>
              <a:off x="9838800" y="2638080"/>
              <a:ext cx="121320" cy="120600"/>
            </a:xfrm>
            <a:custGeom>
              <a:avLst/>
              <a:gdLst/>
              <a:ahLst/>
              <a:rect l="l" t="t" r="r" b="b"/>
              <a:pathLst>
                <a:path stroke="0" w="120900" h="120900">
                  <a:moveTo>
                    <a:pt x="62802" y="120854"/>
                  </a:moveTo>
                  <a:cubicBezTo>
                    <a:pt x="62022" y="120885"/>
                    <a:pt x="61238" y="120900"/>
                    <a:pt x="60450" y="120900"/>
                  </a:cubicBezTo>
                  <a:cubicBezTo>
                    <a:pt x="27064" y="120900"/>
                    <a:pt x="0" y="93836"/>
                    <a:pt x="0" y="60450"/>
                  </a:cubicBezTo>
                  <a:cubicBezTo>
                    <a:pt x="0" y="27064"/>
                    <a:pt x="27064" y="0"/>
                    <a:pt x="60450" y="0"/>
                  </a:cubicBezTo>
                  <a:cubicBezTo>
                    <a:pt x="93392" y="0"/>
                    <a:pt x="120180" y="26350"/>
                    <a:pt x="120886" y="59116"/>
                  </a:cubicBezTo>
                  <a:lnTo>
                    <a:pt x="60450" y="60450"/>
                  </a:lnTo>
                  <a:close/>
                </a:path>
                <a:path fill="none" w="120900" h="120900">
                  <a:moveTo>
                    <a:pt x="62802" y="120854"/>
                  </a:moveTo>
                  <a:cubicBezTo>
                    <a:pt x="62022" y="120885"/>
                    <a:pt x="61238" y="120900"/>
                    <a:pt x="60450" y="120900"/>
                  </a:cubicBezTo>
                  <a:cubicBezTo>
                    <a:pt x="27064" y="120900"/>
                    <a:pt x="0" y="93836"/>
                    <a:pt x="0" y="60450"/>
                  </a:cubicBezTo>
                  <a:cubicBezTo>
                    <a:pt x="0" y="27064"/>
                    <a:pt x="27064" y="0"/>
                    <a:pt x="60450" y="0"/>
                  </a:cubicBezTo>
                  <a:cubicBezTo>
                    <a:pt x="93392" y="0"/>
                    <a:pt x="120180" y="26350"/>
                    <a:pt x="120886" y="59116"/>
                  </a:cubicBezTo>
                </a:path>
              </a:pathLst>
            </a:custGeom>
            <a:noFill/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任意多边形 62"/>
          <p:cNvSpPr/>
          <p:nvPr/>
        </p:nvSpPr>
        <p:spPr>
          <a:xfrm>
            <a:off x="2314440" y="2394000"/>
            <a:ext cx="390600" cy="387360"/>
          </a:xfrm>
          <a:custGeom>
            <a:avLst/>
            <a:gdLst/>
            <a:ahLst/>
            <a:rect l="l" t="t" r="r" b="b"/>
            <a:pathLst>
              <a:path w="442904" h="439831">
                <a:moveTo>
                  <a:pt x="97624" y="187416"/>
                </a:moveTo>
                <a:cubicBezTo>
                  <a:pt x="96830" y="271554"/>
                  <a:pt x="96037" y="355693"/>
                  <a:pt x="95243" y="439831"/>
                </a:cubicBezTo>
                <a:lnTo>
                  <a:pt x="23806" y="437449"/>
                </a:lnTo>
                <a:cubicBezTo>
                  <a:pt x="-9929" y="427130"/>
                  <a:pt x="-8739" y="163209"/>
                  <a:pt x="33329" y="189800"/>
                </a:cubicBezTo>
                <a:cubicBezTo>
                  <a:pt x="105560" y="183450"/>
                  <a:pt x="218273" y="189006"/>
                  <a:pt x="221448" y="35018"/>
                </a:cubicBezTo>
                <a:cubicBezTo>
                  <a:pt x="262723" y="-26895"/>
                  <a:pt x="287330" y="6441"/>
                  <a:pt x="316698" y="35016"/>
                </a:cubicBezTo>
                <a:cubicBezTo>
                  <a:pt x="316699" y="80259"/>
                  <a:pt x="316698" y="120743"/>
                  <a:pt x="302411" y="163605"/>
                </a:cubicBezTo>
                <a:cubicBezTo>
                  <a:pt x="363529" y="163605"/>
                  <a:pt x="410361" y="139793"/>
                  <a:pt x="442904" y="220755"/>
                </a:cubicBezTo>
                <a:lnTo>
                  <a:pt x="359561" y="437449"/>
                </a:lnTo>
                <a:lnTo>
                  <a:pt x="169061" y="437449"/>
                </a:lnTo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30"/>
          <p:cNvGrpSpPr/>
          <p:nvPr/>
        </p:nvGrpSpPr>
        <p:grpSpPr>
          <a:xfrm>
            <a:off x="11064960" y="-7920"/>
            <a:ext cx="431640" cy="647640"/>
            <a:chOff x="11064960" y="-7920"/>
            <a:chExt cx="431640" cy="647640"/>
          </a:xfrm>
        </p:grpSpPr>
        <p:sp>
          <p:nvSpPr>
            <p:cNvPr id="343" name="任意多边形 34"/>
            <p:cNvSpPr/>
            <p:nvPr/>
          </p:nvSpPr>
          <p:spPr>
            <a:xfrm>
              <a:off x="11064960" y="413640"/>
              <a:ext cx="431640" cy="226080"/>
            </a:xfrm>
            <a:custGeom>
              <a:avLst/>
              <a:gdLst/>
              <a:ahLst/>
              <a:rect l="l" t="t" r="r" b="b"/>
              <a:pathLst>
                <a:path w="432048" h="598340">
                  <a:moveTo>
                    <a:pt x="0" y="0"/>
                  </a:moveTo>
                  <a:lnTo>
                    <a:pt x="432048" y="0"/>
                  </a:lnTo>
                  <a:lnTo>
                    <a:pt x="432048" y="598340"/>
                  </a:lnTo>
                  <a:lnTo>
                    <a:pt x="216024" y="225885"/>
                  </a:lnTo>
                  <a:lnTo>
                    <a:pt x="0" y="598340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35"/>
            <p:cNvSpPr/>
            <p:nvPr/>
          </p:nvSpPr>
          <p:spPr>
            <a:xfrm>
              <a:off x="11064960" y="-7920"/>
              <a:ext cx="431640" cy="42156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"/>
          <p:cNvSpPr/>
          <p:nvPr/>
        </p:nvSpPr>
        <p:spPr>
          <a:xfrm>
            <a:off x="2203560" y="2298600"/>
            <a:ext cx="2520720" cy="170208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2"/>
          <p:cNvSpPr/>
          <p:nvPr/>
        </p:nvSpPr>
        <p:spPr>
          <a:xfrm>
            <a:off x="4724280" y="4011480"/>
            <a:ext cx="2724120" cy="157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图片 4" descr=""/>
          <p:cNvPicPr/>
          <p:nvPr/>
        </p:nvPicPr>
        <p:blipFill>
          <a:blip r:embed="rId2"/>
          <a:stretch/>
        </p:blipFill>
        <p:spPr>
          <a:xfrm>
            <a:off x="4724280" y="2298600"/>
            <a:ext cx="2724120" cy="170208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5" descr=""/>
          <p:cNvPicPr/>
          <p:nvPr/>
        </p:nvPicPr>
        <p:blipFill>
          <a:blip r:embed="rId3"/>
          <a:stretch/>
        </p:blipFill>
        <p:spPr>
          <a:xfrm>
            <a:off x="2203560" y="4002120"/>
            <a:ext cx="2520720" cy="158760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6" descr=""/>
          <p:cNvPicPr/>
          <p:nvPr/>
        </p:nvPicPr>
        <p:blipFill>
          <a:blip r:embed="rId4"/>
          <a:stretch/>
        </p:blipFill>
        <p:spPr>
          <a:xfrm>
            <a:off x="7442280" y="4002120"/>
            <a:ext cx="2522520" cy="1576440"/>
          </a:xfrm>
          <a:prstGeom prst="rect">
            <a:avLst/>
          </a:prstGeom>
          <a:ln w="0">
            <a:noFill/>
          </a:ln>
        </p:spPr>
      </p:pic>
      <p:sp>
        <p:nvSpPr>
          <p:cNvPr id="351" name="矩形 7"/>
          <p:cNvSpPr/>
          <p:nvPr/>
        </p:nvSpPr>
        <p:spPr>
          <a:xfrm>
            <a:off x="7448400" y="2298600"/>
            <a:ext cx="2540160" cy="1708200"/>
          </a:xfrm>
          <a:prstGeom prst="rect">
            <a:avLst/>
          </a:prstGeom>
          <a:solidFill>
            <a:srgbClr val="1e4e7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8"/>
          <p:cNvSpPr/>
          <p:nvPr/>
        </p:nvSpPr>
        <p:spPr>
          <a:xfrm>
            <a:off x="2374920" y="291924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9"/>
          <p:cNvSpPr/>
          <p:nvPr/>
        </p:nvSpPr>
        <p:spPr>
          <a:xfrm>
            <a:off x="5008680" y="455940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0"/>
          <p:cNvSpPr/>
          <p:nvPr/>
        </p:nvSpPr>
        <p:spPr>
          <a:xfrm>
            <a:off x="7650000" y="2919240"/>
            <a:ext cx="21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11"/>
          <p:cNvSpPr/>
          <p:nvPr/>
        </p:nvSpPr>
        <p:spPr>
          <a:xfrm>
            <a:off x="4703760" y="2298600"/>
            <a:ext cx="2765520" cy="17128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12"/>
          <p:cNvSpPr/>
          <p:nvPr/>
        </p:nvSpPr>
        <p:spPr>
          <a:xfrm>
            <a:off x="2203560" y="3984480"/>
            <a:ext cx="2533680" cy="16052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13"/>
          <p:cNvSpPr/>
          <p:nvPr/>
        </p:nvSpPr>
        <p:spPr>
          <a:xfrm>
            <a:off x="7442280" y="3971880"/>
            <a:ext cx="2533680" cy="1603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15"/>
          <p:cNvSpPr/>
          <p:nvPr/>
        </p:nvSpPr>
        <p:spPr>
          <a:xfrm flipH="1">
            <a:off x="2494800" y="1989000"/>
            <a:ext cx="120600" cy="119160"/>
          </a:xfrm>
          <a:prstGeom prst="ellips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16"/>
          <p:cNvSpPr/>
          <p:nvPr/>
        </p:nvSpPr>
        <p:spPr>
          <a:xfrm flipH="1">
            <a:off x="3574440" y="1523880"/>
            <a:ext cx="120600" cy="119160"/>
          </a:xfrm>
          <a:prstGeom prst="ellips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17"/>
          <p:cNvSpPr/>
          <p:nvPr/>
        </p:nvSpPr>
        <p:spPr>
          <a:xfrm flipH="1">
            <a:off x="4947480" y="2023920"/>
            <a:ext cx="120600" cy="120960"/>
          </a:xfrm>
          <a:prstGeom prst="ellips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18"/>
          <p:cNvSpPr/>
          <p:nvPr/>
        </p:nvSpPr>
        <p:spPr>
          <a:xfrm flipH="1">
            <a:off x="6455520" y="1473120"/>
            <a:ext cx="119160" cy="120600"/>
          </a:xfrm>
          <a:prstGeom prst="ellips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19"/>
          <p:cNvSpPr/>
          <p:nvPr/>
        </p:nvSpPr>
        <p:spPr>
          <a:xfrm flipH="1">
            <a:off x="8217000" y="1987560"/>
            <a:ext cx="118800" cy="120600"/>
          </a:xfrm>
          <a:prstGeom prst="ellips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椭圆 20"/>
          <p:cNvSpPr/>
          <p:nvPr/>
        </p:nvSpPr>
        <p:spPr>
          <a:xfrm flipH="1">
            <a:off x="9336240" y="1266840"/>
            <a:ext cx="118800" cy="119160"/>
          </a:xfrm>
          <a:prstGeom prst="ellips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98840" y="1584000"/>
            <a:ext cx="976320" cy="422280"/>
            <a:chOff x="2598840" y="1584000"/>
            <a:chExt cx="976320" cy="422280"/>
          </a:xfrm>
        </p:grpSpPr>
        <p:sp>
          <p:nvSpPr>
            <p:cNvPr id="365" name="直接连接符 22"/>
            <p:cNvSpPr/>
            <p:nvPr/>
          </p:nvSpPr>
          <p:spPr>
            <a:xfrm flipV="1">
              <a:off x="2598840" y="1584000"/>
              <a:ext cx="976320" cy="4222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 rot="10800000">
              <a:off x="2598840" y="1584000"/>
              <a:ext cx="976320" cy="42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695760" y="1584360"/>
            <a:ext cx="1252440" cy="500040"/>
            <a:chOff x="3695760" y="1584360"/>
            <a:chExt cx="1252440" cy="500040"/>
          </a:xfrm>
        </p:grpSpPr>
        <p:sp>
          <p:nvSpPr>
            <p:cNvPr id="368" name="直接连接符 24"/>
            <p:cNvSpPr/>
            <p:nvPr/>
          </p:nvSpPr>
          <p:spPr>
            <a:xfrm>
              <a:off x="3695760" y="1584360"/>
              <a:ext cx="1252440" cy="5000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3695760" y="1584360"/>
              <a:ext cx="1252440" cy="50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103360" y="1533240"/>
            <a:ext cx="1352880" cy="539640"/>
            <a:chOff x="5103360" y="1533240"/>
            <a:chExt cx="1352880" cy="539640"/>
          </a:xfrm>
        </p:grpSpPr>
        <p:sp>
          <p:nvSpPr>
            <p:cNvPr id="371" name="直接连接符 26"/>
            <p:cNvSpPr/>
            <p:nvPr/>
          </p:nvSpPr>
          <p:spPr>
            <a:xfrm flipV="1">
              <a:off x="5103720" y="1533240"/>
              <a:ext cx="1352520" cy="5396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 rot="10800000">
              <a:off x="5103360" y="1533240"/>
              <a:ext cx="1352520" cy="53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600960" y="1542960"/>
            <a:ext cx="1614240" cy="505080"/>
            <a:chOff x="6600960" y="1542960"/>
            <a:chExt cx="1614240" cy="505080"/>
          </a:xfrm>
        </p:grpSpPr>
        <p:sp>
          <p:nvSpPr>
            <p:cNvPr id="374" name="直接连接符 29"/>
            <p:cNvSpPr/>
            <p:nvPr/>
          </p:nvSpPr>
          <p:spPr>
            <a:xfrm>
              <a:off x="6600960" y="1542960"/>
              <a:ext cx="1614240" cy="5050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6600960" y="1542960"/>
              <a:ext cx="161424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8356320" y="1368000"/>
            <a:ext cx="997200" cy="676440"/>
            <a:chOff x="8356320" y="1368000"/>
            <a:chExt cx="997200" cy="676440"/>
          </a:xfrm>
        </p:grpSpPr>
        <p:sp>
          <p:nvSpPr>
            <p:cNvPr id="377" name="直接连接符 33"/>
            <p:cNvSpPr/>
            <p:nvPr/>
          </p:nvSpPr>
          <p:spPr>
            <a:xfrm flipV="1">
              <a:off x="8356680" y="1368000"/>
              <a:ext cx="996840" cy="6764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 rot="10800000">
              <a:off x="8356320" y="1368000"/>
              <a:ext cx="996840" cy="67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14"/>
          <p:cNvSpPr/>
          <p:nvPr/>
        </p:nvSpPr>
        <p:spPr>
          <a:xfrm>
            <a:off x="9036000" y="9129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36"/>
          <p:cNvSpPr/>
          <p:nvPr/>
        </p:nvSpPr>
        <p:spPr>
          <a:xfrm>
            <a:off x="7935840" y="15811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37"/>
          <p:cNvSpPr/>
          <p:nvPr/>
        </p:nvSpPr>
        <p:spPr>
          <a:xfrm>
            <a:off x="6156360" y="104760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38"/>
          <p:cNvSpPr/>
          <p:nvPr/>
        </p:nvSpPr>
        <p:spPr>
          <a:xfrm>
            <a:off x="4676760" y="15969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39"/>
          <p:cNvSpPr/>
          <p:nvPr/>
        </p:nvSpPr>
        <p:spPr>
          <a:xfrm>
            <a:off x="3216240" y="113040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0"/>
          <p:cNvSpPr/>
          <p:nvPr/>
        </p:nvSpPr>
        <p:spPr>
          <a:xfrm>
            <a:off x="2076480" y="15685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45"/>
          <p:cNvGrpSpPr/>
          <p:nvPr/>
        </p:nvGrpSpPr>
        <p:grpSpPr>
          <a:xfrm>
            <a:off x="11064960" y="-7920"/>
            <a:ext cx="431640" cy="647640"/>
            <a:chOff x="11064960" y="-7920"/>
            <a:chExt cx="431640" cy="647640"/>
          </a:xfrm>
        </p:grpSpPr>
        <p:sp>
          <p:nvSpPr>
            <p:cNvPr id="386" name="任意多边形 46"/>
            <p:cNvSpPr/>
            <p:nvPr/>
          </p:nvSpPr>
          <p:spPr>
            <a:xfrm>
              <a:off x="11064960" y="413640"/>
              <a:ext cx="431640" cy="226080"/>
            </a:xfrm>
            <a:custGeom>
              <a:avLst/>
              <a:gdLst/>
              <a:ahLst/>
              <a:rect l="l" t="t" r="r" b="b"/>
              <a:pathLst>
                <a:path w="432048" h="598340">
                  <a:moveTo>
                    <a:pt x="0" y="0"/>
                  </a:moveTo>
                  <a:lnTo>
                    <a:pt x="432048" y="0"/>
                  </a:lnTo>
                  <a:lnTo>
                    <a:pt x="432048" y="598340"/>
                  </a:lnTo>
                  <a:lnTo>
                    <a:pt x="216024" y="225885"/>
                  </a:lnTo>
                  <a:lnTo>
                    <a:pt x="0" y="598340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47"/>
            <p:cNvSpPr/>
            <p:nvPr/>
          </p:nvSpPr>
          <p:spPr>
            <a:xfrm>
              <a:off x="11064960" y="-7920"/>
              <a:ext cx="431640" cy="42156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5"/>
          <p:cNvSpPr/>
          <p:nvPr/>
        </p:nvSpPr>
        <p:spPr>
          <a:xfrm>
            <a:off x="1409760" y="352116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6"/>
          <p:cNvSpPr/>
          <p:nvPr/>
        </p:nvSpPr>
        <p:spPr>
          <a:xfrm>
            <a:off x="5346720" y="542772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7"/>
          <p:cNvSpPr/>
          <p:nvPr/>
        </p:nvSpPr>
        <p:spPr>
          <a:xfrm>
            <a:off x="9024840" y="3289320"/>
            <a:ext cx="21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12"/>
          <p:cNvGrpSpPr/>
          <p:nvPr/>
        </p:nvGrpSpPr>
        <p:grpSpPr>
          <a:xfrm>
            <a:off x="2487600" y="1860480"/>
            <a:ext cx="7273800" cy="3959280"/>
            <a:chOff x="2487600" y="1860480"/>
            <a:chExt cx="7273800" cy="3959280"/>
          </a:xfrm>
        </p:grpSpPr>
        <p:sp>
          <p:nvSpPr>
            <p:cNvPr id="393" name="任意多边形 1"/>
            <p:cNvSpPr/>
            <p:nvPr/>
          </p:nvSpPr>
          <p:spPr>
            <a:xfrm>
              <a:off x="2487600" y="1860480"/>
              <a:ext cx="7273800" cy="3959280"/>
            </a:xfrm>
            <a:custGeom>
              <a:avLst/>
              <a:gdLst/>
              <a:ahLst/>
              <a:rect l="l" t="t" r="r" b="b"/>
              <a:pathLst>
                <a:path w="6725852" h="3694083">
                  <a:moveTo>
                    <a:pt x="6408679" y="3272405"/>
                  </a:moveTo>
                  <a:lnTo>
                    <a:pt x="6460633" y="3313968"/>
                  </a:lnTo>
                  <a:lnTo>
                    <a:pt x="6419069" y="3360727"/>
                  </a:lnTo>
                  <a:lnTo>
                    <a:pt x="6377506" y="3438659"/>
                  </a:lnTo>
                  <a:lnTo>
                    <a:pt x="6289183" y="3417877"/>
                  </a:lnTo>
                  <a:lnTo>
                    <a:pt x="6304769" y="3397096"/>
                  </a:lnTo>
                  <a:lnTo>
                    <a:pt x="6382701" y="3324359"/>
                  </a:lnTo>
                  <a:close/>
                  <a:moveTo>
                    <a:pt x="5956674" y="3256818"/>
                  </a:moveTo>
                  <a:lnTo>
                    <a:pt x="5993042" y="3256818"/>
                  </a:lnTo>
                  <a:lnTo>
                    <a:pt x="5993042" y="3334750"/>
                  </a:lnTo>
                  <a:lnTo>
                    <a:pt x="5935892" y="3376314"/>
                  </a:lnTo>
                  <a:lnTo>
                    <a:pt x="5899524" y="3272405"/>
                  </a:lnTo>
                  <a:lnTo>
                    <a:pt x="5951479" y="3298382"/>
                  </a:lnTo>
                  <a:close/>
                  <a:moveTo>
                    <a:pt x="6419069" y="3126932"/>
                  </a:moveTo>
                  <a:lnTo>
                    <a:pt x="6486610" y="3194473"/>
                  </a:lnTo>
                  <a:lnTo>
                    <a:pt x="6522979" y="3178886"/>
                  </a:lnTo>
                  <a:lnTo>
                    <a:pt x="6554151" y="3204864"/>
                  </a:lnTo>
                  <a:lnTo>
                    <a:pt x="6517783" y="3230841"/>
                  </a:lnTo>
                  <a:lnTo>
                    <a:pt x="6507392" y="3251623"/>
                  </a:lnTo>
                  <a:lnTo>
                    <a:pt x="6450242" y="3267209"/>
                  </a:lnTo>
                  <a:lnTo>
                    <a:pt x="6455438" y="3210059"/>
                  </a:lnTo>
                  <a:close/>
                  <a:moveTo>
                    <a:pt x="4159047" y="2674927"/>
                  </a:moveTo>
                  <a:lnTo>
                    <a:pt x="4174633" y="2695709"/>
                  </a:lnTo>
                  <a:lnTo>
                    <a:pt x="4185024" y="2732077"/>
                  </a:lnTo>
                  <a:lnTo>
                    <a:pt x="4164242" y="2810009"/>
                  </a:lnTo>
                  <a:lnTo>
                    <a:pt x="4133069" y="2929505"/>
                  </a:lnTo>
                  <a:lnTo>
                    <a:pt x="4081115" y="2960677"/>
                  </a:lnTo>
                  <a:lnTo>
                    <a:pt x="4044747" y="2919114"/>
                  </a:lnTo>
                  <a:lnTo>
                    <a:pt x="4049942" y="2903527"/>
                  </a:lnTo>
                  <a:lnTo>
                    <a:pt x="4039551" y="2882746"/>
                  </a:lnTo>
                  <a:lnTo>
                    <a:pt x="4065529" y="2835986"/>
                  </a:lnTo>
                  <a:lnTo>
                    <a:pt x="4070724" y="2825596"/>
                  </a:lnTo>
                  <a:lnTo>
                    <a:pt x="4049942" y="2789227"/>
                  </a:lnTo>
                  <a:lnTo>
                    <a:pt x="4075919" y="2758055"/>
                  </a:lnTo>
                  <a:lnTo>
                    <a:pt x="4117483" y="2726882"/>
                  </a:lnTo>
                  <a:lnTo>
                    <a:pt x="4148656" y="2680123"/>
                  </a:lnTo>
                  <a:close/>
                  <a:moveTo>
                    <a:pt x="5759247" y="2565823"/>
                  </a:moveTo>
                  <a:lnTo>
                    <a:pt x="5774833" y="2581409"/>
                  </a:lnTo>
                  <a:lnTo>
                    <a:pt x="5764442" y="2643755"/>
                  </a:lnTo>
                  <a:lnTo>
                    <a:pt x="5831983" y="2695709"/>
                  </a:lnTo>
                  <a:lnTo>
                    <a:pt x="5852765" y="2602191"/>
                  </a:lnTo>
                  <a:lnTo>
                    <a:pt x="5878742" y="2576214"/>
                  </a:lnTo>
                  <a:lnTo>
                    <a:pt x="5904719" y="2628168"/>
                  </a:lnTo>
                  <a:lnTo>
                    <a:pt x="5935892" y="2633364"/>
                  </a:lnTo>
                  <a:lnTo>
                    <a:pt x="5956674" y="2726882"/>
                  </a:lnTo>
                  <a:lnTo>
                    <a:pt x="6008629" y="2789227"/>
                  </a:lnTo>
                  <a:lnTo>
                    <a:pt x="6065779" y="2867159"/>
                  </a:lnTo>
                  <a:lnTo>
                    <a:pt x="6091756" y="2965873"/>
                  </a:lnTo>
                  <a:lnTo>
                    <a:pt x="6055388" y="3028218"/>
                  </a:lnTo>
                  <a:lnTo>
                    <a:pt x="6034606" y="3074977"/>
                  </a:lnTo>
                  <a:lnTo>
                    <a:pt x="6013824" y="3100955"/>
                  </a:lnTo>
                  <a:lnTo>
                    <a:pt x="5993042" y="3152909"/>
                  </a:lnTo>
                  <a:lnTo>
                    <a:pt x="5941088" y="3184082"/>
                  </a:lnTo>
                  <a:lnTo>
                    <a:pt x="5920306" y="3178886"/>
                  </a:lnTo>
                  <a:lnTo>
                    <a:pt x="5925501" y="3158105"/>
                  </a:lnTo>
                  <a:lnTo>
                    <a:pt x="5878742" y="3189277"/>
                  </a:lnTo>
                  <a:lnTo>
                    <a:pt x="5863156" y="3178886"/>
                  </a:lnTo>
                  <a:lnTo>
                    <a:pt x="5821592" y="3147714"/>
                  </a:lnTo>
                  <a:lnTo>
                    <a:pt x="5816397" y="3137323"/>
                  </a:lnTo>
                  <a:lnTo>
                    <a:pt x="5826788" y="3126932"/>
                  </a:lnTo>
                  <a:lnTo>
                    <a:pt x="5811201" y="3121736"/>
                  </a:lnTo>
                  <a:lnTo>
                    <a:pt x="5795615" y="3106150"/>
                  </a:lnTo>
                  <a:lnTo>
                    <a:pt x="5754051" y="3106150"/>
                  </a:lnTo>
                  <a:lnTo>
                    <a:pt x="5728074" y="3090564"/>
                  </a:lnTo>
                  <a:lnTo>
                    <a:pt x="5717683" y="3085368"/>
                  </a:lnTo>
                  <a:lnTo>
                    <a:pt x="5733269" y="3069782"/>
                  </a:lnTo>
                  <a:lnTo>
                    <a:pt x="5722879" y="3049000"/>
                  </a:lnTo>
                  <a:lnTo>
                    <a:pt x="5696901" y="3033414"/>
                  </a:lnTo>
                  <a:lnTo>
                    <a:pt x="5677734" y="3030676"/>
                  </a:lnTo>
                  <a:lnTo>
                    <a:pt x="5686510" y="3028218"/>
                  </a:lnTo>
                  <a:lnTo>
                    <a:pt x="5660533" y="3028218"/>
                  </a:lnTo>
                  <a:lnTo>
                    <a:pt x="5644947" y="3028218"/>
                  </a:lnTo>
                  <a:lnTo>
                    <a:pt x="5660533" y="3023022"/>
                  </a:lnTo>
                  <a:lnTo>
                    <a:pt x="5624165" y="3028218"/>
                  </a:lnTo>
                  <a:lnTo>
                    <a:pt x="5644947" y="3028218"/>
                  </a:lnTo>
                  <a:lnTo>
                    <a:pt x="5629360" y="3033414"/>
                  </a:lnTo>
                  <a:lnTo>
                    <a:pt x="5660533" y="3028218"/>
                  </a:lnTo>
                  <a:lnTo>
                    <a:pt x="5677734" y="3030676"/>
                  </a:lnTo>
                  <a:lnTo>
                    <a:pt x="5426738" y="3100955"/>
                  </a:lnTo>
                  <a:lnTo>
                    <a:pt x="5364392" y="3074977"/>
                  </a:lnTo>
                  <a:lnTo>
                    <a:pt x="5359197" y="3059391"/>
                  </a:lnTo>
                  <a:lnTo>
                    <a:pt x="5374783" y="3038609"/>
                  </a:lnTo>
                  <a:lnTo>
                    <a:pt x="5379979" y="3017827"/>
                  </a:lnTo>
                  <a:lnTo>
                    <a:pt x="5343610" y="2991850"/>
                  </a:lnTo>
                  <a:lnTo>
                    <a:pt x="5364392" y="2971068"/>
                  </a:lnTo>
                  <a:lnTo>
                    <a:pt x="5312438" y="2877550"/>
                  </a:lnTo>
                  <a:lnTo>
                    <a:pt x="5333219" y="2872355"/>
                  </a:lnTo>
                  <a:lnTo>
                    <a:pt x="5348806" y="2893136"/>
                  </a:lnTo>
                  <a:lnTo>
                    <a:pt x="5322829" y="2841182"/>
                  </a:lnTo>
                  <a:lnTo>
                    <a:pt x="5348806" y="2778836"/>
                  </a:lnTo>
                  <a:lnTo>
                    <a:pt x="5463106" y="2747664"/>
                  </a:lnTo>
                  <a:lnTo>
                    <a:pt x="5489083" y="2706100"/>
                  </a:lnTo>
                  <a:lnTo>
                    <a:pt x="5504669" y="2674927"/>
                  </a:lnTo>
                  <a:lnTo>
                    <a:pt x="5525451" y="2680123"/>
                  </a:lnTo>
                  <a:lnTo>
                    <a:pt x="5577406" y="2628168"/>
                  </a:lnTo>
                  <a:lnTo>
                    <a:pt x="5639751" y="2654146"/>
                  </a:lnTo>
                  <a:lnTo>
                    <a:pt x="5629360" y="2638559"/>
                  </a:lnTo>
                  <a:lnTo>
                    <a:pt x="5644947" y="2607386"/>
                  </a:lnTo>
                  <a:lnTo>
                    <a:pt x="5676119" y="2596996"/>
                  </a:lnTo>
                  <a:lnTo>
                    <a:pt x="5629360" y="2586605"/>
                  </a:lnTo>
                  <a:lnTo>
                    <a:pt x="5691706" y="2571018"/>
                  </a:lnTo>
                  <a:lnTo>
                    <a:pt x="5722879" y="2591800"/>
                  </a:lnTo>
                  <a:close/>
                  <a:moveTo>
                    <a:pt x="5265929" y="2488564"/>
                  </a:moveTo>
                  <a:lnTo>
                    <a:pt x="5401011" y="2524932"/>
                  </a:lnTo>
                  <a:lnTo>
                    <a:pt x="5458161" y="2545714"/>
                  </a:lnTo>
                  <a:lnTo>
                    <a:pt x="5489334" y="2597669"/>
                  </a:lnTo>
                  <a:lnTo>
                    <a:pt x="5406206" y="2566496"/>
                  </a:lnTo>
                  <a:lnTo>
                    <a:pt x="5271124" y="2550909"/>
                  </a:lnTo>
                  <a:lnTo>
                    <a:pt x="5193193" y="2530128"/>
                  </a:lnTo>
                  <a:lnTo>
                    <a:pt x="5208779" y="2498955"/>
                  </a:lnTo>
                  <a:close/>
                  <a:moveTo>
                    <a:pt x="5728074" y="2378786"/>
                  </a:moveTo>
                  <a:lnTo>
                    <a:pt x="5754051" y="2430741"/>
                  </a:lnTo>
                  <a:lnTo>
                    <a:pt x="5790419" y="2394373"/>
                  </a:lnTo>
                  <a:lnTo>
                    <a:pt x="5951479" y="2446327"/>
                  </a:lnTo>
                  <a:lnTo>
                    <a:pt x="5967065" y="2493086"/>
                  </a:lnTo>
                  <a:lnTo>
                    <a:pt x="6008629" y="2472305"/>
                  </a:lnTo>
                  <a:lnTo>
                    <a:pt x="6019019" y="2472305"/>
                  </a:lnTo>
                  <a:lnTo>
                    <a:pt x="6050192" y="2451523"/>
                  </a:lnTo>
                  <a:lnTo>
                    <a:pt x="6008629" y="2415155"/>
                  </a:lnTo>
                  <a:lnTo>
                    <a:pt x="6076169" y="2446327"/>
                  </a:lnTo>
                  <a:lnTo>
                    <a:pt x="6076169" y="2487891"/>
                  </a:lnTo>
                  <a:lnTo>
                    <a:pt x="6008629" y="2503477"/>
                  </a:lnTo>
                  <a:lnTo>
                    <a:pt x="6029410" y="2586605"/>
                  </a:lnTo>
                  <a:lnTo>
                    <a:pt x="6076169" y="2586605"/>
                  </a:lnTo>
                  <a:lnTo>
                    <a:pt x="6039801" y="2591800"/>
                  </a:lnTo>
                  <a:lnTo>
                    <a:pt x="5998238" y="2591800"/>
                  </a:lnTo>
                  <a:lnTo>
                    <a:pt x="5972260" y="2576214"/>
                  </a:lnTo>
                  <a:lnTo>
                    <a:pt x="5972260" y="2555432"/>
                  </a:lnTo>
                  <a:lnTo>
                    <a:pt x="5883938" y="2560627"/>
                  </a:lnTo>
                  <a:lnTo>
                    <a:pt x="5811201" y="2534650"/>
                  </a:lnTo>
                  <a:lnTo>
                    <a:pt x="5795615" y="2493086"/>
                  </a:lnTo>
                  <a:lnTo>
                    <a:pt x="5785224" y="2472305"/>
                  </a:lnTo>
                  <a:lnTo>
                    <a:pt x="5712488" y="2456718"/>
                  </a:lnTo>
                  <a:lnTo>
                    <a:pt x="5681315" y="2394373"/>
                  </a:lnTo>
                  <a:close/>
                  <a:moveTo>
                    <a:pt x="5411151" y="2243705"/>
                  </a:moveTo>
                  <a:lnTo>
                    <a:pt x="5447519" y="2285268"/>
                  </a:lnTo>
                  <a:lnTo>
                    <a:pt x="5416347" y="2326832"/>
                  </a:lnTo>
                  <a:lnTo>
                    <a:pt x="5447519" y="2368396"/>
                  </a:lnTo>
                  <a:lnTo>
                    <a:pt x="5426738" y="2394373"/>
                  </a:lnTo>
                  <a:lnTo>
                    <a:pt x="5405956" y="2425546"/>
                  </a:lnTo>
                  <a:lnTo>
                    <a:pt x="5374783" y="2467109"/>
                  </a:lnTo>
                  <a:lnTo>
                    <a:pt x="5307242" y="2461914"/>
                  </a:lnTo>
                  <a:lnTo>
                    <a:pt x="5286460" y="2435936"/>
                  </a:lnTo>
                  <a:lnTo>
                    <a:pt x="5265679" y="2404764"/>
                  </a:lnTo>
                  <a:lnTo>
                    <a:pt x="5250092" y="2352809"/>
                  </a:lnTo>
                  <a:lnTo>
                    <a:pt x="5281265" y="2342418"/>
                  </a:lnTo>
                  <a:lnTo>
                    <a:pt x="5312438" y="2332027"/>
                  </a:lnTo>
                  <a:close/>
                  <a:moveTo>
                    <a:pt x="1996142" y="2056091"/>
                  </a:moveTo>
                  <a:lnTo>
                    <a:pt x="2020048" y="2103903"/>
                  </a:lnTo>
                  <a:lnTo>
                    <a:pt x="1930400" y="2091950"/>
                  </a:lnTo>
                  <a:close/>
                  <a:moveTo>
                    <a:pt x="1751106" y="2008279"/>
                  </a:moveTo>
                  <a:lnTo>
                    <a:pt x="1858683" y="2014256"/>
                  </a:lnTo>
                  <a:lnTo>
                    <a:pt x="1918448" y="2044138"/>
                  </a:lnTo>
                  <a:lnTo>
                    <a:pt x="1912471" y="2062067"/>
                  </a:lnTo>
                  <a:lnTo>
                    <a:pt x="1858683" y="2062067"/>
                  </a:lnTo>
                  <a:lnTo>
                    <a:pt x="1822824" y="2032185"/>
                  </a:lnTo>
                  <a:close/>
                  <a:moveTo>
                    <a:pt x="3890852" y="1918216"/>
                  </a:moveTo>
                  <a:lnTo>
                    <a:pt x="3919664" y="1988187"/>
                  </a:lnTo>
                  <a:lnTo>
                    <a:pt x="3956424" y="2034137"/>
                  </a:lnTo>
                  <a:lnTo>
                    <a:pt x="3947234" y="2066302"/>
                  </a:lnTo>
                  <a:lnTo>
                    <a:pt x="3979399" y="2098467"/>
                  </a:lnTo>
                  <a:lnTo>
                    <a:pt x="3979399" y="2126037"/>
                  </a:lnTo>
                  <a:lnTo>
                    <a:pt x="4029944" y="2167392"/>
                  </a:lnTo>
                  <a:lnTo>
                    <a:pt x="4039802" y="2182179"/>
                  </a:lnTo>
                  <a:lnTo>
                    <a:pt x="4039802" y="2150859"/>
                  </a:lnTo>
                  <a:lnTo>
                    <a:pt x="4039802" y="2130078"/>
                  </a:lnTo>
                  <a:lnTo>
                    <a:pt x="3915111" y="1922259"/>
                  </a:lnTo>
                  <a:close/>
                  <a:moveTo>
                    <a:pt x="3515061" y="1475450"/>
                  </a:moveTo>
                  <a:lnTo>
                    <a:pt x="3525452" y="1548187"/>
                  </a:lnTo>
                  <a:lnTo>
                    <a:pt x="3567015" y="1584555"/>
                  </a:lnTo>
                  <a:lnTo>
                    <a:pt x="3592993" y="1605337"/>
                  </a:lnTo>
                  <a:lnTo>
                    <a:pt x="3582602" y="1652096"/>
                  </a:lnTo>
                  <a:lnTo>
                    <a:pt x="3535843" y="1693659"/>
                  </a:lnTo>
                  <a:lnTo>
                    <a:pt x="3499474" y="1683269"/>
                  </a:lnTo>
                  <a:lnTo>
                    <a:pt x="3499474" y="1667682"/>
                  </a:lnTo>
                  <a:lnTo>
                    <a:pt x="3546234" y="1652096"/>
                  </a:lnTo>
                  <a:lnTo>
                    <a:pt x="3546234" y="1631314"/>
                  </a:lnTo>
                  <a:lnTo>
                    <a:pt x="3525452" y="1605337"/>
                  </a:lnTo>
                  <a:lnTo>
                    <a:pt x="3483888" y="1589750"/>
                  </a:lnTo>
                  <a:lnTo>
                    <a:pt x="3463106" y="1563773"/>
                  </a:lnTo>
                  <a:lnTo>
                    <a:pt x="3442324" y="1527405"/>
                  </a:lnTo>
                  <a:lnTo>
                    <a:pt x="3421543" y="1511819"/>
                  </a:lnTo>
                  <a:lnTo>
                    <a:pt x="3385174" y="1537796"/>
                  </a:lnTo>
                  <a:lnTo>
                    <a:pt x="3328024" y="1522209"/>
                  </a:lnTo>
                  <a:lnTo>
                    <a:pt x="3317634" y="1563773"/>
                  </a:lnTo>
                  <a:lnTo>
                    <a:pt x="3296852" y="1594946"/>
                  </a:lnTo>
                  <a:lnTo>
                    <a:pt x="3276070" y="1631314"/>
                  </a:lnTo>
                  <a:lnTo>
                    <a:pt x="3244897" y="1678073"/>
                  </a:lnTo>
                  <a:lnTo>
                    <a:pt x="3177356" y="1688464"/>
                  </a:lnTo>
                  <a:lnTo>
                    <a:pt x="3177356" y="1723055"/>
                  </a:lnTo>
                  <a:lnTo>
                    <a:pt x="3198253" y="1717084"/>
                  </a:lnTo>
                  <a:lnTo>
                    <a:pt x="3230418" y="1726274"/>
                  </a:lnTo>
                  <a:lnTo>
                    <a:pt x="3280963" y="1707894"/>
                  </a:lnTo>
                  <a:lnTo>
                    <a:pt x="3317722" y="1698704"/>
                  </a:lnTo>
                  <a:lnTo>
                    <a:pt x="3368267" y="1689514"/>
                  </a:lnTo>
                  <a:lnTo>
                    <a:pt x="3405027" y="1689514"/>
                  </a:lnTo>
                  <a:lnTo>
                    <a:pt x="3441787" y="1675729"/>
                  </a:lnTo>
                  <a:lnTo>
                    <a:pt x="3460167" y="1694109"/>
                  </a:lnTo>
                  <a:lnTo>
                    <a:pt x="3473952" y="1703299"/>
                  </a:lnTo>
                  <a:lnTo>
                    <a:pt x="3487737" y="1735464"/>
                  </a:lnTo>
                  <a:lnTo>
                    <a:pt x="3473952" y="1767629"/>
                  </a:lnTo>
                  <a:lnTo>
                    <a:pt x="3510711" y="1790604"/>
                  </a:lnTo>
                  <a:lnTo>
                    <a:pt x="3542876" y="1786009"/>
                  </a:lnTo>
                  <a:lnTo>
                    <a:pt x="3556661" y="1808983"/>
                  </a:lnTo>
                  <a:lnTo>
                    <a:pt x="3593421" y="1813578"/>
                  </a:lnTo>
                  <a:lnTo>
                    <a:pt x="3607206" y="1822768"/>
                  </a:lnTo>
                  <a:lnTo>
                    <a:pt x="3625586" y="1827363"/>
                  </a:lnTo>
                  <a:lnTo>
                    <a:pt x="3634776" y="1776819"/>
                  </a:lnTo>
                  <a:lnTo>
                    <a:pt x="3689915" y="1776819"/>
                  </a:lnTo>
                  <a:lnTo>
                    <a:pt x="3722080" y="1799794"/>
                  </a:lnTo>
                  <a:lnTo>
                    <a:pt x="3758840" y="1799794"/>
                  </a:lnTo>
                  <a:lnTo>
                    <a:pt x="3795600" y="1831958"/>
                  </a:lnTo>
                  <a:lnTo>
                    <a:pt x="3813980" y="1818173"/>
                  </a:lnTo>
                  <a:lnTo>
                    <a:pt x="3823170" y="1804388"/>
                  </a:lnTo>
                  <a:lnTo>
                    <a:pt x="3831426" y="1808517"/>
                  </a:lnTo>
                  <a:lnTo>
                    <a:pt x="3831984" y="1807959"/>
                  </a:lnTo>
                  <a:lnTo>
                    <a:pt x="3863156" y="1813155"/>
                  </a:lnTo>
                  <a:lnTo>
                    <a:pt x="3904720" y="1735223"/>
                  </a:lnTo>
                  <a:lnTo>
                    <a:pt x="3909915" y="1709246"/>
                  </a:lnTo>
                  <a:lnTo>
                    <a:pt x="3873547" y="1698855"/>
                  </a:lnTo>
                  <a:lnTo>
                    <a:pt x="3847570" y="1724832"/>
                  </a:lnTo>
                  <a:lnTo>
                    <a:pt x="3837179" y="1698855"/>
                  </a:lnTo>
                  <a:lnTo>
                    <a:pt x="3790420" y="1714441"/>
                  </a:lnTo>
                  <a:lnTo>
                    <a:pt x="3738465" y="1740419"/>
                  </a:lnTo>
                  <a:lnTo>
                    <a:pt x="3686511" y="1724832"/>
                  </a:lnTo>
                  <a:lnTo>
                    <a:pt x="3743661" y="1704050"/>
                  </a:lnTo>
                  <a:lnTo>
                    <a:pt x="3748856" y="1620923"/>
                  </a:lnTo>
                  <a:lnTo>
                    <a:pt x="3728074" y="1594946"/>
                  </a:lnTo>
                  <a:lnTo>
                    <a:pt x="3686511" y="1615728"/>
                  </a:lnTo>
                  <a:lnTo>
                    <a:pt x="3728074" y="1636509"/>
                  </a:lnTo>
                  <a:lnTo>
                    <a:pt x="3702097" y="1667682"/>
                  </a:lnTo>
                  <a:lnTo>
                    <a:pt x="3696902" y="1709246"/>
                  </a:lnTo>
                  <a:lnTo>
                    <a:pt x="3655338" y="1678073"/>
                  </a:lnTo>
                  <a:lnTo>
                    <a:pt x="3613774" y="1646900"/>
                  </a:lnTo>
                  <a:lnTo>
                    <a:pt x="3613774" y="1615728"/>
                  </a:lnTo>
                  <a:lnTo>
                    <a:pt x="3608579" y="1594946"/>
                  </a:lnTo>
                  <a:close/>
                  <a:moveTo>
                    <a:pt x="3836929" y="1438408"/>
                  </a:moveTo>
                  <a:lnTo>
                    <a:pt x="3774583" y="1552708"/>
                  </a:lnTo>
                  <a:lnTo>
                    <a:pt x="3821342" y="1578685"/>
                  </a:lnTo>
                  <a:lnTo>
                    <a:pt x="3852515" y="1552708"/>
                  </a:lnTo>
                  <a:lnTo>
                    <a:pt x="3914860" y="1557904"/>
                  </a:lnTo>
                  <a:lnTo>
                    <a:pt x="3951229" y="1578685"/>
                  </a:lnTo>
                  <a:lnTo>
                    <a:pt x="4013574" y="1583881"/>
                  </a:lnTo>
                  <a:lnTo>
                    <a:pt x="4013574" y="1552708"/>
                  </a:lnTo>
                  <a:lnTo>
                    <a:pt x="3935642" y="1490363"/>
                  </a:lnTo>
                  <a:lnTo>
                    <a:pt x="3868101" y="1490363"/>
                  </a:lnTo>
                  <a:close/>
                  <a:moveTo>
                    <a:pt x="3203083" y="1048750"/>
                  </a:moveTo>
                  <a:lnTo>
                    <a:pt x="3208279" y="1079923"/>
                  </a:lnTo>
                  <a:lnTo>
                    <a:pt x="3249842" y="1095509"/>
                  </a:lnTo>
                  <a:lnTo>
                    <a:pt x="3208279" y="1137073"/>
                  </a:lnTo>
                  <a:lnTo>
                    <a:pt x="3260233" y="1178636"/>
                  </a:lnTo>
                  <a:lnTo>
                    <a:pt x="3265429" y="1251373"/>
                  </a:lnTo>
                  <a:lnTo>
                    <a:pt x="3286210" y="1256568"/>
                  </a:lnTo>
                  <a:lnTo>
                    <a:pt x="3317383" y="1277350"/>
                  </a:lnTo>
                  <a:lnTo>
                    <a:pt x="3291406" y="1329305"/>
                  </a:lnTo>
                  <a:lnTo>
                    <a:pt x="3234256" y="1318914"/>
                  </a:lnTo>
                  <a:lnTo>
                    <a:pt x="3171910" y="1370868"/>
                  </a:lnTo>
                  <a:lnTo>
                    <a:pt x="3197888" y="1308523"/>
                  </a:lnTo>
                  <a:lnTo>
                    <a:pt x="3166715" y="1298132"/>
                  </a:lnTo>
                  <a:lnTo>
                    <a:pt x="3192692" y="1277350"/>
                  </a:lnTo>
                  <a:lnTo>
                    <a:pt x="3192692" y="1246177"/>
                  </a:lnTo>
                  <a:lnTo>
                    <a:pt x="3218669" y="1240982"/>
                  </a:lnTo>
                  <a:lnTo>
                    <a:pt x="3208279" y="1204614"/>
                  </a:lnTo>
                  <a:lnTo>
                    <a:pt x="3177106" y="1204614"/>
                  </a:lnTo>
                  <a:lnTo>
                    <a:pt x="3166715" y="1235786"/>
                  </a:lnTo>
                  <a:lnTo>
                    <a:pt x="3161519" y="1282546"/>
                  </a:lnTo>
                  <a:lnTo>
                    <a:pt x="3125151" y="1313718"/>
                  </a:lnTo>
                  <a:lnTo>
                    <a:pt x="3073197" y="1303327"/>
                  </a:lnTo>
                  <a:lnTo>
                    <a:pt x="3068001" y="1282546"/>
                  </a:lnTo>
                  <a:lnTo>
                    <a:pt x="3093979" y="1261764"/>
                  </a:lnTo>
                  <a:lnTo>
                    <a:pt x="3073197" y="1230591"/>
                  </a:lnTo>
                  <a:lnTo>
                    <a:pt x="3145933" y="1168246"/>
                  </a:lnTo>
                  <a:lnTo>
                    <a:pt x="3161519" y="1183832"/>
                  </a:lnTo>
                  <a:lnTo>
                    <a:pt x="3166715" y="1121486"/>
                  </a:lnTo>
                  <a:lnTo>
                    <a:pt x="3140738" y="1079923"/>
                  </a:lnTo>
                  <a:lnTo>
                    <a:pt x="3171910" y="1059141"/>
                  </a:lnTo>
                  <a:lnTo>
                    <a:pt x="3171910" y="1079923"/>
                  </a:lnTo>
                  <a:close/>
                  <a:moveTo>
                    <a:pt x="167342" y="854820"/>
                  </a:moveTo>
                  <a:lnTo>
                    <a:pt x="185271" y="884703"/>
                  </a:lnTo>
                  <a:lnTo>
                    <a:pt x="119530" y="878726"/>
                  </a:lnTo>
                  <a:close/>
                  <a:moveTo>
                    <a:pt x="2856630" y="719580"/>
                  </a:moveTo>
                  <a:lnTo>
                    <a:pt x="2894337" y="741576"/>
                  </a:lnTo>
                  <a:lnTo>
                    <a:pt x="2881768" y="766714"/>
                  </a:lnTo>
                  <a:lnTo>
                    <a:pt x="2900622" y="763571"/>
                  </a:lnTo>
                  <a:lnTo>
                    <a:pt x="2906906" y="744718"/>
                  </a:lnTo>
                  <a:lnTo>
                    <a:pt x="2928902" y="744718"/>
                  </a:lnTo>
                  <a:lnTo>
                    <a:pt x="2960325" y="744718"/>
                  </a:lnTo>
                  <a:lnTo>
                    <a:pt x="2960325" y="738433"/>
                  </a:lnTo>
                  <a:lnTo>
                    <a:pt x="2979179" y="719580"/>
                  </a:lnTo>
                  <a:lnTo>
                    <a:pt x="3020028" y="735291"/>
                  </a:lnTo>
                  <a:lnTo>
                    <a:pt x="3020028" y="754145"/>
                  </a:lnTo>
                  <a:lnTo>
                    <a:pt x="3016886" y="766714"/>
                  </a:lnTo>
                  <a:lnTo>
                    <a:pt x="3042024" y="782425"/>
                  </a:lnTo>
                  <a:lnTo>
                    <a:pt x="3042024" y="798136"/>
                  </a:lnTo>
                  <a:lnTo>
                    <a:pt x="3035739" y="816990"/>
                  </a:lnTo>
                  <a:lnTo>
                    <a:pt x="2998032" y="851555"/>
                  </a:lnTo>
                  <a:lnTo>
                    <a:pt x="2972894" y="867266"/>
                  </a:lnTo>
                  <a:lnTo>
                    <a:pt x="2941471" y="879835"/>
                  </a:lnTo>
                  <a:lnTo>
                    <a:pt x="2884911" y="860982"/>
                  </a:lnTo>
                  <a:lnTo>
                    <a:pt x="2831492" y="823275"/>
                  </a:lnTo>
                  <a:lnTo>
                    <a:pt x="2844061" y="810705"/>
                  </a:lnTo>
                  <a:lnTo>
                    <a:pt x="2862915" y="807563"/>
                  </a:lnTo>
                  <a:lnTo>
                    <a:pt x="2862915" y="785567"/>
                  </a:lnTo>
                  <a:lnTo>
                    <a:pt x="2840919" y="788710"/>
                  </a:lnTo>
                  <a:lnTo>
                    <a:pt x="2822065" y="779283"/>
                  </a:lnTo>
                  <a:lnTo>
                    <a:pt x="2837777" y="747860"/>
                  </a:lnTo>
                  <a:lnTo>
                    <a:pt x="2847203" y="732149"/>
                  </a:lnTo>
                  <a:close/>
                  <a:moveTo>
                    <a:pt x="5977" y="633691"/>
                  </a:moveTo>
                  <a:lnTo>
                    <a:pt x="77695" y="681503"/>
                  </a:lnTo>
                  <a:lnTo>
                    <a:pt x="113553" y="687479"/>
                  </a:lnTo>
                  <a:lnTo>
                    <a:pt x="149412" y="681503"/>
                  </a:lnTo>
                  <a:lnTo>
                    <a:pt x="191248" y="717362"/>
                  </a:lnTo>
                  <a:lnTo>
                    <a:pt x="197224" y="741267"/>
                  </a:lnTo>
                  <a:lnTo>
                    <a:pt x="155389" y="783103"/>
                  </a:lnTo>
                  <a:lnTo>
                    <a:pt x="119530" y="824938"/>
                  </a:lnTo>
                  <a:lnTo>
                    <a:pt x="77695" y="789079"/>
                  </a:lnTo>
                  <a:lnTo>
                    <a:pt x="77695" y="783103"/>
                  </a:lnTo>
                  <a:lnTo>
                    <a:pt x="71719" y="771150"/>
                  </a:lnTo>
                  <a:lnTo>
                    <a:pt x="47812" y="783103"/>
                  </a:lnTo>
                  <a:lnTo>
                    <a:pt x="29883" y="789079"/>
                  </a:lnTo>
                  <a:lnTo>
                    <a:pt x="17930" y="771150"/>
                  </a:lnTo>
                  <a:lnTo>
                    <a:pt x="17930" y="753220"/>
                  </a:lnTo>
                  <a:lnTo>
                    <a:pt x="29883" y="735291"/>
                  </a:lnTo>
                  <a:lnTo>
                    <a:pt x="5977" y="735291"/>
                  </a:lnTo>
                  <a:lnTo>
                    <a:pt x="0" y="663573"/>
                  </a:lnTo>
                  <a:close/>
                  <a:moveTo>
                    <a:pt x="4509489" y="349375"/>
                  </a:moveTo>
                  <a:lnTo>
                    <a:pt x="4546359" y="386246"/>
                  </a:lnTo>
                  <a:lnTo>
                    <a:pt x="4465243" y="408368"/>
                  </a:lnTo>
                  <a:lnTo>
                    <a:pt x="4398876" y="430491"/>
                  </a:lnTo>
                  <a:lnTo>
                    <a:pt x="4317759" y="467362"/>
                  </a:lnTo>
                  <a:lnTo>
                    <a:pt x="4280889" y="548478"/>
                  </a:lnTo>
                  <a:lnTo>
                    <a:pt x="4280889" y="600097"/>
                  </a:lnTo>
                  <a:lnTo>
                    <a:pt x="4221895" y="548478"/>
                  </a:lnTo>
                  <a:lnTo>
                    <a:pt x="4266140" y="489485"/>
                  </a:lnTo>
                  <a:lnTo>
                    <a:pt x="4244018" y="474736"/>
                  </a:lnTo>
                  <a:lnTo>
                    <a:pt x="4280889" y="452614"/>
                  </a:lnTo>
                  <a:lnTo>
                    <a:pt x="4303011" y="415743"/>
                  </a:lnTo>
                  <a:lnTo>
                    <a:pt x="4413624" y="364123"/>
                  </a:lnTo>
                  <a:close/>
                  <a:moveTo>
                    <a:pt x="5219170" y="311669"/>
                  </a:moveTo>
                  <a:lnTo>
                    <a:pt x="5234756" y="363623"/>
                  </a:lnTo>
                  <a:lnTo>
                    <a:pt x="5312688" y="353232"/>
                  </a:lnTo>
                  <a:lnTo>
                    <a:pt x="5354252" y="415578"/>
                  </a:lnTo>
                  <a:lnTo>
                    <a:pt x="5193193" y="514291"/>
                  </a:lnTo>
                  <a:lnTo>
                    <a:pt x="5255538" y="483119"/>
                  </a:lnTo>
                  <a:lnTo>
                    <a:pt x="5307493" y="462337"/>
                  </a:lnTo>
                  <a:lnTo>
                    <a:pt x="5354252" y="446750"/>
                  </a:lnTo>
                  <a:lnTo>
                    <a:pt x="5437379" y="477923"/>
                  </a:lnTo>
                  <a:lnTo>
                    <a:pt x="5494529" y="503900"/>
                  </a:lnTo>
                  <a:lnTo>
                    <a:pt x="5510115" y="498705"/>
                  </a:lnTo>
                  <a:lnTo>
                    <a:pt x="5520506" y="467532"/>
                  </a:lnTo>
                  <a:lnTo>
                    <a:pt x="5551679" y="467532"/>
                  </a:lnTo>
                  <a:lnTo>
                    <a:pt x="5598438" y="477923"/>
                  </a:lnTo>
                  <a:lnTo>
                    <a:pt x="5645197" y="519487"/>
                  </a:lnTo>
                  <a:lnTo>
                    <a:pt x="5629611" y="550659"/>
                  </a:lnTo>
                  <a:lnTo>
                    <a:pt x="5665979" y="576637"/>
                  </a:lnTo>
                  <a:lnTo>
                    <a:pt x="5691956" y="540269"/>
                  </a:lnTo>
                  <a:lnTo>
                    <a:pt x="5801061" y="561050"/>
                  </a:lnTo>
                  <a:lnTo>
                    <a:pt x="5811452" y="540269"/>
                  </a:lnTo>
                  <a:lnTo>
                    <a:pt x="5821843" y="509096"/>
                  </a:lnTo>
                  <a:lnTo>
                    <a:pt x="5832234" y="498705"/>
                  </a:lnTo>
                  <a:lnTo>
                    <a:pt x="5801061" y="441555"/>
                  </a:lnTo>
                  <a:lnTo>
                    <a:pt x="5764693" y="415578"/>
                  </a:lnTo>
                  <a:lnTo>
                    <a:pt x="5790670" y="363623"/>
                  </a:lnTo>
                  <a:lnTo>
                    <a:pt x="5821843" y="394796"/>
                  </a:lnTo>
                  <a:lnTo>
                    <a:pt x="5847820" y="379209"/>
                  </a:lnTo>
                  <a:lnTo>
                    <a:pt x="5904970" y="384405"/>
                  </a:lnTo>
                  <a:lnTo>
                    <a:pt x="5920556" y="425969"/>
                  </a:lnTo>
                  <a:lnTo>
                    <a:pt x="5858211" y="431164"/>
                  </a:lnTo>
                  <a:lnTo>
                    <a:pt x="5842624" y="441555"/>
                  </a:lnTo>
                  <a:lnTo>
                    <a:pt x="5894579" y="483119"/>
                  </a:lnTo>
                  <a:lnTo>
                    <a:pt x="5910165" y="540269"/>
                  </a:lnTo>
                  <a:lnTo>
                    <a:pt x="6014074" y="509096"/>
                  </a:lnTo>
                  <a:lnTo>
                    <a:pt x="6034856" y="571441"/>
                  </a:lnTo>
                  <a:lnTo>
                    <a:pt x="6117984" y="561050"/>
                  </a:lnTo>
                  <a:lnTo>
                    <a:pt x="6185524" y="587028"/>
                  </a:lnTo>
                  <a:lnTo>
                    <a:pt x="6201111" y="623396"/>
                  </a:lnTo>
                  <a:lnTo>
                    <a:pt x="6263456" y="618200"/>
                  </a:lnTo>
                  <a:lnTo>
                    <a:pt x="6305020" y="628591"/>
                  </a:lnTo>
                  <a:lnTo>
                    <a:pt x="6325802" y="607809"/>
                  </a:lnTo>
                  <a:lnTo>
                    <a:pt x="6502447" y="597419"/>
                  </a:lnTo>
                  <a:lnTo>
                    <a:pt x="6663506" y="711719"/>
                  </a:lnTo>
                  <a:lnTo>
                    <a:pt x="6725852" y="727305"/>
                  </a:lnTo>
                  <a:lnTo>
                    <a:pt x="6689484" y="779259"/>
                  </a:lnTo>
                  <a:lnTo>
                    <a:pt x="6679093" y="826019"/>
                  </a:lnTo>
                  <a:lnTo>
                    <a:pt x="6590770" y="784455"/>
                  </a:lnTo>
                  <a:lnTo>
                    <a:pt x="6569988" y="763673"/>
                  </a:lnTo>
                  <a:lnTo>
                    <a:pt x="6559597" y="737696"/>
                  </a:lnTo>
                  <a:lnTo>
                    <a:pt x="6559597" y="753282"/>
                  </a:lnTo>
                  <a:lnTo>
                    <a:pt x="6533620" y="800041"/>
                  </a:lnTo>
                  <a:lnTo>
                    <a:pt x="6502447" y="800041"/>
                  </a:lnTo>
                  <a:lnTo>
                    <a:pt x="6533620" y="831214"/>
                  </a:lnTo>
                  <a:lnTo>
                    <a:pt x="6549206" y="909146"/>
                  </a:lnTo>
                  <a:lnTo>
                    <a:pt x="6518034" y="909146"/>
                  </a:lnTo>
                  <a:lnTo>
                    <a:pt x="6419320" y="935123"/>
                  </a:lnTo>
                  <a:lnTo>
                    <a:pt x="6382952" y="981882"/>
                  </a:lnTo>
                  <a:lnTo>
                    <a:pt x="6351779" y="981882"/>
                  </a:lnTo>
                  <a:lnTo>
                    <a:pt x="6294629" y="1013055"/>
                  </a:lnTo>
                  <a:lnTo>
                    <a:pt x="6273847" y="1002664"/>
                  </a:lnTo>
                  <a:lnTo>
                    <a:pt x="6237479" y="1054619"/>
                  </a:lnTo>
                  <a:lnTo>
                    <a:pt x="6268652" y="1080596"/>
                  </a:lnTo>
                  <a:lnTo>
                    <a:pt x="6242674" y="1106573"/>
                  </a:lnTo>
                  <a:lnTo>
                    <a:pt x="6237479" y="1153332"/>
                  </a:lnTo>
                  <a:lnTo>
                    <a:pt x="6242674" y="1194896"/>
                  </a:lnTo>
                  <a:lnTo>
                    <a:pt x="6211502" y="1205287"/>
                  </a:lnTo>
                  <a:lnTo>
                    <a:pt x="6185524" y="1257241"/>
                  </a:lnTo>
                  <a:lnTo>
                    <a:pt x="6159547" y="1278023"/>
                  </a:lnTo>
                  <a:lnTo>
                    <a:pt x="6128374" y="1314391"/>
                  </a:lnTo>
                  <a:lnTo>
                    <a:pt x="6045247" y="1444278"/>
                  </a:lnTo>
                  <a:lnTo>
                    <a:pt x="5899774" y="1537796"/>
                  </a:lnTo>
                  <a:lnTo>
                    <a:pt x="5863406" y="1548187"/>
                  </a:lnTo>
                  <a:lnTo>
                    <a:pt x="5853015" y="1652096"/>
                  </a:lnTo>
                  <a:lnTo>
                    <a:pt x="5827038" y="1724832"/>
                  </a:lnTo>
                  <a:lnTo>
                    <a:pt x="5775084" y="1761200"/>
                  </a:lnTo>
                  <a:lnTo>
                    <a:pt x="5712738" y="1781982"/>
                  </a:lnTo>
                  <a:lnTo>
                    <a:pt x="5665979" y="1792373"/>
                  </a:lnTo>
                  <a:lnTo>
                    <a:pt x="5645197" y="1865109"/>
                  </a:lnTo>
                  <a:lnTo>
                    <a:pt x="5629611" y="1802764"/>
                  </a:lnTo>
                  <a:lnTo>
                    <a:pt x="5650393" y="1750809"/>
                  </a:lnTo>
                  <a:lnTo>
                    <a:pt x="5702347" y="1709246"/>
                  </a:lnTo>
                  <a:lnTo>
                    <a:pt x="5738715" y="1698855"/>
                  </a:lnTo>
                  <a:lnTo>
                    <a:pt x="5780279" y="1652096"/>
                  </a:lnTo>
                  <a:lnTo>
                    <a:pt x="5811452" y="1579359"/>
                  </a:lnTo>
                  <a:lnTo>
                    <a:pt x="5827038" y="1574164"/>
                  </a:lnTo>
                  <a:lnTo>
                    <a:pt x="5811452" y="1558578"/>
                  </a:lnTo>
                  <a:lnTo>
                    <a:pt x="5811452" y="1527405"/>
                  </a:lnTo>
                  <a:lnTo>
                    <a:pt x="5847820" y="1517014"/>
                  </a:lnTo>
                  <a:lnTo>
                    <a:pt x="5847820" y="1470255"/>
                  </a:lnTo>
                  <a:lnTo>
                    <a:pt x="5910165" y="1470255"/>
                  </a:lnTo>
                  <a:lnTo>
                    <a:pt x="6014074" y="1423496"/>
                  </a:lnTo>
                  <a:lnTo>
                    <a:pt x="6117984" y="1293609"/>
                  </a:lnTo>
                  <a:lnTo>
                    <a:pt x="6107593" y="1226069"/>
                  </a:lnTo>
                  <a:lnTo>
                    <a:pt x="6092006" y="1163723"/>
                  </a:lnTo>
                  <a:lnTo>
                    <a:pt x="6092006" y="1127355"/>
                  </a:lnTo>
                  <a:lnTo>
                    <a:pt x="6123179" y="1101378"/>
                  </a:lnTo>
                  <a:lnTo>
                    <a:pt x="6123179" y="1075400"/>
                  </a:lnTo>
                  <a:lnTo>
                    <a:pt x="6201111" y="997469"/>
                  </a:lnTo>
                  <a:lnTo>
                    <a:pt x="6175134" y="955905"/>
                  </a:lnTo>
                  <a:lnTo>
                    <a:pt x="6190720" y="929928"/>
                  </a:lnTo>
                  <a:lnTo>
                    <a:pt x="6138765" y="924732"/>
                  </a:lnTo>
                  <a:lnTo>
                    <a:pt x="6076420" y="992273"/>
                  </a:lnTo>
                  <a:lnTo>
                    <a:pt x="6102397" y="1028641"/>
                  </a:lnTo>
                  <a:lnTo>
                    <a:pt x="6076420" y="1049423"/>
                  </a:lnTo>
                  <a:lnTo>
                    <a:pt x="6024465" y="1049423"/>
                  </a:lnTo>
                  <a:lnTo>
                    <a:pt x="6029661" y="1013055"/>
                  </a:lnTo>
                  <a:lnTo>
                    <a:pt x="5988097" y="1007859"/>
                  </a:lnTo>
                  <a:lnTo>
                    <a:pt x="5972511" y="1028641"/>
                  </a:lnTo>
                  <a:lnTo>
                    <a:pt x="5930947" y="1039032"/>
                  </a:lnTo>
                  <a:lnTo>
                    <a:pt x="5878993" y="1028641"/>
                  </a:lnTo>
                  <a:lnTo>
                    <a:pt x="5743911" y="1184505"/>
                  </a:lnTo>
                  <a:lnTo>
                    <a:pt x="5780279" y="1205287"/>
                  </a:lnTo>
                  <a:lnTo>
                    <a:pt x="5806256" y="1189700"/>
                  </a:lnTo>
                  <a:lnTo>
                    <a:pt x="5842624" y="1220873"/>
                  </a:lnTo>
                  <a:lnTo>
                    <a:pt x="5858211" y="1189700"/>
                  </a:lnTo>
                  <a:lnTo>
                    <a:pt x="5884188" y="1220873"/>
                  </a:lnTo>
                  <a:lnTo>
                    <a:pt x="5899774" y="1267632"/>
                  </a:lnTo>
                  <a:lnTo>
                    <a:pt x="5899774" y="1340369"/>
                  </a:lnTo>
                  <a:lnTo>
                    <a:pt x="5930947" y="1376737"/>
                  </a:lnTo>
                  <a:lnTo>
                    <a:pt x="5910165" y="1381932"/>
                  </a:lnTo>
                  <a:lnTo>
                    <a:pt x="5894579" y="1376737"/>
                  </a:lnTo>
                  <a:lnTo>
                    <a:pt x="5904970" y="1433887"/>
                  </a:lnTo>
                  <a:lnTo>
                    <a:pt x="5899774" y="1454669"/>
                  </a:lnTo>
                  <a:lnTo>
                    <a:pt x="5858211" y="1449473"/>
                  </a:lnTo>
                  <a:lnTo>
                    <a:pt x="5858211" y="1413105"/>
                  </a:lnTo>
                  <a:lnTo>
                    <a:pt x="5853015" y="1298805"/>
                  </a:lnTo>
                  <a:lnTo>
                    <a:pt x="5837429" y="1309196"/>
                  </a:lnTo>
                  <a:lnTo>
                    <a:pt x="5837429" y="1387128"/>
                  </a:lnTo>
                  <a:lnTo>
                    <a:pt x="5785474" y="1423496"/>
                  </a:lnTo>
                  <a:lnTo>
                    <a:pt x="5764693" y="1506623"/>
                  </a:lnTo>
                  <a:lnTo>
                    <a:pt x="5691956" y="1532600"/>
                  </a:lnTo>
                  <a:lnTo>
                    <a:pt x="5645197" y="1558578"/>
                  </a:lnTo>
                  <a:lnTo>
                    <a:pt x="5614024" y="1626119"/>
                  </a:lnTo>
                  <a:lnTo>
                    <a:pt x="5624415" y="1683269"/>
                  </a:lnTo>
                  <a:lnTo>
                    <a:pt x="5634806" y="1719637"/>
                  </a:lnTo>
                  <a:lnTo>
                    <a:pt x="5567265" y="1730028"/>
                  </a:lnTo>
                  <a:lnTo>
                    <a:pt x="5556874" y="1662487"/>
                  </a:lnTo>
                  <a:lnTo>
                    <a:pt x="5530897" y="1657291"/>
                  </a:lnTo>
                  <a:lnTo>
                    <a:pt x="5551679" y="1615728"/>
                  </a:lnTo>
                  <a:lnTo>
                    <a:pt x="5452965" y="1636509"/>
                  </a:lnTo>
                  <a:lnTo>
                    <a:pt x="5489334" y="1605337"/>
                  </a:lnTo>
                  <a:lnTo>
                    <a:pt x="5421793" y="1641705"/>
                  </a:lnTo>
                  <a:lnTo>
                    <a:pt x="5442574" y="1678073"/>
                  </a:lnTo>
                  <a:lnTo>
                    <a:pt x="5489334" y="1657291"/>
                  </a:lnTo>
                  <a:lnTo>
                    <a:pt x="5489334" y="1683269"/>
                  </a:lnTo>
                  <a:lnTo>
                    <a:pt x="5452965" y="1719637"/>
                  </a:lnTo>
                  <a:lnTo>
                    <a:pt x="5504920" y="1813155"/>
                  </a:lnTo>
                  <a:lnTo>
                    <a:pt x="5489334" y="1880696"/>
                  </a:lnTo>
                  <a:lnTo>
                    <a:pt x="5473747" y="1917064"/>
                  </a:lnTo>
                  <a:lnTo>
                    <a:pt x="5447770" y="1948237"/>
                  </a:lnTo>
                  <a:lnTo>
                    <a:pt x="5406206" y="1974214"/>
                  </a:lnTo>
                  <a:lnTo>
                    <a:pt x="5364643" y="1984605"/>
                  </a:lnTo>
                  <a:lnTo>
                    <a:pt x="5297102" y="2005387"/>
                  </a:lnTo>
                  <a:lnTo>
                    <a:pt x="5271124" y="2052146"/>
                  </a:lnTo>
                  <a:lnTo>
                    <a:pt x="5250343" y="2026169"/>
                  </a:lnTo>
                  <a:lnTo>
                    <a:pt x="5224365" y="2026169"/>
                  </a:lnTo>
                  <a:lnTo>
                    <a:pt x="5229561" y="2072928"/>
                  </a:lnTo>
                  <a:lnTo>
                    <a:pt x="5307493" y="2150859"/>
                  </a:lnTo>
                  <a:lnTo>
                    <a:pt x="5281515" y="2187228"/>
                  </a:lnTo>
                  <a:lnTo>
                    <a:pt x="5203584" y="2244378"/>
                  </a:lnTo>
                  <a:lnTo>
                    <a:pt x="5151629" y="2223596"/>
                  </a:lnTo>
                  <a:lnTo>
                    <a:pt x="5115261" y="2166446"/>
                  </a:lnTo>
                  <a:lnTo>
                    <a:pt x="5104870" y="2218400"/>
                  </a:lnTo>
                  <a:lnTo>
                    <a:pt x="5146434" y="2296332"/>
                  </a:lnTo>
                  <a:lnTo>
                    <a:pt x="5198388" y="2389850"/>
                  </a:lnTo>
                  <a:lnTo>
                    <a:pt x="5193193" y="2426219"/>
                  </a:lnTo>
                  <a:lnTo>
                    <a:pt x="5208779" y="2498955"/>
                  </a:lnTo>
                  <a:lnTo>
                    <a:pt x="5162020" y="2488564"/>
                  </a:lnTo>
                  <a:lnTo>
                    <a:pt x="5089284" y="2436609"/>
                  </a:lnTo>
                  <a:lnTo>
                    <a:pt x="5026938" y="2348287"/>
                  </a:lnTo>
                  <a:lnTo>
                    <a:pt x="4980179" y="2280746"/>
                  </a:lnTo>
                  <a:lnTo>
                    <a:pt x="5021743" y="2265159"/>
                  </a:lnTo>
                  <a:lnTo>
                    <a:pt x="5047720" y="2291137"/>
                  </a:lnTo>
                  <a:lnTo>
                    <a:pt x="5130847" y="2379459"/>
                  </a:lnTo>
                  <a:lnTo>
                    <a:pt x="5125652" y="2363873"/>
                  </a:lnTo>
                  <a:lnTo>
                    <a:pt x="5115261" y="2327505"/>
                  </a:lnTo>
                  <a:lnTo>
                    <a:pt x="5120456" y="2317114"/>
                  </a:lnTo>
                  <a:lnTo>
                    <a:pt x="5078893" y="2244378"/>
                  </a:lnTo>
                  <a:lnTo>
                    <a:pt x="5058111" y="2202814"/>
                  </a:lnTo>
                  <a:lnTo>
                    <a:pt x="5052915" y="2176837"/>
                  </a:lnTo>
                  <a:lnTo>
                    <a:pt x="5042524" y="2150859"/>
                  </a:lnTo>
                  <a:lnTo>
                    <a:pt x="5042524" y="2130078"/>
                  </a:lnTo>
                  <a:lnTo>
                    <a:pt x="5000961" y="2145664"/>
                  </a:lnTo>
                  <a:lnTo>
                    <a:pt x="4985374" y="2140469"/>
                  </a:lnTo>
                  <a:lnTo>
                    <a:pt x="4974984" y="2114491"/>
                  </a:lnTo>
                  <a:lnTo>
                    <a:pt x="4964593" y="2083319"/>
                  </a:lnTo>
                  <a:lnTo>
                    <a:pt x="4964593" y="2062537"/>
                  </a:lnTo>
                  <a:lnTo>
                    <a:pt x="4943811" y="2036559"/>
                  </a:lnTo>
                  <a:lnTo>
                    <a:pt x="4933420" y="1994996"/>
                  </a:lnTo>
                  <a:lnTo>
                    <a:pt x="4907443" y="2020973"/>
                  </a:lnTo>
                  <a:lnTo>
                    <a:pt x="4860684" y="2020973"/>
                  </a:lnTo>
                  <a:lnTo>
                    <a:pt x="4845097" y="2052146"/>
                  </a:lnTo>
                  <a:lnTo>
                    <a:pt x="4741188" y="2140469"/>
                  </a:lnTo>
                  <a:lnTo>
                    <a:pt x="4730797" y="2249573"/>
                  </a:lnTo>
                  <a:lnTo>
                    <a:pt x="4756774" y="2306723"/>
                  </a:lnTo>
                  <a:lnTo>
                    <a:pt x="4725602" y="2337896"/>
                  </a:lnTo>
                  <a:lnTo>
                    <a:pt x="4715211" y="2259964"/>
                  </a:lnTo>
                  <a:lnTo>
                    <a:pt x="4668452" y="2296332"/>
                  </a:lnTo>
                  <a:lnTo>
                    <a:pt x="4652865" y="2265159"/>
                  </a:lnTo>
                  <a:lnTo>
                    <a:pt x="4616497" y="2192423"/>
                  </a:lnTo>
                  <a:lnTo>
                    <a:pt x="4569738" y="2067732"/>
                  </a:lnTo>
                  <a:lnTo>
                    <a:pt x="4517784" y="2036559"/>
                  </a:lnTo>
                  <a:lnTo>
                    <a:pt x="4502197" y="1984605"/>
                  </a:lnTo>
                  <a:lnTo>
                    <a:pt x="4497002" y="1984605"/>
                  </a:lnTo>
                  <a:lnTo>
                    <a:pt x="4476220" y="1953432"/>
                  </a:lnTo>
                  <a:lnTo>
                    <a:pt x="4356724" y="1948237"/>
                  </a:lnTo>
                  <a:lnTo>
                    <a:pt x="4309965" y="1948237"/>
                  </a:lnTo>
                  <a:lnTo>
                    <a:pt x="4263206" y="1922259"/>
                  </a:lnTo>
                  <a:lnTo>
                    <a:pt x="4185274" y="1870305"/>
                  </a:lnTo>
                  <a:lnTo>
                    <a:pt x="4128124" y="1844328"/>
                  </a:lnTo>
                  <a:lnTo>
                    <a:pt x="4185274" y="1932650"/>
                  </a:lnTo>
                  <a:lnTo>
                    <a:pt x="4226838" y="1969019"/>
                  </a:lnTo>
                  <a:lnTo>
                    <a:pt x="4252815" y="1932650"/>
                  </a:lnTo>
                  <a:lnTo>
                    <a:pt x="4367115" y="2010582"/>
                  </a:lnTo>
                  <a:lnTo>
                    <a:pt x="4299574" y="2083319"/>
                  </a:lnTo>
                  <a:lnTo>
                    <a:pt x="4247620" y="2135273"/>
                  </a:lnTo>
                  <a:lnTo>
                    <a:pt x="4190470" y="2161250"/>
                  </a:lnTo>
                  <a:lnTo>
                    <a:pt x="4112538" y="2182032"/>
                  </a:lnTo>
                  <a:lnTo>
                    <a:pt x="4048808" y="2195689"/>
                  </a:lnTo>
                  <a:lnTo>
                    <a:pt x="4057513" y="2208746"/>
                  </a:lnTo>
                  <a:lnTo>
                    <a:pt x="4062108" y="2240911"/>
                  </a:lnTo>
                  <a:lnTo>
                    <a:pt x="4190768" y="2204151"/>
                  </a:lnTo>
                  <a:lnTo>
                    <a:pt x="4209148" y="2254696"/>
                  </a:lnTo>
                  <a:lnTo>
                    <a:pt x="4172388" y="2314431"/>
                  </a:lnTo>
                  <a:lnTo>
                    <a:pt x="4121843" y="2401735"/>
                  </a:lnTo>
                  <a:lnTo>
                    <a:pt x="4052918" y="2452280"/>
                  </a:lnTo>
                  <a:lnTo>
                    <a:pt x="4002374" y="2512015"/>
                  </a:lnTo>
                  <a:lnTo>
                    <a:pt x="3970209" y="2548774"/>
                  </a:lnTo>
                  <a:lnTo>
                    <a:pt x="3997779" y="2576344"/>
                  </a:lnTo>
                  <a:lnTo>
                    <a:pt x="3983994" y="2603914"/>
                  </a:lnTo>
                  <a:lnTo>
                    <a:pt x="4016159" y="2654459"/>
                  </a:lnTo>
                  <a:lnTo>
                    <a:pt x="4016159" y="2691219"/>
                  </a:lnTo>
                  <a:lnTo>
                    <a:pt x="4002374" y="2783118"/>
                  </a:lnTo>
                  <a:lnTo>
                    <a:pt x="3933449" y="2815283"/>
                  </a:lnTo>
                  <a:lnTo>
                    <a:pt x="3919664" y="2902587"/>
                  </a:lnTo>
                  <a:lnTo>
                    <a:pt x="3905879" y="2943942"/>
                  </a:lnTo>
                  <a:lnTo>
                    <a:pt x="3878309" y="2957727"/>
                  </a:lnTo>
                  <a:lnTo>
                    <a:pt x="3850740" y="3035842"/>
                  </a:lnTo>
                  <a:lnTo>
                    <a:pt x="3781815" y="3132336"/>
                  </a:lnTo>
                  <a:lnTo>
                    <a:pt x="3662346" y="3178286"/>
                  </a:lnTo>
                  <a:lnTo>
                    <a:pt x="3588826" y="3136931"/>
                  </a:lnTo>
                  <a:lnTo>
                    <a:pt x="3602611" y="3100171"/>
                  </a:lnTo>
                  <a:lnTo>
                    <a:pt x="3593421" y="3068007"/>
                  </a:lnTo>
                  <a:lnTo>
                    <a:pt x="3579636" y="3040437"/>
                  </a:lnTo>
                  <a:lnTo>
                    <a:pt x="3561256" y="3012867"/>
                  </a:lnTo>
                  <a:lnTo>
                    <a:pt x="3542876" y="2980702"/>
                  </a:lnTo>
                  <a:lnTo>
                    <a:pt x="3533686" y="2948537"/>
                  </a:lnTo>
                  <a:lnTo>
                    <a:pt x="3533686" y="2897993"/>
                  </a:lnTo>
                  <a:lnTo>
                    <a:pt x="3483142" y="2824473"/>
                  </a:lnTo>
                  <a:lnTo>
                    <a:pt x="3478547" y="2801498"/>
                  </a:lnTo>
                  <a:lnTo>
                    <a:pt x="3478547" y="2755548"/>
                  </a:lnTo>
                  <a:lnTo>
                    <a:pt x="3492332" y="2705004"/>
                  </a:lnTo>
                  <a:lnTo>
                    <a:pt x="3524496" y="2677434"/>
                  </a:lnTo>
                  <a:lnTo>
                    <a:pt x="3524496" y="2663649"/>
                  </a:lnTo>
                  <a:lnTo>
                    <a:pt x="3496927" y="2636079"/>
                  </a:lnTo>
                  <a:lnTo>
                    <a:pt x="3510711" y="2594724"/>
                  </a:lnTo>
                  <a:lnTo>
                    <a:pt x="3437192" y="2479850"/>
                  </a:lnTo>
                  <a:lnTo>
                    <a:pt x="3423407" y="2466065"/>
                  </a:lnTo>
                  <a:lnTo>
                    <a:pt x="3446382" y="2397140"/>
                  </a:lnTo>
                  <a:lnTo>
                    <a:pt x="3423407" y="2378760"/>
                  </a:lnTo>
                  <a:lnTo>
                    <a:pt x="3414217" y="2364975"/>
                  </a:lnTo>
                  <a:lnTo>
                    <a:pt x="3382052" y="2364975"/>
                  </a:lnTo>
                  <a:lnTo>
                    <a:pt x="3354482" y="2337406"/>
                  </a:lnTo>
                  <a:lnTo>
                    <a:pt x="3331507" y="2319026"/>
                  </a:lnTo>
                  <a:lnTo>
                    <a:pt x="3248798" y="2364975"/>
                  </a:lnTo>
                  <a:lnTo>
                    <a:pt x="3221228" y="2351190"/>
                  </a:lnTo>
                  <a:lnTo>
                    <a:pt x="3152303" y="2369570"/>
                  </a:lnTo>
                  <a:lnTo>
                    <a:pt x="3115544" y="2369570"/>
                  </a:lnTo>
                  <a:lnTo>
                    <a:pt x="3060404" y="2323621"/>
                  </a:lnTo>
                  <a:lnTo>
                    <a:pt x="3032834" y="2314431"/>
                  </a:lnTo>
                  <a:lnTo>
                    <a:pt x="3014454" y="2300646"/>
                  </a:lnTo>
                  <a:lnTo>
                    <a:pt x="3028239" y="2273076"/>
                  </a:lnTo>
                  <a:lnTo>
                    <a:pt x="2986884" y="2231721"/>
                  </a:lnTo>
                  <a:lnTo>
                    <a:pt x="2959314" y="2181176"/>
                  </a:lnTo>
                  <a:lnTo>
                    <a:pt x="2959314" y="2162797"/>
                  </a:lnTo>
                  <a:lnTo>
                    <a:pt x="2973099" y="2112252"/>
                  </a:lnTo>
                  <a:lnTo>
                    <a:pt x="2950125" y="2052517"/>
                  </a:lnTo>
                  <a:lnTo>
                    <a:pt x="3028239" y="1882503"/>
                  </a:lnTo>
                  <a:lnTo>
                    <a:pt x="3060404" y="1882503"/>
                  </a:lnTo>
                  <a:lnTo>
                    <a:pt x="3092569" y="1859528"/>
                  </a:lnTo>
                  <a:lnTo>
                    <a:pt x="3092569" y="1827363"/>
                  </a:lnTo>
                  <a:lnTo>
                    <a:pt x="3087974" y="1790604"/>
                  </a:lnTo>
                  <a:lnTo>
                    <a:pt x="3124734" y="1763034"/>
                  </a:lnTo>
                  <a:lnTo>
                    <a:pt x="3152303" y="1749249"/>
                  </a:lnTo>
                  <a:lnTo>
                    <a:pt x="3158911" y="1738236"/>
                  </a:lnTo>
                  <a:lnTo>
                    <a:pt x="3151379" y="1735223"/>
                  </a:lnTo>
                  <a:lnTo>
                    <a:pt x="3130597" y="1688464"/>
                  </a:lnTo>
                  <a:lnTo>
                    <a:pt x="3099424" y="1688464"/>
                  </a:lnTo>
                  <a:lnTo>
                    <a:pt x="3109815" y="1657291"/>
                  </a:lnTo>
                  <a:lnTo>
                    <a:pt x="3073447" y="1646900"/>
                  </a:lnTo>
                  <a:lnTo>
                    <a:pt x="3109815" y="1620923"/>
                  </a:lnTo>
                  <a:lnTo>
                    <a:pt x="3089034" y="1527405"/>
                  </a:lnTo>
                  <a:lnTo>
                    <a:pt x="3115011" y="1506623"/>
                  </a:lnTo>
                  <a:lnTo>
                    <a:pt x="3229311" y="1532600"/>
                  </a:lnTo>
                  <a:lnTo>
                    <a:pt x="3239702" y="1501428"/>
                  </a:lnTo>
                  <a:lnTo>
                    <a:pt x="3239702" y="1459864"/>
                  </a:lnTo>
                  <a:lnTo>
                    <a:pt x="3224115" y="1428691"/>
                  </a:lnTo>
                  <a:lnTo>
                    <a:pt x="3234506" y="1418300"/>
                  </a:lnTo>
                  <a:lnTo>
                    <a:pt x="3198138" y="1418300"/>
                  </a:lnTo>
                  <a:lnTo>
                    <a:pt x="3187747" y="1402714"/>
                  </a:lnTo>
                  <a:lnTo>
                    <a:pt x="3187747" y="1381932"/>
                  </a:lnTo>
                  <a:lnTo>
                    <a:pt x="3239702" y="1392323"/>
                  </a:lnTo>
                  <a:lnTo>
                    <a:pt x="3213724" y="1361150"/>
                  </a:lnTo>
                  <a:lnTo>
                    <a:pt x="3276070" y="1361150"/>
                  </a:lnTo>
                  <a:lnTo>
                    <a:pt x="3322829" y="1278023"/>
                  </a:lnTo>
                  <a:lnTo>
                    <a:pt x="3400761" y="1226069"/>
                  </a:lnTo>
                  <a:lnTo>
                    <a:pt x="3411152" y="1168919"/>
                  </a:lnTo>
                  <a:lnTo>
                    <a:pt x="3411152" y="1122159"/>
                  </a:lnTo>
                  <a:lnTo>
                    <a:pt x="3442324" y="1090987"/>
                  </a:lnTo>
                  <a:lnTo>
                    <a:pt x="3463106" y="1101378"/>
                  </a:lnTo>
                  <a:lnTo>
                    <a:pt x="3467791" y="1109811"/>
                  </a:lnTo>
                  <a:lnTo>
                    <a:pt x="3468302" y="1116964"/>
                  </a:lnTo>
                  <a:lnTo>
                    <a:pt x="3468302" y="1148137"/>
                  </a:lnTo>
                  <a:lnTo>
                    <a:pt x="3473240" y="1153898"/>
                  </a:lnTo>
                  <a:lnTo>
                    <a:pt x="3431934" y="1168919"/>
                  </a:lnTo>
                  <a:lnTo>
                    <a:pt x="3447520" y="1210482"/>
                  </a:lnTo>
                  <a:lnTo>
                    <a:pt x="3504670" y="1189700"/>
                  </a:lnTo>
                  <a:lnTo>
                    <a:pt x="3572211" y="1184505"/>
                  </a:lnTo>
                  <a:lnTo>
                    <a:pt x="3639752" y="1184505"/>
                  </a:lnTo>
                  <a:lnTo>
                    <a:pt x="3655338" y="1090987"/>
                  </a:lnTo>
                  <a:lnTo>
                    <a:pt x="3712488" y="1106573"/>
                  </a:lnTo>
                  <a:lnTo>
                    <a:pt x="3707293" y="1059814"/>
                  </a:lnTo>
                  <a:lnTo>
                    <a:pt x="3655338" y="1075400"/>
                  </a:lnTo>
                  <a:lnTo>
                    <a:pt x="3676120" y="1023446"/>
                  </a:lnTo>
                  <a:lnTo>
                    <a:pt x="3790420" y="1007859"/>
                  </a:lnTo>
                  <a:lnTo>
                    <a:pt x="3806006" y="1007859"/>
                  </a:lnTo>
                  <a:lnTo>
                    <a:pt x="3780029" y="976687"/>
                  </a:lnTo>
                  <a:lnTo>
                    <a:pt x="3676120" y="1007859"/>
                  </a:lnTo>
                  <a:lnTo>
                    <a:pt x="3655338" y="971491"/>
                  </a:lnTo>
                  <a:lnTo>
                    <a:pt x="3644947" y="929928"/>
                  </a:lnTo>
                  <a:lnTo>
                    <a:pt x="3644947" y="903950"/>
                  </a:lnTo>
                  <a:lnTo>
                    <a:pt x="3655338" y="883169"/>
                  </a:lnTo>
                  <a:lnTo>
                    <a:pt x="3696902" y="820823"/>
                  </a:lnTo>
                  <a:lnTo>
                    <a:pt x="3722879" y="768869"/>
                  </a:lnTo>
                  <a:lnTo>
                    <a:pt x="3676120" y="763673"/>
                  </a:lnTo>
                  <a:lnTo>
                    <a:pt x="3660534" y="800041"/>
                  </a:lnTo>
                  <a:lnTo>
                    <a:pt x="3639752" y="831214"/>
                  </a:lnTo>
                  <a:lnTo>
                    <a:pt x="3598188" y="862387"/>
                  </a:lnTo>
                  <a:lnTo>
                    <a:pt x="3598188" y="976687"/>
                  </a:lnTo>
                  <a:lnTo>
                    <a:pt x="3608579" y="1018250"/>
                  </a:lnTo>
                  <a:lnTo>
                    <a:pt x="3577406" y="1049423"/>
                  </a:lnTo>
                  <a:lnTo>
                    <a:pt x="3572211" y="1111769"/>
                  </a:lnTo>
                  <a:lnTo>
                    <a:pt x="3546234" y="1148137"/>
                  </a:lnTo>
                  <a:lnTo>
                    <a:pt x="3499474" y="1184505"/>
                  </a:lnTo>
                  <a:lnTo>
                    <a:pt x="3473240" y="1153898"/>
                  </a:lnTo>
                  <a:lnTo>
                    <a:pt x="3489084" y="1148137"/>
                  </a:lnTo>
                  <a:lnTo>
                    <a:pt x="3467791" y="1109811"/>
                  </a:lnTo>
                  <a:lnTo>
                    <a:pt x="3463106" y="1044228"/>
                  </a:lnTo>
                  <a:lnTo>
                    <a:pt x="3390370" y="1101378"/>
                  </a:lnTo>
                  <a:lnTo>
                    <a:pt x="3338415" y="1065009"/>
                  </a:lnTo>
                  <a:lnTo>
                    <a:pt x="3348806" y="1018250"/>
                  </a:lnTo>
                  <a:lnTo>
                    <a:pt x="3348806" y="940319"/>
                  </a:lnTo>
                  <a:lnTo>
                    <a:pt x="3354002" y="914341"/>
                  </a:lnTo>
                  <a:lnTo>
                    <a:pt x="3379979" y="857191"/>
                  </a:lnTo>
                  <a:lnTo>
                    <a:pt x="3421543" y="862387"/>
                  </a:lnTo>
                  <a:lnTo>
                    <a:pt x="3494279" y="779259"/>
                  </a:lnTo>
                  <a:lnTo>
                    <a:pt x="3489084" y="737696"/>
                  </a:lnTo>
                  <a:lnTo>
                    <a:pt x="3535843" y="701328"/>
                  </a:lnTo>
                  <a:lnTo>
                    <a:pt x="3473497" y="685741"/>
                  </a:lnTo>
                  <a:lnTo>
                    <a:pt x="3541038" y="644178"/>
                  </a:lnTo>
                  <a:lnTo>
                    <a:pt x="3603384" y="607809"/>
                  </a:lnTo>
                  <a:lnTo>
                    <a:pt x="3655338" y="597419"/>
                  </a:lnTo>
                  <a:lnTo>
                    <a:pt x="3748856" y="576637"/>
                  </a:lnTo>
                  <a:lnTo>
                    <a:pt x="3837179" y="592223"/>
                  </a:lnTo>
                  <a:lnTo>
                    <a:pt x="3806006" y="623396"/>
                  </a:lnTo>
                  <a:lnTo>
                    <a:pt x="3857961" y="618200"/>
                  </a:lnTo>
                  <a:lnTo>
                    <a:pt x="4034606" y="685741"/>
                  </a:lnTo>
                  <a:lnTo>
                    <a:pt x="3956674" y="763673"/>
                  </a:lnTo>
                  <a:lnTo>
                    <a:pt x="3857961" y="690937"/>
                  </a:lnTo>
                  <a:lnTo>
                    <a:pt x="3904720" y="779259"/>
                  </a:lnTo>
                  <a:lnTo>
                    <a:pt x="3904720" y="836409"/>
                  </a:lnTo>
                  <a:lnTo>
                    <a:pt x="3920306" y="836409"/>
                  </a:lnTo>
                  <a:lnTo>
                    <a:pt x="3946284" y="784455"/>
                  </a:lnTo>
                  <a:lnTo>
                    <a:pt x="3972261" y="815628"/>
                  </a:lnTo>
                  <a:lnTo>
                    <a:pt x="3972261" y="784455"/>
                  </a:lnTo>
                  <a:lnTo>
                    <a:pt x="3972261" y="763673"/>
                  </a:lnTo>
                  <a:lnTo>
                    <a:pt x="4039802" y="716914"/>
                  </a:lnTo>
                  <a:lnTo>
                    <a:pt x="4060584" y="716914"/>
                  </a:lnTo>
                  <a:lnTo>
                    <a:pt x="4060584" y="685741"/>
                  </a:lnTo>
                  <a:lnTo>
                    <a:pt x="4050193" y="649373"/>
                  </a:lnTo>
                  <a:lnTo>
                    <a:pt x="4112538" y="690937"/>
                  </a:lnTo>
                  <a:lnTo>
                    <a:pt x="4096952" y="711719"/>
                  </a:lnTo>
                  <a:lnTo>
                    <a:pt x="4242424" y="644178"/>
                  </a:lnTo>
                  <a:lnTo>
                    <a:pt x="4315161" y="659764"/>
                  </a:lnTo>
                  <a:lnTo>
                    <a:pt x="4346334" y="644178"/>
                  </a:lnTo>
                  <a:lnTo>
                    <a:pt x="4309965" y="618200"/>
                  </a:lnTo>
                  <a:lnTo>
                    <a:pt x="4335943" y="597419"/>
                  </a:lnTo>
                  <a:lnTo>
                    <a:pt x="4517784" y="664959"/>
                  </a:lnTo>
                  <a:lnTo>
                    <a:pt x="4471024" y="628591"/>
                  </a:lnTo>
                  <a:lnTo>
                    <a:pt x="4471024" y="581832"/>
                  </a:lnTo>
                  <a:lnTo>
                    <a:pt x="4528174" y="545464"/>
                  </a:lnTo>
                  <a:lnTo>
                    <a:pt x="4538565" y="488314"/>
                  </a:lnTo>
                  <a:lnTo>
                    <a:pt x="4590520" y="514291"/>
                  </a:lnTo>
                  <a:lnTo>
                    <a:pt x="4595715" y="550659"/>
                  </a:lnTo>
                  <a:lnTo>
                    <a:pt x="4616497" y="519487"/>
                  </a:lnTo>
                  <a:lnTo>
                    <a:pt x="4611302" y="498705"/>
                  </a:lnTo>
                  <a:lnTo>
                    <a:pt x="4652865" y="472728"/>
                  </a:lnTo>
                  <a:lnTo>
                    <a:pt x="4704820" y="509096"/>
                  </a:lnTo>
                  <a:lnTo>
                    <a:pt x="4751579" y="483119"/>
                  </a:lnTo>
                  <a:lnTo>
                    <a:pt x="4839902" y="477923"/>
                  </a:lnTo>
                  <a:lnTo>
                    <a:pt x="4808729" y="441555"/>
                  </a:lnTo>
                  <a:lnTo>
                    <a:pt x="4839902" y="405187"/>
                  </a:lnTo>
                  <a:lnTo>
                    <a:pt x="4923029" y="389600"/>
                  </a:lnTo>
                  <a:lnTo>
                    <a:pt x="4969788" y="363623"/>
                  </a:lnTo>
                  <a:lnTo>
                    <a:pt x="5032134" y="379209"/>
                  </a:lnTo>
                  <a:lnTo>
                    <a:pt x="5136043" y="342841"/>
                  </a:lnTo>
                  <a:close/>
                  <a:moveTo>
                    <a:pt x="1871146" y="51350"/>
                  </a:moveTo>
                  <a:lnTo>
                    <a:pt x="1926902" y="62501"/>
                  </a:lnTo>
                  <a:lnTo>
                    <a:pt x="1971507" y="62501"/>
                  </a:lnTo>
                  <a:lnTo>
                    <a:pt x="2060717" y="62501"/>
                  </a:lnTo>
                  <a:lnTo>
                    <a:pt x="2116473" y="84803"/>
                  </a:lnTo>
                  <a:lnTo>
                    <a:pt x="2172229" y="95954"/>
                  </a:lnTo>
                  <a:lnTo>
                    <a:pt x="1971507" y="240920"/>
                  </a:lnTo>
                  <a:lnTo>
                    <a:pt x="1915751" y="263223"/>
                  </a:lnTo>
                  <a:lnTo>
                    <a:pt x="1893448" y="330130"/>
                  </a:lnTo>
                  <a:lnTo>
                    <a:pt x="1871146" y="330130"/>
                  </a:lnTo>
                  <a:lnTo>
                    <a:pt x="1826541" y="352432"/>
                  </a:lnTo>
                  <a:lnTo>
                    <a:pt x="1882297" y="374735"/>
                  </a:lnTo>
                  <a:lnTo>
                    <a:pt x="1781936" y="397037"/>
                  </a:lnTo>
                  <a:lnTo>
                    <a:pt x="1837692" y="441642"/>
                  </a:lnTo>
                  <a:lnTo>
                    <a:pt x="1793087" y="452793"/>
                  </a:lnTo>
                  <a:lnTo>
                    <a:pt x="1670424" y="463945"/>
                  </a:lnTo>
                  <a:lnTo>
                    <a:pt x="1859995" y="486247"/>
                  </a:lnTo>
                  <a:lnTo>
                    <a:pt x="1915751" y="542003"/>
                  </a:lnTo>
                  <a:lnTo>
                    <a:pt x="2016112" y="564306"/>
                  </a:lnTo>
                  <a:lnTo>
                    <a:pt x="2049565" y="675819"/>
                  </a:lnTo>
                  <a:lnTo>
                    <a:pt x="2183380" y="731574"/>
                  </a:lnTo>
                  <a:lnTo>
                    <a:pt x="2116473" y="787330"/>
                  </a:lnTo>
                  <a:lnTo>
                    <a:pt x="2116473" y="831935"/>
                  </a:lnTo>
                  <a:lnTo>
                    <a:pt x="2083019" y="798481"/>
                  </a:lnTo>
                  <a:lnTo>
                    <a:pt x="2071868" y="776179"/>
                  </a:lnTo>
                  <a:lnTo>
                    <a:pt x="2038414" y="798481"/>
                  </a:lnTo>
                  <a:lnTo>
                    <a:pt x="2127624" y="865389"/>
                  </a:lnTo>
                  <a:lnTo>
                    <a:pt x="2083019" y="932296"/>
                  </a:lnTo>
                  <a:lnTo>
                    <a:pt x="2027263" y="887691"/>
                  </a:lnTo>
                  <a:lnTo>
                    <a:pt x="2071868" y="932296"/>
                  </a:lnTo>
                  <a:lnTo>
                    <a:pt x="2016112" y="965750"/>
                  </a:lnTo>
                  <a:lnTo>
                    <a:pt x="1995668" y="949023"/>
                  </a:lnTo>
                  <a:lnTo>
                    <a:pt x="1993809" y="943447"/>
                  </a:lnTo>
                  <a:lnTo>
                    <a:pt x="1975222" y="932295"/>
                  </a:lnTo>
                  <a:lnTo>
                    <a:pt x="1893448" y="865389"/>
                  </a:lnTo>
                  <a:lnTo>
                    <a:pt x="1859995" y="843086"/>
                  </a:lnTo>
                  <a:lnTo>
                    <a:pt x="1893448" y="753876"/>
                  </a:lnTo>
                  <a:lnTo>
                    <a:pt x="1915751" y="709271"/>
                  </a:lnTo>
                  <a:lnTo>
                    <a:pt x="1893448" y="675819"/>
                  </a:lnTo>
                  <a:lnTo>
                    <a:pt x="1837692" y="642364"/>
                  </a:lnTo>
                  <a:lnTo>
                    <a:pt x="1815390" y="664667"/>
                  </a:lnTo>
                  <a:lnTo>
                    <a:pt x="1815390" y="709271"/>
                  </a:lnTo>
                  <a:lnTo>
                    <a:pt x="1759634" y="742725"/>
                  </a:lnTo>
                  <a:lnTo>
                    <a:pt x="1759634" y="753876"/>
                  </a:lnTo>
                  <a:lnTo>
                    <a:pt x="1804239" y="831935"/>
                  </a:lnTo>
                  <a:lnTo>
                    <a:pt x="1793087" y="887691"/>
                  </a:lnTo>
                  <a:lnTo>
                    <a:pt x="1748483" y="865389"/>
                  </a:lnTo>
                  <a:lnTo>
                    <a:pt x="1715029" y="898842"/>
                  </a:lnTo>
                  <a:lnTo>
                    <a:pt x="1670424" y="854237"/>
                  </a:lnTo>
                  <a:lnTo>
                    <a:pt x="1614668" y="898842"/>
                  </a:lnTo>
                  <a:lnTo>
                    <a:pt x="1581214" y="999203"/>
                  </a:lnTo>
                  <a:lnTo>
                    <a:pt x="1570063" y="1077262"/>
                  </a:lnTo>
                  <a:lnTo>
                    <a:pt x="1636970" y="1110715"/>
                  </a:lnTo>
                  <a:lnTo>
                    <a:pt x="1737331" y="1177623"/>
                  </a:lnTo>
                  <a:lnTo>
                    <a:pt x="1815390" y="1289135"/>
                  </a:lnTo>
                  <a:lnTo>
                    <a:pt x="1837692" y="1300286"/>
                  </a:lnTo>
                  <a:lnTo>
                    <a:pt x="1804239" y="1188774"/>
                  </a:lnTo>
                  <a:lnTo>
                    <a:pt x="1882297" y="1133018"/>
                  </a:lnTo>
                  <a:lnTo>
                    <a:pt x="1871146" y="1099564"/>
                  </a:lnTo>
                  <a:lnTo>
                    <a:pt x="1815390" y="1088413"/>
                  </a:lnTo>
                  <a:lnTo>
                    <a:pt x="1826541" y="1010354"/>
                  </a:lnTo>
                  <a:lnTo>
                    <a:pt x="1837692" y="999203"/>
                  </a:lnTo>
                  <a:lnTo>
                    <a:pt x="1826541" y="965750"/>
                  </a:lnTo>
                  <a:lnTo>
                    <a:pt x="1826541" y="909993"/>
                  </a:lnTo>
                  <a:lnTo>
                    <a:pt x="1848844" y="887691"/>
                  </a:lnTo>
                  <a:lnTo>
                    <a:pt x="1938053" y="909993"/>
                  </a:lnTo>
                  <a:lnTo>
                    <a:pt x="1975222" y="932295"/>
                  </a:lnTo>
                  <a:lnTo>
                    <a:pt x="1995668" y="949023"/>
                  </a:lnTo>
                  <a:lnTo>
                    <a:pt x="2004961" y="976901"/>
                  </a:lnTo>
                  <a:lnTo>
                    <a:pt x="2016112" y="1054959"/>
                  </a:lnTo>
                  <a:lnTo>
                    <a:pt x="2094170" y="1010354"/>
                  </a:lnTo>
                  <a:lnTo>
                    <a:pt x="2149926" y="1099564"/>
                  </a:lnTo>
                  <a:lnTo>
                    <a:pt x="2149926" y="1155320"/>
                  </a:lnTo>
                  <a:lnTo>
                    <a:pt x="2172229" y="1177623"/>
                  </a:lnTo>
                  <a:lnTo>
                    <a:pt x="2183380" y="1177623"/>
                  </a:lnTo>
                  <a:lnTo>
                    <a:pt x="2227985" y="1222228"/>
                  </a:lnTo>
                  <a:lnTo>
                    <a:pt x="2250287" y="1222228"/>
                  </a:lnTo>
                  <a:lnTo>
                    <a:pt x="2261439" y="1233379"/>
                  </a:lnTo>
                  <a:lnTo>
                    <a:pt x="2261439" y="1300286"/>
                  </a:lnTo>
                  <a:lnTo>
                    <a:pt x="2250287" y="1333740"/>
                  </a:lnTo>
                  <a:lnTo>
                    <a:pt x="2317195" y="1422950"/>
                  </a:lnTo>
                  <a:lnTo>
                    <a:pt x="2283741" y="1456403"/>
                  </a:lnTo>
                  <a:lnTo>
                    <a:pt x="2261439" y="1445252"/>
                  </a:lnTo>
                  <a:lnTo>
                    <a:pt x="2239136" y="1434101"/>
                  </a:lnTo>
                  <a:lnTo>
                    <a:pt x="2183380" y="1434101"/>
                  </a:lnTo>
                  <a:lnTo>
                    <a:pt x="2183380" y="1456403"/>
                  </a:lnTo>
                  <a:lnTo>
                    <a:pt x="2183380" y="1489857"/>
                  </a:lnTo>
                  <a:lnTo>
                    <a:pt x="2083019" y="1556764"/>
                  </a:lnTo>
                  <a:lnTo>
                    <a:pt x="2060717" y="1556764"/>
                  </a:lnTo>
                  <a:lnTo>
                    <a:pt x="2094170" y="1512159"/>
                  </a:lnTo>
                  <a:lnTo>
                    <a:pt x="2016112" y="1534462"/>
                  </a:lnTo>
                  <a:lnTo>
                    <a:pt x="2004961" y="1612520"/>
                  </a:lnTo>
                  <a:lnTo>
                    <a:pt x="1971507" y="1612520"/>
                  </a:lnTo>
                  <a:lnTo>
                    <a:pt x="1960356" y="1612520"/>
                  </a:lnTo>
                  <a:lnTo>
                    <a:pt x="1915751" y="1690579"/>
                  </a:lnTo>
                  <a:lnTo>
                    <a:pt x="1826541" y="1790940"/>
                  </a:lnTo>
                  <a:lnTo>
                    <a:pt x="1793087" y="1824393"/>
                  </a:lnTo>
                  <a:lnTo>
                    <a:pt x="1837692" y="1913603"/>
                  </a:lnTo>
                  <a:lnTo>
                    <a:pt x="1815390" y="1947057"/>
                  </a:lnTo>
                  <a:lnTo>
                    <a:pt x="1770785" y="1935906"/>
                  </a:lnTo>
                  <a:lnTo>
                    <a:pt x="1759634" y="1913603"/>
                  </a:lnTo>
                  <a:lnTo>
                    <a:pt x="1737331" y="1857847"/>
                  </a:lnTo>
                  <a:lnTo>
                    <a:pt x="1692726" y="1846696"/>
                  </a:lnTo>
                  <a:lnTo>
                    <a:pt x="1670424" y="1857847"/>
                  </a:lnTo>
                  <a:lnTo>
                    <a:pt x="1659273" y="1891301"/>
                  </a:lnTo>
                  <a:lnTo>
                    <a:pt x="1592365" y="1857847"/>
                  </a:lnTo>
                  <a:lnTo>
                    <a:pt x="1525458" y="1913603"/>
                  </a:lnTo>
                  <a:lnTo>
                    <a:pt x="1503156" y="1924754"/>
                  </a:lnTo>
                  <a:lnTo>
                    <a:pt x="1525458" y="1958208"/>
                  </a:lnTo>
                  <a:lnTo>
                    <a:pt x="1525458" y="2002813"/>
                  </a:lnTo>
                  <a:lnTo>
                    <a:pt x="1558912" y="2080871"/>
                  </a:lnTo>
                  <a:lnTo>
                    <a:pt x="1692726" y="2025115"/>
                  </a:lnTo>
                  <a:lnTo>
                    <a:pt x="1692726" y="2080871"/>
                  </a:lnTo>
                  <a:lnTo>
                    <a:pt x="1670424" y="2147779"/>
                  </a:lnTo>
                  <a:lnTo>
                    <a:pt x="1748483" y="2125476"/>
                  </a:lnTo>
                  <a:lnTo>
                    <a:pt x="1759634" y="2147779"/>
                  </a:lnTo>
                  <a:lnTo>
                    <a:pt x="1759634" y="2203535"/>
                  </a:lnTo>
                  <a:lnTo>
                    <a:pt x="1793087" y="2281593"/>
                  </a:lnTo>
                  <a:lnTo>
                    <a:pt x="1893448" y="2225837"/>
                  </a:lnTo>
                  <a:lnTo>
                    <a:pt x="1938053" y="2203535"/>
                  </a:lnTo>
                  <a:lnTo>
                    <a:pt x="1993809" y="2203535"/>
                  </a:lnTo>
                  <a:lnTo>
                    <a:pt x="2038414" y="2225837"/>
                  </a:lnTo>
                  <a:lnTo>
                    <a:pt x="2105322" y="2248140"/>
                  </a:lnTo>
                  <a:lnTo>
                    <a:pt x="2161078" y="2248140"/>
                  </a:lnTo>
                  <a:lnTo>
                    <a:pt x="2227985" y="2326198"/>
                  </a:lnTo>
                  <a:lnTo>
                    <a:pt x="2294892" y="2326198"/>
                  </a:lnTo>
                  <a:lnTo>
                    <a:pt x="2339497" y="2359652"/>
                  </a:lnTo>
                  <a:lnTo>
                    <a:pt x="2372951" y="2415408"/>
                  </a:lnTo>
                  <a:lnTo>
                    <a:pt x="2395253" y="2471164"/>
                  </a:lnTo>
                  <a:lnTo>
                    <a:pt x="2495614" y="2471164"/>
                  </a:lnTo>
                  <a:lnTo>
                    <a:pt x="2529068" y="2515769"/>
                  </a:lnTo>
                  <a:lnTo>
                    <a:pt x="2618278" y="2560374"/>
                  </a:lnTo>
                  <a:lnTo>
                    <a:pt x="2651731" y="2638432"/>
                  </a:lnTo>
                  <a:lnTo>
                    <a:pt x="2573673" y="2705340"/>
                  </a:lnTo>
                  <a:lnTo>
                    <a:pt x="2540219" y="2783398"/>
                  </a:lnTo>
                  <a:lnTo>
                    <a:pt x="2540219" y="2894911"/>
                  </a:lnTo>
                  <a:lnTo>
                    <a:pt x="2495614" y="2917213"/>
                  </a:lnTo>
                  <a:lnTo>
                    <a:pt x="2428707" y="2928364"/>
                  </a:lnTo>
                  <a:cubicBezTo>
                    <a:pt x="2418962" y="2951102"/>
                    <a:pt x="2396861" y="2953245"/>
                    <a:pt x="2387116" y="2975983"/>
                  </a:cubicBezTo>
                  <a:cubicBezTo>
                    <a:pt x="2367141" y="3001082"/>
                    <a:pt x="2362134" y="3106031"/>
                    <a:pt x="2333570" y="3136621"/>
                  </a:cubicBezTo>
                  <a:cubicBezTo>
                    <a:pt x="2310230" y="3167513"/>
                    <a:pt x="2250237" y="3153398"/>
                    <a:pt x="2230597" y="3157215"/>
                  </a:cubicBezTo>
                  <a:cubicBezTo>
                    <a:pt x="2209316" y="3169572"/>
                    <a:pt x="2244059" y="3199392"/>
                    <a:pt x="2234716" y="3218999"/>
                  </a:cubicBezTo>
                  <a:cubicBezTo>
                    <a:pt x="2225792" y="3231356"/>
                    <a:pt x="2203824" y="3243026"/>
                    <a:pt x="2189408" y="3251950"/>
                  </a:cubicBezTo>
                  <a:cubicBezTo>
                    <a:pt x="2174992" y="3260874"/>
                    <a:pt x="2163322" y="3267053"/>
                    <a:pt x="2148219" y="3272545"/>
                  </a:cubicBezTo>
                  <a:cubicBezTo>
                    <a:pt x="2133116" y="3278037"/>
                    <a:pt x="2148219" y="3335016"/>
                    <a:pt x="2135862" y="3342567"/>
                  </a:cubicBezTo>
                  <a:cubicBezTo>
                    <a:pt x="2123505" y="3350118"/>
                    <a:pt x="2084375" y="3315107"/>
                    <a:pt x="2074078" y="3317853"/>
                  </a:cubicBezTo>
                  <a:cubicBezTo>
                    <a:pt x="2063781" y="3320599"/>
                    <a:pt x="2108402" y="3327464"/>
                    <a:pt x="2111148" y="3342567"/>
                  </a:cubicBezTo>
                  <a:cubicBezTo>
                    <a:pt x="2113894" y="3357670"/>
                    <a:pt x="2080943" y="3375518"/>
                    <a:pt x="2074078" y="3391994"/>
                  </a:cubicBezTo>
                  <a:cubicBezTo>
                    <a:pt x="2067213" y="3408470"/>
                    <a:pt x="2045246" y="3423572"/>
                    <a:pt x="2045246" y="3437302"/>
                  </a:cubicBezTo>
                  <a:cubicBezTo>
                    <a:pt x="2045246" y="3451032"/>
                    <a:pt x="2083002" y="3449659"/>
                    <a:pt x="2074078" y="3474372"/>
                  </a:cubicBezTo>
                  <a:cubicBezTo>
                    <a:pt x="2064467" y="3507323"/>
                    <a:pt x="2009966" y="3553620"/>
                    <a:pt x="2016413" y="3589702"/>
                  </a:cubicBezTo>
                  <a:cubicBezTo>
                    <a:pt x="2019427" y="3636082"/>
                    <a:pt x="2107684" y="3663022"/>
                    <a:pt x="2108639" y="3682629"/>
                  </a:cubicBezTo>
                  <a:lnTo>
                    <a:pt x="2095577" y="3679615"/>
                  </a:lnTo>
                  <a:cubicBezTo>
                    <a:pt x="2063697" y="3671612"/>
                    <a:pt x="2031818" y="3700678"/>
                    <a:pt x="1999938" y="3692675"/>
                  </a:cubicBezTo>
                  <a:lnTo>
                    <a:pt x="1926902" y="3642042"/>
                  </a:lnTo>
                  <a:lnTo>
                    <a:pt x="1871146" y="3586286"/>
                  </a:lnTo>
                  <a:lnTo>
                    <a:pt x="1859995" y="3552832"/>
                  </a:lnTo>
                  <a:lnTo>
                    <a:pt x="1859995" y="3519379"/>
                  </a:lnTo>
                  <a:lnTo>
                    <a:pt x="1871146" y="3485925"/>
                  </a:lnTo>
                  <a:lnTo>
                    <a:pt x="1882297" y="3474774"/>
                  </a:lnTo>
                  <a:lnTo>
                    <a:pt x="1859995" y="3474774"/>
                  </a:lnTo>
                  <a:lnTo>
                    <a:pt x="1859995" y="3441320"/>
                  </a:lnTo>
                  <a:lnTo>
                    <a:pt x="1893448" y="3407867"/>
                  </a:lnTo>
                  <a:lnTo>
                    <a:pt x="1893448" y="3363262"/>
                  </a:lnTo>
                  <a:lnTo>
                    <a:pt x="1893448" y="3352111"/>
                  </a:lnTo>
                  <a:lnTo>
                    <a:pt x="1893448" y="3285203"/>
                  </a:lnTo>
                  <a:lnTo>
                    <a:pt x="1915751" y="3251750"/>
                  </a:lnTo>
                  <a:lnTo>
                    <a:pt x="1893448" y="3218296"/>
                  </a:lnTo>
                  <a:lnTo>
                    <a:pt x="1960356" y="3117935"/>
                  </a:lnTo>
                  <a:lnTo>
                    <a:pt x="1960356" y="3039876"/>
                  </a:lnTo>
                  <a:lnTo>
                    <a:pt x="1960356" y="2861457"/>
                  </a:lnTo>
                  <a:lnTo>
                    <a:pt x="1960356" y="2816852"/>
                  </a:lnTo>
                  <a:lnTo>
                    <a:pt x="1949204" y="2794550"/>
                  </a:lnTo>
                  <a:lnTo>
                    <a:pt x="1893448" y="2749945"/>
                  </a:lnTo>
                  <a:lnTo>
                    <a:pt x="1837692" y="2705340"/>
                  </a:lnTo>
                  <a:lnTo>
                    <a:pt x="1848844" y="2671886"/>
                  </a:lnTo>
                  <a:lnTo>
                    <a:pt x="1815390" y="2604979"/>
                  </a:lnTo>
                  <a:lnTo>
                    <a:pt x="1781936" y="2571525"/>
                  </a:lnTo>
                  <a:lnTo>
                    <a:pt x="1759634" y="2538071"/>
                  </a:lnTo>
                  <a:lnTo>
                    <a:pt x="1793087" y="2515769"/>
                  </a:lnTo>
                  <a:lnTo>
                    <a:pt x="1793087" y="2471164"/>
                  </a:lnTo>
                  <a:lnTo>
                    <a:pt x="1793087" y="2415408"/>
                  </a:lnTo>
                  <a:lnTo>
                    <a:pt x="1848844" y="2404257"/>
                  </a:lnTo>
                  <a:lnTo>
                    <a:pt x="1848844" y="2370803"/>
                  </a:lnTo>
                  <a:lnTo>
                    <a:pt x="1848844" y="2281593"/>
                  </a:lnTo>
                  <a:lnTo>
                    <a:pt x="1793087" y="2315047"/>
                  </a:lnTo>
                  <a:lnTo>
                    <a:pt x="1703878" y="2270442"/>
                  </a:lnTo>
                  <a:lnTo>
                    <a:pt x="1681575" y="2203535"/>
                  </a:lnTo>
                  <a:lnTo>
                    <a:pt x="1670424" y="2192384"/>
                  </a:lnTo>
                  <a:lnTo>
                    <a:pt x="1614668" y="2181232"/>
                  </a:lnTo>
                  <a:lnTo>
                    <a:pt x="1558912" y="2147779"/>
                  </a:lnTo>
                  <a:lnTo>
                    <a:pt x="1492004" y="2158930"/>
                  </a:lnTo>
                  <a:lnTo>
                    <a:pt x="1347039" y="2058569"/>
                  </a:lnTo>
                  <a:lnTo>
                    <a:pt x="1347039" y="2025115"/>
                  </a:lnTo>
                  <a:lnTo>
                    <a:pt x="1157468" y="1813242"/>
                  </a:lnTo>
                  <a:lnTo>
                    <a:pt x="1291283" y="2002813"/>
                  </a:lnTo>
                  <a:lnTo>
                    <a:pt x="1257829" y="2002813"/>
                  </a:lnTo>
                  <a:lnTo>
                    <a:pt x="1168619" y="1913603"/>
                  </a:lnTo>
                  <a:lnTo>
                    <a:pt x="1179770" y="1880150"/>
                  </a:lnTo>
                  <a:lnTo>
                    <a:pt x="1146317" y="1846696"/>
                  </a:lnTo>
                  <a:lnTo>
                    <a:pt x="1090561" y="1779789"/>
                  </a:lnTo>
                  <a:lnTo>
                    <a:pt x="1001351" y="1668276"/>
                  </a:lnTo>
                  <a:lnTo>
                    <a:pt x="1023653" y="1645974"/>
                  </a:lnTo>
                  <a:lnTo>
                    <a:pt x="1023653" y="1612520"/>
                  </a:lnTo>
                  <a:lnTo>
                    <a:pt x="1012502" y="1501008"/>
                  </a:lnTo>
                  <a:lnTo>
                    <a:pt x="1001351" y="1467554"/>
                  </a:lnTo>
                  <a:lnTo>
                    <a:pt x="1023653" y="1434101"/>
                  </a:lnTo>
                  <a:lnTo>
                    <a:pt x="979048" y="1378345"/>
                  </a:lnTo>
                  <a:lnTo>
                    <a:pt x="945595" y="1356042"/>
                  </a:lnTo>
                  <a:lnTo>
                    <a:pt x="934444" y="1344891"/>
                  </a:lnTo>
                  <a:lnTo>
                    <a:pt x="923292" y="1333740"/>
                  </a:lnTo>
                  <a:lnTo>
                    <a:pt x="945595" y="1322589"/>
                  </a:lnTo>
                  <a:lnTo>
                    <a:pt x="912141" y="1277984"/>
                  </a:lnTo>
                  <a:lnTo>
                    <a:pt x="900991" y="1244530"/>
                  </a:lnTo>
                  <a:lnTo>
                    <a:pt x="900991" y="1222228"/>
                  </a:lnTo>
                  <a:lnTo>
                    <a:pt x="867536" y="1244530"/>
                  </a:lnTo>
                  <a:lnTo>
                    <a:pt x="912141" y="1311437"/>
                  </a:lnTo>
                  <a:lnTo>
                    <a:pt x="867536" y="1300286"/>
                  </a:lnTo>
                  <a:lnTo>
                    <a:pt x="845234" y="1233379"/>
                  </a:lnTo>
                  <a:lnTo>
                    <a:pt x="834083" y="1188774"/>
                  </a:lnTo>
                  <a:lnTo>
                    <a:pt x="800629" y="1133018"/>
                  </a:lnTo>
                  <a:lnTo>
                    <a:pt x="767175" y="1066111"/>
                  </a:lnTo>
                  <a:lnTo>
                    <a:pt x="722570" y="1043808"/>
                  </a:lnTo>
                  <a:lnTo>
                    <a:pt x="689117" y="1032657"/>
                  </a:lnTo>
                  <a:lnTo>
                    <a:pt x="644512" y="1032657"/>
                  </a:lnTo>
                  <a:lnTo>
                    <a:pt x="633361" y="1021506"/>
                  </a:lnTo>
                  <a:lnTo>
                    <a:pt x="577604" y="1032657"/>
                  </a:lnTo>
                  <a:lnTo>
                    <a:pt x="499546" y="1043808"/>
                  </a:lnTo>
                  <a:lnTo>
                    <a:pt x="488395" y="1133018"/>
                  </a:lnTo>
                  <a:lnTo>
                    <a:pt x="432640" y="1121867"/>
                  </a:lnTo>
                  <a:lnTo>
                    <a:pt x="365731" y="1199925"/>
                  </a:lnTo>
                  <a:lnTo>
                    <a:pt x="209614" y="1255681"/>
                  </a:lnTo>
                  <a:lnTo>
                    <a:pt x="176162" y="1255681"/>
                  </a:lnTo>
                  <a:lnTo>
                    <a:pt x="187312" y="1222228"/>
                  </a:lnTo>
                  <a:lnTo>
                    <a:pt x="231917" y="1211076"/>
                  </a:lnTo>
                  <a:lnTo>
                    <a:pt x="343429" y="1133018"/>
                  </a:lnTo>
                  <a:lnTo>
                    <a:pt x="376883" y="1088413"/>
                  </a:lnTo>
                  <a:lnTo>
                    <a:pt x="376883" y="1043808"/>
                  </a:lnTo>
                  <a:lnTo>
                    <a:pt x="309975" y="1054959"/>
                  </a:lnTo>
                  <a:lnTo>
                    <a:pt x="287674" y="1032657"/>
                  </a:lnTo>
                  <a:lnTo>
                    <a:pt x="265370" y="1021506"/>
                  </a:lnTo>
                  <a:lnTo>
                    <a:pt x="165009" y="1043808"/>
                  </a:lnTo>
                  <a:lnTo>
                    <a:pt x="187312" y="1010354"/>
                  </a:lnTo>
                  <a:lnTo>
                    <a:pt x="265370" y="976901"/>
                  </a:lnTo>
                  <a:lnTo>
                    <a:pt x="231917" y="954598"/>
                  </a:lnTo>
                  <a:lnTo>
                    <a:pt x="254219" y="898842"/>
                  </a:lnTo>
                  <a:lnTo>
                    <a:pt x="287674" y="876540"/>
                  </a:lnTo>
                  <a:lnTo>
                    <a:pt x="332278" y="843086"/>
                  </a:lnTo>
                  <a:lnTo>
                    <a:pt x="321126" y="831935"/>
                  </a:lnTo>
                  <a:lnTo>
                    <a:pt x="298824" y="831935"/>
                  </a:lnTo>
                  <a:lnTo>
                    <a:pt x="265370" y="854237"/>
                  </a:lnTo>
                  <a:lnTo>
                    <a:pt x="220765" y="843086"/>
                  </a:lnTo>
                  <a:lnTo>
                    <a:pt x="220765" y="831935"/>
                  </a:lnTo>
                  <a:lnTo>
                    <a:pt x="220765" y="809632"/>
                  </a:lnTo>
                  <a:lnTo>
                    <a:pt x="187312" y="765028"/>
                  </a:lnTo>
                  <a:lnTo>
                    <a:pt x="254219" y="731574"/>
                  </a:lnTo>
                  <a:lnTo>
                    <a:pt x="309975" y="776179"/>
                  </a:lnTo>
                  <a:lnTo>
                    <a:pt x="332278" y="753876"/>
                  </a:lnTo>
                  <a:lnTo>
                    <a:pt x="231917" y="686969"/>
                  </a:lnTo>
                  <a:lnTo>
                    <a:pt x="265370" y="653515"/>
                  </a:lnTo>
                  <a:lnTo>
                    <a:pt x="298824" y="620062"/>
                  </a:lnTo>
                  <a:lnTo>
                    <a:pt x="410336" y="564306"/>
                  </a:lnTo>
                  <a:lnTo>
                    <a:pt x="521848" y="620062"/>
                  </a:lnTo>
                  <a:lnTo>
                    <a:pt x="533000" y="597759"/>
                  </a:lnTo>
                  <a:lnTo>
                    <a:pt x="599907" y="620062"/>
                  </a:lnTo>
                  <a:lnTo>
                    <a:pt x="666814" y="620062"/>
                  </a:lnTo>
                  <a:lnTo>
                    <a:pt x="778326" y="631213"/>
                  </a:lnTo>
                  <a:lnTo>
                    <a:pt x="923292" y="608911"/>
                  </a:lnTo>
                  <a:lnTo>
                    <a:pt x="934444" y="597759"/>
                  </a:lnTo>
                  <a:lnTo>
                    <a:pt x="979048" y="631213"/>
                  </a:lnTo>
                  <a:lnTo>
                    <a:pt x="1012502" y="608911"/>
                  </a:lnTo>
                  <a:lnTo>
                    <a:pt x="1045956" y="642364"/>
                  </a:lnTo>
                  <a:lnTo>
                    <a:pt x="1090561" y="631213"/>
                  </a:lnTo>
                  <a:lnTo>
                    <a:pt x="1124014" y="642364"/>
                  </a:lnTo>
                  <a:lnTo>
                    <a:pt x="1124014" y="553154"/>
                  </a:lnTo>
                  <a:lnTo>
                    <a:pt x="1045956" y="597759"/>
                  </a:lnTo>
                  <a:lnTo>
                    <a:pt x="967897" y="564306"/>
                  </a:lnTo>
                  <a:lnTo>
                    <a:pt x="1001351" y="475096"/>
                  </a:lnTo>
                  <a:lnTo>
                    <a:pt x="1001351" y="452793"/>
                  </a:lnTo>
                  <a:lnTo>
                    <a:pt x="1045956" y="430491"/>
                  </a:lnTo>
                  <a:lnTo>
                    <a:pt x="1168619" y="475096"/>
                  </a:lnTo>
                  <a:lnTo>
                    <a:pt x="1202073" y="508550"/>
                  </a:lnTo>
                  <a:lnTo>
                    <a:pt x="1224375" y="519701"/>
                  </a:lnTo>
                  <a:lnTo>
                    <a:pt x="1268980" y="508550"/>
                  </a:lnTo>
                  <a:lnTo>
                    <a:pt x="1313585" y="497398"/>
                  </a:lnTo>
                  <a:lnTo>
                    <a:pt x="1335888" y="486247"/>
                  </a:lnTo>
                  <a:lnTo>
                    <a:pt x="1402795" y="497398"/>
                  </a:lnTo>
                  <a:lnTo>
                    <a:pt x="1369341" y="553154"/>
                  </a:lnTo>
                  <a:lnTo>
                    <a:pt x="1413946" y="597759"/>
                  </a:lnTo>
                  <a:lnTo>
                    <a:pt x="1436248" y="620062"/>
                  </a:lnTo>
                  <a:lnTo>
                    <a:pt x="1469702" y="620062"/>
                  </a:lnTo>
                  <a:lnTo>
                    <a:pt x="1469702" y="586608"/>
                  </a:lnTo>
                  <a:lnTo>
                    <a:pt x="1413946" y="553154"/>
                  </a:lnTo>
                  <a:lnTo>
                    <a:pt x="1413946" y="519701"/>
                  </a:lnTo>
                  <a:lnTo>
                    <a:pt x="1447401" y="497398"/>
                  </a:lnTo>
                  <a:lnTo>
                    <a:pt x="1458551" y="475096"/>
                  </a:lnTo>
                  <a:lnTo>
                    <a:pt x="1480853" y="475096"/>
                  </a:lnTo>
                  <a:lnTo>
                    <a:pt x="1492004" y="475096"/>
                  </a:lnTo>
                  <a:lnTo>
                    <a:pt x="1514307" y="486247"/>
                  </a:lnTo>
                  <a:lnTo>
                    <a:pt x="1536609" y="486247"/>
                  </a:lnTo>
                  <a:lnTo>
                    <a:pt x="1492004" y="441642"/>
                  </a:lnTo>
                  <a:lnTo>
                    <a:pt x="1469702" y="430491"/>
                  </a:lnTo>
                  <a:lnTo>
                    <a:pt x="1380492" y="419340"/>
                  </a:lnTo>
                  <a:lnTo>
                    <a:pt x="1324736" y="441642"/>
                  </a:lnTo>
                  <a:lnTo>
                    <a:pt x="1302434" y="452793"/>
                  </a:lnTo>
                  <a:lnTo>
                    <a:pt x="1246678" y="463945"/>
                  </a:lnTo>
                  <a:lnTo>
                    <a:pt x="1190922" y="463945"/>
                  </a:lnTo>
                  <a:lnTo>
                    <a:pt x="1157468" y="463945"/>
                  </a:lnTo>
                  <a:lnTo>
                    <a:pt x="1124014" y="430491"/>
                  </a:lnTo>
                  <a:lnTo>
                    <a:pt x="1101712" y="430491"/>
                  </a:lnTo>
                  <a:lnTo>
                    <a:pt x="1068258" y="408189"/>
                  </a:lnTo>
                  <a:lnTo>
                    <a:pt x="1034804" y="430491"/>
                  </a:lnTo>
                  <a:lnTo>
                    <a:pt x="1001351" y="397037"/>
                  </a:lnTo>
                  <a:lnTo>
                    <a:pt x="1034804" y="374735"/>
                  </a:lnTo>
                  <a:lnTo>
                    <a:pt x="1202073" y="307828"/>
                  </a:lnTo>
                  <a:lnTo>
                    <a:pt x="1257829" y="296676"/>
                  </a:lnTo>
                  <a:lnTo>
                    <a:pt x="1246678" y="352432"/>
                  </a:lnTo>
                  <a:lnTo>
                    <a:pt x="1324736" y="363584"/>
                  </a:lnTo>
                  <a:lnTo>
                    <a:pt x="1358190" y="363584"/>
                  </a:lnTo>
                  <a:lnTo>
                    <a:pt x="1358190" y="330130"/>
                  </a:lnTo>
                  <a:lnTo>
                    <a:pt x="1391644" y="352432"/>
                  </a:lnTo>
                  <a:lnTo>
                    <a:pt x="1347039" y="285525"/>
                  </a:lnTo>
                  <a:lnTo>
                    <a:pt x="1347039" y="263223"/>
                  </a:lnTo>
                  <a:lnTo>
                    <a:pt x="1369341" y="263223"/>
                  </a:lnTo>
                  <a:lnTo>
                    <a:pt x="1447401" y="296676"/>
                  </a:lnTo>
                  <a:lnTo>
                    <a:pt x="1458551" y="263223"/>
                  </a:lnTo>
                  <a:lnTo>
                    <a:pt x="1458551" y="229769"/>
                  </a:lnTo>
                  <a:lnTo>
                    <a:pt x="1503156" y="218618"/>
                  </a:lnTo>
                  <a:lnTo>
                    <a:pt x="1514307" y="218618"/>
                  </a:lnTo>
                  <a:lnTo>
                    <a:pt x="1558912" y="174013"/>
                  </a:lnTo>
                  <a:lnTo>
                    <a:pt x="1636970" y="129408"/>
                  </a:lnTo>
                  <a:lnTo>
                    <a:pt x="1703878" y="95954"/>
                  </a:lnTo>
                  <a:lnTo>
                    <a:pt x="1837692" y="62501"/>
                  </a:lnTo>
                  <a:close/>
                  <a:moveTo>
                    <a:pt x="2671236" y="0"/>
                  </a:moveTo>
                  <a:lnTo>
                    <a:pt x="2715228" y="12569"/>
                  </a:lnTo>
                  <a:lnTo>
                    <a:pt x="2759220" y="12569"/>
                  </a:lnTo>
                  <a:lnTo>
                    <a:pt x="2809496" y="34565"/>
                  </a:lnTo>
                  <a:lnTo>
                    <a:pt x="2831492" y="53419"/>
                  </a:lnTo>
                  <a:lnTo>
                    <a:pt x="2866057" y="62846"/>
                  </a:lnTo>
                  <a:lnTo>
                    <a:pt x="2878626" y="91126"/>
                  </a:lnTo>
                  <a:lnTo>
                    <a:pt x="2866057" y="119406"/>
                  </a:lnTo>
                  <a:lnTo>
                    <a:pt x="2853488" y="163398"/>
                  </a:lnTo>
                  <a:lnTo>
                    <a:pt x="2903764" y="135118"/>
                  </a:lnTo>
                  <a:lnTo>
                    <a:pt x="2957183" y="116264"/>
                  </a:lnTo>
                  <a:lnTo>
                    <a:pt x="3007459" y="113122"/>
                  </a:lnTo>
                  <a:lnTo>
                    <a:pt x="3045166" y="141402"/>
                  </a:lnTo>
                  <a:lnTo>
                    <a:pt x="3073447" y="157114"/>
                  </a:lnTo>
                  <a:lnTo>
                    <a:pt x="2988605" y="210532"/>
                  </a:lnTo>
                  <a:lnTo>
                    <a:pt x="2960325" y="232528"/>
                  </a:lnTo>
                  <a:lnTo>
                    <a:pt x="2932045" y="257666"/>
                  </a:lnTo>
                  <a:lnTo>
                    <a:pt x="2910049" y="248239"/>
                  </a:lnTo>
                  <a:lnTo>
                    <a:pt x="2928902" y="285947"/>
                  </a:lnTo>
                  <a:lnTo>
                    <a:pt x="2906906" y="295373"/>
                  </a:lnTo>
                  <a:lnTo>
                    <a:pt x="2897480" y="295373"/>
                  </a:lnTo>
                  <a:lnTo>
                    <a:pt x="2881768" y="314227"/>
                  </a:lnTo>
                  <a:lnTo>
                    <a:pt x="2906906" y="317369"/>
                  </a:lnTo>
                  <a:lnTo>
                    <a:pt x="2916333" y="333081"/>
                  </a:lnTo>
                  <a:lnTo>
                    <a:pt x="2935187" y="348792"/>
                  </a:lnTo>
                  <a:lnTo>
                    <a:pt x="2950898" y="326796"/>
                  </a:lnTo>
                  <a:lnTo>
                    <a:pt x="2972894" y="333081"/>
                  </a:lnTo>
                  <a:lnTo>
                    <a:pt x="2928902" y="395926"/>
                  </a:lnTo>
                  <a:lnTo>
                    <a:pt x="2960325" y="417922"/>
                  </a:lnTo>
                  <a:lnTo>
                    <a:pt x="2960325" y="446202"/>
                  </a:lnTo>
                  <a:lnTo>
                    <a:pt x="2922618" y="443060"/>
                  </a:lnTo>
                  <a:lnTo>
                    <a:pt x="2922618" y="458771"/>
                  </a:lnTo>
                  <a:lnTo>
                    <a:pt x="2913191" y="468198"/>
                  </a:lnTo>
                  <a:lnTo>
                    <a:pt x="2891195" y="471340"/>
                  </a:lnTo>
                  <a:lnTo>
                    <a:pt x="2906906" y="487052"/>
                  </a:lnTo>
                  <a:lnTo>
                    <a:pt x="2906906" y="499621"/>
                  </a:lnTo>
                  <a:lnTo>
                    <a:pt x="2894337" y="509048"/>
                  </a:lnTo>
                  <a:lnTo>
                    <a:pt x="2866057" y="512190"/>
                  </a:lnTo>
                  <a:lnTo>
                    <a:pt x="2894337" y="527901"/>
                  </a:lnTo>
                  <a:lnTo>
                    <a:pt x="2878626" y="546755"/>
                  </a:lnTo>
                  <a:lnTo>
                    <a:pt x="2856630" y="546755"/>
                  </a:lnTo>
                  <a:lnTo>
                    <a:pt x="2900622" y="587604"/>
                  </a:lnTo>
                  <a:lnTo>
                    <a:pt x="2900622" y="603316"/>
                  </a:lnTo>
                  <a:lnTo>
                    <a:pt x="2875484" y="606458"/>
                  </a:lnTo>
                  <a:lnTo>
                    <a:pt x="2859772" y="634738"/>
                  </a:lnTo>
                  <a:lnTo>
                    <a:pt x="2834634" y="659877"/>
                  </a:lnTo>
                  <a:lnTo>
                    <a:pt x="2800069" y="675588"/>
                  </a:lnTo>
                  <a:lnTo>
                    <a:pt x="2765504" y="675588"/>
                  </a:lnTo>
                  <a:lnTo>
                    <a:pt x="2756078" y="691299"/>
                  </a:lnTo>
                  <a:lnTo>
                    <a:pt x="2721513" y="681872"/>
                  </a:lnTo>
                  <a:lnTo>
                    <a:pt x="2699517" y="685015"/>
                  </a:lnTo>
                  <a:lnTo>
                    <a:pt x="2668094" y="719580"/>
                  </a:lnTo>
                  <a:lnTo>
                    <a:pt x="2642956" y="754145"/>
                  </a:lnTo>
                  <a:lnTo>
                    <a:pt x="2608391" y="776140"/>
                  </a:lnTo>
                  <a:lnTo>
                    <a:pt x="2583253" y="763571"/>
                  </a:lnTo>
                  <a:lnTo>
                    <a:pt x="2570684" y="776140"/>
                  </a:lnTo>
                  <a:lnTo>
                    <a:pt x="2561257" y="791852"/>
                  </a:lnTo>
                  <a:lnTo>
                    <a:pt x="2539261" y="798136"/>
                  </a:lnTo>
                  <a:lnTo>
                    <a:pt x="2532977" y="848413"/>
                  </a:lnTo>
                  <a:lnTo>
                    <a:pt x="2536119" y="857839"/>
                  </a:lnTo>
                  <a:lnTo>
                    <a:pt x="2507838" y="917543"/>
                  </a:lnTo>
                  <a:lnTo>
                    <a:pt x="2517265" y="955250"/>
                  </a:lnTo>
                  <a:lnTo>
                    <a:pt x="2492127" y="974103"/>
                  </a:lnTo>
                  <a:lnTo>
                    <a:pt x="2448135" y="1018095"/>
                  </a:lnTo>
                  <a:lnTo>
                    <a:pt x="2419855" y="974103"/>
                  </a:lnTo>
                  <a:lnTo>
                    <a:pt x="2401001" y="986672"/>
                  </a:lnTo>
                  <a:lnTo>
                    <a:pt x="2357010" y="942681"/>
                  </a:lnTo>
                  <a:lnTo>
                    <a:pt x="2331871" y="914400"/>
                  </a:lnTo>
                  <a:lnTo>
                    <a:pt x="2341298" y="901831"/>
                  </a:lnTo>
                  <a:lnTo>
                    <a:pt x="2316160" y="867266"/>
                  </a:lnTo>
                  <a:lnTo>
                    <a:pt x="2353867" y="826417"/>
                  </a:lnTo>
                  <a:lnTo>
                    <a:pt x="2325587" y="820132"/>
                  </a:lnTo>
                  <a:lnTo>
                    <a:pt x="2294164" y="798136"/>
                  </a:lnTo>
                  <a:lnTo>
                    <a:pt x="2300449" y="785567"/>
                  </a:lnTo>
                  <a:lnTo>
                    <a:pt x="2297306" y="763571"/>
                  </a:lnTo>
                  <a:lnTo>
                    <a:pt x="2275311" y="754145"/>
                  </a:lnTo>
                  <a:lnTo>
                    <a:pt x="2287880" y="735291"/>
                  </a:lnTo>
                  <a:lnTo>
                    <a:pt x="2256457" y="716437"/>
                  </a:lnTo>
                  <a:lnTo>
                    <a:pt x="2303591" y="685015"/>
                  </a:lnTo>
                  <a:lnTo>
                    <a:pt x="2328729" y="650450"/>
                  </a:lnTo>
                  <a:lnTo>
                    <a:pt x="2297306" y="656734"/>
                  </a:lnTo>
                  <a:lnTo>
                    <a:pt x="2250172" y="634738"/>
                  </a:lnTo>
                  <a:lnTo>
                    <a:pt x="2269026" y="593889"/>
                  </a:lnTo>
                  <a:lnTo>
                    <a:pt x="2313018" y="590747"/>
                  </a:lnTo>
                  <a:lnTo>
                    <a:pt x="2300449" y="571893"/>
                  </a:lnTo>
                  <a:lnTo>
                    <a:pt x="2256457" y="575035"/>
                  </a:lnTo>
                  <a:lnTo>
                    <a:pt x="2247030" y="571893"/>
                  </a:lnTo>
                  <a:lnTo>
                    <a:pt x="2247030" y="540470"/>
                  </a:lnTo>
                  <a:lnTo>
                    <a:pt x="2247030" y="505905"/>
                  </a:lnTo>
                  <a:lnTo>
                    <a:pt x="2231319" y="474483"/>
                  </a:lnTo>
                  <a:lnTo>
                    <a:pt x="2206181" y="421064"/>
                  </a:lnTo>
                  <a:lnTo>
                    <a:pt x="2171616" y="408495"/>
                  </a:lnTo>
                  <a:lnTo>
                    <a:pt x="2146478" y="402211"/>
                  </a:lnTo>
                  <a:lnTo>
                    <a:pt x="2115055" y="395926"/>
                  </a:lnTo>
                  <a:lnTo>
                    <a:pt x="2071063" y="395926"/>
                  </a:lnTo>
                  <a:lnTo>
                    <a:pt x="2045925" y="414780"/>
                  </a:lnTo>
                  <a:lnTo>
                    <a:pt x="2017645" y="402211"/>
                  </a:lnTo>
                  <a:lnTo>
                    <a:pt x="1992506" y="395926"/>
                  </a:lnTo>
                  <a:lnTo>
                    <a:pt x="1989364" y="383357"/>
                  </a:lnTo>
                  <a:lnTo>
                    <a:pt x="2008218" y="373930"/>
                  </a:lnTo>
                  <a:lnTo>
                    <a:pt x="1979937" y="370788"/>
                  </a:lnTo>
                  <a:lnTo>
                    <a:pt x="1954799" y="358219"/>
                  </a:lnTo>
                  <a:lnTo>
                    <a:pt x="1973653" y="345650"/>
                  </a:lnTo>
                  <a:lnTo>
                    <a:pt x="2042783" y="351934"/>
                  </a:lnTo>
                  <a:lnTo>
                    <a:pt x="1929661" y="329938"/>
                  </a:lnTo>
                  <a:lnTo>
                    <a:pt x="1929661" y="304800"/>
                  </a:lnTo>
                  <a:lnTo>
                    <a:pt x="1945372" y="289089"/>
                  </a:lnTo>
                  <a:lnTo>
                    <a:pt x="1976795" y="289089"/>
                  </a:lnTo>
                  <a:lnTo>
                    <a:pt x="2008218" y="263951"/>
                  </a:lnTo>
                  <a:lnTo>
                    <a:pt x="2061636" y="267093"/>
                  </a:lnTo>
                  <a:lnTo>
                    <a:pt x="2064779" y="248239"/>
                  </a:lnTo>
                  <a:lnTo>
                    <a:pt x="2039640" y="235670"/>
                  </a:lnTo>
                  <a:lnTo>
                    <a:pt x="2014502" y="226244"/>
                  </a:lnTo>
                  <a:lnTo>
                    <a:pt x="2121339" y="163398"/>
                  </a:lnTo>
                  <a:lnTo>
                    <a:pt x="2140193" y="169683"/>
                  </a:lnTo>
                  <a:lnTo>
                    <a:pt x="2133909" y="150829"/>
                  </a:lnTo>
                  <a:lnTo>
                    <a:pt x="2168473" y="122549"/>
                  </a:lnTo>
                  <a:lnTo>
                    <a:pt x="2203038" y="157114"/>
                  </a:lnTo>
                  <a:lnTo>
                    <a:pt x="2177900" y="113122"/>
                  </a:lnTo>
                  <a:lnTo>
                    <a:pt x="2221892" y="113122"/>
                  </a:lnTo>
                  <a:lnTo>
                    <a:pt x="2253315" y="100553"/>
                  </a:lnTo>
                  <a:lnTo>
                    <a:pt x="2294164" y="100553"/>
                  </a:lnTo>
                  <a:lnTo>
                    <a:pt x="2341298" y="135118"/>
                  </a:lnTo>
                  <a:lnTo>
                    <a:pt x="2319302" y="91126"/>
                  </a:lnTo>
                  <a:lnTo>
                    <a:pt x="2353867" y="78557"/>
                  </a:lnTo>
                  <a:lnTo>
                    <a:pt x="2444993" y="131976"/>
                  </a:lnTo>
                  <a:lnTo>
                    <a:pt x="2357010" y="65988"/>
                  </a:lnTo>
                  <a:lnTo>
                    <a:pt x="2438709" y="40850"/>
                  </a:lnTo>
                  <a:lnTo>
                    <a:pt x="2479558" y="28281"/>
                  </a:lnTo>
                  <a:lnTo>
                    <a:pt x="2501554" y="40850"/>
                  </a:lnTo>
                  <a:lnTo>
                    <a:pt x="2589537" y="6285"/>
                  </a:lnTo>
                  <a:lnTo>
                    <a:pt x="2605249" y="314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泪滴形 2"/>
            <p:cNvSpPr/>
            <p:nvPr/>
          </p:nvSpPr>
          <p:spPr>
            <a:xfrm rot="8100000">
              <a:off x="3963960" y="3013560"/>
              <a:ext cx="282240" cy="281880"/>
            </a:xfrm>
            <a:custGeom>
              <a:avLst/>
              <a:gdLst/>
              <a:ahLst/>
              <a:rect l="l" t="t" r="r" b="b"/>
              <a:pathLst>
                <a:path w="282276" h="282276">
                  <a:moveTo>
                    <a:pt x="0" y="141138"/>
                  </a:moveTo>
                  <a:cubicBezTo>
                    <a:pt x="0" y="63190"/>
                    <a:pt x="63190" y="0"/>
                    <a:pt x="141138" y="0"/>
                  </a:cubicBezTo>
                  <a:cubicBezTo>
                    <a:pt x="202774" y="0"/>
                    <a:pt x="264410" y="-14590"/>
                    <a:pt x="326047" y="-43771"/>
                  </a:cubicBezTo>
                  <a:cubicBezTo>
                    <a:pt x="296866" y="17865"/>
                    <a:pt x="282276" y="79501"/>
                    <a:pt x="282276" y="141138"/>
                  </a:cubicBezTo>
                  <a:cubicBezTo>
                    <a:pt x="282276" y="219086"/>
                    <a:pt x="219086" y="282276"/>
                    <a:pt x="141138" y="282276"/>
                  </a:cubicBezTo>
                  <a:cubicBezTo>
                    <a:pt x="63190" y="282276"/>
                    <a:pt x="0" y="219086"/>
                    <a:pt x="0" y="141138"/>
                  </a:cubicBez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泪滴形 8"/>
            <p:cNvSpPr/>
            <p:nvPr/>
          </p:nvSpPr>
          <p:spPr>
            <a:xfrm rot="8100000">
              <a:off x="6282360" y="4068000"/>
              <a:ext cx="282240" cy="281880"/>
            </a:xfrm>
            <a:custGeom>
              <a:avLst/>
              <a:gdLst/>
              <a:ahLst/>
              <a:rect l="l" t="t" r="r" b="b"/>
              <a:pathLst>
                <a:path w="282276" h="282276">
                  <a:moveTo>
                    <a:pt x="0" y="141138"/>
                  </a:moveTo>
                  <a:cubicBezTo>
                    <a:pt x="0" y="63190"/>
                    <a:pt x="63190" y="0"/>
                    <a:pt x="141138" y="0"/>
                  </a:cubicBezTo>
                  <a:cubicBezTo>
                    <a:pt x="202774" y="0"/>
                    <a:pt x="264410" y="-14590"/>
                    <a:pt x="326047" y="-43771"/>
                  </a:cubicBezTo>
                  <a:cubicBezTo>
                    <a:pt x="296866" y="17865"/>
                    <a:pt x="282276" y="79501"/>
                    <a:pt x="282276" y="141138"/>
                  </a:cubicBezTo>
                  <a:cubicBezTo>
                    <a:pt x="282276" y="219086"/>
                    <a:pt x="219086" y="282276"/>
                    <a:pt x="141138" y="282276"/>
                  </a:cubicBezTo>
                  <a:cubicBezTo>
                    <a:pt x="63190" y="282276"/>
                    <a:pt x="0" y="219086"/>
                    <a:pt x="0" y="141138"/>
                  </a:cubicBez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泪滴形 9"/>
            <p:cNvSpPr/>
            <p:nvPr/>
          </p:nvSpPr>
          <p:spPr>
            <a:xfrm rot="8100000">
              <a:off x="8305920" y="3013560"/>
              <a:ext cx="282240" cy="281880"/>
            </a:xfrm>
            <a:custGeom>
              <a:avLst/>
              <a:gdLst/>
              <a:ahLst/>
              <a:rect l="l" t="t" r="r" b="b"/>
              <a:pathLst>
                <a:path w="282276" h="282276">
                  <a:moveTo>
                    <a:pt x="0" y="141138"/>
                  </a:moveTo>
                  <a:cubicBezTo>
                    <a:pt x="0" y="63190"/>
                    <a:pt x="63190" y="0"/>
                    <a:pt x="141138" y="0"/>
                  </a:cubicBezTo>
                  <a:cubicBezTo>
                    <a:pt x="202774" y="0"/>
                    <a:pt x="264410" y="-14590"/>
                    <a:pt x="326047" y="-43771"/>
                  </a:cubicBezTo>
                  <a:cubicBezTo>
                    <a:pt x="296866" y="17865"/>
                    <a:pt x="282276" y="79501"/>
                    <a:pt x="282276" y="141138"/>
                  </a:cubicBezTo>
                  <a:cubicBezTo>
                    <a:pt x="282276" y="219086"/>
                    <a:pt x="219086" y="282276"/>
                    <a:pt x="141138" y="282276"/>
                  </a:cubicBezTo>
                  <a:cubicBezTo>
                    <a:pt x="63190" y="282276"/>
                    <a:pt x="0" y="219086"/>
                    <a:pt x="0" y="141138"/>
                  </a:cubicBez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泪滴形 10"/>
            <p:cNvSpPr/>
            <p:nvPr/>
          </p:nvSpPr>
          <p:spPr>
            <a:xfrm rot="8100000">
              <a:off x="8505360" y="4672440"/>
              <a:ext cx="282240" cy="281880"/>
            </a:xfrm>
            <a:custGeom>
              <a:avLst/>
              <a:gdLst/>
              <a:ahLst/>
              <a:rect l="l" t="t" r="r" b="b"/>
              <a:pathLst>
                <a:path w="282276" h="282276">
                  <a:moveTo>
                    <a:pt x="0" y="141138"/>
                  </a:moveTo>
                  <a:cubicBezTo>
                    <a:pt x="0" y="63190"/>
                    <a:pt x="63190" y="0"/>
                    <a:pt x="141138" y="0"/>
                  </a:cubicBezTo>
                  <a:cubicBezTo>
                    <a:pt x="202774" y="0"/>
                    <a:pt x="264410" y="-14590"/>
                    <a:pt x="326047" y="-43771"/>
                  </a:cubicBezTo>
                  <a:cubicBezTo>
                    <a:pt x="296866" y="17865"/>
                    <a:pt x="282276" y="79501"/>
                    <a:pt x="282276" y="141138"/>
                  </a:cubicBezTo>
                  <a:cubicBezTo>
                    <a:pt x="282276" y="219086"/>
                    <a:pt x="219086" y="282276"/>
                    <a:pt x="141138" y="282276"/>
                  </a:cubicBezTo>
                  <a:cubicBezTo>
                    <a:pt x="63190" y="282276"/>
                    <a:pt x="0" y="219086"/>
                    <a:pt x="0" y="141138"/>
                  </a:cubicBez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文本框 11"/>
          <p:cNvSpPr/>
          <p:nvPr/>
        </p:nvSpPr>
        <p:spPr>
          <a:xfrm>
            <a:off x="9207360" y="4583160"/>
            <a:ext cx="21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组合 20"/>
          <p:cNvGrpSpPr/>
          <p:nvPr/>
        </p:nvGrpSpPr>
        <p:grpSpPr>
          <a:xfrm>
            <a:off x="11064960" y="-7920"/>
            <a:ext cx="431640" cy="647640"/>
            <a:chOff x="11064960" y="-7920"/>
            <a:chExt cx="431640" cy="647640"/>
          </a:xfrm>
        </p:grpSpPr>
        <p:sp>
          <p:nvSpPr>
            <p:cNvPr id="400" name="任意多边形 21"/>
            <p:cNvSpPr/>
            <p:nvPr/>
          </p:nvSpPr>
          <p:spPr>
            <a:xfrm>
              <a:off x="11064960" y="413640"/>
              <a:ext cx="431640" cy="226080"/>
            </a:xfrm>
            <a:custGeom>
              <a:avLst/>
              <a:gdLst/>
              <a:ahLst/>
              <a:rect l="l" t="t" r="r" b="b"/>
              <a:pathLst>
                <a:path w="432048" h="598340">
                  <a:moveTo>
                    <a:pt x="0" y="0"/>
                  </a:moveTo>
                  <a:lnTo>
                    <a:pt x="432048" y="0"/>
                  </a:lnTo>
                  <a:lnTo>
                    <a:pt x="432048" y="598340"/>
                  </a:lnTo>
                  <a:lnTo>
                    <a:pt x="216024" y="225885"/>
                  </a:lnTo>
                  <a:lnTo>
                    <a:pt x="0" y="598340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22"/>
            <p:cNvSpPr/>
            <p:nvPr/>
          </p:nvSpPr>
          <p:spPr>
            <a:xfrm>
              <a:off x="11064960" y="-7920"/>
              <a:ext cx="431640" cy="42156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文本框 8194"/>
          <p:cNvSpPr/>
          <p:nvPr/>
        </p:nvSpPr>
        <p:spPr>
          <a:xfrm>
            <a:off x="2495520" y="907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40"/>
          <p:cNvGrpSpPr/>
          <p:nvPr/>
        </p:nvGrpSpPr>
        <p:grpSpPr>
          <a:xfrm>
            <a:off x="1331280" y="1506240"/>
            <a:ext cx="5878800" cy="4911840"/>
            <a:chOff x="1331280" y="1506240"/>
            <a:chExt cx="5878800" cy="4911840"/>
          </a:xfrm>
        </p:grpSpPr>
        <p:grpSp>
          <p:nvGrpSpPr>
            <p:cNvPr id="405" name="组合 1"/>
            <p:cNvGrpSpPr/>
            <p:nvPr/>
          </p:nvGrpSpPr>
          <p:grpSpPr>
            <a:xfrm>
              <a:off x="1331280" y="1506240"/>
              <a:ext cx="5878800" cy="4911840"/>
              <a:chOff x="1331280" y="1506240"/>
              <a:chExt cx="5878800" cy="4911840"/>
            </a:xfrm>
          </p:grpSpPr>
          <p:sp>
            <p:nvSpPr>
              <p:cNvPr id="406" name="Freeform 1066"/>
              <p:cNvSpPr/>
              <p:nvPr/>
            </p:nvSpPr>
            <p:spPr>
              <a:xfrm rot="356400">
                <a:off x="5580360" y="5050080"/>
                <a:ext cx="486000" cy="625320"/>
              </a:xfrm>
              <a:custGeom>
                <a:avLst/>
                <a:gdLst/>
                <a:ahLst/>
                <a:rect l="l" t="t" r="r" b="b"/>
                <a:pathLst>
                  <a:path w="369" h="465">
                    <a:moveTo>
                      <a:pt x="0" y="357"/>
                    </a:moveTo>
                    <a:lnTo>
                      <a:pt x="12" y="275"/>
                    </a:lnTo>
                    <a:lnTo>
                      <a:pt x="26" y="256"/>
                    </a:lnTo>
                    <a:lnTo>
                      <a:pt x="33" y="234"/>
                    </a:lnTo>
                    <a:lnTo>
                      <a:pt x="48" y="200"/>
                    </a:lnTo>
                    <a:lnTo>
                      <a:pt x="38" y="186"/>
                    </a:lnTo>
                    <a:lnTo>
                      <a:pt x="41" y="159"/>
                    </a:lnTo>
                    <a:lnTo>
                      <a:pt x="78" y="116"/>
                    </a:lnTo>
                    <a:lnTo>
                      <a:pt x="76" y="87"/>
                    </a:lnTo>
                    <a:lnTo>
                      <a:pt x="100" y="46"/>
                    </a:lnTo>
                    <a:lnTo>
                      <a:pt x="124" y="53"/>
                    </a:lnTo>
                    <a:lnTo>
                      <a:pt x="172" y="17"/>
                    </a:lnTo>
                    <a:lnTo>
                      <a:pt x="181" y="0"/>
                    </a:lnTo>
                    <a:lnTo>
                      <a:pt x="210" y="3"/>
                    </a:lnTo>
                    <a:lnTo>
                      <a:pt x="225" y="43"/>
                    </a:lnTo>
                    <a:lnTo>
                      <a:pt x="238" y="70"/>
                    </a:lnTo>
                    <a:lnTo>
                      <a:pt x="270" y="70"/>
                    </a:lnTo>
                    <a:lnTo>
                      <a:pt x="289" y="46"/>
                    </a:lnTo>
                    <a:lnTo>
                      <a:pt x="317" y="75"/>
                    </a:lnTo>
                    <a:lnTo>
                      <a:pt x="368" y="56"/>
                    </a:lnTo>
                    <a:lnTo>
                      <a:pt x="337" y="132"/>
                    </a:lnTo>
                    <a:lnTo>
                      <a:pt x="317" y="123"/>
                    </a:lnTo>
                    <a:lnTo>
                      <a:pt x="304" y="130"/>
                    </a:lnTo>
                    <a:lnTo>
                      <a:pt x="304" y="136"/>
                    </a:lnTo>
                    <a:lnTo>
                      <a:pt x="318" y="156"/>
                    </a:lnTo>
                    <a:lnTo>
                      <a:pt x="315" y="225"/>
                    </a:lnTo>
                    <a:lnTo>
                      <a:pt x="318" y="247"/>
                    </a:lnTo>
                    <a:lnTo>
                      <a:pt x="315" y="253"/>
                    </a:lnTo>
                    <a:lnTo>
                      <a:pt x="294" y="249"/>
                    </a:lnTo>
                    <a:lnTo>
                      <a:pt x="282" y="263"/>
                    </a:lnTo>
                    <a:lnTo>
                      <a:pt x="292" y="280"/>
                    </a:lnTo>
                    <a:lnTo>
                      <a:pt x="267" y="304"/>
                    </a:lnTo>
                    <a:lnTo>
                      <a:pt x="270" y="313"/>
                    </a:lnTo>
                    <a:lnTo>
                      <a:pt x="246" y="326"/>
                    </a:lnTo>
                    <a:lnTo>
                      <a:pt x="251" y="343"/>
                    </a:lnTo>
                    <a:lnTo>
                      <a:pt x="242" y="353"/>
                    </a:lnTo>
                    <a:lnTo>
                      <a:pt x="210" y="353"/>
                    </a:lnTo>
                    <a:lnTo>
                      <a:pt x="192" y="368"/>
                    </a:lnTo>
                    <a:lnTo>
                      <a:pt x="189" y="375"/>
                    </a:lnTo>
                    <a:lnTo>
                      <a:pt x="205" y="386"/>
                    </a:lnTo>
                    <a:lnTo>
                      <a:pt x="188" y="413"/>
                    </a:lnTo>
                    <a:lnTo>
                      <a:pt x="165" y="442"/>
                    </a:lnTo>
                    <a:lnTo>
                      <a:pt x="157" y="439"/>
                    </a:lnTo>
                    <a:lnTo>
                      <a:pt x="133" y="464"/>
                    </a:lnTo>
                    <a:lnTo>
                      <a:pt x="107" y="406"/>
                    </a:lnTo>
                    <a:lnTo>
                      <a:pt x="83" y="375"/>
                    </a:lnTo>
                    <a:lnTo>
                      <a:pt x="67" y="377"/>
                    </a:lnTo>
                    <a:lnTo>
                      <a:pt x="57" y="368"/>
                    </a:lnTo>
                    <a:lnTo>
                      <a:pt x="0" y="357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067"/>
              <p:cNvSpPr/>
              <p:nvPr/>
            </p:nvSpPr>
            <p:spPr>
              <a:xfrm rot="356400">
                <a:off x="5336640" y="5821920"/>
                <a:ext cx="93960" cy="6408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6" y="14"/>
                    </a:moveTo>
                    <a:lnTo>
                      <a:pt x="30" y="21"/>
                    </a:lnTo>
                    <a:lnTo>
                      <a:pt x="59" y="0"/>
                    </a:lnTo>
                    <a:lnTo>
                      <a:pt x="71" y="36"/>
                    </a:lnTo>
                    <a:lnTo>
                      <a:pt x="42" y="49"/>
                    </a:lnTo>
                    <a:lnTo>
                      <a:pt x="6" y="47"/>
                    </a:lnTo>
                    <a:lnTo>
                      <a:pt x="0" y="21"/>
                    </a:lnTo>
                    <a:lnTo>
                      <a:pt x="6" y="14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068"/>
              <p:cNvSpPr/>
              <p:nvPr/>
            </p:nvSpPr>
            <p:spPr>
              <a:xfrm rot="356400">
                <a:off x="6090120" y="5407200"/>
                <a:ext cx="169920" cy="455040"/>
              </a:xfrm>
              <a:custGeom>
                <a:avLst/>
                <a:gdLst/>
                <a:ahLst/>
                <a:rect l="l" t="t" r="r" b="b"/>
                <a:pathLst>
                  <a:path w="129" h="338">
                    <a:moveTo>
                      <a:pt x="128" y="92"/>
                    </a:moveTo>
                    <a:lnTo>
                      <a:pt x="101" y="239"/>
                    </a:lnTo>
                    <a:lnTo>
                      <a:pt x="89" y="286"/>
                    </a:lnTo>
                    <a:lnTo>
                      <a:pt x="89" y="325"/>
                    </a:lnTo>
                    <a:lnTo>
                      <a:pt x="78" y="337"/>
                    </a:lnTo>
                    <a:lnTo>
                      <a:pt x="52" y="296"/>
                    </a:lnTo>
                    <a:lnTo>
                      <a:pt x="23" y="274"/>
                    </a:lnTo>
                    <a:lnTo>
                      <a:pt x="0" y="209"/>
                    </a:lnTo>
                    <a:lnTo>
                      <a:pt x="2" y="149"/>
                    </a:lnTo>
                    <a:lnTo>
                      <a:pt x="44" y="41"/>
                    </a:lnTo>
                    <a:lnTo>
                      <a:pt x="91" y="0"/>
                    </a:lnTo>
                    <a:lnTo>
                      <a:pt x="121" y="14"/>
                    </a:lnTo>
                    <a:lnTo>
                      <a:pt x="128" y="92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069"/>
              <p:cNvSpPr/>
              <p:nvPr/>
            </p:nvSpPr>
            <p:spPr>
              <a:xfrm rot="356400">
                <a:off x="4851000" y="5431680"/>
                <a:ext cx="858960" cy="732600"/>
              </a:xfrm>
              <a:custGeom>
                <a:avLst/>
                <a:gdLst/>
                <a:ahLst/>
                <a:rect l="l" t="t" r="r" b="b"/>
                <a:pathLst>
                  <a:path w="648" h="546">
                    <a:moveTo>
                      <a:pt x="172" y="93"/>
                    </a:moveTo>
                    <a:lnTo>
                      <a:pt x="189" y="79"/>
                    </a:lnTo>
                    <a:lnTo>
                      <a:pt x="189" y="53"/>
                    </a:lnTo>
                    <a:lnTo>
                      <a:pt x="198" y="43"/>
                    </a:lnTo>
                    <a:lnTo>
                      <a:pt x="220" y="46"/>
                    </a:lnTo>
                    <a:lnTo>
                      <a:pt x="257" y="64"/>
                    </a:lnTo>
                    <a:lnTo>
                      <a:pt x="263" y="50"/>
                    </a:lnTo>
                    <a:lnTo>
                      <a:pt x="255" y="35"/>
                    </a:lnTo>
                    <a:lnTo>
                      <a:pt x="257" y="24"/>
                    </a:lnTo>
                    <a:lnTo>
                      <a:pt x="281" y="4"/>
                    </a:lnTo>
                    <a:lnTo>
                      <a:pt x="322" y="16"/>
                    </a:lnTo>
                    <a:lnTo>
                      <a:pt x="346" y="0"/>
                    </a:lnTo>
                    <a:lnTo>
                      <a:pt x="364" y="17"/>
                    </a:lnTo>
                    <a:lnTo>
                      <a:pt x="406" y="6"/>
                    </a:lnTo>
                    <a:lnTo>
                      <a:pt x="415" y="21"/>
                    </a:lnTo>
                    <a:lnTo>
                      <a:pt x="401" y="40"/>
                    </a:lnTo>
                    <a:lnTo>
                      <a:pt x="379" y="72"/>
                    </a:lnTo>
                    <a:lnTo>
                      <a:pt x="379" y="81"/>
                    </a:lnTo>
                    <a:lnTo>
                      <a:pt x="392" y="91"/>
                    </a:lnTo>
                    <a:lnTo>
                      <a:pt x="480" y="55"/>
                    </a:lnTo>
                    <a:lnTo>
                      <a:pt x="511" y="72"/>
                    </a:lnTo>
                    <a:lnTo>
                      <a:pt x="520" y="64"/>
                    </a:lnTo>
                    <a:lnTo>
                      <a:pt x="511" y="43"/>
                    </a:lnTo>
                    <a:lnTo>
                      <a:pt x="513" y="33"/>
                    </a:lnTo>
                    <a:lnTo>
                      <a:pt x="570" y="43"/>
                    </a:lnTo>
                    <a:lnTo>
                      <a:pt x="580" y="53"/>
                    </a:lnTo>
                    <a:lnTo>
                      <a:pt x="596" y="50"/>
                    </a:lnTo>
                    <a:lnTo>
                      <a:pt x="620" y="81"/>
                    </a:lnTo>
                    <a:lnTo>
                      <a:pt x="647" y="139"/>
                    </a:lnTo>
                    <a:lnTo>
                      <a:pt x="628" y="152"/>
                    </a:lnTo>
                    <a:lnTo>
                      <a:pt x="613" y="180"/>
                    </a:lnTo>
                    <a:lnTo>
                      <a:pt x="600" y="185"/>
                    </a:lnTo>
                    <a:lnTo>
                      <a:pt x="587" y="212"/>
                    </a:lnTo>
                    <a:lnTo>
                      <a:pt x="544" y="233"/>
                    </a:lnTo>
                    <a:lnTo>
                      <a:pt x="526" y="225"/>
                    </a:lnTo>
                    <a:lnTo>
                      <a:pt x="515" y="243"/>
                    </a:lnTo>
                    <a:lnTo>
                      <a:pt x="515" y="250"/>
                    </a:lnTo>
                    <a:lnTo>
                      <a:pt x="502" y="250"/>
                    </a:lnTo>
                    <a:lnTo>
                      <a:pt x="478" y="250"/>
                    </a:lnTo>
                    <a:lnTo>
                      <a:pt x="456" y="265"/>
                    </a:lnTo>
                    <a:lnTo>
                      <a:pt x="441" y="255"/>
                    </a:lnTo>
                    <a:lnTo>
                      <a:pt x="421" y="269"/>
                    </a:lnTo>
                    <a:lnTo>
                      <a:pt x="373" y="289"/>
                    </a:lnTo>
                    <a:lnTo>
                      <a:pt x="334" y="258"/>
                    </a:lnTo>
                    <a:lnTo>
                      <a:pt x="332" y="282"/>
                    </a:lnTo>
                    <a:lnTo>
                      <a:pt x="344" y="320"/>
                    </a:lnTo>
                    <a:lnTo>
                      <a:pt x="310" y="335"/>
                    </a:lnTo>
                    <a:lnTo>
                      <a:pt x="289" y="361"/>
                    </a:lnTo>
                    <a:lnTo>
                      <a:pt x="253" y="371"/>
                    </a:lnTo>
                    <a:lnTo>
                      <a:pt x="233" y="380"/>
                    </a:lnTo>
                    <a:lnTo>
                      <a:pt x="193" y="380"/>
                    </a:lnTo>
                    <a:lnTo>
                      <a:pt x="167" y="406"/>
                    </a:lnTo>
                    <a:lnTo>
                      <a:pt x="98" y="430"/>
                    </a:lnTo>
                    <a:lnTo>
                      <a:pt x="62" y="455"/>
                    </a:lnTo>
                    <a:lnTo>
                      <a:pt x="45" y="472"/>
                    </a:lnTo>
                    <a:lnTo>
                      <a:pt x="78" y="525"/>
                    </a:lnTo>
                    <a:lnTo>
                      <a:pt x="55" y="545"/>
                    </a:lnTo>
                    <a:lnTo>
                      <a:pt x="29" y="542"/>
                    </a:lnTo>
                    <a:lnTo>
                      <a:pt x="0" y="486"/>
                    </a:lnTo>
                    <a:lnTo>
                      <a:pt x="5" y="445"/>
                    </a:lnTo>
                    <a:lnTo>
                      <a:pt x="5" y="426"/>
                    </a:lnTo>
                    <a:lnTo>
                      <a:pt x="27" y="390"/>
                    </a:lnTo>
                    <a:lnTo>
                      <a:pt x="55" y="383"/>
                    </a:lnTo>
                    <a:lnTo>
                      <a:pt x="53" y="364"/>
                    </a:lnTo>
                    <a:lnTo>
                      <a:pt x="82" y="351"/>
                    </a:lnTo>
                    <a:lnTo>
                      <a:pt x="86" y="318"/>
                    </a:lnTo>
                    <a:lnTo>
                      <a:pt x="136" y="277"/>
                    </a:lnTo>
                    <a:lnTo>
                      <a:pt x="134" y="225"/>
                    </a:lnTo>
                    <a:lnTo>
                      <a:pt x="174" y="173"/>
                    </a:lnTo>
                    <a:lnTo>
                      <a:pt x="172" y="154"/>
                    </a:lnTo>
                    <a:lnTo>
                      <a:pt x="184" y="137"/>
                    </a:lnTo>
                    <a:lnTo>
                      <a:pt x="172" y="93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070"/>
              <p:cNvSpPr/>
              <p:nvPr/>
            </p:nvSpPr>
            <p:spPr>
              <a:xfrm rot="356400">
                <a:off x="4218120" y="5293800"/>
                <a:ext cx="892080" cy="656640"/>
              </a:xfrm>
              <a:custGeom>
                <a:avLst/>
                <a:gdLst/>
                <a:ahLst/>
                <a:rect l="l" t="t" r="r" b="b"/>
                <a:pathLst>
                  <a:path w="673" h="490">
                    <a:moveTo>
                      <a:pt x="2" y="187"/>
                    </a:moveTo>
                    <a:lnTo>
                      <a:pt x="30" y="189"/>
                    </a:lnTo>
                    <a:lnTo>
                      <a:pt x="61" y="161"/>
                    </a:lnTo>
                    <a:lnTo>
                      <a:pt x="74" y="170"/>
                    </a:lnTo>
                    <a:lnTo>
                      <a:pt x="133" y="194"/>
                    </a:lnTo>
                    <a:lnTo>
                      <a:pt x="145" y="187"/>
                    </a:lnTo>
                    <a:lnTo>
                      <a:pt x="147" y="167"/>
                    </a:lnTo>
                    <a:lnTo>
                      <a:pt x="157" y="156"/>
                    </a:lnTo>
                    <a:lnTo>
                      <a:pt x="241" y="101"/>
                    </a:lnTo>
                    <a:lnTo>
                      <a:pt x="256" y="119"/>
                    </a:lnTo>
                    <a:lnTo>
                      <a:pt x="306" y="134"/>
                    </a:lnTo>
                    <a:lnTo>
                      <a:pt x="334" y="97"/>
                    </a:lnTo>
                    <a:lnTo>
                      <a:pt x="348" y="105"/>
                    </a:lnTo>
                    <a:lnTo>
                      <a:pt x="368" y="105"/>
                    </a:lnTo>
                    <a:lnTo>
                      <a:pt x="368" y="95"/>
                    </a:lnTo>
                    <a:lnTo>
                      <a:pt x="394" y="86"/>
                    </a:lnTo>
                    <a:lnTo>
                      <a:pt x="394" y="77"/>
                    </a:lnTo>
                    <a:lnTo>
                      <a:pt x="405" y="66"/>
                    </a:lnTo>
                    <a:lnTo>
                      <a:pt x="411" y="69"/>
                    </a:lnTo>
                    <a:lnTo>
                      <a:pt x="437" y="42"/>
                    </a:lnTo>
                    <a:lnTo>
                      <a:pt x="460" y="48"/>
                    </a:lnTo>
                    <a:lnTo>
                      <a:pt x="482" y="18"/>
                    </a:lnTo>
                    <a:lnTo>
                      <a:pt x="492" y="42"/>
                    </a:lnTo>
                    <a:lnTo>
                      <a:pt x="499" y="40"/>
                    </a:lnTo>
                    <a:lnTo>
                      <a:pt x="534" y="6"/>
                    </a:lnTo>
                    <a:lnTo>
                      <a:pt x="542" y="9"/>
                    </a:lnTo>
                    <a:lnTo>
                      <a:pt x="558" y="0"/>
                    </a:lnTo>
                    <a:lnTo>
                      <a:pt x="587" y="9"/>
                    </a:lnTo>
                    <a:lnTo>
                      <a:pt x="587" y="40"/>
                    </a:lnTo>
                    <a:lnTo>
                      <a:pt x="609" y="44"/>
                    </a:lnTo>
                    <a:lnTo>
                      <a:pt x="602" y="74"/>
                    </a:lnTo>
                    <a:lnTo>
                      <a:pt x="582" y="108"/>
                    </a:lnTo>
                    <a:lnTo>
                      <a:pt x="573" y="136"/>
                    </a:lnTo>
                    <a:lnTo>
                      <a:pt x="582" y="136"/>
                    </a:lnTo>
                    <a:lnTo>
                      <a:pt x="606" y="115"/>
                    </a:lnTo>
                    <a:lnTo>
                      <a:pt x="626" y="158"/>
                    </a:lnTo>
                    <a:lnTo>
                      <a:pt x="642" y="148"/>
                    </a:lnTo>
                    <a:lnTo>
                      <a:pt x="659" y="148"/>
                    </a:lnTo>
                    <a:lnTo>
                      <a:pt x="672" y="192"/>
                    </a:lnTo>
                    <a:lnTo>
                      <a:pt x="659" y="209"/>
                    </a:lnTo>
                    <a:lnTo>
                      <a:pt x="661" y="228"/>
                    </a:lnTo>
                    <a:lnTo>
                      <a:pt x="621" y="280"/>
                    </a:lnTo>
                    <a:lnTo>
                      <a:pt x="624" y="332"/>
                    </a:lnTo>
                    <a:lnTo>
                      <a:pt x="573" y="372"/>
                    </a:lnTo>
                    <a:lnTo>
                      <a:pt x="569" y="406"/>
                    </a:lnTo>
                    <a:lnTo>
                      <a:pt x="540" y="418"/>
                    </a:lnTo>
                    <a:lnTo>
                      <a:pt x="542" y="438"/>
                    </a:lnTo>
                    <a:lnTo>
                      <a:pt x="514" y="445"/>
                    </a:lnTo>
                    <a:lnTo>
                      <a:pt x="492" y="480"/>
                    </a:lnTo>
                    <a:lnTo>
                      <a:pt x="435" y="489"/>
                    </a:lnTo>
                    <a:lnTo>
                      <a:pt x="405" y="467"/>
                    </a:lnTo>
                    <a:lnTo>
                      <a:pt x="374" y="454"/>
                    </a:lnTo>
                    <a:lnTo>
                      <a:pt x="344" y="485"/>
                    </a:lnTo>
                    <a:lnTo>
                      <a:pt x="310" y="487"/>
                    </a:lnTo>
                    <a:lnTo>
                      <a:pt x="280" y="489"/>
                    </a:lnTo>
                    <a:lnTo>
                      <a:pt x="210" y="449"/>
                    </a:lnTo>
                    <a:lnTo>
                      <a:pt x="197" y="414"/>
                    </a:lnTo>
                    <a:lnTo>
                      <a:pt x="214" y="379"/>
                    </a:lnTo>
                    <a:lnTo>
                      <a:pt x="195" y="363"/>
                    </a:lnTo>
                    <a:lnTo>
                      <a:pt x="169" y="363"/>
                    </a:lnTo>
                    <a:lnTo>
                      <a:pt x="162" y="357"/>
                    </a:lnTo>
                    <a:lnTo>
                      <a:pt x="133" y="363"/>
                    </a:lnTo>
                    <a:lnTo>
                      <a:pt x="105" y="344"/>
                    </a:lnTo>
                    <a:lnTo>
                      <a:pt x="116" y="312"/>
                    </a:lnTo>
                    <a:lnTo>
                      <a:pt x="138" y="310"/>
                    </a:lnTo>
                    <a:lnTo>
                      <a:pt x="147" y="304"/>
                    </a:lnTo>
                    <a:lnTo>
                      <a:pt x="153" y="276"/>
                    </a:lnTo>
                    <a:lnTo>
                      <a:pt x="145" y="260"/>
                    </a:lnTo>
                    <a:lnTo>
                      <a:pt x="70" y="247"/>
                    </a:lnTo>
                    <a:lnTo>
                      <a:pt x="57" y="225"/>
                    </a:lnTo>
                    <a:lnTo>
                      <a:pt x="35" y="225"/>
                    </a:lnTo>
                    <a:lnTo>
                      <a:pt x="16" y="225"/>
                    </a:lnTo>
                    <a:lnTo>
                      <a:pt x="0" y="201"/>
                    </a:lnTo>
                    <a:lnTo>
                      <a:pt x="2" y="187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071"/>
              <p:cNvSpPr/>
              <p:nvPr/>
            </p:nvSpPr>
            <p:spPr>
              <a:xfrm rot="356400">
                <a:off x="4688640" y="6138360"/>
                <a:ext cx="284760" cy="265320"/>
              </a:xfrm>
              <a:custGeom>
                <a:avLst/>
                <a:gdLst/>
                <a:ahLst/>
                <a:rect l="l" t="t" r="r" b="b"/>
                <a:pathLst>
                  <a:path w="214" h="199">
                    <a:moveTo>
                      <a:pt x="213" y="34"/>
                    </a:moveTo>
                    <a:lnTo>
                      <a:pt x="174" y="105"/>
                    </a:lnTo>
                    <a:lnTo>
                      <a:pt x="174" y="134"/>
                    </a:lnTo>
                    <a:lnTo>
                      <a:pt x="95" y="198"/>
                    </a:lnTo>
                    <a:lnTo>
                      <a:pt x="14" y="171"/>
                    </a:lnTo>
                    <a:lnTo>
                      <a:pt x="0" y="111"/>
                    </a:lnTo>
                    <a:lnTo>
                      <a:pt x="4" y="85"/>
                    </a:lnTo>
                    <a:lnTo>
                      <a:pt x="47" y="41"/>
                    </a:lnTo>
                    <a:lnTo>
                      <a:pt x="62" y="28"/>
                    </a:lnTo>
                    <a:lnTo>
                      <a:pt x="135" y="14"/>
                    </a:lnTo>
                    <a:lnTo>
                      <a:pt x="167" y="12"/>
                    </a:lnTo>
                    <a:lnTo>
                      <a:pt x="178" y="0"/>
                    </a:lnTo>
                    <a:lnTo>
                      <a:pt x="202" y="5"/>
                    </a:lnTo>
                    <a:lnTo>
                      <a:pt x="213" y="34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072"/>
              <p:cNvSpPr/>
              <p:nvPr/>
            </p:nvSpPr>
            <p:spPr>
              <a:xfrm rot="356400">
                <a:off x="3420360" y="4870440"/>
                <a:ext cx="1023120" cy="1080360"/>
              </a:xfrm>
              <a:custGeom>
                <a:avLst/>
                <a:gdLst/>
                <a:ahLst/>
                <a:rect l="l" t="t" r="r" b="b"/>
                <a:pathLst>
                  <a:path w="773" h="806">
                    <a:moveTo>
                      <a:pt x="682" y="148"/>
                    </a:moveTo>
                    <a:lnTo>
                      <a:pt x="675" y="125"/>
                    </a:lnTo>
                    <a:lnTo>
                      <a:pt x="656" y="119"/>
                    </a:lnTo>
                    <a:lnTo>
                      <a:pt x="623" y="139"/>
                    </a:lnTo>
                    <a:lnTo>
                      <a:pt x="601" y="127"/>
                    </a:lnTo>
                    <a:lnTo>
                      <a:pt x="599" y="99"/>
                    </a:lnTo>
                    <a:lnTo>
                      <a:pt x="587" y="86"/>
                    </a:lnTo>
                    <a:lnTo>
                      <a:pt x="587" y="70"/>
                    </a:lnTo>
                    <a:lnTo>
                      <a:pt x="557" y="64"/>
                    </a:lnTo>
                    <a:lnTo>
                      <a:pt x="548" y="72"/>
                    </a:lnTo>
                    <a:lnTo>
                      <a:pt x="553" y="95"/>
                    </a:lnTo>
                    <a:lnTo>
                      <a:pt x="529" y="105"/>
                    </a:lnTo>
                    <a:lnTo>
                      <a:pt x="522" y="122"/>
                    </a:lnTo>
                    <a:lnTo>
                      <a:pt x="529" y="141"/>
                    </a:lnTo>
                    <a:lnTo>
                      <a:pt x="474" y="204"/>
                    </a:lnTo>
                    <a:lnTo>
                      <a:pt x="482" y="279"/>
                    </a:lnTo>
                    <a:lnTo>
                      <a:pt x="455" y="302"/>
                    </a:lnTo>
                    <a:lnTo>
                      <a:pt x="443" y="289"/>
                    </a:lnTo>
                    <a:lnTo>
                      <a:pt x="390" y="320"/>
                    </a:lnTo>
                    <a:lnTo>
                      <a:pt x="371" y="308"/>
                    </a:lnTo>
                    <a:lnTo>
                      <a:pt x="294" y="161"/>
                    </a:lnTo>
                    <a:lnTo>
                      <a:pt x="263" y="139"/>
                    </a:lnTo>
                    <a:lnTo>
                      <a:pt x="239" y="132"/>
                    </a:lnTo>
                    <a:lnTo>
                      <a:pt x="227" y="112"/>
                    </a:lnTo>
                    <a:lnTo>
                      <a:pt x="241" y="90"/>
                    </a:lnTo>
                    <a:lnTo>
                      <a:pt x="219" y="72"/>
                    </a:lnTo>
                    <a:lnTo>
                      <a:pt x="193" y="95"/>
                    </a:lnTo>
                    <a:lnTo>
                      <a:pt x="167" y="99"/>
                    </a:lnTo>
                    <a:lnTo>
                      <a:pt x="148" y="19"/>
                    </a:lnTo>
                    <a:lnTo>
                      <a:pt x="144" y="0"/>
                    </a:lnTo>
                    <a:lnTo>
                      <a:pt x="117" y="33"/>
                    </a:lnTo>
                    <a:lnTo>
                      <a:pt x="107" y="40"/>
                    </a:lnTo>
                    <a:lnTo>
                      <a:pt x="109" y="90"/>
                    </a:lnTo>
                    <a:lnTo>
                      <a:pt x="103" y="101"/>
                    </a:lnTo>
                    <a:lnTo>
                      <a:pt x="89" y="101"/>
                    </a:lnTo>
                    <a:lnTo>
                      <a:pt x="79" y="90"/>
                    </a:lnTo>
                    <a:lnTo>
                      <a:pt x="65" y="105"/>
                    </a:lnTo>
                    <a:lnTo>
                      <a:pt x="79" y="163"/>
                    </a:lnTo>
                    <a:lnTo>
                      <a:pt x="93" y="163"/>
                    </a:lnTo>
                    <a:lnTo>
                      <a:pt x="107" y="172"/>
                    </a:lnTo>
                    <a:lnTo>
                      <a:pt x="112" y="207"/>
                    </a:lnTo>
                    <a:lnTo>
                      <a:pt x="105" y="329"/>
                    </a:lnTo>
                    <a:lnTo>
                      <a:pt x="21" y="404"/>
                    </a:lnTo>
                    <a:lnTo>
                      <a:pt x="17" y="433"/>
                    </a:lnTo>
                    <a:lnTo>
                      <a:pt x="2" y="445"/>
                    </a:lnTo>
                    <a:lnTo>
                      <a:pt x="0" y="460"/>
                    </a:lnTo>
                    <a:lnTo>
                      <a:pt x="12" y="496"/>
                    </a:lnTo>
                    <a:lnTo>
                      <a:pt x="2" y="522"/>
                    </a:lnTo>
                    <a:lnTo>
                      <a:pt x="9" y="527"/>
                    </a:lnTo>
                    <a:lnTo>
                      <a:pt x="50" y="515"/>
                    </a:lnTo>
                    <a:lnTo>
                      <a:pt x="109" y="512"/>
                    </a:lnTo>
                    <a:lnTo>
                      <a:pt x="103" y="536"/>
                    </a:lnTo>
                    <a:lnTo>
                      <a:pt x="114" y="558"/>
                    </a:lnTo>
                    <a:lnTo>
                      <a:pt x="117" y="590"/>
                    </a:lnTo>
                    <a:lnTo>
                      <a:pt x="124" y="602"/>
                    </a:lnTo>
                    <a:lnTo>
                      <a:pt x="160" y="604"/>
                    </a:lnTo>
                    <a:lnTo>
                      <a:pt x="175" y="616"/>
                    </a:lnTo>
                    <a:lnTo>
                      <a:pt x="158" y="638"/>
                    </a:lnTo>
                    <a:lnTo>
                      <a:pt x="155" y="664"/>
                    </a:lnTo>
                    <a:lnTo>
                      <a:pt x="142" y="695"/>
                    </a:lnTo>
                    <a:lnTo>
                      <a:pt x="151" y="705"/>
                    </a:lnTo>
                    <a:lnTo>
                      <a:pt x="172" y="708"/>
                    </a:lnTo>
                    <a:lnTo>
                      <a:pt x="210" y="722"/>
                    </a:lnTo>
                    <a:lnTo>
                      <a:pt x="206" y="734"/>
                    </a:lnTo>
                    <a:lnTo>
                      <a:pt x="230" y="772"/>
                    </a:lnTo>
                    <a:lnTo>
                      <a:pt x="265" y="772"/>
                    </a:lnTo>
                    <a:lnTo>
                      <a:pt x="309" y="747"/>
                    </a:lnTo>
                    <a:lnTo>
                      <a:pt x="323" y="754"/>
                    </a:lnTo>
                    <a:lnTo>
                      <a:pt x="323" y="770"/>
                    </a:lnTo>
                    <a:lnTo>
                      <a:pt x="328" y="792"/>
                    </a:lnTo>
                    <a:lnTo>
                      <a:pt x="340" y="802"/>
                    </a:lnTo>
                    <a:lnTo>
                      <a:pt x="364" y="799"/>
                    </a:lnTo>
                    <a:lnTo>
                      <a:pt x="373" y="805"/>
                    </a:lnTo>
                    <a:lnTo>
                      <a:pt x="381" y="796"/>
                    </a:lnTo>
                    <a:lnTo>
                      <a:pt x="381" y="761"/>
                    </a:lnTo>
                    <a:lnTo>
                      <a:pt x="366" y="696"/>
                    </a:lnTo>
                    <a:lnTo>
                      <a:pt x="376" y="677"/>
                    </a:lnTo>
                    <a:lnTo>
                      <a:pt x="414" y="677"/>
                    </a:lnTo>
                    <a:lnTo>
                      <a:pt x="423" y="677"/>
                    </a:lnTo>
                    <a:lnTo>
                      <a:pt x="443" y="652"/>
                    </a:lnTo>
                    <a:lnTo>
                      <a:pt x="495" y="670"/>
                    </a:lnTo>
                    <a:lnTo>
                      <a:pt x="517" y="650"/>
                    </a:lnTo>
                    <a:lnTo>
                      <a:pt x="529" y="662"/>
                    </a:lnTo>
                    <a:lnTo>
                      <a:pt x="550" y="648"/>
                    </a:lnTo>
                    <a:lnTo>
                      <a:pt x="570" y="669"/>
                    </a:lnTo>
                    <a:lnTo>
                      <a:pt x="579" y="669"/>
                    </a:lnTo>
                    <a:lnTo>
                      <a:pt x="585" y="657"/>
                    </a:lnTo>
                    <a:lnTo>
                      <a:pt x="603" y="640"/>
                    </a:lnTo>
                    <a:lnTo>
                      <a:pt x="611" y="646"/>
                    </a:lnTo>
                    <a:lnTo>
                      <a:pt x="636" y="642"/>
                    </a:lnTo>
                    <a:lnTo>
                      <a:pt x="660" y="621"/>
                    </a:lnTo>
                    <a:lnTo>
                      <a:pt x="680" y="593"/>
                    </a:lnTo>
                    <a:lnTo>
                      <a:pt x="709" y="587"/>
                    </a:lnTo>
                    <a:lnTo>
                      <a:pt x="723" y="602"/>
                    </a:lnTo>
                    <a:lnTo>
                      <a:pt x="735" y="571"/>
                    </a:lnTo>
                    <a:lnTo>
                      <a:pt x="757" y="568"/>
                    </a:lnTo>
                    <a:lnTo>
                      <a:pt x="766" y="563"/>
                    </a:lnTo>
                    <a:lnTo>
                      <a:pt x="772" y="534"/>
                    </a:lnTo>
                    <a:lnTo>
                      <a:pt x="763" y="518"/>
                    </a:lnTo>
                    <a:lnTo>
                      <a:pt x="689" y="505"/>
                    </a:lnTo>
                    <a:lnTo>
                      <a:pt x="675" y="483"/>
                    </a:lnTo>
                    <a:lnTo>
                      <a:pt x="654" y="483"/>
                    </a:lnTo>
                    <a:lnTo>
                      <a:pt x="634" y="483"/>
                    </a:lnTo>
                    <a:lnTo>
                      <a:pt x="618" y="459"/>
                    </a:lnTo>
                    <a:lnTo>
                      <a:pt x="620" y="445"/>
                    </a:lnTo>
                    <a:lnTo>
                      <a:pt x="629" y="392"/>
                    </a:lnTo>
                    <a:lnTo>
                      <a:pt x="601" y="363"/>
                    </a:lnTo>
                    <a:lnTo>
                      <a:pt x="623" y="271"/>
                    </a:lnTo>
                    <a:lnTo>
                      <a:pt x="608" y="257"/>
                    </a:lnTo>
                    <a:lnTo>
                      <a:pt x="558" y="274"/>
                    </a:lnTo>
                    <a:lnTo>
                      <a:pt x="548" y="253"/>
                    </a:lnTo>
                    <a:lnTo>
                      <a:pt x="548" y="231"/>
                    </a:lnTo>
                    <a:lnTo>
                      <a:pt x="537" y="221"/>
                    </a:lnTo>
                    <a:lnTo>
                      <a:pt x="561" y="187"/>
                    </a:lnTo>
                    <a:lnTo>
                      <a:pt x="587" y="196"/>
                    </a:lnTo>
                    <a:lnTo>
                      <a:pt x="599" y="185"/>
                    </a:lnTo>
                    <a:lnTo>
                      <a:pt x="647" y="192"/>
                    </a:lnTo>
                    <a:lnTo>
                      <a:pt x="668" y="185"/>
                    </a:lnTo>
                    <a:lnTo>
                      <a:pt x="682" y="148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073"/>
              <p:cNvSpPr/>
              <p:nvPr/>
            </p:nvSpPr>
            <p:spPr>
              <a:xfrm rot="356400">
                <a:off x="5300640" y="4825800"/>
                <a:ext cx="536760" cy="756360"/>
              </a:xfrm>
              <a:custGeom>
                <a:avLst/>
                <a:gdLst/>
                <a:ahLst/>
                <a:rect l="l" t="t" r="r" b="b"/>
                <a:pathLst>
                  <a:path w="404" h="566">
                    <a:moveTo>
                      <a:pt x="9" y="124"/>
                    </a:moveTo>
                    <a:lnTo>
                      <a:pt x="35" y="174"/>
                    </a:lnTo>
                    <a:lnTo>
                      <a:pt x="37" y="201"/>
                    </a:lnTo>
                    <a:lnTo>
                      <a:pt x="23" y="227"/>
                    </a:lnTo>
                    <a:lnTo>
                      <a:pt x="4" y="242"/>
                    </a:lnTo>
                    <a:lnTo>
                      <a:pt x="0" y="291"/>
                    </a:lnTo>
                    <a:lnTo>
                      <a:pt x="6" y="298"/>
                    </a:lnTo>
                    <a:lnTo>
                      <a:pt x="18" y="293"/>
                    </a:lnTo>
                    <a:lnTo>
                      <a:pt x="23" y="298"/>
                    </a:lnTo>
                    <a:lnTo>
                      <a:pt x="23" y="329"/>
                    </a:lnTo>
                    <a:lnTo>
                      <a:pt x="37" y="363"/>
                    </a:lnTo>
                    <a:lnTo>
                      <a:pt x="52" y="370"/>
                    </a:lnTo>
                    <a:lnTo>
                      <a:pt x="54" y="423"/>
                    </a:lnTo>
                    <a:lnTo>
                      <a:pt x="46" y="459"/>
                    </a:lnTo>
                    <a:lnTo>
                      <a:pt x="54" y="474"/>
                    </a:lnTo>
                    <a:lnTo>
                      <a:pt x="71" y="491"/>
                    </a:lnTo>
                    <a:lnTo>
                      <a:pt x="114" y="480"/>
                    </a:lnTo>
                    <a:lnTo>
                      <a:pt x="123" y="495"/>
                    </a:lnTo>
                    <a:lnTo>
                      <a:pt x="109" y="514"/>
                    </a:lnTo>
                    <a:lnTo>
                      <a:pt x="87" y="546"/>
                    </a:lnTo>
                    <a:lnTo>
                      <a:pt x="87" y="555"/>
                    </a:lnTo>
                    <a:lnTo>
                      <a:pt x="100" y="565"/>
                    </a:lnTo>
                    <a:lnTo>
                      <a:pt x="188" y="529"/>
                    </a:lnTo>
                    <a:lnTo>
                      <a:pt x="219" y="546"/>
                    </a:lnTo>
                    <a:lnTo>
                      <a:pt x="228" y="538"/>
                    </a:lnTo>
                    <a:lnTo>
                      <a:pt x="219" y="517"/>
                    </a:lnTo>
                    <a:lnTo>
                      <a:pt x="221" y="507"/>
                    </a:lnTo>
                    <a:lnTo>
                      <a:pt x="234" y="425"/>
                    </a:lnTo>
                    <a:lnTo>
                      <a:pt x="247" y="406"/>
                    </a:lnTo>
                    <a:lnTo>
                      <a:pt x="254" y="384"/>
                    </a:lnTo>
                    <a:lnTo>
                      <a:pt x="269" y="350"/>
                    </a:lnTo>
                    <a:lnTo>
                      <a:pt x="260" y="337"/>
                    </a:lnTo>
                    <a:lnTo>
                      <a:pt x="262" y="309"/>
                    </a:lnTo>
                    <a:lnTo>
                      <a:pt x="300" y="266"/>
                    </a:lnTo>
                    <a:lnTo>
                      <a:pt x="297" y="238"/>
                    </a:lnTo>
                    <a:lnTo>
                      <a:pt x="321" y="196"/>
                    </a:lnTo>
                    <a:lnTo>
                      <a:pt x="345" y="203"/>
                    </a:lnTo>
                    <a:lnTo>
                      <a:pt x="393" y="168"/>
                    </a:lnTo>
                    <a:lnTo>
                      <a:pt x="403" y="150"/>
                    </a:lnTo>
                    <a:lnTo>
                      <a:pt x="372" y="93"/>
                    </a:lnTo>
                    <a:lnTo>
                      <a:pt x="352" y="64"/>
                    </a:lnTo>
                    <a:lnTo>
                      <a:pt x="367" y="50"/>
                    </a:lnTo>
                    <a:lnTo>
                      <a:pt x="348" y="33"/>
                    </a:lnTo>
                    <a:lnTo>
                      <a:pt x="302" y="33"/>
                    </a:lnTo>
                    <a:lnTo>
                      <a:pt x="281" y="11"/>
                    </a:lnTo>
                    <a:lnTo>
                      <a:pt x="245" y="48"/>
                    </a:lnTo>
                    <a:lnTo>
                      <a:pt x="231" y="42"/>
                    </a:lnTo>
                    <a:lnTo>
                      <a:pt x="247" y="13"/>
                    </a:lnTo>
                    <a:lnTo>
                      <a:pt x="245" y="4"/>
                    </a:lnTo>
                    <a:lnTo>
                      <a:pt x="231" y="0"/>
                    </a:lnTo>
                    <a:lnTo>
                      <a:pt x="188" y="24"/>
                    </a:lnTo>
                    <a:lnTo>
                      <a:pt x="152" y="35"/>
                    </a:lnTo>
                    <a:lnTo>
                      <a:pt x="124" y="33"/>
                    </a:lnTo>
                    <a:lnTo>
                      <a:pt x="63" y="90"/>
                    </a:lnTo>
                    <a:lnTo>
                      <a:pt x="30" y="101"/>
                    </a:lnTo>
                    <a:lnTo>
                      <a:pt x="9" y="124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074"/>
              <p:cNvSpPr/>
              <p:nvPr/>
            </p:nvSpPr>
            <p:spPr>
              <a:xfrm rot="356400">
                <a:off x="4757040" y="4845240"/>
                <a:ext cx="614520" cy="702720"/>
              </a:xfrm>
              <a:custGeom>
                <a:avLst/>
                <a:gdLst/>
                <a:ahLst/>
                <a:rect l="l" t="t" r="r" b="b"/>
                <a:pathLst>
                  <a:path w="465" h="524">
                    <a:moveTo>
                      <a:pt x="418" y="69"/>
                    </a:moveTo>
                    <a:lnTo>
                      <a:pt x="398" y="64"/>
                    </a:lnTo>
                    <a:lnTo>
                      <a:pt x="389" y="50"/>
                    </a:lnTo>
                    <a:lnTo>
                      <a:pt x="389" y="19"/>
                    </a:lnTo>
                    <a:lnTo>
                      <a:pt x="378" y="4"/>
                    </a:lnTo>
                    <a:lnTo>
                      <a:pt x="356" y="26"/>
                    </a:lnTo>
                    <a:lnTo>
                      <a:pt x="346" y="42"/>
                    </a:lnTo>
                    <a:lnTo>
                      <a:pt x="330" y="42"/>
                    </a:lnTo>
                    <a:lnTo>
                      <a:pt x="325" y="18"/>
                    </a:lnTo>
                    <a:lnTo>
                      <a:pt x="306" y="24"/>
                    </a:lnTo>
                    <a:lnTo>
                      <a:pt x="280" y="42"/>
                    </a:lnTo>
                    <a:lnTo>
                      <a:pt x="262" y="31"/>
                    </a:lnTo>
                    <a:lnTo>
                      <a:pt x="227" y="6"/>
                    </a:lnTo>
                    <a:lnTo>
                      <a:pt x="126" y="0"/>
                    </a:lnTo>
                    <a:lnTo>
                      <a:pt x="116" y="11"/>
                    </a:lnTo>
                    <a:lnTo>
                      <a:pt x="136" y="35"/>
                    </a:lnTo>
                    <a:lnTo>
                      <a:pt x="112" y="50"/>
                    </a:lnTo>
                    <a:lnTo>
                      <a:pt x="74" y="35"/>
                    </a:lnTo>
                    <a:lnTo>
                      <a:pt x="35" y="69"/>
                    </a:lnTo>
                    <a:lnTo>
                      <a:pt x="21" y="99"/>
                    </a:lnTo>
                    <a:lnTo>
                      <a:pt x="24" y="172"/>
                    </a:lnTo>
                    <a:lnTo>
                      <a:pt x="43" y="249"/>
                    </a:lnTo>
                    <a:lnTo>
                      <a:pt x="0" y="298"/>
                    </a:lnTo>
                    <a:lnTo>
                      <a:pt x="4" y="305"/>
                    </a:lnTo>
                    <a:lnTo>
                      <a:pt x="43" y="293"/>
                    </a:lnTo>
                    <a:lnTo>
                      <a:pt x="57" y="311"/>
                    </a:lnTo>
                    <a:lnTo>
                      <a:pt x="45" y="366"/>
                    </a:lnTo>
                    <a:lnTo>
                      <a:pt x="67" y="406"/>
                    </a:lnTo>
                    <a:lnTo>
                      <a:pt x="90" y="412"/>
                    </a:lnTo>
                    <a:lnTo>
                      <a:pt x="112" y="382"/>
                    </a:lnTo>
                    <a:lnTo>
                      <a:pt x="122" y="406"/>
                    </a:lnTo>
                    <a:lnTo>
                      <a:pt x="129" y="404"/>
                    </a:lnTo>
                    <a:lnTo>
                      <a:pt x="164" y="370"/>
                    </a:lnTo>
                    <a:lnTo>
                      <a:pt x="172" y="373"/>
                    </a:lnTo>
                    <a:lnTo>
                      <a:pt x="188" y="364"/>
                    </a:lnTo>
                    <a:lnTo>
                      <a:pt x="217" y="373"/>
                    </a:lnTo>
                    <a:lnTo>
                      <a:pt x="217" y="404"/>
                    </a:lnTo>
                    <a:lnTo>
                      <a:pt x="238" y="408"/>
                    </a:lnTo>
                    <a:lnTo>
                      <a:pt x="232" y="438"/>
                    </a:lnTo>
                    <a:lnTo>
                      <a:pt x="212" y="472"/>
                    </a:lnTo>
                    <a:lnTo>
                      <a:pt x="203" y="501"/>
                    </a:lnTo>
                    <a:lnTo>
                      <a:pt x="212" y="501"/>
                    </a:lnTo>
                    <a:lnTo>
                      <a:pt x="236" y="479"/>
                    </a:lnTo>
                    <a:lnTo>
                      <a:pt x="256" y="523"/>
                    </a:lnTo>
                    <a:lnTo>
                      <a:pt x="272" y="512"/>
                    </a:lnTo>
                    <a:lnTo>
                      <a:pt x="289" y="512"/>
                    </a:lnTo>
                    <a:lnTo>
                      <a:pt x="306" y="498"/>
                    </a:lnTo>
                    <a:lnTo>
                      <a:pt x="306" y="472"/>
                    </a:lnTo>
                    <a:lnTo>
                      <a:pt x="315" y="463"/>
                    </a:lnTo>
                    <a:lnTo>
                      <a:pt x="337" y="465"/>
                    </a:lnTo>
                    <a:lnTo>
                      <a:pt x="374" y="483"/>
                    </a:lnTo>
                    <a:lnTo>
                      <a:pt x="380" y="470"/>
                    </a:lnTo>
                    <a:lnTo>
                      <a:pt x="372" y="455"/>
                    </a:lnTo>
                    <a:lnTo>
                      <a:pt x="374" y="443"/>
                    </a:lnTo>
                    <a:lnTo>
                      <a:pt x="398" y="423"/>
                    </a:lnTo>
                    <a:lnTo>
                      <a:pt x="440" y="435"/>
                    </a:lnTo>
                    <a:lnTo>
                      <a:pt x="464" y="419"/>
                    </a:lnTo>
                    <a:lnTo>
                      <a:pt x="456" y="404"/>
                    </a:lnTo>
                    <a:lnTo>
                      <a:pt x="464" y="368"/>
                    </a:lnTo>
                    <a:lnTo>
                      <a:pt x="461" y="315"/>
                    </a:lnTo>
                    <a:lnTo>
                      <a:pt x="446" y="308"/>
                    </a:lnTo>
                    <a:lnTo>
                      <a:pt x="433" y="274"/>
                    </a:lnTo>
                    <a:lnTo>
                      <a:pt x="433" y="243"/>
                    </a:lnTo>
                    <a:lnTo>
                      <a:pt x="427" y="238"/>
                    </a:lnTo>
                    <a:lnTo>
                      <a:pt x="416" y="243"/>
                    </a:lnTo>
                    <a:lnTo>
                      <a:pt x="409" y="236"/>
                    </a:lnTo>
                    <a:lnTo>
                      <a:pt x="413" y="187"/>
                    </a:lnTo>
                    <a:lnTo>
                      <a:pt x="433" y="172"/>
                    </a:lnTo>
                    <a:lnTo>
                      <a:pt x="446" y="146"/>
                    </a:lnTo>
                    <a:lnTo>
                      <a:pt x="444" y="119"/>
                    </a:lnTo>
                    <a:lnTo>
                      <a:pt x="418" y="69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075"/>
              <p:cNvSpPr/>
              <p:nvPr/>
            </p:nvSpPr>
            <p:spPr>
              <a:xfrm rot="356400">
                <a:off x="4155120" y="4922280"/>
                <a:ext cx="686160" cy="614520"/>
              </a:xfrm>
              <a:custGeom>
                <a:avLst/>
                <a:gdLst/>
                <a:ahLst/>
                <a:rect l="l" t="t" r="r" b="b"/>
                <a:pathLst>
                  <a:path w="520" h="459">
                    <a:moveTo>
                      <a:pt x="145" y="153"/>
                    </a:moveTo>
                    <a:lnTo>
                      <a:pt x="131" y="190"/>
                    </a:lnTo>
                    <a:lnTo>
                      <a:pt x="109" y="197"/>
                    </a:lnTo>
                    <a:lnTo>
                      <a:pt x="61" y="190"/>
                    </a:lnTo>
                    <a:lnTo>
                      <a:pt x="50" y="201"/>
                    </a:lnTo>
                    <a:lnTo>
                      <a:pt x="24" y="192"/>
                    </a:lnTo>
                    <a:lnTo>
                      <a:pt x="0" y="226"/>
                    </a:lnTo>
                    <a:lnTo>
                      <a:pt x="11" y="236"/>
                    </a:lnTo>
                    <a:lnTo>
                      <a:pt x="11" y="258"/>
                    </a:lnTo>
                    <a:lnTo>
                      <a:pt x="21" y="279"/>
                    </a:lnTo>
                    <a:lnTo>
                      <a:pt x="70" y="263"/>
                    </a:lnTo>
                    <a:lnTo>
                      <a:pt x="85" y="276"/>
                    </a:lnTo>
                    <a:lnTo>
                      <a:pt x="64" y="369"/>
                    </a:lnTo>
                    <a:lnTo>
                      <a:pt x="92" y="398"/>
                    </a:lnTo>
                    <a:lnTo>
                      <a:pt x="83" y="451"/>
                    </a:lnTo>
                    <a:lnTo>
                      <a:pt x="112" y="453"/>
                    </a:lnTo>
                    <a:lnTo>
                      <a:pt x="142" y="424"/>
                    </a:lnTo>
                    <a:lnTo>
                      <a:pt x="155" y="433"/>
                    </a:lnTo>
                    <a:lnTo>
                      <a:pt x="214" y="458"/>
                    </a:lnTo>
                    <a:lnTo>
                      <a:pt x="226" y="451"/>
                    </a:lnTo>
                    <a:lnTo>
                      <a:pt x="228" y="431"/>
                    </a:lnTo>
                    <a:lnTo>
                      <a:pt x="238" y="419"/>
                    </a:lnTo>
                    <a:lnTo>
                      <a:pt x="322" y="364"/>
                    </a:lnTo>
                    <a:lnTo>
                      <a:pt x="337" y="383"/>
                    </a:lnTo>
                    <a:lnTo>
                      <a:pt x="387" y="398"/>
                    </a:lnTo>
                    <a:lnTo>
                      <a:pt x="416" y="361"/>
                    </a:lnTo>
                    <a:lnTo>
                      <a:pt x="429" y="369"/>
                    </a:lnTo>
                    <a:lnTo>
                      <a:pt x="449" y="369"/>
                    </a:lnTo>
                    <a:lnTo>
                      <a:pt x="449" y="358"/>
                    </a:lnTo>
                    <a:lnTo>
                      <a:pt x="475" y="349"/>
                    </a:lnTo>
                    <a:lnTo>
                      <a:pt x="475" y="340"/>
                    </a:lnTo>
                    <a:lnTo>
                      <a:pt x="486" y="329"/>
                    </a:lnTo>
                    <a:lnTo>
                      <a:pt x="492" y="332"/>
                    </a:lnTo>
                    <a:lnTo>
                      <a:pt x="519" y="305"/>
                    </a:lnTo>
                    <a:lnTo>
                      <a:pt x="497" y="265"/>
                    </a:lnTo>
                    <a:lnTo>
                      <a:pt x="508" y="209"/>
                    </a:lnTo>
                    <a:lnTo>
                      <a:pt x="494" y="192"/>
                    </a:lnTo>
                    <a:lnTo>
                      <a:pt x="456" y="204"/>
                    </a:lnTo>
                    <a:lnTo>
                      <a:pt x="451" y="197"/>
                    </a:lnTo>
                    <a:lnTo>
                      <a:pt x="494" y="148"/>
                    </a:lnTo>
                    <a:lnTo>
                      <a:pt x="475" y="71"/>
                    </a:lnTo>
                    <a:lnTo>
                      <a:pt x="446" y="93"/>
                    </a:lnTo>
                    <a:lnTo>
                      <a:pt x="420" y="66"/>
                    </a:lnTo>
                    <a:lnTo>
                      <a:pt x="396" y="33"/>
                    </a:lnTo>
                    <a:lnTo>
                      <a:pt x="394" y="13"/>
                    </a:lnTo>
                    <a:lnTo>
                      <a:pt x="377" y="9"/>
                    </a:lnTo>
                    <a:lnTo>
                      <a:pt x="357" y="16"/>
                    </a:lnTo>
                    <a:lnTo>
                      <a:pt x="324" y="0"/>
                    </a:lnTo>
                    <a:lnTo>
                      <a:pt x="308" y="38"/>
                    </a:lnTo>
                    <a:lnTo>
                      <a:pt x="281" y="40"/>
                    </a:lnTo>
                    <a:lnTo>
                      <a:pt x="260" y="71"/>
                    </a:lnTo>
                    <a:lnTo>
                      <a:pt x="248" y="64"/>
                    </a:lnTo>
                    <a:lnTo>
                      <a:pt x="228" y="71"/>
                    </a:lnTo>
                    <a:lnTo>
                      <a:pt x="197" y="53"/>
                    </a:lnTo>
                    <a:lnTo>
                      <a:pt x="173" y="81"/>
                    </a:lnTo>
                    <a:lnTo>
                      <a:pt x="173" y="95"/>
                    </a:lnTo>
                    <a:lnTo>
                      <a:pt x="221" y="122"/>
                    </a:lnTo>
                    <a:lnTo>
                      <a:pt x="232" y="141"/>
                    </a:lnTo>
                    <a:lnTo>
                      <a:pt x="197" y="154"/>
                    </a:lnTo>
                    <a:lnTo>
                      <a:pt x="145" y="153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076"/>
              <p:cNvSpPr/>
              <p:nvPr/>
            </p:nvSpPr>
            <p:spPr>
              <a:xfrm rot="356400">
                <a:off x="5801040" y="4660200"/>
                <a:ext cx="432360" cy="511560"/>
              </a:xfrm>
              <a:custGeom>
                <a:avLst/>
                <a:gdLst/>
                <a:ahLst/>
                <a:rect l="l" t="t" r="r" b="b"/>
                <a:pathLst>
                  <a:path w="327" h="381">
                    <a:moveTo>
                      <a:pt x="236" y="361"/>
                    </a:moveTo>
                    <a:lnTo>
                      <a:pt x="186" y="380"/>
                    </a:lnTo>
                    <a:lnTo>
                      <a:pt x="157" y="351"/>
                    </a:lnTo>
                    <a:lnTo>
                      <a:pt x="139" y="375"/>
                    </a:lnTo>
                    <a:lnTo>
                      <a:pt x="107" y="375"/>
                    </a:lnTo>
                    <a:lnTo>
                      <a:pt x="93" y="348"/>
                    </a:lnTo>
                    <a:lnTo>
                      <a:pt x="78" y="308"/>
                    </a:lnTo>
                    <a:lnTo>
                      <a:pt x="50" y="305"/>
                    </a:lnTo>
                    <a:lnTo>
                      <a:pt x="19" y="247"/>
                    </a:lnTo>
                    <a:lnTo>
                      <a:pt x="0" y="218"/>
                    </a:lnTo>
                    <a:lnTo>
                      <a:pt x="14" y="204"/>
                    </a:lnTo>
                    <a:lnTo>
                      <a:pt x="19" y="199"/>
                    </a:lnTo>
                    <a:lnTo>
                      <a:pt x="52" y="152"/>
                    </a:lnTo>
                    <a:lnTo>
                      <a:pt x="50" y="115"/>
                    </a:lnTo>
                    <a:lnTo>
                      <a:pt x="60" y="99"/>
                    </a:lnTo>
                    <a:lnTo>
                      <a:pt x="86" y="95"/>
                    </a:lnTo>
                    <a:lnTo>
                      <a:pt x="93" y="84"/>
                    </a:lnTo>
                    <a:lnTo>
                      <a:pt x="84" y="66"/>
                    </a:lnTo>
                    <a:lnTo>
                      <a:pt x="98" y="48"/>
                    </a:lnTo>
                    <a:lnTo>
                      <a:pt x="98" y="13"/>
                    </a:lnTo>
                    <a:lnTo>
                      <a:pt x="115" y="4"/>
                    </a:lnTo>
                    <a:lnTo>
                      <a:pt x="146" y="21"/>
                    </a:lnTo>
                    <a:lnTo>
                      <a:pt x="184" y="28"/>
                    </a:lnTo>
                    <a:lnTo>
                      <a:pt x="210" y="0"/>
                    </a:lnTo>
                    <a:lnTo>
                      <a:pt x="240" y="24"/>
                    </a:lnTo>
                    <a:lnTo>
                      <a:pt x="227" y="35"/>
                    </a:lnTo>
                    <a:lnTo>
                      <a:pt x="210" y="59"/>
                    </a:lnTo>
                    <a:lnTo>
                      <a:pt x="186" y="66"/>
                    </a:lnTo>
                    <a:lnTo>
                      <a:pt x="177" y="72"/>
                    </a:lnTo>
                    <a:lnTo>
                      <a:pt x="201" y="86"/>
                    </a:lnTo>
                    <a:lnTo>
                      <a:pt x="244" y="66"/>
                    </a:lnTo>
                    <a:lnTo>
                      <a:pt x="317" y="97"/>
                    </a:lnTo>
                    <a:lnTo>
                      <a:pt x="326" y="158"/>
                    </a:lnTo>
                    <a:lnTo>
                      <a:pt x="295" y="158"/>
                    </a:lnTo>
                    <a:lnTo>
                      <a:pt x="292" y="177"/>
                    </a:lnTo>
                    <a:lnTo>
                      <a:pt x="308" y="202"/>
                    </a:lnTo>
                    <a:lnTo>
                      <a:pt x="295" y="218"/>
                    </a:lnTo>
                    <a:lnTo>
                      <a:pt x="311" y="242"/>
                    </a:lnTo>
                    <a:lnTo>
                      <a:pt x="287" y="271"/>
                    </a:lnTo>
                    <a:lnTo>
                      <a:pt x="275" y="257"/>
                    </a:lnTo>
                    <a:lnTo>
                      <a:pt x="240" y="348"/>
                    </a:lnTo>
                    <a:lnTo>
                      <a:pt x="236" y="361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077"/>
              <p:cNvSpPr/>
              <p:nvPr/>
            </p:nvSpPr>
            <p:spPr>
              <a:xfrm rot="356400">
                <a:off x="5427360" y="4249080"/>
                <a:ext cx="538200" cy="651960"/>
              </a:xfrm>
              <a:custGeom>
                <a:avLst/>
                <a:gdLst/>
                <a:ahLst/>
                <a:rect l="l" t="t" r="r" b="b"/>
                <a:pathLst>
                  <a:path w="406" h="488">
                    <a:moveTo>
                      <a:pt x="80" y="4"/>
                    </a:moveTo>
                    <a:lnTo>
                      <a:pt x="96" y="0"/>
                    </a:lnTo>
                    <a:lnTo>
                      <a:pt x="144" y="19"/>
                    </a:lnTo>
                    <a:lnTo>
                      <a:pt x="165" y="41"/>
                    </a:lnTo>
                    <a:lnTo>
                      <a:pt x="205" y="52"/>
                    </a:lnTo>
                    <a:lnTo>
                      <a:pt x="220" y="66"/>
                    </a:lnTo>
                    <a:lnTo>
                      <a:pt x="242" y="62"/>
                    </a:lnTo>
                    <a:lnTo>
                      <a:pt x="247" y="70"/>
                    </a:lnTo>
                    <a:lnTo>
                      <a:pt x="240" y="117"/>
                    </a:lnTo>
                    <a:lnTo>
                      <a:pt x="261" y="130"/>
                    </a:lnTo>
                    <a:lnTo>
                      <a:pt x="271" y="147"/>
                    </a:lnTo>
                    <a:lnTo>
                      <a:pt x="304" y="154"/>
                    </a:lnTo>
                    <a:lnTo>
                      <a:pt x="316" y="132"/>
                    </a:lnTo>
                    <a:lnTo>
                      <a:pt x="337" y="134"/>
                    </a:lnTo>
                    <a:lnTo>
                      <a:pt x="350" y="151"/>
                    </a:lnTo>
                    <a:lnTo>
                      <a:pt x="347" y="168"/>
                    </a:lnTo>
                    <a:lnTo>
                      <a:pt x="308" y="172"/>
                    </a:lnTo>
                    <a:lnTo>
                      <a:pt x="308" y="189"/>
                    </a:lnTo>
                    <a:lnTo>
                      <a:pt x="308" y="202"/>
                    </a:lnTo>
                    <a:lnTo>
                      <a:pt x="292" y="221"/>
                    </a:lnTo>
                    <a:lnTo>
                      <a:pt x="304" y="240"/>
                    </a:lnTo>
                    <a:lnTo>
                      <a:pt x="337" y="262"/>
                    </a:lnTo>
                    <a:lnTo>
                      <a:pt x="338" y="288"/>
                    </a:lnTo>
                    <a:lnTo>
                      <a:pt x="405" y="295"/>
                    </a:lnTo>
                    <a:lnTo>
                      <a:pt x="405" y="330"/>
                    </a:lnTo>
                    <a:lnTo>
                      <a:pt x="391" y="348"/>
                    </a:lnTo>
                    <a:lnTo>
                      <a:pt x="400" y="366"/>
                    </a:lnTo>
                    <a:lnTo>
                      <a:pt x="393" y="377"/>
                    </a:lnTo>
                    <a:lnTo>
                      <a:pt x="367" y="381"/>
                    </a:lnTo>
                    <a:lnTo>
                      <a:pt x="356" y="397"/>
                    </a:lnTo>
                    <a:lnTo>
                      <a:pt x="359" y="434"/>
                    </a:lnTo>
                    <a:lnTo>
                      <a:pt x="326" y="481"/>
                    </a:lnTo>
                    <a:lnTo>
                      <a:pt x="321" y="487"/>
                    </a:lnTo>
                    <a:lnTo>
                      <a:pt x="302" y="469"/>
                    </a:lnTo>
                    <a:lnTo>
                      <a:pt x="256" y="469"/>
                    </a:lnTo>
                    <a:lnTo>
                      <a:pt x="235" y="447"/>
                    </a:lnTo>
                    <a:lnTo>
                      <a:pt x="199" y="484"/>
                    </a:lnTo>
                    <a:lnTo>
                      <a:pt x="185" y="478"/>
                    </a:lnTo>
                    <a:lnTo>
                      <a:pt x="201" y="450"/>
                    </a:lnTo>
                    <a:lnTo>
                      <a:pt x="199" y="440"/>
                    </a:lnTo>
                    <a:lnTo>
                      <a:pt x="185" y="436"/>
                    </a:lnTo>
                    <a:lnTo>
                      <a:pt x="141" y="460"/>
                    </a:lnTo>
                    <a:lnTo>
                      <a:pt x="100" y="381"/>
                    </a:lnTo>
                    <a:lnTo>
                      <a:pt x="113" y="356"/>
                    </a:lnTo>
                    <a:lnTo>
                      <a:pt x="108" y="348"/>
                    </a:lnTo>
                    <a:lnTo>
                      <a:pt x="86" y="341"/>
                    </a:lnTo>
                    <a:lnTo>
                      <a:pt x="50" y="320"/>
                    </a:lnTo>
                    <a:lnTo>
                      <a:pt x="65" y="288"/>
                    </a:lnTo>
                    <a:lnTo>
                      <a:pt x="86" y="277"/>
                    </a:lnTo>
                    <a:lnTo>
                      <a:pt x="91" y="253"/>
                    </a:lnTo>
                    <a:lnTo>
                      <a:pt x="82" y="209"/>
                    </a:lnTo>
                    <a:lnTo>
                      <a:pt x="77" y="204"/>
                    </a:lnTo>
                    <a:lnTo>
                      <a:pt x="56" y="226"/>
                    </a:lnTo>
                    <a:lnTo>
                      <a:pt x="24" y="200"/>
                    </a:lnTo>
                    <a:lnTo>
                      <a:pt x="0" y="170"/>
                    </a:lnTo>
                    <a:lnTo>
                      <a:pt x="24" y="151"/>
                    </a:lnTo>
                    <a:lnTo>
                      <a:pt x="29" y="120"/>
                    </a:lnTo>
                    <a:lnTo>
                      <a:pt x="45" y="110"/>
                    </a:lnTo>
                    <a:lnTo>
                      <a:pt x="43" y="67"/>
                    </a:lnTo>
                    <a:lnTo>
                      <a:pt x="53" y="59"/>
                    </a:lnTo>
                    <a:lnTo>
                      <a:pt x="74" y="72"/>
                    </a:lnTo>
                    <a:lnTo>
                      <a:pt x="86" y="90"/>
                    </a:lnTo>
                    <a:lnTo>
                      <a:pt x="113" y="72"/>
                    </a:lnTo>
                    <a:lnTo>
                      <a:pt x="122" y="62"/>
                    </a:lnTo>
                    <a:lnTo>
                      <a:pt x="117" y="41"/>
                    </a:lnTo>
                    <a:lnTo>
                      <a:pt x="86" y="24"/>
                    </a:lnTo>
                    <a:lnTo>
                      <a:pt x="80" y="4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078"/>
              <p:cNvSpPr/>
              <p:nvPr/>
            </p:nvSpPr>
            <p:spPr>
              <a:xfrm rot="356400">
                <a:off x="6108840" y="4607280"/>
                <a:ext cx="95400" cy="99720"/>
              </a:xfrm>
              <a:custGeom>
                <a:avLst/>
                <a:gdLst/>
                <a:ahLst/>
                <a:rect l="l" t="t" r="r" b="b"/>
                <a:pathLst>
                  <a:path w="73" h="76">
                    <a:moveTo>
                      <a:pt x="29" y="75"/>
                    </a:moveTo>
                    <a:lnTo>
                      <a:pt x="0" y="50"/>
                    </a:lnTo>
                    <a:lnTo>
                      <a:pt x="12" y="33"/>
                    </a:lnTo>
                    <a:lnTo>
                      <a:pt x="24" y="0"/>
                    </a:lnTo>
                    <a:lnTo>
                      <a:pt x="56" y="13"/>
                    </a:lnTo>
                    <a:lnTo>
                      <a:pt x="72" y="35"/>
                    </a:lnTo>
                    <a:lnTo>
                      <a:pt x="60" y="50"/>
                    </a:lnTo>
                    <a:lnTo>
                      <a:pt x="29" y="75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079"/>
              <p:cNvSpPr/>
              <p:nvPr/>
            </p:nvSpPr>
            <p:spPr>
              <a:xfrm rot="356400">
                <a:off x="5572080" y="4169880"/>
                <a:ext cx="633960" cy="514800"/>
              </a:xfrm>
              <a:custGeom>
                <a:avLst/>
                <a:gdLst/>
                <a:ahLst/>
                <a:rect l="l" t="t" r="r" b="b"/>
                <a:pathLst>
                  <a:path w="478" h="385">
                    <a:moveTo>
                      <a:pt x="444" y="304"/>
                    </a:moveTo>
                    <a:lnTo>
                      <a:pt x="433" y="337"/>
                    </a:lnTo>
                    <a:lnTo>
                      <a:pt x="420" y="355"/>
                    </a:lnTo>
                    <a:lnTo>
                      <a:pt x="394" y="384"/>
                    </a:lnTo>
                    <a:lnTo>
                      <a:pt x="356" y="377"/>
                    </a:lnTo>
                    <a:lnTo>
                      <a:pt x="326" y="359"/>
                    </a:lnTo>
                    <a:lnTo>
                      <a:pt x="308" y="369"/>
                    </a:lnTo>
                    <a:lnTo>
                      <a:pt x="242" y="362"/>
                    </a:lnTo>
                    <a:lnTo>
                      <a:pt x="241" y="335"/>
                    </a:lnTo>
                    <a:lnTo>
                      <a:pt x="208" y="313"/>
                    </a:lnTo>
                    <a:lnTo>
                      <a:pt x="196" y="294"/>
                    </a:lnTo>
                    <a:lnTo>
                      <a:pt x="212" y="275"/>
                    </a:lnTo>
                    <a:lnTo>
                      <a:pt x="212" y="262"/>
                    </a:lnTo>
                    <a:lnTo>
                      <a:pt x="212" y="245"/>
                    </a:lnTo>
                    <a:lnTo>
                      <a:pt x="251" y="241"/>
                    </a:lnTo>
                    <a:lnTo>
                      <a:pt x="253" y="224"/>
                    </a:lnTo>
                    <a:lnTo>
                      <a:pt x="241" y="207"/>
                    </a:lnTo>
                    <a:lnTo>
                      <a:pt x="220" y="205"/>
                    </a:lnTo>
                    <a:lnTo>
                      <a:pt x="208" y="227"/>
                    </a:lnTo>
                    <a:lnTo>
                      <a:pt x="175" y="220"/>
                    </a:lnTo>
                    <a:lnTo>
                      <a:pt x="165" y="202"/>
                    </a:lnTo>
                    <a:lnTo>
                      <a:pt x="144" y="190"/>
                    </a:lnTo>
                    <a:lnTo>
                      <a:pt x="150" y="142"/>
                    </a:lnTo>
                    <a:lnTo>
                      <a:pt x="146" y="134"/>
                    </a:lnTo>
                    <a:lnTo>
                      <a:pt x="124" y="139"/>
                    </a:lnTo>
                    <a:lnTo>
                      <a:pt x="109" y="125"/>
                    </a:lnTo>
                    <a:lnTo>
                      <a:pt x="69" y="114"/>
                    </a:lnTo>
                    <a:lnTo>
                      <a:pt x="48" y="92"/>
                    </a:lnTo>
                    <a:lnTo>
                      <a:pt x="0" y="72"/>
                    </a:lnTo>
                    <a:lnTo>
                      <a:pt x="4" y="50"/>
                    </a:lnTo>
                    <a:lnTo>
                      <a:pt x="24" y="41"/>
                    </a:lnTo>
                    <a:lnTo>
                      <a:pt x="59" y="72"/>
                    </a:lnTo>
                    <a:lnTo>
                      <a:pt x="69" y="72"/>
                    </a:lnTo>
                    <a:lnTo>
                      <a:pt x="102" y="68"/>
                    </a:lnTo>
                    <a:lnTo>
                      <a:pt x="122" y="53"/>
                    </a:lnTo>
                    <a:lnTo>
                      <a:pt x="148" y="74"/>
                    </a:lnTo>
                    <a:lnTo>
                      <a:pt x="160" y="55"/>
                    </a:lnTo>
                    <a:lnTo>
                      <a:pt x="162" y="43"/>
                    </a:lnTo>
                    <a:lnTo>
                      <a:pt x="184" y="31"/>
                    </a:lnTo>
                    <a:lnTo>
                      <a:pt x="189" y="4"/>
                    </a:lnTo>
                    <a:lnTo>
                      <a:pt x="212" y="0"/>
                    </a:lnTo>
                    <a:lnTo>
                      <a:pt x="267" y="36"/>
                    </a:lnTo>
                    <a:lnTo>
                      <a:pt x="306" y="53"/>
                    </a:lnTo>
                    <a:lnTo>
                      <a:pt x="383" y="178"/>
                    </a:lnTo>
                    <a:lnTo>
                      <a:pt x="378" y="192"/>
                    </a:lnTo>
                    <a:lnTo>
                      <a:pt x="428" y="216"/>
                    </a:lnTo>
                    <a:lnTo>
                      <a:pt x="442" y="238"/>
                    </a:lnTo>
                    <a:lnTo>
                      <a:pt x="466" y="249"/>
                    </a:lnTo>
                    <a:lnTo>
                      <a:pt x="477" y="270"/>
                    </a:lnTo>
                    <a:lnTo>
                      <a:pt x="462" y="277"/>
                    </a:lnTo>
                    <a:lnTo>
                      <a:pt x="438" y="269"/>
                    </a:lnTo>
                    <a:lnTo>
                      <a:pt x="400" y="269"/>
                    </a:lnTo>
                    <a:lnTo>
                      <a:pt x="368" y="258"/>
                    </a:lnTo>
                    <a:lnTo>
                      <a:pt x="354" y="269"/>
                    </a:lnTo>
                    <a:lnTo>
                      <a:pt x="385" y="277"/>
                    </a:lnTo>
                    <a:lnTo>
                      <a:pt x="416" y="291"/>
                    </a:lnTo>
                    <a:lnTo>
                      <a:pt x="444" y="304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080"/>
              <p:cNvSpPr/>
              <p:nvPr/>
            </p:nvSpPr>
            <p:spPr>
              <a:xfrm rot="356400">
                <a:off x="4736160" y="4437000"/>
                <a:ext cx="866520" cy="550440"/>
              </a:xfrm>
              <a:custGeom>
                <a:avLst/>
                <a:gdLst/>
                <a:ahLst/>
                <a:rect l="l" t="t" r="r" b="b"/>
                <a:pathLst>
                  <a:path w="654" h="411">
                    <a:moveTo>
                      <a:pt x="76" y="410"/>
                    </a:moveTo>
                    <a:lnTo>
                      <a:pt x="90" y="380"/>
                    </a:lnTo>
                    <a:lnTo>
                      <a:pt x="129" y="346"/>
                    </a:lnTo>
                    <a:lnTo>
                      <a:pt x="166" y="361"/>
                    </a:lnTo>
                    <a:lnTo>
                      <a:pt x="190" y="346"/>
                    </a:lnTo>
                    <a:lnTo>
                      <a:pt x="171" y="322"/>
                    </a:lnTo>
                    <a:lnTo>
                      <a:pt x="181" y="310"/>
                    </a:lnTo>
                    <a:lnTo>
                      <a:pt x="282" y="317"/>
                    </a:lnTo>
                    <a:lnTo>
                      <a:pt x="317" y="342"/>
                    </a:lnTo>
                    <a:lnTo>
                      <a:pt x="335" y="353"/>
                    </a:lnTo>
                    <a:lnTo>
                      <a:pt x="361" y="335"/>
                    </a:lnTo>
                    <a:lnTo>
                      <a:pt x="380" y="329"/>
                    </a:lnTo>
                    <a:lnTo>
                      <a:pt x="385" y="353"/>
                    </a:lnTo>
                    <a:lnTo>
                      <a:pt x="401" y="353"/>
                    </a:lnTo>
                    <a:lnTo>
                      <a:pt x="411" y="337"/>
                    </a:lnTo>
                    <a:lnTo>
                      <a:pt x="433" y="315"/>
                    </a:lnTo>
                    <a:lnTo>
                      <a:pt x="444" y="330"/>
                    </a:lnTo>
                    <a:lnTo>
                      <a:pt x="444" y="361"/>
                    </a:lnTo>
                    <a:lnTo>
                      <a:pt x="454" y="375"/>
                    </a:lnTo>
                    <a:lnTo>
                      <a:pt x="473" y="380"/>
                    </a:lnTo>
                    <a:lnTo>
                      <a:pt x="495" y="357"/>
                    </a:lnTo>
                    <a:lnTo>
                      <a:pt x="528" y="346"/>
                    </a:lnTo>
                    <a:lnTo>
                      <a:pt x="588" y="289"/>
                    </a:lnTo>
                    <a:lnTo>
                      <a:pt x="617" y="291"/>
                    </a:lnTo>
                    <a:lnTo>
                      <a:pt x="653" y="279"/>
                    </a:lnTo>
                    <a:lnTo>
                      <a:pt x="611" y="200"/>
                    </a:lnTo>
                    <a:lnTo>
                      <a:pt x="624" y="176"/>
                    </a:lnTo>
                    <a:lnTo>
                      <a:pt x="619" y="168"/>
                    </a:lnTo>
                    <a:lnTo>
                      <a:pt x="598" y="161"/>
                    </a:lnTo>
                    <a:lnTo>
                      <a:pt x="561" y="139"/>
                    </a:lnTo>
                    <a:lnTo>
                      <a:pt x="543" y="127"/>
                    </a:lnTo>
                    <a:lnTo>
                      <a:pt x="519" y="139"/>
                    </a:lnTo>
                    <a:lnTo>
                      <a:pt x="492" y="117"/>
                    </a:lnTo>
                    <a:lnTo>
                      <a:pt x="458" y="117"/>
                    </a:lnTo>
                    <a:lnTo>
                      <a:pt x="432" y="101"/>
                    </a:lnTo>
                    <a:lnTo>
                      <a:pt x="425" y="79"/>
                    </a:lnTo>
                    <a:lnTo>
                      <a:pt x="411" y="66"/>
                    </a:lnTo>
                    <a:lnTo>
                      <a:pt x="392" y="77"/>
                    </a:lnTo>
                    <a:lnTo>
                      <a:pt x="375" y="69"/>
                    </a:lnTo>
                    <a:lnTo>
                      <a:pt x="320" y="77"/>
                    </a:lnTo>
                    <a:lnTo>
                      <a:pt x="260" y="64"/>
                    </a:lnTo>
                    <a:lnTo>
                      <a:pt x="188" y="0"/>
                    </a:lnTo>
                    <a:lnTo>
                      <a:pt x="169" y="16"/>
                    </a:lnTo>
                    <a:lnTo>
                      <a:pt x="160" y="9"/>
                    </a:lnTo>
                    <a:lnTo>
                      <a:pt x="145" y="9"/>
                    </a:lnTo>
                    <a:lnTo>
                      <a:pt x="78" y="9"/>
                    </a:lnTo>
                    <a:lnTo>
                      <a:pt x="69" y="17"/>
                    </a:lnTo>
                    <a:lnTo>
                      <a:pt x="90" y="38"/>
                    </a:lnTo>
                    <a:lnTo>
                      <a:pt x="109" y="42"/>
                    </a:lnTo>
                    <a:lnTo>
                      <a:pt x="126" y="48"/>
                    </a:lnTo>
                    <a:lnTo>
                      <a:pt x="118" y="62"/>
                    </a:lnTo>
                    <a:lnTo>
                      <a:pt x="85" y="77"/>
                    </a:lnTo>
                    <a:lnTo>
                      <a:pt x="78" y="103"/>
                    </a:lnTo>
                    <a:lnTo>
                      <a:pt x="85" y="112"/>
                    </a:lnTo>
                    <a:lnTo>
                      <a:pt x="90" y="146"/>
                    </a:lnTo>
                    <a:lnTo>
                      <a:pt x="109" y="147"/>
                    </a:lnTo>
                    <a:lnTo>
                      <a:pt x="129" y="173"/>
                    </a:lnTo>
                    <a:lnTo>
                      <a:pt x="138" y="225"/>
                    </a:lnTo>
                    <a:lnTo>
                      <a:pt x="131" y="243"/>
                    </a:lnTo>
                    <a:lnTo>
                      <a:pt x="118" y="238"/>
                    </a:lnTo>
                    <a:lnTo>
                      <a:pt x="81" y="267"/>
                    </a:lnTo>
                    <a:lnTo>
                      <a:pt x="17" y="278"/>
                    </a:lnTo>
                    <a:lnTo>
                      <a:pt x="0" y="295"/>
                    </a:lnTo>
                    <a:lnTo>
                      <a:pt x="13" y="313"/>
                    </a:lnTo>
                    <a:lnTo>
                      <a:pt x="16" y="351"/>
                    </a:lnTo>
                    <a:lnTo>
                      <a:pt x="33" y="355"/>
                    </a:lnTo>
                    <a:lnTo>
                      <a:pt x="76" y="410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081"/>
              <p:cNvSpPr/>
              <p:nvPr/>
            </p:nvSpPr>
            <p:spPr>
              <a:xfrm rot="356400">
                <a:off x="3515400" y="4255920"/>
                <a:ext cx="1391760" cy="1071360"/>
              </a:xfrm>
              <a:custGeom>
                <a:avLst/>
                <a:gdLst/>
                <a:ahLst/>
                <a:rect l="l" t="t" r="r" b="b"/>
                <a:pathLst>
                  <a:path w="1051" h="799">
                    <a:moveTo>
                      <a:pt x="396" y="99"/>
                    </a:moveTo>
                    <a:lnTo>
                      <a:pt x="409" y="67"/>
                    </a:lnTo>
                    <a:lnTo>
                      <a:pt x="394" y="50"/>
                    </a:lnTo>
                    <a:lnTo>
                      <a:pt x="392" y="24"/>
                    </a:lnTo>
                    <a:lnTo>
                      <a:pt x="447" y="0"/>
                    </a:lnTo>
                    <a:lnTo>
                      <a:pt x="459" y="0"/>
                    </a:lnTo>
                    <a:lnTo>
                      <a:pt x="468" y="19"/>
                    </a:lnTo>
                    <a:lnTo>
                      <a:pt x="471" y="46"/>
                    </a:lnTo>
                    <a:lnTo>
                      <a:pt x="497" y="63"/>
                    </a:lnTo>
                    <a:lnTo>
                      <a:pt x="533" y="99"/>
                    </a:lnTo>
                    <a:lnTo>
                      <a:pt x="552" y="85"/>
                    </a:lnTo>
                    <a:lnTo>
                      <a:pt x="565" y="99"/>
                    </a:lnTo>
                    <a:lnTo>
                      <a:pt x="569" y="133"/>
                    </a:lnTo>
                    <a:lnTo>
                      <a:pt x="591" y="149"/>
                    </a:lnTo>
                    <a:lnTo>
                      <a:pt x="648" y="154"/>
                    </a:lnTo>
                    <a:lnTo>
                      <a:pt x="657" y="142"/>
                    </a:lnTo>
                    <a:lnTo>
                      <a:pt x="655" y="127"/>
                    </a:lnTo>
                    <a:lnTo>
                      <a:pt x="688" y="118"/>
                    </a:lnTo>
                    <a:lnTo>
                      <a:pt x="705" y="123"/>
                    </a:lnTo>
                    <a:lnTo>
                      <a:pt x="708" y="142"/>
                    </a:lnTo>
                    <a:lnTo>
                      <a:pt x="722" y="145"/>
                    </a:lnTo>
                    <a:lnTo>
                      <a:pt x="780" y="133"/>
                    </a:lnTo>
                    <a:lnTo>
                      <a:pt x="791" y="138"/>
                    </a:lnTo>
                    <a:lnTo>
                      <a:pt x="793" y="154"/>
                    </a:lnTo>
                    <a:lnTo>
                      <a:pt x="817" y="160"/>
                    </a:lnTo>
                    <a:lnTo>
                      <a:pt x="868" y="184"/>
                    </a:lnTo>
                    <a:lnTo>
                      <a:pt x="896" y="173"/>
                    </a:lnTo>
                    <a:lnTo>
                      <a:pt x="957" y="195"/>
                    </a:lnTo>
                    <a:lnTo>
                      <a:pt x="971" y="213"/>
                    </a:lnTo>
                    <a:lnTo>
                      <a:pt x="1001" y="207"/>
                    </a:lnTo>
                    <a:lnTo>
                      <a:pt x="1021" y="208"/>
                    </a:lnTo>
                    <a:lnTo>
                      <a:pt x="1040" y="234"/>
                    </a:lnTo>
                    <a:lnTo>
                      <a:pt x="1050" y="286"/>
                    </a:lnTo>
                    <a:lnTo>
                      <a:pt x="1043" y="304"/>
                    </a:lnTo>
                    <a:lnTo>
                      <a:pt x="1030" y="299"/>
                    </a:lnTo>
                    <a:lnTo>
                      <a:pt x="992" y="328"/>
                    </a:lnTo>
                    <a:lnTo>
                      <a:pt x="928" y="339"/>
                    </a:lnTo>
                    <a:lnTo>
                      <a:pt x="911" y="356"/>
                    </a:lnTo>
                    <a:lnTo>
                      <a:pt x="925" y="374"/>
                    </a:lnTo>
                    <a:lnTo>
                      <a:pt x="927" y="412"/>
                    </a:lnTo>
                    <a:lnTo>
                      <a:pt x="944" y="416"/>
                    </a:lnTo>
                    <a:lnTo>
                      <a:pt x="988" y="470"/>
                    </a:lnTo>
                    <a:lnTo>
                      <a:pt x="990" y="544"/>
                    </a:lnTo>
                    <a:lnTo>
                      <a:pt x="961" y="566"/>
                    </a:lnTo>
                    <a:lnTo>
                      <a:pt x="935" y="540"/>
                    </a:lnTo>
                    <a:lnTo>
                      <a:pt x="911" y="506"/>
                    </a:lnTo>
                    <a:lnTo>
                      <a:pt x="909" y="487"/>
                    </a:lnTo>
                    <a:lnTo>
                      <a:pt x="892" y="482"/>
                    </a:lnTo>
                    <a:lnTo>
                      <a:pt x="872" y="489"/>
                    </a:lnTo>
                    <a:lnTo>
                      <a:pt x="839" y="473"/>
                    </a:lnTo>
                    <a:lnTo>
                      <a:pt x="823" y="511"/>
                    </a:lnTo>
                    <a:lnTo>
                      <a:pt x="796" y="513"/>
                    </a:lnTo>
                    <a:lnTo>
                      <a:pt x="775" y="544"/>
                    </a:lnTo>
                    <a:lnTo>
                      <a:pt x="762" y="537"/>
                    </a:lnTo>
                    <a:lnTo>
                      <a:pt x="743" y="544"/>
                    </a:lnTo>
                    <a:lnTo>
                      <a:pt x="712" y="526"/>
                    </a:lnTo>
                    <a:lnTo>
                      <a:pt x="688" y="555"/>
                    </a:lnTo>
                    <a:lnTo>
                      <a:pt x="688" y="568"/>
                    </a:lnTo>
                    <a:lnTo>
                      <a:pt x="736" y="595"/>
                    </a:lnTo>
                    <a:lnTo>
                      <a:pt x="746" y="614"/>
                    </a:lnTo>
                    <a:lnTo>
                      <a:pt x="712" y="627"/>
                    </a:lnTo>
                    <a:lnTo>
                      <a:pt x="659" y="626"/>
                    </a:lnTo>
                    <a:lnTo>
                      <a:pt x="653" y="603"/>
                    </a:lnTo>
                    <a:lnTo>
                      <a:pt x="633" y="597"/>
                    </a:lnTo>
                    <a:lnTo>
                      <a:pt x="600" y="617"/>
                    </a:lnTo>
                    <a:lnTo>
                      <a:pt x="578" y="605"/>
                    </a:lnTo>
                    <a:lnTo>
                      <a:pt x="576" y="576"/>
                    </a:lnTo>
                    <a:lnTo>
                      <a:pt x="565" y="564"/>
                    </a:lnTo>
                    <a:lnTo>
                      <a:pt x="565" y="548"/>
                    </a:lnTo>
                    <a:lnTo>
                      <a:pt x="535" y="542"/>
                    </a:lnTo>
                    <a:lnTo>
                      <a:pt x="526" y="550"/>
                    </a:lnTo>
                    <a:lnTo>
                      <a:pt x="530" y="573"/>
                    </a:lnTo>
                    <a:lnTo>
                      <a:pt x="506" y="583"/>
                    </a:lnTo>
                    <a:lnTo>
                      <a:pt x="499" y="599"/>
                    </a:lnTo>
                    <a:lnTo>
                      <a:pt x="506" y="619"/>
                    </a:lnTo>
                    <a:lnTo>
                      <a:pt x="451" y="682"/>
                    </a:lnTo>
                    <a:lnTo>
                      <a:pt x="459" y="757"/>
                    </a:lnTo>
                    <a:lnTo>
                      <a:pt x="433" y="780"/>
                    </a:lnTo>
                    <a:lnTo>
                      <a:pt x="420" y="766"/>
                    </a:lnTo>
                    <a:lnTo>
                      <a:pt x="368" y="798"/>
                    </a:lnTo>
                    <a:lnTo>
                      <a:pt x="348" y="786"/>
                    </a:lnTo>
                    <a:lnTo>
                      <a:pt x="272" y="639"/>
                    </a:lnTo>
                    <a:lnTo>
                      <a:pt x="241" y="617"/>
                    </a:lnTo>
                    <a:lnTo>
                      <a:pt x="217" y="610"/>
                    </a:lnTo>
                    <a:lnTo>
                      <a:pt x="205" y="590"/>
                    </a:lnTo>
                    <a:lnTo>
                      <a:pt x="219" y="568"/>
                    </a:lnTo>
                    <a:lnTo>
                      <a:pt x="197" y="550"/>
                    </a:lnTo>
                    <a:lnTo>
                      <a:pt x="171" y="573"/>
                    </a:lnTo>
                    <a:lnTo>
                      <a:pt x="145" y="576"/>
                    </a:lnTo>
                    <a:lnTo>
                      <a:pt x="126" y="497"/>
                    </a:lnTo>
                    <a:lnTo>
                      <a:pt x="122" y="477"/>
                    </a:lnTo>
                    <a:lnTo>
                      <a:pt x="118" y="350"/>
                    </a:lnTo>
                    <a:lnTo>
                      <a:pt x="93" y="286"/>
                    </a:lnTo>
                    <a:lnTo>
                      <a:pt x="112" y="272"/>
                    </a:lnTo>
                    <a:lnTo>
                      <a:pt x="61" y="180"/>
                    </a:lnTo>
                    <a:lnTo>
                      <a:pt x="0" y="131"/>
                    </a:lnTo>
                    <a:lnTo>
                      <a:pt x="9" y="103"/>
                    </a:lnTo>
                    <a:lnTo>
                      <a:pt x="16" y="94"/>
                    </a:lnTo>
                    <a:lnTo>
                      <a:pt x="105" y="80"/>
                    </a:lnTo>
                    <a:lnTo>
                      <a:pt x="164" y="99"/>
                    </a:lnTo>
                    <a:lnTo>
                      <a:pt x="199" y="87"/>
                    </a:lnTo>
                    <a:lnTo>
                      <a:pt x="212" y="109"/>
                    </a:lnTo>
                    <a:lnTo>
                      <a:pt x="256" y="154"/>
                    </a:lnTo>
                    <a:lnTo>
                      <a:pt x="291" y="147"/>
                    </a:lnTo>
                    <a:lnTo>
                      <a:pt x="291" y="120"/>
                    </a:lnTo>
                    <a:lnTo>
                      <a:pt x="300" y="103"/>
                    </a:lnTo>
                    <a:lnTo>
                      <a:pt x="335" y="89"/>
                    </a:lnTo>
                    <a:lnTo>
                      <a:pt x="348" y="111"/>
                    </a:lnTo>
                    <a:lnTo>
                      <a:pt x="368" y="96"/>
                    </a:lnTo>
                    <a:lnTo>
                      <a:pt x="396" y="101"/>
                    </a:lnTo>
                    <a:lnTo>
                      <a:pt x="396" y="99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082"/>
              <p:cNvSpPr/>
              <p:nvPr/>
            </p:nvSpPr>
            <p:spPr>
              <a:xfrm rot="356400">
                <a:off x="1535040" y="3683520"/>
                <a:ext cx="2188440" cy="1208520"/>
              </a:xfrm>
              <a:custGeom>
                <a:avLst/>
                <a:gdLst/>
                <a:ahLst/>
                <a:rect l="l" t="t" r="r" b="b"/>
                <a:pathLst>
                  <a:path w="1652" h="902">
                    <a:moveTo>
                      <a:pt x="952" y="853"/>
                    </a:moveTo>
                    <a:lnTo>
                      <a:pt x="1005" y="860"/>
                    </a:lnTo>
                    <a:lnTo>
                      <a:pt x="1023" y="884"/>
                    </a:lnTo>
                    <a:lnTo>
                      <a:pt x="1031" y="889"/>
                    </a:lnTo>
                    <a:lnTo>
                      <a:pt x="1110" y="874"/>
                    </a:lnTo>
                    <a:lnTo>
                      <a:pt x="1114" y="860"/>
                    </a:lnTo>
                    <a:lnTo>
                      <a:pt x="1129" y="851"/>
                    </a:lnTo>
                    <a:lnTo>
                      <a:pt x="1167" y="821"/>
                    </a:lnTo>
                    <a:lnTo>
                      <a:pt x="1200" y="816"/>
                    </a:lnTo>
                    <a:lnTo>
                      <a:pt x="1231" y="797"/>
                    </a:lnTo>
                    <a:lnTo>
                      <a:pt x="1289" y="763"/>
                    </a:lnTo>
                    <a:lnTo>
                      <a:pt x="1296" y="774"/>
                    </a:lnTo>
                    <a:lnTo>
                      <a:pt x="1340" y="790"/>
                    </a:lnTo>
                    <a:lnTo>
                      <a:pt x="1404" y="756"/>
                    </a:lnTo>
                    <a:lnTo>
                      <a:pt x="1423" y="770"/>
                    </a:lnTo>
                    <a:lnTo>
                      <a:pt x="1406" y="797"/>
                    </a:lnTo>
                    <a:lnTo>
                      <a:pt x="1413" y="803"/>
                    </a:lnTo>
                    <a:lnTo>
                      <a:pt x="1439" y="803"/>
                    </a:lnTo>
                    <a:lnTo>
                      <a:pt x="1440" y="814"/>
                    </a:lnTo>
                    <a:lnTo>
                      <a:pt x="1418" y="853"/>
                    </a:lnTo>
                    <a:lnTo>
                      <a:pt x="1425" y="860"/>
                    </a:lnTo>
                    <a:lnTo>
                      <a:pt x="1439" y="860"/>
                    </a:lnTo>
                    <a:lnTo>
                      <a:pt x="1502" y="877"/>
                    </a:lnTo>
                    <a:lnTo>
                      <a:pt x="1530" y="853"/>
                    </a:lnTo>
                    <a:lnTo>
                      <a:pt x="1572" y="887"/>
                    </a:lnTo>
                    <a:lnTo>
                      <a:pt x="1585" y="872"/>
                    </a:lnTo>
                    <a:lnTo>
                      <a:pt x="1596" y="882"/>
                    </a:lnTo>
                    <a:lnTo>
                      <a:pt x="1609" y="882"/>
                    </a:lnTo>
                    <a:lnTo>
                      <a:pt x="1616" y="872"/>
                    </a:lnTo>
                    <a:lnTo>
                      <a:pt x="1614" y="821"/>
                    </a:lnTo>
                    <a:lnTo>
                      <a:pt x="1624" y="814"/>
                    </a:lnTo>
                    <a:lnTo>
                      <a:pt x="1651" y="781"/>
                    </a:lnTo>
                    <a:lnTo>
                      <a:pt x="1647" y="653"/>
                    </a:lnTo>
                    <a:lnTo>
                      <a:pt x="1622" y="589"/>
                    </a:lnTo>
                    <a:lnTo>
                      <a:pt x="1640" y="576"/>
                    </a:lnTo>
                    <a:lnTo>
                      <a:pt x="1590" y="483"/>
                    </a:lnTo>
                    <a:lnTo>
                      <a:pt x="1528" y="434"/>
                    </a:lnTo>
                    <a:lnTo>
                      <a:pt x="1511" y="445"/>
                    </a:lnTo>
                    <a:lnTo>
                      <a:pt x="1513" y="474"/>
                    </a:lnTo>
                    <a:lnTo>
                      <a:pt x="1461" y="542"/>
                    </a:lnTo>
                    <a:lnTo>
                      <a:pt x="1373" y="525"/>
                    </a:lnTo>
                    <a:lnTo>
                      <a:pt x="1366" y="491"/>
                    </a:lnTo>
                    <a:lnTo>
                      <a:pt x="1311" y="448"/>
                    </a:lnTo>
                    <a:lnTo>
                      <a:pt x="1191" y="428"/>
                    </a:lnTo>
                    <a:lnTo>
                      <a:pt x="1138" y="419"/>
                    </a:lnTo>
                    <a:lnTo>
                      <a:pt x="1119" y="417"/>
                    </a:lnTo>
                    <a:lnTo>
                      <a:pt x="1073" y="380"/>
                    </a:lnTo>
                    <a:lnTo>
                      <a:pt x="978" y="357"/>
                    </a:lnTo>
                    <a:lnTo>
                      <a:pt x="913" y="229"/>
                    </a:lnTo>
                    <a:lnTo>
                      <a:pt x="911" y="194"/>
                    </a:lnTo>
                    <a:lnTo>
                      <a:pt x="937" y="180"/>
                    </a:lnTo>
                    <a:lnTo>
                      <a:pt x="937" y="141"/>
                    </a:lnTo>
                    <a:lnTo>
                      <a:pt x="956" y="93"/>
                    </a:lnTo>
                    <a:lnTo>
                      <a:pt x="935" y="70"/>
                    </a:lnTo>
                    <a:lnTo>
                      <a:pt x="963" y="46"/>
                    </a:lnTo>
                    <a:lnTo>
                      <a:pt x="945" y="35"/>
                    </a:lnTo>
                    <a:lnTo>
                      <a:pt x="902" y="35"/>
                    </a:lnTo>
                    <a:lnTo>
                      <a:pt x="823" y="0"/>
                    </a:lnTo>
                    <a:lnTo>
                      <a:pt x="772" y="0"/>
                    </a:lnTo>
                    <a:lnTo>
                      <a:pt x="734" y="11"/>
                    </a:lnTo>
                    <a:lnTo>
                      <a:pt x="689" y="11"/>
                    </a:lnTo>
                    <a:lnTo>
                      <a:pt x="621" y="48"/>
                    </a:lnTo>
                    <a:lnTo>
                      <a:pt x="567" y="42"/>
                    </a:lnTo>
                    <a:lnTo>
                      <a:pt x="512" y="62"/>
                    </a:lnTo>
                    <a:lnTo>
                      <a:pt x="466" y="46"/>
                    </a:lnTo>
                    <a:lnTo>
                      <a:pt x="437" y="21"/>
                    </a:lnTo>
                    <a:lnTo>
                      <a:pt x="365" y="11"/>
                    </a:lnTo>
                    <a:lnTo>
                      <a:pt x="317" y="43"/>
                    </a:lnTo>
                    <a:lnTo>
                      <a:pt x="291" y="33"/>
                    </a:lnTo>
                    <a:lnTo>
                      <a:pt x="268" y="16"/>
                    </a:lnTo>
                    <a:lnTo>
                      <a:pt x="217" y="2"/>
                    </a:lnTo>
                    <a:lnTo>
                      <a:pt x="177" y="28"/>
                    </a:lnTo>
                    <a:lnTo>
                      <a:pt x="164" y="69"/>
                    </a:lnTo>
                    <a:lnTo>
                      <a:pt x="133" y="86"/>
                    </a:lnTo>
                    <a:lnTo>
                      <a:pt x="129" y="110"/>
                    </a:lnTo>
                    <a:lnTo>
                      <a:pt x="109" y="117"/>
                    </a:lnTo>
                    <a:lnTo>
                      <a:pt x="86" y="115"/>
                    </a:lnTo>
                    <a:lnTo>
                      <a:pt x="78" y="132"/>
                    </a:lnTo>
                    <a:lnTo>
                      <a:pt x="74" y="156"/>
                    </a:lnTo>
                    <a:lnTo>
                      <a:pt x="62" y="156"/>
                    </a:lnTo>
                    <a:lnTo>
                      <a:pt x="62" y="180"/>
                    </a:lnTo>
                    <a:lnTo>
                      <a:pt x="89" y="207"/>
                    </a:lnTo>
                    <a:lnTo>
                      <a:pt x="89" y="245"/>
                    </a:lnTo>
                    <a:lnTo>
                      <a:pt x="83" y="260"/>
                    </a:lnTo>
                    <a:lnTo>
                      <a:pt x="43" y="265"/>
                    </a:lnTo>
                    <a:lnTo>
                      <a:pt x="24" y="243"/>
                    </a:lnTo>
                    <a:lnTo>
                      <a:pt x="2" y="245"/>
                    </a:lnTo>
                    <a:lnTo>
                      <a:pt x="0" y="262"/>
                    </a:lnTo>
                    <a:lnTo>
                      <a:pt x="10" y="291"/>
                    </a:lnTo>
                    <a:lnTo>
                      <a:pt x="12" y="311"/>
                    </a:lnTo>
                    <a:lnTo>
                      <a:pt x="12" y="337"/>
                    </a:lnTo>
                    <a:lnTo>
                      <a:pt x="9" y="356"/>
                    </a:lnTo>
                    <a:lnTo>
                      <a:pt x="10" y="371"/>
                    </a:lnTo>
                    <a:lnTo>
                      <a:pt x="34" y="373"/>
                    </a:lnTo>
                    <a:lnTo>
                      <a:pt x="50" y="397"/>
                    </a:lnTo>
                    <a:lnTo>
                      <a:pt x="109" y="443"/>
                    </a:lnTo>
                    <a:lnTo>
                      <a:pt x="109" y="459"/>
                    </a:lnTo>
                    <a:lnTo>
                      <a:pt x="153" y="508"/>
                    </a:lnTo>
                    <a:lnTo>
                      <a:pt x="165" y="525"/>
                    </a:lnTo>
                    <a:lnTo>
                      <a:pt x="181" y="530"/>
                    </a:lnTo>
                    <a:lnTo>
                      <a:pt x="208" y="503"/>
                    </a:lnTo>
                    <a:lnTo>
                      <a:pt x="232" y="525"/>
                    </a:lnTo>
                    <a:lnTo>
                      <a:pt x="332" y="611"/>
                    </a:lnTo>
                    <a:lnTo>
                      <a:pt x="349" y="655"/>
                    </a:lnTo>
                    <a:lnTo>
                      <a:pt x="372" y="655"/>
                    </a:lnTo>
                    <a:lnTo>
                      <a:pt x="385" y="642"/>
                    </a:lnTo>
                    <a:lnTo>
                      <a:pt x="396" y="653"/>
                    </a:lnTo>
                    <a:lnTo>
                      <a:pt x="396" y="693"/>
                    </a:lnTo>
                    <a:lnTo>
                      <a:pt x="455" y="725"/>
                    </a:lnTo>
                    <a:lnTo>
                      <a:pt x="468" y="723"/>
                    </a:lnTo>
                    <a:lnTo>
                      <a:pt x="476" y="756"/>
                    </a:lnTo>
                    <a:lnTo>
                      <a:pt x="528" y="785"/>
                    </a:lnTo>
                    <a:lnTo>
                      <a:pt x="529" y="805"/>
                    </a:lnTo>
                    <a:lnTo>
                      <a:pt x="538" y="812"/>
                    </a:lnTo>
                    <a:lnTo>
                      <a:pt x="581" y="809"/>
                    </a:lnTo>
                    <a:lnTo>
                      <a:pt x="607" y="809"/>
                    </a:lnTo>
                    <a:lnTo>
                      <a:pt x="641" y="836"/>
                    </a:lnTo>
                    <a:lnTo>
                      <a:pt x="720" y="834"/>
                    </a:lnTo>
                    <a:lnTo>
                      <a:pt x="762" y="831"/>
                    </a:lnTo>
                    <a:lnTo>
                      <a:pt x="772" y="850"/>
                    </a:lnTo>
                    <a:lnTo>
                      <a:pt x="763" y="887"/>
                    </a:lnTo>
                    <a:lnTo>
                      <a:pt x="775" y="901"/>
                    </a:lnTo>
                    <a:lnTo>
                      <a:pt x="818" y="862"/>
                    </a:lnTo>
                    <a:lnTo>
                      <a:pt x="873" y="823"/>
                    </a:lnTo>
                    <a:lnTo>
                      <a:pt x="913" y="829"/>
                    </a:lnTo>
                    <a:lnTo>
                      <a:pt x="952" y="853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083"/>
              <p:cNvSpPr/>
              <p:nvPr/>
            </p:nvSpPr>
            <p:spPr>
              <a:xfrm rot="356400">
                <a:off x="2779920" y="3466080"/>
                <a:ext cx="1411200" cy="1031040"/>
              </a:xfrm>
              <a:custGeom>
                <a:avLst/>
                <a:gdLst/>
                <a:ahLst/>
                <a:rect l="l" t="t" r="r" b="b"/>
                <a:pathLst>
                  <a:path w="1067" h="770">
                    <a:moveTo>
                      <a:pt x="52" y="272"/>
                    </a:moveTo>
                    <a:lnTo>
                      <a:pt x="86" y="286"/>
                    </a:lnTo>
                    <a:lnTo>
                      <a:pt x="146" y="267"/>
                    </a:lnTo>
                    <a:lnTo>
                      <a:pt x="138" y="255"/>
                    </a:lnTo>
                    <a:lnTo>
                      <a:pt x="122" y="255"/>
                    </a:lnTo>
                    <a:lnTo>
                      <a:pt x="115" y="238"/>
                    </a:lnTo>
                    <a:lnTo>
                      <a:pt x="119" y="222"/>
                    </a:lnTo>
                    <a:lnTo>
                      <a:pt x="148" y="209"/>
                    </a:lnTo>
                    <a:lnTo>
                      <a:pt x="167" y="176"/>
                    </a:lnTo>
                    <a:lnTo>
                      <a:pt x="107" y="125"/>
                    </a:lnTo>
                    <a:lnTo>
                      <a:pt x="105" y="72"/>
                    </a:lnTo>
                    <a:lnTo>
                      <a:pt x="133" y="50"/>
                    </a:lnTo>
                    <a:lnTo>
                      <a:pt x="334" y="10"/>
                    </a:lnTo>
                    <a:lnTo>
                      <a:pt x="347" y="0"/>
                    </a:lnTo>
                    <a:lnTo>
                      <a:pt x="378" y="4"/>
                    </a:lnTo>
                    <a:lnTo>
                      <a:pt x="478" y="28"/>
                    </a:lnTo>
                    <a:lnTo>
                      <a:pt x="509" y="46"/>
                    </a:lnTo>
                    <a:lnTo>
                      <a:pt x="554" y="72"/>
                    </a:lnTo>
                    <a:lnTo>
                      <a:pt x="581" y="70"/>
                    </a:lnTo>
                    <a:lnTo>
                      <a:pt x="626" y="43"/>
                    </a:lnTo>
                    <a:lnTo>
                      <a:pt x="683" y="52"/>
                    </a:lnTo>
                    <a:lnTo>
                      <a:pt x="719" y="33"/>
                    </a:lnTo>
                    <a:lnTo>
                      <a:pt x="796" y="81"/>
                    </a:lnTo>
                    <a:lnTo>
                      <a:pt x="838" y="65"/>
                    </a:lnTo>
                    <a:lnTo>
                      <a:pt x="860" y="118"/>
                    </a:lnTo>
                    <a:lnTo>
                      <a:pt x="912" y="151"/>
                    </a:lnTo>
                    <a:lnTo>
                      <a:pt x="951" y="187"/>
                    </a:lnTo>
                    <a:lnTo>
                      <a:pt x="980" y="176"/>
                    </a:lnTo>
                    <a:lnTo>
                      <a:pt x="1035" y="248"/>
                    </a:lnTo>
                    <a:lnTo>
                      <a:pt x="1046" y="295"/>
                    </a:lnTo>
                    <a:lnTo>
                      <a:pt x="1066" y="323"/>
                    </a:lnTo>
                    <a:lnTo>
                      <a:pt x="1059" y="378"/>
                    </a:lnTo>
                    <a:lnTo>
                      <a:pt x="1015" y="414"/>
                    </a:lnTo>
                    <a:lnTo>
                      <a:pt x="1023" y="436"/>
                    </a:lnTo>
                    <a:lnTo>
                      <a:pt x="1006" y="453"/>
                    </a:lnTo>
                    <a:lnTo>
                      <a:pt x="984" y="474"/>
                    </a:lnTo>
                    <a:lnTo>
                      <a:pt x="984" y="511"/>
                    </a:lnTo>
                    <a:lnTo>
                      <a:pt x="965" y="527"/>
                    </a:lnTo>
                    <a:lnTo>
                      <a:pt x="941" y="520"/>
                    </a:lnTo>
                    <a:lnTo>
                      <a:pt x="920" y="500"/>
                    </a:lnTo>
                    <a:lnTo>
                      <a:pt x="910" y="522"/>
                    </a:lnTo>
                    <a:lnTo>
                      <a:pt x="923" y="542"/>
                    </a:lnTo>
                    <a:lnTo>
                      <a:pt x="958" y="546"/>
                    </a:lnTo>
                    <a:lnTo>
                      <a:pt x="991" y="580"/>
                    </a:lnTo>
                    <a:lnTo>
                      <a:pt x="1011" y="580"/>
                    </a:lnTo>
                    <a:lnTo>
                      <a:pt x="1026" y="597"/>
                    </a:lnTo>
                    <a:lnTo>
                      <a:pt x="1013" y="628"/>
                    </a:lnTo>
                    <a:lnTo>
                      <a:pt x="1013" y="630"/>
                    </a:lnTo>
                    <a:lnTo>
                      <a:pt x="984" y="626"/>
                    </a:lnTo>
                    <a:lnTo>
                      <a:pt x="965" y="641"/>
                    </a:lnTo>
                    <a:lnTo>
                      <a:pt x="951" y="619"/>
                    </a:lnTo>
                    <a:lnTo>
                      <a:pt x="917" y="633"/>
                    </a:lnTo>
                    <a:lnTo>
                      <a:pt x="908" y="650"/>
                    </a:lnTo>
                    <a:lnTo>
                      <a:pt x="908" y="676"/>
                    </a:lnTo>
                    <a:lnTo>
                      <a:pt x="872" y="683"/>
                    </a:lnTo>
                    <a:lnTo>
                      <a:pt x="829" y="638"/>
                    </a:lnTo>
                    <a:lnTo>
                      <a:pt x="815" y="617"/>
                    </a:lnTo>
                    <a:lnTo>
                      <a:pt x="781" y="628"/>
                    </a:lnTo>
                    <a:lnTo>
                      <a:pt x="722" y="610"/>
                    </a:lnTo>
                    <a:lnTo>
                      <a:pt x="632" y="623"/>
                    </a:lnTo>
                    <a:lnTo>
                      <a:pt x="626" y="633"/>
                    </a:lnTo>
                    <a:lnTo>
                      <a:pt x="616" y="660"/>
                    </a:lnTo>
                    <a:lnTo>
                      <a:pt x="599" y="672"/>
                    </a:lnTo>
                    <a:lnTo>
                      <a:pt x="602" y="701"/>
                    </a:lnTo>
                    <a:lnTo>
                      <a:pt x="549" y="769"/>
                    </a:lnTo>
                    <a:lnTo>
                      <a:pt x="461" y="751"/>
                    </a:lnTo>
                    <a:lnTo>
                      <a:pt x="454" y="718"/>
                    </a:lnTo>
                    <a:lnTo>
                      <a:pt x="399" y="674"/>
                    </a:lnTo>
                    <a:lnTo>
                      <a:pt x="279" y="655"/>
                    </a:lnTo>
                    <a:lnTo>
                      <a:pt x="227" y="645"/>
                    </a:lnTo>
                    <a:lnTo>
                      <a:pt x="207" y="643"/>
                    </a:lnTo>
                    <a:lnTo>
                      <a:pt x="162" y="606"/>
                    </a:lnTo>
                    <a:lnTo>
                      <a:pt x="67" y="583"/>
                    </a:lnTo>
                    <a:lnTo>
                      <a:pt x="2" y="455"/>
                    </a:lnTo>
                    <a:lnTo>
                      <a:pt x="0" y="421"/>
                    </a:lnTo>
                    <a:lnTo>
                      <a:pt x="26" y="407"/>
                    </a:lnTo>
                    <a:lnTo>
                      <a:pt x="26" y="368"/>
                    </a:lnTo>
                    <a:lnTo>
                      <a:pt x="45" y="320"/>
                    </a:lnTo>
                    <a:lnTo>
                      <a:pt x="23" y="297"/>
                    </a:lnTo>
                    <a:lnTo>
                      <a:pt x="52" y="272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084"/>
              <p:cNvSpPr/>
              <p:nvPr/>
            </p:nvSpPr>
            <p:spPr>
              <a:xfrm rot="356400">
                <a:off x="3290760" y="3108600"/>
                <a:ext cx="1528920" cy="1332720"/>
              </a:xfrm>
              <a:custGeom>
                <a:avLst/>
                <a:gdLst/>
                <a:ahLst/>
                <a:rect l="l" t="t" r="r" b="b"/>
                <a:pathLst>
                  <a:path w="1155" h="994">
                    <a:moveTo>
                      <a:pt x="10" y="313"/>
                    </a:moveTo>
                    <a:lnTo>
                      <a:pt x="0" y="185"/>
                    </a:lnTo>
                    <a:lnTo>
                      <a:pt x="5" y="158"/>
                    </a:lnTo>
                    <a:lnTo>
                      <a:pt x="43" y="140"/>
                    </a:lnTo>
                    <a:lnTo>
                      <a:pt x="96" y="96"/>
                    </a:lnTo>
                    <a:lnTo>
                      <a:pt x="177" y="63"/>
                    </a:lnTo>
                    <a:lnTo>
                      <a:pt x="210" y="48"/>
                    </a:lnTo>
                    <a:lnTo>
                      <a:pt x="210" y="17"/>
                    </a:lnTo>
                    <a:lnTo>
                      <a:pt x="225" y="0"/>
                    </a:lnTo>
                    <a:lnTo>
                      <a:pt x="239" y="2"/>
                    </a:lnTo>
                    <a:lnTo>
                      <a:pt x="292" y="10"/>
                    </a:lnTo>
                    <a:lnTo>
                      <a:pt x="291" y="34"/>
                    </a:lnTo>
                    <a:lnTo>
                      <a:pt x="301" y="72"/>
                    </a:lnTo>
                    <a:lnTo>
                      <a:pt x="295" y="134"/>
                    </a:lnTo>
                    <a:lnTo>
                      <a:pt x="341" y="202"/>
                    </a:lnTo>
                    <a:lnTo>
                      <a:pt x="365" y="217"/>
                    </a:lnTo>
                    <a:lnTo>
                      <a:pt x="402" y="188"/>
                    </a:lnTo>
                    <a:lnTo>
                      <a:pt x="481" y="188"/>
                    </a:lnTo>
                    <a:lnTo>
                      <a:pt x="500" y="195"/>
                    </a:lnTo>
                    <a:lnTo>
                      <a:pt x="512" y="213"/>
                    </a:lnTo>
                    <a:lnTo>
                      <a:pt x="503" y="233"/>
                    </a:lnTo>
                    <a:lnTo>
                      <a:pt x="459" y="268"/>
                    </a:lnTo>
                    <a:lnTo>
                      <a:pt x="464" y="286"/>
                    </a:lnTo>
                    <a:lnTo>
                      <a:pt x="514" y="323"/>
                    </a:lnTo>
                    <a:lnTo>
                      <a:pt x="534" y="323"/>
                    </a:lnTo>
                    <a:lnTo>
                      <a:pt x="540" y="332"/>
                    </a:lnTo>
                    <a:lnTo>
                      <a:pt x="536" y="347"/>
                    </a:lnTo>
                    <a:lnTo>
                      <a:pt x="567" y="372"/>
                    </a:lnTo>
                    <a:lnTo>
                      <a:pt x="639" y="383"/>
                    </a:lnTo>
                    <a:lnTo>
                      <a:pt x="674" y="374"/>
                    </a:lnTo>
                    <a:lnTo>
                      <a:pt x="718" y="330"/>
                    </a:lnTo>
                    <a:lnTo>
                      <a:pt x="770" y="335"/>
                    </a:lnTo>
                    <a:lnTo>
                      <a:pt x="792" y="368"/>
                    </a:lnTo>
                    <a:lnTo>
                      <a:pt x="780" y="398"/>
                    </a:lnTo>
                    <a:lnTo>
                      <a:pt x="784" y="417"/>
                    </a:lnTo>
                    <a:lnTo>
                      <a:pt x="755" y="434"/>
                    </a:lnTo>
                    <a:lnTo>
                      <a:pt x="742" y="449"/>
                    </a:lnTo>
                    <a:lnTo>
                      <a:pt x="746" y="487"/>
                    </a:lnTo>
                    <a:lnTo>
                      <a:pt x="797" y="522"/>
                    </a:lnTo>
                    <a:lnTo>
                      <a:pt x="818" y="518"/>
                    </a:lnTo>
                    <a:lnTo>
                      <a:pt x="878" y="590"/>
                    </a:lnTo>
                    <a:lnTo>
                      <a:pt x="890" y="646"/>
                    </a:lnTo>
                    <a:lnTo>
                      <a:pt x="885" y="672"/>
                    </a:lnTo>
                    <a:lnTo>
                      <a:pt x="926" y="694"/>
                    </a:lnTo>
                    <a:lnTo>
                      <a:pt x="926" y="711"/>
                    </a:lnTo>
                    <a:lnTo>
                      <a:pt x="964" y="721"/>
                    </a:lnTo>
                    <a:lnTo>
                      <a:pt x="974" y="721"/>
                    </a:lnTo>
                    <a:lnTo>
                      <a:pt x="974" y="690"/>
                    </a:lnTo>
                    <a:lnTo>
                      <a:pt x="1003" y="685"/>
                    </a:lnTo>
                    <a:lnTo>
                      <a:pt x="1009" y="648"/>
                    </a:lnTo>
                    <a:lnTo>
                      <a:pt x="990" y="632"/>
                    </a:lnTo>
                    <a:lnTo>
                      <a:pt x="974" y="617"/>
                    </a:lnTo>
                    <a:lnTo>
                      <a:pt x="981" y="547"/>
                    </a:lnTo>
                    <a:lnTo>
                      <a:pt x="996" y="537"/>
                    </a:lnTo>
                    <a:lnTo>
                      <a:pt x="1022" y="549"/>
                    </a:lnTo>
                    <a:lnTo>
                      <a:pt x="1033" y="544"/>
                    </a:lnTo>
                    <a:lnTo>
                      <a:pt x="1040" y="557"/>
                    </a:lnTo>
                    <a:lnTo>
                      <a:pt x="1110" y="593"/>
                    </a:lnTo>
                    <a:lnTo>
                      <a:pt x="1148" y="617"/>
                    </a:lnTo>
                    <a:lnTo>
                      <a:pt x="1154" y="639"/>
                    </a:lnTo>
                    <a:lnTo>
                      <a:pt x="1134" y="668"/>
                    </a:lnTo>
                    <a:lnTo>
                      <a:pt x="1145" y="701"/>
                    </a:lnTo>
                    <a:lnTo>
                      <a:pt x="1139" y="716"/>
                    </a:lnTo>
                    <a:lnTo>
                      <a:pt x="1086" y="721"/>
                    </a:lnTo>
                    <a:lnTo>
                      <a:pt x="1075" y="728"/>
                    </a:lnTo>
                    <a:lnTo>
                      <a:pt x="1079" y="736"/>
                    </a:lnTo>
                    <a:lnTo>
                      <a:pt x="1079" y="752"/>
                    </a:lnTo>
                    <a:lnTo>
                      <a:pt x="1038" y="756"/>
                    </a:lnTo>
                    <a:lnTo>
                      <a:pt x="1016" y="745"/>
                    </a:lnTo>
                    <a:lnTo>
                      <a:pt x="988" y="745"/>
                    </a:lnTo>
                    <a:lnTo>
                      <a:pt x="983" y="752"/>
                    </a:lnTo>
                    <a:lnTo>
                      <a:pt x="988" y="767"/>
                    </a:lnTo>
                    <a:lnTo>
                      <a:pt x="974" y="783"/>
                    </a:lnTo>
                    <a:lnTo>
                      <a:pt x="969" y="800"/>
                    </a:lnTo>
                    <a:lnTo>
                      <a:pt x="996" y="822"/>
                    </a:lnTo>
                    <a:lnTo>
                      <a:pt x="976" y="862"/>
                    </a:lnTo>
                    <a:lnTo>
                      <a:pt x="985" y="882"/>
                    </a:lnTo>
                    <a:lnTo>
                      <a:pt x="983" y="891"/>
                    </a:lnTo>
                    <a:lnTo>
                      <a:pt x="952" y="891"/>
                    </a:lnTo>
                    <a:lnTo>
                      <a:pt x="930" y="901"/>
                    </a:lnTo>
                    <a:lnTo>
                      <a:pt x="948" y="926"/>
                    </a:lnTo>
                    <a:lnTo>
                      <a:pt x="937" y="957"/>
                    </a:lnTo>
                    <a:lnTo>
                      <a:pt x="904" y="966"/>
                    </a:lnTo>
                    <a:lnTo>
                      <a:pt x="906" y="981"/>
                    </a:lnTo>
                    <a:lnTo>
                      <a:pt x="897" y="993"/>
                    </a:lnTo>
                    <a:lnTo>
                      <a:pt x="840" y="988"/>
                    </a:lnTo>
                    <a:lnTo>
                      <a:pt x="818" y="972"/>
                    </a:lnTo>
                    <a:lnTo>
                      <a:pt x="814" y="937"/>
                    </a:lnTo>
                    <a:lnTo>
                      <a:pt x="801" y="923"/>
                    </a:lnTo>
                    <a:lnTo>
                      <a:pt x="782" y="937"/>
                    </a:lnTo>
                    <a:lnTo>
                      <a:pt x="746" y="901"/>
                    </a:lnTo>
                    <a:lnTo>
                      <a:pt x="720" y="884"/>
                    </a:lnTo>
                    <a:lnTo>
                      <a:pt x="718" y="858"/>
                    </a:lnTo>
                    <a:lnTo>
                      <a:pt x="709" y="838"/>
                    </a:lnTo>
                    <a:lnTo>
                      <a:pt x="696" y="838"/>
                    </a:lnTo>
                    <a:lnTo>
                      <a:pt x="641" y="862"/>
                    </a:lnTo>
                    <a:lnTo>
                      <a:pt x="643" y="889"/>
                    </a:lnTo>
                    <a:lnTo>
                      <a:pt x="624" y="889"/>
                    </a:lnTo>
                    <a:lnTo>
                      <a:pt x="591" y="855"/>
                    </a:lnTo>
                    <a:lnTo>
                      <a:pt x="555" y="851"/>
                    </a:lnTo>
                    <a:lnTo>
                      <a:pt x="543" y="831"/>
                    </a:lnTo>
                    <a:lnTo>
                      <a:pt x="553" y="809"/>
                    </a:lnTo>
                    <a:lnTo>
                      <a:pt x="574" y="829"/>
                    </a:lnTo>
                    <a:lnTo>
                      <a:pt x="598" y="836"/>
                    </a:lnTo>
                    <a:lnTo>
                      <a:pt x="617" y="820"/>
                    </a:lnTo>
                    <a:lnTo>
                      <a:pt x="617" y="783"/>
                    </a:lnTo>
                    <a:lnTo>
                      <a:pt x="639" y="762"/>
                    </a:lnTo>
                    <a:lnTo>
                      <a:pt x="656" y="745"/>
                    </a:lnTo>
                    <a:lnTo>
                      <a:pt x="648" y="723"/>
                    </a:lnTo>
                    <a:lnTo>
                      <a:pt x="691" y="687"/>
                    </a:lnTo>
                    <a:lnTo>
                      <a:pt x="698" y="632"/>
                    </a:lnTo>
                    <a:lnTo>
                      <a:pt x="679" y="604"/>
                    </a:lnTo>
                    <a:lnTo>
                      <a:pt x="667" y="557"/>
                    </a:lnTo>
                    <a:lnTo>
                      <a:pt x="613" y="484"/>
                    </a:lnTo>
                    <a:lnTo>
                      <a:pt x="584" y="496"/>
                    </a:lnTo>
                    <a:lnTo>
                      <a:pt x="545" y="460"/>
                    </a:lnTo>
                    <a:lnTo>
                      <a:pt x="492" y="427"/>
                    </a:lnTo>
                    <a:lnTo>
                      <a:pt x="471" y="374"/>
                    </a:lnTo>
                    <a:lnTo>
                      <a:pt x="428" y="390"/>
                    </a:lnTo>
                    <a:lnTo>
                      <a:pt x="352" y="342"/>
                    </a:lnTo>
                    <a:lnTo>
                      <a:pt x="315" y="361"/>
                    </a:lnTo>
                    <a:lnTo>
                      <a:pt x="258" y="352"/>
                    </a:lnTo>
                    <a:lnTo>
                      <a:pt x="213" y="378"/>
                    </a:lnTo>
                    <a:lnTo>
                      <a:pt x="186" y="381"/>
                    </a:lnTo>
                    <a:lnTo>
                      <a:pt x="141" y="354"/>
                    </a:lnTo>
                    <a:lnTo>
                      <a:pt x="110" y="337"/>
                    </a:lnTo>
                    <a:lnTo>
                      <a:pt x="10" y="313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085"/>
              <p:cNvSpPr/>
              <p:nvPr/>
            </p:nvSpPr>
            <p:spPr>
              <a:xfrm rot="356400">
                <a:off x="1415520" y="2000160"/>
                <a:ext cx="2258280" cy="1748880"/>
              </a:xfrm>
              <a:custGeom>
                <a:avLst/>
                <a:gdLst/>
                <a:ahLst/>
                <a:rect l="l" t="t" r="r" b="b"/>
                <a:pathLst>
                  <a:path w="1707" h="1305">
                    <a:moveTo>
                      <a:pt x="1165" y="10"/>
                    </a:moveTo>
                    <a:lnTo>
                      <a:pt x="1182" y="10"/>
                    </a:lnTo>
                    <a:lnTo>
                      <a:pt x="1172" y="43"/>
                    </a:lnTo>
                    <a:lnTo>
                      <a:pt x="1186" y="63"/>
                    </a:lnTo>
                    <a:lnTo>
                      <a:pt x="1189" y="77"/>
                    </a:lnTo>
                    <a:lnTo>
                      <a:pt x="1224" y="110"/>
                    </a:lnTo>
                    <a:lnTo>
                      <a:pt x="1232" y="138"/>
                    </a:lnTo>
                    <a:lnTo>
                      <a:pt x="1278" y="140"/>
                    </a:lnTo>
                    <a:lnTo>
                      <a:pt x="1298" y="158"/>
                    </a:lnTo>
                    <a:lnTo>
                      <a:pt x="1309" y="158"/>
                    </a:lnTo>
                    <a:lnTo>
                      <a:pt x="1335" y="215"/>
                    </a:lnTo>
                    <a:lnTo>
                      <a:pt x="1361" y="284"/>
                    </a:lnTo>
                    <a:lnTo>
                      <a:pt x="1349" y="326"/>
                    </a:lnTo>
                    <a:lnTo>
                      <a:pt x="1351" y="342"/>
                    </a:lnTo>
                    <a:lnTo>
                      <a:pt x="1327" y="383"/>
                    </a:lnTo>
                    <a:lnTo>
                      <a:pt x="1333" y="417"/>
                    </a:lnTo>
                    <a:lnTo>
                      <a:pt x="1418" y="453"/>
                    </a:lnTo>
                    <a:lnTo>
                      <a:pt x="1511" y="467"/>
                    </a:lnTo>
                    <a:lnTo>
                      <a:pt x="1607" y="533"/>
                    </a:lnTo>
                    <a:lnTo>
                      <a:pt x="1638" y="544"/>
                    </a:lnTo>
                    <a:lnTo>
                      <a:pt x="1640" y="562"/>
                    </a:lnTo>
                    <a:lnTo>
                      <a:pt x="1660" y="604"/>
                    </a:lnTo>
                    <a:lnTo>
                      <a:pt x="1679" y="658"/>
                    </a:lnTo>
                    <a:lnTo>
                      <a:pt x="1706" y="706"/>
                    </a:lnTo>
                    <a:lnTo>
                      <a:pt x="1691" y="723"/>
                    </a:lnTo>
                    <a:lnTo>
                      <a:pt x="1691" y="754"/>
                    </a:lnTo>
                    <a:lnTo>
                      <a:pt x="1657" y="769"/>
                    </a:lnTo>
                    <a:lnTo>
                      <a:pt x="1576" y="802"/>
                    </a:lnTo>
                    <a:lnTo>
                      <a:pt x="1524" y="846"/>
                    </a:lnTo>
                    <a:lnTo>
                      <a:pt x="1486" y="865"/>
                    </a:lnTo>
                    <a:lnTo>
                      <a:pt x="1480" y="891"/>
                    </a:lnTo>
                    <a:lnTo>
                      <a:pt x="1491" y="1019"/>
                    </a:lnTo>
                    <a:lnTo>
                      <a:pt x="1460" y="1014"/>
                    </a:lnTo>
                    <a:lnTo>
                      <a:pt x="1447" y="1025"/>
                    </a:lnTo>
                    <a:lnTo>
                      <a:pt x="1246" y="1065"/>
                    </a:lnTo>
                    <a:lnTo>
                      <a:pt x="1217" y="1087"/>
                    </a:lnTo>
                    <a:lnTo>
                      <a:pt x="1220" y="1140"/>
                    </a:lnTo>
                    <a:lnTo>
                      <a:pt x="1280" y="1191"/>
                    </a:lnTo>
                    <a:lnTo>
                      <a:pt x="1261" y="1224"/>
                    </a:lnTo>
                    <a:lnTo>
                      <a:pt x="1232" y="1237"/>
                    </a:lnTo>
                    <a:lnTo>
                      <a:pt x="1228" y="1253"/>
                    </a:lnTo>
                    <a:lnTo>
                      <a:pt x="1234" y="1270"/>
                    </a:lnTo>
                    <a:lnTo>
                      <a:pt x="1250" y="1270"/>
                    </a:lnTo>
                    <a:lnTo>
                      <a:pt x="1258" y="1282"/>
                    </a:lnTo>
                    <a:lnTo>
                      <a:pt x="1199" y="1301"/>
                    </a:lnTo>
                    <a:lnTo>
                      <a:pt x="1165" y="1287"/>
                    </a:lnTo>
                    <a:lnTo>
                      <a:pt x="1146" y="1277"/>
                    </a:lnTo>
                    <a:lnTo>
                      <a:pt x="1103" y="1277"/>
                    </a:lnTo>
                    <a:lnTo>
                      <a:pt x="1024" y="1241"/>
                    </a:lnTo>
                    <a:lnTo>
                      <a:pt x="974" y="1241"/>
                    </a:lnTo>
                    <a:lnTo>
                      <a:pt x="935" y="1253"/>
                    </a:lnTo>
                    <a:lnTo>
                      <a:pt x="890" y="1253"/>
                    </a:lnTo>
                    <a:lnTo>
                      <a:pt x="823" y="1290"/>
                    </a:lnTo>
                    <a:lnTo>
                      <a:pt x="768" y="1284"/>
                    </a:lnTo>
                    <a:lnTo>
                      <a:pt x="713" y="1304"/>
                    </a:lnTo>
                    <a:lnTo>
                      <a:pt x="667" y="1287"/>
                    </a:lnTo>
                    <a:lnTo>
                      <a:pt x="639" y="1263"/>
                    </a:lnTo>
                    <a:lnTo>
                      <a:pt x="567" y="1253"/>
                    </a:lnTo>
                    <a:lnTo>
                      <a:pt x="519" y="1285"/>
                    </a:lnTo>
                    <a:lnTo>
                      <a:pt x="492" y="1275"/>
                    </a:lnTo>
                    <a:lnTo>
                      <a:pt x="469" y="1257"/>
                    </a:lnTo>
                    <a:lnTo>
                      <a:pt x="418" y="1244"/>
                    </a:lnTo>
                    <a:lnTo>
                      <a:pt x="409" y="1234"/>
                    </a:lnTo>
                    <a:lnTo>
                      <a:pt x="387" y="1232"/>
                    </a:lnTo>
                    <a:lnTo>
                      <a:pt x="354" y="1181"/>
                    </a:lnTo>
                    <a:lnTo>
                      <a:pt x="321" y="1173"/>
                    </a:lnTo>
                    <a:lnTo>
                      <a:pt x="235" y="1200"/>
                    </a:lnTo>
                    <a:lnTo>
                      <a:pt x="203" y="1191"/>
                    </a:lnTo>
                    <a:lnTo>
                      <a:pt x="131" y="1138"/>
                    </a:lnTo>
                    <a:lnTo>
                      <a:pt x="110" y="1135"/>
                    </a:lnTo>
                    <a:lnTo>
                      <a:pt x="93" y="1101"/>
                    </a:lnTo>
                    <a:lnTo>
                      <a:pt x="105" y="1065"/>
                    </a:lnTo>
                    <a:lnTo>
                      <a:pt x="102" y="1048"/>
                    </a:lnTo>
                    <a:lnTo>
                      <a:pt x="76" y="1029"/>
                    </a:lnTo>
                    <a:lnTo>
                      <a:pt x="65" y="1012"/>
                    </a:lnTo>
                    <a:lnTo>
                      <a:pt x="10" y="981"/>
                    </a:lnTo>
                    <a:lnTo>
                      <a:pt x="10" y="972"/>
                    </a:lnTo>
                    <a:lnTo>
                      <a:pt x="38" y="961"/>
                    </a:lnTo>
                    <a:lnTo>
                      <a:pt x="53" y="971"/>
                    </a:lnTo>
                    <a:lnTo>
                      <a:pt x="69" y="954"/>
                    </a:lnTo>
                    <a:lnTo>
                      <a:pt x="65" y="901"/>
                    </a:lnTo>
                    <a:lnTo>
                      <a:pt x="69" y="858"/>
                    </a:lnTo>
                    <a:lnTo>
                      <a:pt x="32" y="822"/>
                    </a:lnTo>
                    <a:lnTo>
                      <a:pt x="10" y="829"/>
                    </a:lnTo>
                    <a:lnTo>
                      <a:pt x="0" y="802"/>
                    </a:lnTo>
                    <a:lnTo>
                      <a:pt x="14" y="776"/>
                    </a:lnTo>
                    <a:lnTo>
                      <a:pt x="5" y="752"/>
                    </a:lnTo>
                    <a:lnTo>
                      <a:pt x="29" y="730"/>
                    </a:lnTo>
                    <a:lnTo>
                      <a:pt x="38" y="721"/>
                    </a:lnTo>
                    <a:lnTo>
                      <a:pt x="38" y="701"/>
                    </a:lnTo>
                    <a:lnTo>
                      <a:pt x="72" y="685"/>
                    </a:lnTo>
                    <a:lnTo>
                      <a:pt x="105" y="679"/>
                    </a:lnTo>
                    <a:lnTo>
                      <a:pt x="134" y="668"/>
                    </a:lnTo>
                    <a:lnTo>
                      <a:pt x="158" y="675"/>
                    </a:lnTo>
                    <a:lnTo>
                      <a:pt x="177" y="668"/>
                    </a:lnTo>
                    <a:lnTo>
                      <a:pt x="181" y="672"/>
                    </a:lnTo>
                    <a:lnTo>
                      <a:pt x="185" y="694"/>
                    </a:lnTo>
                    <a:lnTo>
                      <a:pt x="201" y="701"/>
                    </a:lnTo>
                    <a:lnTo>
                      <a:pt x="235" y="699"/>
                    </a:lnTo>
                    <a:lnTo>
                      <a:pt x="280" y="653"/>
                    </a:lnTo>
                    <a:lnTo>
                      <a:pt x="365" y="670"/>
                    </a:lnTo>
                    <a:lnTo>
                      <a:pt x="409" y="639"/>
                    </a:lnTo>
                    <a:lnTo>
                      <a:pt x="536" y="610"/>
                    </a:lnTo>
                    <a:lnTo>
                      <a:pt x="545" y="593"/>
                    </a:lnTo>
                    <a:lnTo>
                      <a:pt x="555" y="544"/>
                    </a:lnTo>
                    <a:lnTo>
                      <a:pt x="591" y="516"/>
                    </a:lnTo>
                    <a:lnTo>
                      <a:pt x="601" y="516"/>
                    </a:lnTo>
                    <a:lnTo>
                      <a:pt x="601" y="501"/>
                    </a:lnTo>
                    <a:lnTo>
                      <a:pt x="603" y="378"/>
                    </a:lnTo>
                    <a:lnTo>
                      <a:pt x="610" y="352"/>
                    </a:lnTo>
                    <a:lnTo>
                      <a:pt x="575" y="342"/>
                    </a:lnTo>
                    <a:lnTo>
                      <a:pt x="574" y="330"/>
                    </a:lnTo>
                    <a:lnTo>
                      <a:pt x="610" y="320"/>
                    </a:lnTo>
                    <a:lnTo>
                      <a:pt x="704" y="313"/>
                    </a:lnTo>
                    <a:lnTo>
                      <a:pt x="720" y="330"/>
                    </a:lnTo>
                    <a:lnTo>
                      <a:pt x="753" y="339"/>
                    </a:lnTo>
                    <a:lnTo>
                      <a:pt x="761" y="342"/>
                    </a:lnTo>
                    <a:lnTo>
                      <a:pt x="775" y="323"/>
                    </a:lnTo>
                    <a:lnTo>
                      <a:pt x="756" y="306"/>
                    </a:lnTo>
                    <a:lnTo>
                      <a:pt x="827" y="163"/>
                    </a:lnTo>
                    <a:lnTo>
                      <a:pt x="838" y="154"/>
                    </a:lnTo>
                    <a:lnTo>
                      <a:pt x="902" y="187"/>
                    </a:lnTo>
                    <a:lnTo>
                      <a:pt x="930" y="187"/>
                    </a:lnTo>
                    <a:lnTo>
                      <a:pt x="943" y="205"/>
                    </a:lnTo>
                    <a:lnTo>
                      <a:pt x="1005" y="185"/>
                    </a:lnTo>
                    <a:lnTo>
                      <a:pt x="1019" y="84"/>
                    </a:lnTo>
                    <a:lnTo>
                      <a:pt x="1046" y="65"/>
                    </a:lnTo>
                    <a:lnTo>
                      <a:pt x="1077" y="63"/>
                    </a:lnTo>
                    <a:lnTo>
                      <a:pt x="1098" y="36"/>
                    </a:lnTo>
                    <a:lnTo>
                      <a:pt x="1107" y="10"/>
                    </a:lnTo>
                    <a:lnTo>
                      <a:pt x="1125" y="0"/>
                    </a:lnTo>
                    <a:lnTo>
                      <a:pt x="1165" y="10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086"/>
              <p:cNvSpPr/>
              <p:nvPr/>
            </p:nvSpPr>
            <p:spPr>
              <a:xfrm rot="356400">
                <a:off x="4493160" y="3577320"/>
                <a:ext cx="556200" cy="1019160"/>
              </a:xfrm>
              <a:custGeom>
                <a:avLst/>
                <a:gdLst/>
                <a:ahLst/>
                <a:rect l="l" t="t" r="r" b="b"/>
                <a:pathLst>
                  <a:path w="420" h="761">
                    <a:moveTo>
                      <a:pt x="359" y="480"/>
                    </a:moveTo>
                    <a:lnTo>
                      <a:pt x="349" y="453"/>
                    </a:lnTo>
                    <a:lnTo>
                      <a:pt x="368" y="385"/>
                    </a:lnTo>
                    <a:lnTo>
                      <a:pt x="340" y="255"/>
                    </a:lnTo>
                    <a:lnTo>
                      <a:pt x="359" y="222"/>
                    </a:lnTo>
                    <a:lnTo>
                      <a:pt x="368" y="191"/>
                    </a:lnTo>
                    <a:lnTo>
                      <a:pt x="342" y="138"/>
                    </a:lnTo>
                    <a:lnTo>
                      <a:pt x="366" y="101"/>
                    </a:lnTo>
                    <a:lnTo>
                      <a:pt x="370" y="65"/>
                    </a:lnTo>
                    <a:lnTo>
                      <a:pt x="383" y="39"/>
                    </a:lnTo>
                    <a:lnTo>
                      <a:pt x="381" y="8"/>
                    </a:lnTo>
                    <a:lnTo>
                      <a:pt x="370" y="0"/>
                    </a:lnTo>
                    <a:lnTo>
                      <a:pt x="352" y="19"/>
                    </a:lnTo>
                    <a:lnTo>
                      <a:pt x="306" y="21"/>
                    </a:lnTo>
                    <a:lnTo>
                      <a:pt x="282" y="56"/>
                    </a:lnTo>
                    <a:lnTo>
                      <a:pt x="285" y="77"/>
                    </a:lnTo>
                    <a:lnTo>
                      <a:pt x="280" y="89"/>
                    </a:lnTo>
                    <a:lnTo>
                      <a:pt x="261" y="96"/>
                    </a:lnTo>
                    <a:lnTo>
                      <a:pt x="188" y="200"/>
                    </a:lnTo>
                    <a:lnTo>
                      <a:pt x="179" y="193"/>
                    </a:lnTo>
                    <a:lnTo>
                      <a:pt x="160" y="188"/>
                    </a:lnTo>
                    <a:lnTo>
                      <a:pt x="117" y="191"/>
                    </a:lnTo>
                    <a:lnTo>
                      <a:pt x="105" y="210"/>
                    </a:lnTo>
                    <a:lnTo>
                      <a:pt x="103" y="253"/>
                    </a:lnTo>
                    <a:lnTo>
                      <a:pt x="109" y="266"/>
                    </a:lnTo>
                    <a:lnTo>
                      <a:pt x="179" y="301"/>
                    </a:lnTo>
                    <a:lnTo>
                      <a:pt x="217" y="325"/>
                    </a:lnTo>
                    <a:lnTo>
                      <a:pt x="223" y="347"/>
                    </a:lnTo>
                    <a:lnTo>
                      <a:pt x="203" y="376"/>
                    </a:lnTo>
                    <a:lnTo>
                      <a:pt x="215" y="409"/>
                    </a:lnTo>
                    <a:lnTo>
                      <a:pt x="208" y="424"/>
                    </a:lnTo>
                    <a:lnTo>
                      <a:pt x="155" y="429"/>
                    </a:lnTo>
                    <a:lnTo>
                      <a:pt x="144" y="436"/>
                    </a:lnTo>
                    <a:lnTo>
                      <a:pt x="148" y="444"/>
                    </a:lnTo>
                    <a:lnTo>
                      <a:pt x="148" y="460"/>
                    </a:lnTo>
                    <a:lnTo>
                      <a:pt x="107" y="465"/>
                    </a:lnTo>
                    <a:lnTo>
                      <a:pt x="85" y="453"/>
                    </a:lnTo>
                    <a:lnTo>
                      <a:pt x="57" y="453"/>
                    </a:lnTo>
                    <a:lnTo>
                      <a:pt x="52" y="460"/>
                    </a:lnTo>
                    <a:lnTo>
                      <a:pt x="57" y="475"/>
                    </a:lnTo>
                    <a:lnTo>
                      <a:pt x="43" y="491"/>
                    </a:lnTo>
                    <a:lnTo>
                      <a:pt x="38" y="508"/>
                    </a:lnTo>
                    <a:lnTo>
                      <a:pt x="65" y="530"/>
                    </a:lnTo>
                    <a:lnTo>
                      <a:pt x="45" y="571"/>
                    </a:lnTo>
                    <a:lnTo>
                      <a:pt x="54" y="590"/>
                    </a:lnTo>
                    <a:lnTo>
                      <a:pt x="52" y="599"/>
                    </a:lnTo>
                    <a:lnTo>
                      <a:pt x="21" y="599"/>
                    </a:lnTo>
                    <a:lnTo>
                      <a:pt x="0" y="610"/>
                    </a:lnTo>
                    <a:lnTo>
                      <a:pt x="17" y="634"/>
                    </a:lnTo>
                    <a:lnTo>
                      <a:pt x="6" y="665"/>
                    </a:lnTo>
                    <a:lnTo>
                      <a:pt x="24" y="670"/>
                    </a:lnTo>
                    <a:lnTo>
                      <a:pt x="26" y="689"/>
                    </a:lnTo>
                    <a:lnTo>
                      <a:pt x="41" y="692"/>
                    </a:lnTo>
                    <a:lnTo>
                      <a:pt x="98" y="680"/>
                    </a:lnTo>
                    <a:lnTo>
                      <a:pt x="109" y="685"/>
                    </a:lnTo>
                    <a:lnTo>
                      <a:pt x="112" y="701"/>
                    </a:lnTo>
                    <a:lnTo>
                      <a:pt x="136" y="707"/>
                    </a:lnTo>
                    <a:lnTo>
                      <a:pt x="186" y="731"/>
                    </a:lnTo>
                    <a:lnTo>
                      <a:pt x="215" y="720"/>
                    </a:lnTo>
                    <a:lnTo>
                      <a:pt x="275" y="742"/>
                    </a:lnTo>
                    <a:lnTo>
                      <a:pt x="289" y="760"/>
                    </a:lnTo>
                    <a:lnTo>
                      <a:pt x="320" y="754"/>
                    </a:lnTo>
                    <a:lnTo>
                      <a:pt x="315" y="720"/>
                    </a:lnTo>
                    <a:lnTo>
                      <a:pt x="309" y="711"/>
                    </a:lnTo>
                    <a:lnTo>
                      <a:pt x="315" y="685"/>
                    </a:lnTo>
                    <a:lnTo>
                      <a:pt x="349" y="670"/>
                    </a:lnTo>
                    <a:lnTo>
                      <a:pt x="357" y="656"/>
                    </a:lnTo>
                    <a:lnTo>
                      <a:pt x="340" y="650"/>
                    </a:lnTo>
                    <a:lnTo>
                      <a:pt x="320" y="646"/>
                    </a:lnTo>
                    <a:lnTo>
                      <a:pt x="299" y="625"/>
                    </a:lnTo>
                    <a:lnTo>
                      <a:pt x="309" y="617"/>
                    </a:lnTo>
                    <a:lnTo>
                      <a:pt x="375" y="617"/>
                    </a:lnTo>
                    <a:lnTo>
                      <a:pt x="390" y="617"/>
                    </a:lnTo>
                    <a:lnTo>
                      <a:pt x="399" y="624"/>
                    </a:lnTo>
                    <a:lnTo>
                      <a:pt x="419" y="608"/>
                    </a:lnTo>
                    <a:lnTo>
                      <a:pt x="419" y="581"/>
                    </a:lnTo>
                    <a:lnTo>
                      <a:pt x="359" y="491"/>
                    </a:lnTo>
                    <a:lnTo>
                      <a:pt x="359" y="480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087"/>
              <p:cNvSpPr/>
              <p:nvPr/>
            </p:nvSpPr>
            <p:spPr>
              <a:xfrm rot="356400">
                <a:off x="4947120" y="4015080"/>
                <a:ext cx="671040" cy="616320"/>
              </a:xfrm>
              <a:custGeom>
                <a:avLst/>
                <a:gdLst/>
                <a:ahLst/>
                <a:rect l="l" t="t" r="r" b="b"/>
                <a:pathLst>
                  <a:path w="506" h="460">
                    <a:moveTo>
                      <a:pt x="59" y="319"/>
                    </a:moveTo>
                    <a:lnTo>
                      <a:pt x="131" y="384"/>
                    </a:lnTo>
                    <a:lnTo>
                      <a:pt x="191" y="396"/>
                    </a:lnTo>
                    <a:lnTo>
                      <a:pt x="246" y="388"/>
                    </a:lnTo>
                    <a:lnTo>
                      <a:pt x="263" y="396"/>
                    </a:lnTo>
                    <a:lnTo>
                      <a:pt x="282" y="386"/>
                    </a:lnTo>
                    <a:lnTo>
                      <a:pt x="296" y="399"/>
                    </a:lnTo>
                    <a:lnTo>
                      <a:pt x="303" y="421"/>
                    </a:lnTo>
                    <a:lnTo>
                      <a:pt x="329" y="437"/>
                    </a:lnTo>
                    <a:lnTo>
                      <a:pt x="364" y="437"/>
                    </a:lnTo>
                    <a:lnTo>
                      <a:pt x="390" y="459"/>
                    </a:lnTo>
                    <a:lnTo>
                      <a:pt x="414" y="447"/>
                    </a:lnTo>
                    <a:lnTo>
                      <a:pt x="432" y="459"/>
                    </a:lnTo>
                    <a:lnTo>
                      <a:pt x="447" y="427"/>
                    </a:lnTo>
                    <a:lnTo>
                      <a:pt x="469" y="416"/>
                    </a:lnTo>
                    <a:lnTo>
                      <a:pt x="474" y="392"/>
                    </a:lnTo>
                    <a:lnTo>
                      <a:pt x="464" y="348"/>
                    </a:lnTo>
                    <a:lnTo>
                      <a:pt x="460" y="343"/>
                    </a:lnTo>
                    <a:lnTo>
                      <a:pt x="438" y="365"/>
                    </a:lnTo>
                    <a:lnTo>
                      <a:pt x="406" y="339"/>
                    </a:lnTo>
                    <a:lnTo>
                      <a:pt x="382" y="309"/>
                    </a:lnTo>
                    <a:lnTo>
                      <a:pt x="406" y="291"/>
                    </a:lnTo>
                    <a:lnTo>
                      <a:pt x="412" y="259"/>
                    </a:lnTo>
                    <a:lnTo>
                      <a:pt x="428" y="249"/>
                    </a:lnTo>
                    <a:lnTo>
                      <a:pt x="425" y="207"/>
                    </a:lnTo>
                    <a:lnTo>
                      <a:pt x="436" y="199"/>
                    </a:lnTo>
                    <a:lnTo>
                      <a:pt x="456" y="211"/>
                    </a:lnTo>
                    <a:lnTo>
                      <a:pt x="469" y="230"/>
                    </a:lnTo>
                    <a:lnTo>
                      <a:pt x="495" y="211"/>
                    </a:lnTo>
                    <a:lnTo>
                      <a:pt x="505" y="201"/>
                    </a:lnTo>
                    <a:lnTo>
                      <a:pt x="500" y="180"/>
                    </a:lnTo>
                    <a:lnTo>
                      <a:pt x="469" y="163"/>
                    </a:lnTo>
                    <a:lnTo>
                      <a:pt x="462" y="143"/>
                    </a:lnTo>
                    <a:lnTo>
                      <a:pt x="407" y="150"/>
                    </a:lnTo>
                    <a:lnTo>
                      <a:pt x="373" y="119"/>
                    </a:lnTo>
                    <a:lnTo>
                      <a:pt x="357" y="115"/>
                    </a:lnTo>
                    <a:lnTo>
                      <a:pt x="357" y="95"/>
                    </a:lnTo>
                    <a:lnTo>
                      <a:pt x="434" y="9"/>
                    </a:lnTo>
                    <a:lnTo>
                      <a:pt x="406" y="16"/>
                    </a:lnTo>
                    <a:lnTo>
                      <a:pt x="388" y="28"/>
                    </a:lnTo>
                    <a:lnTo>
                      <a:pt x="382" y="18"/>
                    </a:lnTo>
                    <a:lnTo>
                      <a:pt x="382" y="4"/>
                    </a:lnTo>
                    <a:lnTo>
                      <a:pt x="368" y="0"/>
                    </a:lnTo>
                    <a:lnTo>
                      <a:pt x="333" y="13"/>
                    </a:lnTo>
                    <a:lnTo>
                      <a:pt x="246" y="2"/>
                    </a:lnTo>
                    <a:lnTo>
                      <a:pt x="241" y="75"/>
                    </a:lnTo>
                    <a:lnTo>
                      <a:pt x="199" y="108"/>
                    </a:lnTo>
                    <a:lnTo>
                      <a:pt x="143" y="119"/>
                    </a:lnTo>
                    <a:lnTo>
                      <a:pt x="64" y="174"/>
                    </a:lnTo>
                    <a:lnTo>
                      <a:pt x="0" y="192"/>
                    </a:lnTo>
                    <a:lnTo>
                      <a:pt x="0" y="203"/>
                    </a:lnTo>
                    <a:lnTo>
                      <a:pt x="59" y="293"/>
                    </a:lnTo>
                    <a:lnTo>
                      <a:pt x="59" y="319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088"/>
              <p:cNvSpPr/>
              <p:nvPr/>
            </p:nvSpPr>
            <p:spPr>
              <a:xfrm rot="356400">
                <a:off x="4969800" y="3447720"/>
                <a:ext cx="387720" cy="813240"/>
              </a:xfrm>
              <a:custGeom>
                <a:avLst/>
                <a:gdLst/>
                <a:ahLst/>
                <a:rect l="l" t="t" r="r" b="b"/>
                <a:pathLst>
                  <a:path w="292" h="606">
                    <a:moveTo>
                      <a:pt x="19" y="605"/>
                    </a:moveTo>
                    <a:lnTo>
                      <a:pt x="83" y="587"/>
                    </a:lnTo>
                    <a:lnTo>
                      <a:pt x="162" y="532"/>
                    </a:lnTo>
                    <a:lnTo>
                      <a:pt x="217" y="520"/>
                    </a:lnTo>
                    <a:lnTo>
                      <a:pt x="260" y="488"/>
                    </a:lnTo>
                    <a:lnTo>
                      <a:pt x="264" y="414"/>
                    </a:lnTo>
                    <a:lnTo>
                      <a:pt x="244" y="388"/>
                    </a:lnTo>
                    <a:lnTo>
                      <a:pt x="251" y="366"/>
                    </a:lnTo>
                    <a:lnTo>
                      <a:pt x="264" y="346"/>
                    </a:lnTo>
                    <a:lnTo>
                      <a:pt x="269" y="315"/>
                    </a:lnTo>
                    <a:lnTo>
                      <a:pt x="281" y="293"/>
                    </a:lnTo>
                    <a:lnTo>
                      <a:pt x="260" y="250"/>
                    </a:lnTo>
                    <a:lnTo>
                      <a:pt x="229" y="214"/>
                    </a:lnTo>
                    <a:lnTo>
                      <a:pt x="246" y="156"/>
                    </a:lnTo>
                    <a:lnTo>
                      <a:pt x="284" y="132"/>
                    </a:lnTo>
                    <a:lnTo>
                      <a:pt x="291" y="95"/>
                    </a:lnTo>
                    <a:lnTo>
                      <a:pt x="275" y="62"/>
                    </a:lnTo>
                    <a:lnTo>
                      <a:pt x="275" y="21"/>
                    </a:lnTo>
                    <a:lnTo>
                      <a:pt x="251" y="0"/>
                    </a:lnTo>
                    <a:lnTo>
                      <a:pt x="194" y="28"/>
                    </a:lnTo>
                    <a:lnTo>
                      <a:pt x="186" y="20"/>
                    </a:lnTo>
                    <a:lnTo>
                      <a:pt x="155" y="42"/>
                    </a:lnTo>
                    <a:lnTo>
                      <a:pt x="131" y="40"/>
                    </a:lnTo>
                    <a:lnTo>
                      <a:pt x="83" y="110"/>
                    </a:lnTo>
                    <a:lnTo>
                      <a:pt x="67" y="110"/>
                    </a:lnTo>
                    <a:lnTo>
                      <a:pt x="41" y="132"/>
                    </a:lnTo>
                    <a:lnTo>
                      <a:pt x="43" y="163"/>
                    </a:lnTo>
                    <a:lnTo>
                      <a:pt x="30" y="190"/>
                    </a:lnTo>
                    <a:lnTo>
                      <a:pt x="26" y="225"/>
                    </a:lnTo>
                    <a:lnTo>
                      <a:pt x="2" y="262"/>
                    </a:lnTo>
                    <a:lnTo>
                      <a:pt x="28" y="315"/>
                    </a:lnTo>
                    <a:lnTo>
                      <a:pt x="19" y="346"/>
                    </a:lnTo>
                    <a:lnTo>
                      <a:pt x="0" y="380"/>
                    </a:lnTo>
                    <a:lnTo>
                      <a:pt x="28" y="510"/>
                    </a:lnTo>
                    <a:lnTo>
                      <a:pt x="9" y="578"/>
                    </a:lnTo>
                    <a:lnTo>
                      <a:pt x="19" y="605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089"/>
              <p:cNvSpPr/>
              <p:nvPr/>
            </p:nvSpPr>
            <p:spPr>
              <a:xfrm rot="356400">
                <a:off x="5454000" y="3767400"/>
                <a:ext cx="727920" cy="505800"/>
              </a:xfrm>
              <a:custGeom>
                <a:avLst/>
                <a:gdLst/>
                <a:ahLst/>
                <a:rect l="l" t="t" r="r" b="b"/>
                <a:pathLst>
                  <a:path w="549" h="378">
                    <a:moveTo>
                      <a:pt x="121" y="365"/>
                    </a:moveTo>
                    <a:lnTo>
                      <a:pt x="125" y="343"/>
                    </a:lnTo>
                    <a:lnTo>
                      <a:pt x="145" y="334"/>
                    </a:lnTo>
                    <a:lnTo>
                      <a:pt x="180" y="365"/>
                    </a:lnTo>
                    <a:lnTo>
                      <a:pt x="191" y="365"/>
                    </a:lnTo>
                    <a:lnTo>
                      <a:pt x="224" y="360"/>
                    </a:lnTo>
                    <a:lnTo>
                      <a:pt x="243" y="345"/>
                    </a:lnTo>
                    <a:lnTo>
                      <a:pt x="269" y="367"/>
                    </a:lnTo>
                    <a:lnTo>
                      <a:pt x="281" y="348"/>
                    </a:lnTo>
                    <a:lnTo>
                      <a:pt x="283" y="336"/>
                    </a:lnTo>
                    <a:lnTo>
                      <a:pt x="305" y="324"/>
                    </a:lnTo>
                    <a:lnTo>
                      <a:pt x="311" y="297"/>
                    </a:lnTo>
                    <a:lnTo>
                      <a:pt x="334" y="293"/>
                    </a:lnTo>
                    <a:lnTo>
                      <a:pt x="394" y="189"/>
                    </a:lnTo>
                    <a:lnTo>
                      <a:pt x="384" y="172"/>
                    </a:lnTo>
                    <a:lnTo>
                      <a:pt x="394" y="160"/>
                    </a:lnTo>
                    <a:lnTo>
                      <a:pt x="408" y="165"/>
                    </a:lnTo>
                    <a:lnTo>
                      <a:pt x="427" y="154"/>
                    </a:lnTo>
                    <a:lnTo>
                      <a:pt x="439" y="129"/>
                    </a:lnTo>
                    <a:lnTo>
                      <a:pt x="489" y="83"/>
                    </a:lnTo>
                    <a:lnTo>
                      <a:pt x="528" y="70"/>
                    </a:lnTo>
                    <a:lnTo>
                      <a:pt x="548" y="52"/>
                    </a:lnTo>
                    <a:lnTo>
                      <a:pt x="542" y="16"/>
                    </a:lnTo>
                    <a:lnTo>
                      <a:pt x="515" y="13"/>
                    </a:lnTo>
                    <a:lnTo>
                      <a:pt x="456" y="19"/>
                    </a:lnTo>
                    <a:lnTo>
                      <a:pt x="415" y="0"/>
                    </a:lnTo>
                    <a:lnTo>
                      <a:pt x="390" y="4"/>
                    </a:lnTo>
                    <a:lnTo>
                      <a:pt x="329" y="83"/>
                    </a:lnTo>
                    <a:lnTo>
                      <a:pt x="311" y="95"/>
                    </a:lnTo>
                    <a:lnTo>
                      <a:pt x="272" y="77"/>
                    </a:lnTo>
                    <a:lnTo>
                      <a:pt x="269" y="57"/>
                    </a:lnTo>
                    <a:lnTo>
                      <a:pt x="260" y="21"/>
                    </a:lnTo>
                    <a:lnTo>
                      <a:pt x="239" y="9"/>
                    </a:lnTo>
                    <a:lnTo>
                      <a:pt x="204" y="17"/>
                    </a:lnTo>
                    <a:lnTo>
                      <a:pt x="181" y="2"/>
                    </a:lnTo>
                    <a:lnTo>
                      <a:pt x="149" y="43"/>
                    </a:lnTo>
                    <a:lnTo>
                      <a:pt x="114" y="52"/>
                    </a:lnTo>
                    <a:lnTo>
                      <a:pt x="66" y="96"/>
                    </a:lnTo>
                    <a:lnTo>
                      <a:pt x="13" y="194"/>
                    </a:lnTo>
                    <a:lnTo>
                      <a:pt x="26" y="220"/>
                    </a:lnTo>
                    <a:lnTo>
                      <a:pt x="25" y="231"/>
                    </a:lnTo>
                    <a:lnTo>
                      <a:pt x="25" y="244"/>
                    </a:lnTo>
                    <a:lnTo>
                      <a:pt x="30" y="255"/>
                    </a:lnTo>
                    <a:lnTo>
                      <a:pt x="49" y="242"/>
                    </a:lnTo>
                    <a:lnTo>
                      <a:pt x="76" y="235"/>
                    </a:lnTo>
                    <a:lnTo>
                      <a:pt x="0" y="321"/>
                    </a:lnTo>
                    <a:lnTo>
                      <a:pt x="0" y="341"/>
                    </a:lnTo>
                    <a:lnTo>
                      <a:pt x="16" y="345"/>
                    </a:lnTo>
                    <a:lnTo>
                      <a:pt x="50" y="377"/>
                    </a:lnTo>
                    <a:lnTo>
                      <a:pt x="105" y="370"/>
                    </a:lnTo>
                    <a:lnTo>
                      <a:pt x="121" y="365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090"/>
              <p:cNvSpPr/>
              <p:nvPr/>
            </p:nvSpPr>
            <p:spPr>
              <a:xfrm rot="356400">
                <a:off x="5291280" y="3183480"/>
                <a:ext cx="600840" cy="880200"/>
              </a:xfrm>
              <a:custGeom>
                <a:avLst/>
                <a:gdLst/>
                <a:ahLst/>
                <a:rect l="l" t="t" r="r" b="b"/>
                <a:pathLst>
                  <a:path w="455" h="658">
                    <a:moveTo>
                      <a:pt x="178" y="647"/>
                    </a:moveTo>
                    <a:lnTo>
                      <a:pt x="179" y="637"/>
                    </a:lnTo>
                    <a:lnTo>
                      <a:pt x="166" y="610"/>
                    </a:lnTo>
                    <a:lnTo>
                      <a:pt x="219" y="513"/>
                    </a:lnTo>
                    <a:lnTo>
                      <a:pt x="267" y="469"/>
                    </a:lnTo>
                    <a:lnTo>
                      <a:pt x="303" y="460"/>
                    </a:lnTo>
                    <a:lnTo>
                      <a:pt x="335" y="418"/>
                    </a:lnTo>
                    <a:lnTo>
                      <a:pt x="322" y="409"/>
                    </a:lnTo>
                    <a:lnTo>
                      <a:pt x="311" y="379"/>
                    </a:lnTo>
                    <a:lnTo>
                      <a:pt x="284" y="390"/>
                    </a:lnTo>
                    <a:lnTo>
                      <a:pt x="243" y="379"/>
                    </a:lnTo>
                    <a:lnTo>
                      <a:pt x="241" y="368"/>
                    </a:lnTo>
                    <a:lnTo>
                      <a:pt x="239" y="298"/>
                    </a:lnTo>
                    <a:lnTo>
                      <a:pt x="217" y="306"/>
                    </a:lnTo>
                    <a:lnTo>
                      <a:pt x="203" y="319"/>
                    </a:lnTo>
                    <a:lnTo>
                      <a:pt x="176" y="310"/>
                    </a:lnTo>
                    <a:lnTo>
                      <a:pt x="138" y="317"/>
                    </a:lnTo>
                    <a:lnTo>
                      <a:pt x="131" y="300"/>
                    </a:lnTo>
                    <a:lnTo>
                      <a:pt x="136" y="266"/>
                    </a:lnTo>
                    <a:lnTo>
                      <a:pt x="164" y="233"/>
                    </a:lnTo>
                    <a:lnTo>
                      <a:pt x="171" y="196"/>
                    </a:lnTo>
                    <a:lnTo>
                      <a:pt x="200" y="167"/>
                    </a:lnTo>
                    <a:lnTo>
                      <a:pt x="250" y="194"/>
                    </a:lnTo>
                    <a:lnTo>
                      <a:pt x="263" y="194"/>
                    </a:lnTo>
                    <a:lnTo>
                      <a:pt x="272" y="231"/>
                    </a:lnTo>
                    <a:lnTo>
                      <a:pt x="287" y="238"/>
                    </a:lnTo>
                    <a:lnTo>
                      <a:pt x="293" y="262"/>
                    </a:lnTo>
                    <a:lnTo>
                      <a:pt x="291" y="277"/>
                    </a:lnTo>
                    <a:lnTo>
                      <a:pt x="322" y="300"/>
                    </a:lnTo>
                    <a:lnTo>
                      <a:pt x="327" y="317"/>
                    </a:lnTo>
                    <a:lnTo>
                      <a:pt x="353" y="329"/>
                    </a:lnTo>
                    <a:lnTo>
                      <a:pt x="416" y="293"/>
                    </a:lnTo>
                    <a:lnTo>
                      <a:pt x="416" y="273"/>
                    </a:lnTo>
                    <a:lnTo>
                      <a:pt x="454" y="218"/>
                    </a:lnTo>
                    <a:lnTo>
                      <a:pt x="427" y="180"/>
                    </a:lnTo>
                    <a:lnTo>
                      <a:pt x="408" y="178"/>
                    </a:lnTo>
                    <a:lnTo>
                      <a:pt x="370" y="154"/>
                    </a:lnTo>
                    <a:lnTo>
                      <a:pt x="384" y="115"/>
                    </a:lnTo>
                    <a:lnTo>
                      <a:pt x="327" y="110"/>
                    </a:lnTo>
                    <a:lnTo>
                      <a:pt x="303" y="72"/>
                    </a:lnTo>
                    <a:lnTo>
                      <a:pt x="305" y="52"/>
                    </a:lnTo>
                    <a:lnTo>
                      <a:pt x="256" y="0"/>
                    </a:lnTo>
                    <a:lnTo>
                      <a:pt x="226" y="16"/>
                    </a:lnTo>
                    <a:lnTo>
                      <a:pt x="200" y="42"/>
                    </a:lnTo>
                    <a:lnTo>
                      <a:pt x="208" y="62"/>
                    </a:lnTo>
                    <a:lnTo>
                      <a:pt x="202" y="74"/>
                    </a:lnTo>
                    <a:lnTo>
                      <a:pt x="164" y="77"/>
                    </a:lnTo>
                    <a:lnTo>
                      <a:pt x="147" y="93"/>
                    </a:lnTo>
                    <a:lnTo>
                      <a:pt x="131" y="86"/>
                    </a:lnTo>
                    <a:lnTo>
                      <a:pt x="116" y="101"/>
                    </a:lnTo>
                    <a:lnTo>
                      <a:pt x="81" y="127"/>
                    </a:lnTo>
                    <a:lnTo>
                      <a:pt x="66" y="117"/>
                    </a:lnTo>
                    <a:lnTo>
                      <a:pt x="66" y="81"/>
                    </a:lnTo>
                    <a:lnTo>
                      <a:pt x="52" y="74"/>
                    </a:lnTo>
                    <a:lnTo>
                      <a:pt x="33" y="83"/>
                    </a:lnTo>
                    <a:lnTo>
                      <a:pt x="9" y="134"/>
                    </a:lnTo>
                    <a:lnTo>
                      <a:pt x="0" y="182"/>
                    </a:lnTo>
                    <a:lnTo>
                      <a:pt x="28" y="231"/>
                    </a:lnTo>
                    <a:lnTo>
                      <a:pt x="52" y="253"/>
                    </a:lnTo>
                    <a:lnTo>
                      <a:pt x="52" y="293"/>
                    </a:lnTo>
                    <a:lnTo>
                      <a:pt x="68" y="326"/>
                    </a:lnTo>
                    <a:lnTo>
                      <a:pt x="61" y="363"/>
                    </a:lnTo>
                    <a:lnTo>
                      <a:pt x="24" y="387"/>
                    </a:lnTo>
                    <a:lnTo>
                      <a:pt x="6" y="445"/>
                    </a:lnTo>
                    <a:lnTo>
                      <a:pt x="37" y="480"/>
                    </a:lnTo>
                    <a:lnTo>
                      <a:pt x="59" y="524"/>
                    </a:lnTo>
                    <a:lnTo>
                      <a:pt x="46" y="546"/>
                    </a:lnTo>
                    <a:lnTo>
                      <a:pt x="42" y="577"/>
                    </a:lnTo>
                    <a:lnTo>
                      <a:pt x="28" y="597"/>
                    </a:lnTo>
                    <a:lnTo>
                      <a:pt x="21" y="619"/>
                    </a:lnTo>
                    <a:lnTo>
                      <a:pt x="42" y="645"/>
                    </a:lnTo>
                    <a:lnTo>
                      <a:pt x="129" y="657"/>
                    </a:lnTo>
                    <a:lnTo>
                      <a:pt x="164" y="643"/>
                    </a:lnTo>
                    <a:lnTo>
                      <a:pt x="178" y="647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091"/>
              <p:cNvSpPr/>
              <p:nvPr/>
            </p:nvSpPr>
            <p:spPr>
              <a:xfrm rot="356400">
                <a:off x="5609880" y="3499200"/>
                <a:ext cx="117720" cy="214560"/>
              </a:xfrm>
              <a:custGeom>
                <a:avLst/>
                <a:gdLst/>
                <a:ahLst/>
                <a:rect l="l" t="t" r="r" b="b"/>
                <a:pathLst>
                  <a:path w="89" h="160">
                    <a:moveTo>
                      <a:pt x="72" y="148"/>
                    </a:moveTo>
                    <a:lnTo>
                      <a:pt x="45" y="159"/>
                    </a:lnTo>
                    <a:lnTo>
                      <a:pt x="4" y="148"/>
                    </a:lnTo>
                    <a:lnTo>
                      <a:pt x="2" y="137"/>
                    </a:lnTo>
                    <a:lnTo>
                      <a:pt x="0" y="66"/>
                    </a:lnTo>
                    <a:lnTo>
                      <a:pt x="28" y="53"/>
                    </a:lnTo>
                    <a:lnTo>
                      <a:pt x="24" y="40"/>
                    </a:lnTo>
                    <a:lnTo>
                      <a:pt x="30" y="13"/>
                    </a:lnTo>
                    <a:lnTo>
                      <a:pt x="33" y="0"/>
                    </a:lnTo>
                    <a:lnTo>
                      <a:pt x="48" y="6"/>
                    </a:lnTo>
                    <a:lnTo>
                      <a:pt x="54" y="31"/>
                    </a:lnTo>
                    <a:lnTo>
                      <a:pt x="52" y="46"/>
                    </a:lnTo>
                    <a:lnTo>
                      <a:pt x="83" y="69"/>
                    </a:lnTo>
                    <a:lnTo>
                      <a:pt x="88" y="86"/>
                    </a:lnTo>
                    <a:lnTo>
                      <a:pt x="69" y="99"/>
                    </a:lnTo>
                    <a:lnTo>
                      <a:pt x="64" y="127"/>
                    </a:lnTo>
                    <a:lnTo>
                      <a:pt x="72" y="148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092"/>
              <p:cNvSpPr/>
              <p:nvPr/>
            </p:nvSpPr>
            <p:spPr>
              <a:xfrm rot="356400">
                <a:off x="5476320" y="3404880"/>
                <a:ext cx="187920" cy="204120"/>
              </a:xfrm>
              <a:custGeom>
                <a:avLst/>
                <a:gdLst/>
                <a:ahLst/>
                <a:rect l="l" t="t" r="r" b="b"/>
                <a:pathLst>
                  <a:path w="142" h="153">
                    <a:moveTo>
                      <a:pt x="107" y="130"/>
                    </a:moveTo>
                    <a:lnTo>
                      <a:pt x="105" y="108"/>
                    </a:lnTo>
                    <a:lnTo>
                      <a:pt x="98" y="92"/>
                    </a:lnTo>
                    <a:lnTo>
                      <a:pt x="138" y="77"/>
                    </a:lnTo>
                    <a:lnTo>
                      <a:pt x="141" y="63"/>
                    </a:lnTo>
                    <a:lnTo>
                      <a:pt x="131" y="26"/>
                    </a:lnTo>
                    <a:lnTo>
                      <a:pt x="119" y="26"/>
                    </a:lnTo>
                    <a:lnTo>
                      <a:pt x="68" y="0"/>
                    </a:lnTo>
                    <a:lnTo>
                      <a:pt x="40" y="28"/>
                    </a:lnTo>
                    <a:lnTo>
                      <a:pt x="33" y="65"/>
                    </a:lnTo>
                    <a:lnTo>
                      <a:pt x="4" y="99"/>
                    </a:lnTo>
                    <a:lnTo>
                      <a:pt x="0" y="132"/>
                    </a:lnTo>
                    <a:lnTo>
                      <a:pt x="6" y="149"/>
                    </a:lnTo>
                    <a:lnTo>
                      <a:pt x="44" y="142"/>
                    </a:lnTo>
                    <a:lnTo>
                      <a:pt x="72" y="152"/>
                    </a:lnTo>
                    <a:lnTo>
                      <a:pt x="85" y="138"/>
                    </a:lnTo>
                    <a:lnTo>
                      <a:pt x="107" y="130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093"/>
              <p:cNvSpPr/>
              <p:nvPr/>
            </p:nvSpPr>
            <p:spPr>
              <a:xfrm rot="356400">
                <a:off x="4367160" y="3590280"/>
                <a:ext cx="305640" cy="537120"/>
              </a:xfrm>
              <a:custGeom>
                <a:avLst/>
                <a:gdLst/>
                <a:ahLst/>
                <a:rect l="l" t="t" r="r" b="b"/>
                <a:pathLst>
                  <a:path w="230" h="400">
                    <a:moveTo>
                      <a:pt x="214" y="223"/>
                    </a:moveTo>
                    <a:lnTo>
                      <a:pt x="216" y="180"/>
                    </a:lnTo>
                    <a:lnTo>
                      <a:pt x="229" y="160"/>
                    </a:lnTo>
                    <a:lnTo>
                      <a:pt x="223" y="141"/>
                    </a:lnTo>
                    <a:lnTo>
                      <a:pt x="152" y="114"/>
                    </a:lnTo>
                    <a:lnTo>
                      <a:pt x="157" y="86"/>
                    </a:lnTo>
                    <a:lnTo>
                      <a:pt x="178" y="55"/>
                    </a:lnTo>
                    <a:lnTo>
                      <a:pt x="166" y="6"/>
                    </a:lnTo>
                    <a:lnTo>
                      <a:pt x="159" y="0"/>
                    </a:lnTo>
                    <a:lnTo>
                      <a:pt x="113" y="31"/>
                    </a:lnTo>
                    <a:lnTo>
                      <a:pt x="92" y="101"/>
                    </a:lnTo>
                    <a:lnTo>
                      <a:pt x="85" y="150"/>
                    </a:lnTo>
                    <a:lnTo>
                      <a:pt x="47" y="180"/>
                    </a:lnTo>
                    <a:lnTo>
                      <a:pt x="26" y="189"/>
                    </a:lnTo>
                    <a:lnTo>
                      <a:pt x="0" y="196"/>
                    </a:lnTo>
                    <a:lnTo>
                      <a:pt x="59" y="269"/>
                    </a:lnTo>
                    <a:lnTo>
                      <a:pt x="71" y="324"/>
                    </a:lnTo>
                    <a:lnTo>
                      <a:pt x="66" y="350"/>
                    </a:lnTo>
                    <a:lnTo>
                      <a:pt x="107" y="372"/>
                    </a:lnTo>
                    <a:lnTo>
                      <a:pt x="107" y="389"/>
                    </a:lnTo>
                    <a:lnTo>
                      <a:pt x="144" y="399"/>
                    </a:lnTo>
                    <a:lnTo>
                      <a:pt x="154" y="399"/>
                    </a:lnTo>
                    <a:lnTo>
                      <a:pt x="154" y="367"/>
                    </a:lnTo>
                    <a:lnTo>
                      <a:pt x="183" y="363"/>
                    </a:lnTo>
                    <a:lnTo>
                      <a:pt x="190" y="326"/>
                    </a:lnTo>
                    <a:lnTo>
                      <a:pt x="170" y="310"/>
                    </a:lnTo>
                    <a:lnTo>
                      <a:pt x="154" y="295"/>
                    </a:lnTo>
                    <a:lnTo>
                      <a:pt x="161" y="225"/>
                    </a:lnTo>
                    <a:lnTo>
                      <a:pt x="176" y="216"/>
                    </a:lnTo>
                    <a:lnTo>
                      <a:pt x="202" y="227"/>
                    </a:lnTo>
                    <a:lnTo>
                      <a:pt x="214" y="223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094"/>
              <p:cNvSpPr/>
              <p:nvPr/>
            </p:nvSpPr>
            <p:spPr>
              <a:xfrm rot="356400">
                <a:off x="3786480" y="1628280"/>
                <a:ext cx="2482200" cy="2278800"/>
              </a:xfrm>
              <a:custGeom>
                <a:avLst/>
                <a:gdLst/>
                <a:ahLst/>
                <a:rect l="l" t="t" r="r" b="b"/>
                <a:pathLst>
                  <a:path w="1876" h="1700">
                    <a:moveTo>
                      <a:pt x="527" y="1694"/>
                    </a:moveTo>
                    <a:lnTo>
                      <a:pt x="553" y="1687"/>
                    </a:lnTo>
                    <a:lnTo>
                      <a:pt x="575" y="1678"/>
                    </a:lnTo>
                    <a:lnTo>
                      <a:pt x="613" y="1648"/>
                    </a:lnTo>
                    <a:lnTo>
                      <a:pt x="620" y="1598"/>
                    </a:lnTo>
                    <a:lnTo>
                      <a:pt x="641" y="1528"/>
                    </a:lnTo>
                    <a:lnTo>
                      <a:pt x="687" y="1497"/>
                    </a:lnTo>
                    <a:lnTo>
                      <a:pt x="694" y="1504"/>
                    </a:lnTo>
                    <a:lnTo>
                      <a:pt x="706" y="1552"/>
                    </a:lnTo>
                    <a:lnTo>
                      <a:pt x="685" y="1583"/>
                    </a:lnTo>
                    <a:lnTo>
                      <a:pt x="680" y="1612"/>
                    </a:lnTo>
                    <a:lnTo>
                      <a:pt x="751" y="1639"/>
                    </a:lnTo>
                    <a:lnTo>
                      <a:pt x="757" y="1658"/>
                    </a:lnTo>
                    <a:lnTo>
                      <a:pt x="799" y="1656"/>
                    </a:lnTo>
                    <a:lnTo>
                      <a:pt x="819" y="1660"/>
                    </a:lnTo>
                    <a:lnTo>
                      <a:pt x="828" y="1667"/>
                    </a:lnTo>
                    <a:lnTo>
                      <a:pt x="900" y="1564"/>
                    </a:lnTo>
                    <a:lnTo>
                      <a:pt x="919" y="1557"/>
                    </a:lnTo>
                    <a:lnTo>
                      <a:pt x="924" y="1544"/>
                    </a:lnTo>
                    <a:lnTo>
                      <a:pt x="922" y="1523"/>
                    </a:lnTo>
                    <a:lnTo>
                      <a:pt x="946" y="1489"/>
                    </a:lnTo>
                    <a:lnTo>
                      <a:pt x="991" y="1487"/>
                    </a:lnTo>
                    <a:lnTo>
                      <a:pt x="1010" y="1467"/>
                    </a:lnTo>
                    <a:lnTo>
                      <a:pt x="1020" y="1475"/>
                    </a:lnTo>
                    <a:lnTo>
                      <a:pt x="1046" y="1453"/>
                    </a:lnTo>
                    <a:lnTo>
                      <a:pt x="1062" y="1453"/>
                    </a:lnTo>
                    <a:lnTo>
                      <a:pt x="1110" y="1383"/>
                    </a:lnTo>
                    <a:lnTo>
                      <a:pt x="1134" y="1385"/>
                    </a:lnTo>
                    <a:lnTo>
                      <a:pt x="1165" y="1363"/>
                    </a:lnTo>
                    <a:lnTo>
                      <a:pt x="1173" y="1371"/>
                    </a:lnTo>
                    <a:lnTo>
                      <a:pt x="1230" y="1343"/>
                    </a:lnTo>
                    <a:lnTo>
                      <a:pt x="1202" y="1294"/>
                    </a:lnTo>
                    <a:lnTo>
                      <a:pt x="1211" y="1246"/>
                    </a:lnTo>
                    <a:lnTo>
                      <a:pt x="1235" y="1195"/>
                    </a:lnTo>
                    <a:lnTo>
                      <a:pt x="1254" y="1186"/>
                    </a:lnTo>
                    <a:lnTo>
                      <a:pt x="1268" y="1193"/>
                    </a:lnTo>
                    <a:lnTo>
                      <a:pt x="1268" y="1229"/>
                    </a:lnTo>
                    <a:lnTo>
                      <a:pt x="1283" y="1239"/>
                    </a:lnTo>
                    <a:lnTo>
                      <a:pt x="1319" y="1212"/>
                    </a:lnTo>
                    <a:lnTo>
                      <a:pt x="1333" y="1197"/>
                    </a:lnTo>
                    <a:lnTo>
                      <a:pt x="1349" y="1204"/>
                    </a:lnTo>
                    <a:lnTo>
                      <a:pt x="1367" y="1188"/>
                    </a:lnTo>
                    <a:lnTo>
                      <a:pt x="1404" y="1186"/>
                    </a:lnTo>
                    <a:lnTo>
                      <a:pt x="1410" y="1173"/>
                    </a:lnTo>
                    <a:lnTo>
                      <a:pt x="1402" y="1154"/>
                    </a:lnTo>
                    <a:lnTo>
                      <a:pt x="1428" y="1127"/>
                    </a:lnTo>
                    <a:lnTo>
                      <a:pt x="1458" y="1111"/>
                    </a:lnTo>
                    <a:lnTo>
                      <a:pt x="1507" y="1164"/>
                    </a:lnTo>
                    <a:lnTo>
                      <a:pt x="1505" y="1184"/>
                    </a:lnTo>
                    <a:lnTo>
                      <a:pt x="1529" y="1222"/>
                    </a:lnTo>
                    <a:lnTo>
                      <a:pt x="1586" y="1226"/>
                    </a:lnTo>
                    <a:lnTo>
                      <a:pt x="1599" y="1200"/>
                    </a:lnTo>
                    <a:lnTo>
                      <a:pt x="1584" y="1123"/>
                    </a:lnTo>
                    <a:lnTo>
                      <a:pt x="1597" y="1109"/>
                    </a:lnTo>
                    <a:lnTo>
                      <a:pt x="1623" y="1127"/>
                    </a:lnTo>
                    <a:lnTo>
                      <a:pt x="1647" y="1162"/>
                    </a:lnTo>
                    <a:lnTo>
                      <a:pt x="1685" y="1104"/>
                    </a:lnTo>
                    <a:lnTo>
                      <a:pt x="1702" y="1101"/>
                    </a:lnTo>
                    <a:lnTo>
                      <a:pt x="1730" y="1072"/>
                    </a:lnTo>
                    <a:lnTo>
                      <a:pt x="1744" y="1072"/>
                    </a:lnTo>
                    <a:lnTo>
                      <a:pt x="1768" y="1048"/>
                    </a:lnTo>
                    <a:lnTo>
                      <a:pt x="1781" y="1048"/>
                    </a:lnTo>
                    <a:lnTo>
                      <a:pt x="1794" y="1025"/>
                    </a:lnTo>
                    <a:lnTo>
                      <a:pt x="1829" y="1025"/>
                    </a:lnTo>
                    <a:lnTo>
                      <a:pt x="1860" y="995"/>
                    </a:lnTo>
                    <a:lnTo>
                      <a:pt x="1875" y="979"/>
                    </a:lnTo>
                    <a:lnTo>
                      <a:pt x="1875" y="961"/>
                    </a:lnTo>
                    <a:lnTo>
                      <a:pt x="1850" y="947"/>
                    </a:lnTo>
                    <a:lnTo>
                      <a:pt x="1850" y="915"/>
                    </a:lnTo>
                    <a:lnTo>
                      <a:pt x="1805" y="858"/>
                    </a:lnTo>
                    <a:lnTo>
                      <a:pt x="1761" y="899"/>
                    </a:lnTo>
                    <a:lnTo>
                      <a:pt x="1748" y="891"/>
                    </a:lnTo>
                    <a:lnTo>
                      <a:pt x="1745" y="867"/>
                    </a:lnTo>
                    <a:lnTo>
                      <a:pt x="1728" y="840"/>
                    </a:lnTo>
                    <a:lnTo>
                      <a:pt x="1723" y="809"/>
                    </a:lnTo>
                    <a:lnTo>
                      <a:pt x="1723" y="778"/>
                    </a:lnTo>
                    <a:lnTo>
                      <a:pt x="1693" y="756"/>
                    </a:lnTo>
                    <a:lnTo>
                      <a:pt x="1689" y="742"/>
                    </a:lnTo>
                    <a:lnTo>
                      <a:pt x="1697" y="723"/>
                    </a:lnTo>
                    <a:lnTo>
                      <a:pt x="1754" y="740"/>
                    </a:lnTo>
                    <a:lnTo>
                      <a:pt x="1757" y="711"/>
                    </a:lnTo>
                    <a:lnTo>
                      <a:pt x="1776" y="689"/>
                    </a:lnTo>
                    <a:lnTo>
                      <a:pt x="1764" y="677"/>
                    </a:lnTo>
                    <a:lnTo>
                      <a:pt x="1766" y="653"/>
                    </a:lnTo>
                    <a:lnTo>
                      <a:pt x="1794" y="639"/>
                    </a:lnTo>
                    <a:lnTo>
                      <a:pt x="1800" y="631"/>
                    </a:lnTo>
                    <a:lnTo>
                      <a:pt x="1797" y="622"/>
                    </a:lnTo>
                    <a:lnTo>
                      <a:pt x="1766" y="631"/>
                    </a:lnTo>
                    <a:lnTo>
                      <a:pt x="1711" y="590"/>
                    </a:lnTo>
                    <a:lnTo>
                      <a:pt x="1709" y="580"/>
                    </a:lnTo>
                    <a:lnTo>
                      <a:pt x="1735" y="547"/>
                    </a:lnTo>
                    <a:lnTo>
                      <a:pt x="1790" y="463"/>
                    </a:lnTo>
                    <a:lnTo>
                      <a:pt x="1794" y="456"/>
                    </a:lnTo>
                    <a:lnTo>
                      <a:pt x="1802" y="456"/>
                    </a:lnTo>
                    <a:lnTo>
                      <a:pt x="1821" y="478"/>
                    </a:lnTo>
                    <a:lnTo>
                      <a:pt x="1826" y="480"/>
                    </a:lnTo>
                    <a:lnTo>
                      <a:pt x="1826" y="378"/>
                    </a:lnTo>
                    <a:lnTo>
                      <a:pt x="1845" y="370"/>
                    </a:lnTo>
                    <a:lnTo>
                      <a:pt x="1845" y="330"/>
                    </a:lnTo>
                    <a:lnTo>
                      <a:pt x="1840" y="264"/>
                    </a:lnTo>
                    <a:lnTo>
                      <a:pt x="1862" y="176"/>
                    </a:lnTo>
                    <a:lnTo>
                      <a:pt x="1797" y="125"/>
                    </a:lnTo>
                    <a:lnTo>
                      <a:pt x="1745" y="169"/>
                    </a:lnTo>
                    <a:lnTo>
                      <a:pt x="1719" y="171"/>
                    </a:lnTo>
                    <a:lnTo>
                      <a:pt x="1706" y="187"/>
                    </a:lnTo>
                    <a:lnTo>
                      <a:pt x="1663" y="180"/>
                    </a:lnTo>
                    <a:lnTo>
                      <a:pt x="1640" y="154"/>
                    </a:lnTo>
                    <a:lnTo>
                      <a:pt x="1627" y="114"/>
                    </a:lnTo>
                    <a:lnTo>
                      <a:pt x="1630" y="99"/>
                    </a:lnTo>
                    <a:lnTo>
                      <a:pt x="1594" y="77"/>
                    </a:lnTo>
                    <a:lnTo>
                      <a:pt x="1575" y="110"/>
                    </a:lnTo>
                    <a:lnTo>
                      <a:pt x="1537" y="87"/>
                    </a:lnTo>
                    <a:lnTo>
                      <a:pt x="1531" y="81"/>
                    </a:lnTo>
                    <a:lnTo>
                      <a:pt x="1553" y="21"/>
                    </a:lnTo>
                    <a:lnTo>
                      <a:pt x="1536" y="0"/>
                    </a:lnTo>
                    <a:lnTo>
                      <a:pt x="1520" y="0"/>
                    </a:lnTo>
                    <a:lnTo>
                      <a:pt x="1481" y="26"/>
                    </a:lnTo>
                    <a:lnTo>
                      <a:pt x="1448" y="77"/>
                    </a:lnTo>
                    <a:lnTo>
                      <a:pt x="1460" y="84"/>
                    </a:lnTo>
                    <a:lnTo>
                      <a:pt x="1484" y="87"/>
                    </a:lnTo>
                    <a:lnTo>
                      <a:pt x="1505" y="137"/>
                    </a:lnTo>
                    <a:lnTo>
                      <a:pt x="1494" y="158"/>
                    </a:lnTo>
                    <a:lnTo>
                      <a:pt x="1474" y="187"/>
                    </a:lnTo>
                    <a:lnTo>
                      <a:pt x="1439" y="320"/>
                    </a:lnTo>
                    <a:lnTo>
                      <a:pt x="1452" y="342"/>
                    </a:lnTo>
                    <a:lnTo>
                      <a:pt x="1441" y="359"/>
                    </a:lnTo>
                    <a:lnTo>
                      <a:pt x="1360" y="419"/>
                    </a:lnTo>
                    <a:lnTo>
                      <a:pt x="1316" y="412"/>
                    </a:lnTo>
                    <a:lnTo>
                      <a:pt x="1292" y="403"/>
                    </a:lnTo>
                    <a:lnTo>
                      <a:pt x="1288" y="414"/>
                    </a:lnTo>
                    <a:lnTo>
                      <a:pt x="1252" y="557"/>
                    </a:lnTo>
                    <a:lnTo>
                      <a:pt x="1235" y="578"/>
                    </a:lnTo>
                    <a:lnTo>
                      <a:pt x="1244" y="602"/>
                    </a:lnTo>
                    <a:lnTo>
                      <a:pt x="1266" y="622"/>
                    </a:lnTo>
                    <a:lnTo>
                      <a:pt x="1303" y="602"/>
                    </a:lnTo>
                    <a:lnTo>
                      <a:pt x="1362" y="607"/>
                    </a:lnTo>
                    <a:lnTo>
                      <a:pt x="1380" y="578"/>
                    </a:lnTo>
                    <a:lnTo>
                      <a:pt x="1410" y="569"/>
                    </a:lnTo>
                    <a:lnTo>
                      <a:pt x="1470" y="590"/>
                    </a:lnTo>
                    <a:lnTo>
                      <a:pt x="1542" y="668"/>
                    </a:lnTo>
                    <a:lnTo>
                      <a:pt x="1542" y="684"/>
                    </a:lnTo>
                    <a:lnTo>
                      <a:pt x="1527" y="694"/>
                    </a:lnTo>
                    <a:lnTo>
                      <a:pt x="1443" y="699"/>
                    </a:lnTo>
                    <a:lnTo>
                      <a:pt x="1415" y="721"/>
                    </a:lnTo>
                    <a:lnTo>
                      <a:pt x="1393" y="718"/>
                    </a:lnTo>
                    <a:lnTo>
                      <a:pt x="1378" y="742"/>
                    </a:lnTo>
                    <a:lnTo>
                      <a:pt x="1338" y="752"/>
                    </a:lnTo>
                    <a:lnTo>
                      <a:pt x="1312" y="790"/>
                    </a:lnTo>
                    <a:lnTo>
                      <a:pt x="1307" y="820"/>
                    </a:lnTo>
                    <a:lnTo>
                      <a:pt x="1250" y="858"/>
                    </a:lnTo>
                    <a:lnTo>
                      <a:pt x="1216" y="862"/>
                    </a:lnTo>
                    <a:lnTo>
                      <a:pt x="1176" y="915"/>
                    </a:lnTo>
                    <a:lnTo>
                      <a:pt x="1139" y="937"/>
                    </a:lnTo>
                    <a:lnTo>
                      <a:pt x="1067" y="921"/>
                    </a:lnTo>
                    <a:lnTo>
                      <a:pt x="1042" y="911"/>
                    </a:lnTo>
                    <a:lnTo>
                      <a:pt x="1014" y="939"/>
                    </a:lnTo>
                    <a:lnTo>
                      <a:pt x="1000" y="990"/>
                    </a:lnTo>
                    <a:lnTo>
                      <a:pt x="1041" y="1048"/>
                    </a:lnTo>
                    <a:lnTo>
                      <a:pt x="1014" y="1074"/>
                    </a:lnTo>
                    <a:lnTo>
                      <a:pt x="979" y="1096"/>
                    </a:lnTo>
                    <a:lnTo>
                      <a:pt x="926" y="1162"/>
                    </a:lnTo>
                    <a:lnTo>
                      <a:pt x="859" y="1193"/>
                    </a:lnTo>
                    <a:lnTo>
                      <a:pt x="747" y="1204"/>
                    </a:lnTo>
                    <a:lnTo>
                      <a:pt x="728" y="1202"/>
                    </a:lnTo>
                    <a:lnTo>
                      <a:pt x="599" y="1257"/>
                    </a:lnTo>
                    <a:lnTo>
                      <a:pt x="541" y="1294"/>
                    </a:lnTo>
                    <a:lnTo>
                      <a:pt x="522" y="1285"/>
                    </a:lnTo>
                    <a:lnTo>
                      <a:pt x="517" y="1268"/>
                    </a:lnTo>
                    <a:lnTo>
                      <a:pt x="438" y="1263"/>
                    </a:lnTo>
                    <a:lnTo>
                      <a:pt x="345" y="1234"/>
                    </a:lnTo>
                    <a:lnTo>
                      <a:pt x="321" y="1207"/>
                    </a:lnTo>
                    <a:lnTo>
                      <a:pt x="187" y="1191"/>
                    </a:lnTo>
                    <a:lnTo>
                      <a:pt x="163" y="1202"/>
                    </a:lnTo>
                    <a:lnTo>
                      <a:pt x="1" y="1186"/>
                    </a:lnTo>
                    <a:lnTo>
                      <a:pt x="0" y="1210"/>
                    </a:lnTo>
                    <a:lnTo>
                      <a:pt x="10" y="1248"/>
                    </a:lnTo>
                    <a:lnTo>
                      <a:pt x="3" y="1310"/>
                    </a:lnTo>
                    <a:lnTo>
                      <a:pt x="50" y="1378"/>
                    </a:lnTo>
                    <a:lnTo>
                      <a:pt x="74" y="1393"/>
                    </a:lnTo>
                    <a:lnTo>
                      <a:pt x="110" y="1364"/>
                    </a:lnTo>
                    <a:lnTo>
                      <a:pt x="189" y="1364"/>
                    </a:lnTo>
                    <a:lnTo>
                      <a:pt x="209" y="1371"/>
                    </a:lnTo>
                    <a:lnTo>
                      <a:pt x="220" y="1389"/>
                    </a:lnTo>
                    <a:lnTo>
                      <a:pt x="211" y="1409"/>
                    </a:lnTo>
                    <a:lnTo>
                      <a:pt x="168" y="1444"/>
                    </a:lnTo>
                    <a:lnTo>
                      <a:pt x="172" y="1462"/>
                    </a:lnTo>
                    <a:lnTo>
                      <a:pt x="223" y="1499"/>
                    </a:lnTo>
                    <a:lnTo>
                      <a:pt x="242" y="1499"/>
                    </a:lnTo>
                    <a:lnTo>
                      <a:pt x="249" y="1508"/>
                    </a:lnTo>
                    <a:lnTo>
                      <a:pt x="244" y="1523"/>
                    </a:lnTo>
                    <a:lnTo>
                      <a:pt x="275" y="1548"/>
                    </a:lnTo>
                    <a:lnTo>
                      <a:pt x="347" y="1559"/>
                    </a:lnTo>
                    <a:lnTo>
                      <a:pt x="383" y="1550"/>
                    </a:lnTo>
                    <a:lnTo>
                      <a:pt x="426" y="1506"/>
                    </a:lnTo>
                    <a:lnTo>
                      <a:pt x="479" y="1511"/>
                    </a:lnTo>
                    <a:lnTo>
                      <a:pt x="501" y="1544"/>
                    </a:lnTo>
                    <a:lnTo>
                      <a:pt x="488" y="1574"/>
                    </a:lnTo>
                    <a:lnTo>
                      <a:pt x="493" y="1593"/>
                    </a:lnTo>
                    <a:lnTo>
                      <a:pt x="464" y="1610"/>
                    </a:lnTo>
                    <a:lnTo>
                      <a:pt x="450" y="1625"/>
                    </a:lnTo>
                    <a:lnTo>
                      <a:pt x="455" y="1663"/>
                    </a:lnTo>
                    <a:lnTo>
                      <a:pt x="505" y="1699"/>
                    </a:lnTo>
                    <a:lnTo>
                      <a:pt x="527" y="1694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095"/>
              <p:cNvSpPr/>
              <p:nvPr/>
            </p:nvSpPr>
            <p:spPr>
              <a:xfrm rot="356400">
                <a:off x="5814360" y="3019680"/>
                <a:ext cx="648720" cy="640080"/>
              </a:xfrm>
              <a:custGeom>
                <a:avLst/>
                <a:gdLst/>
                <a:ahLst/>
                <a:rect l="l" t="t" r="r" b="b"/>
                <a:pathLst>
                  <a:path w="491" h="478">
                    <a:moveTo>
                      <a:pt x="406" y="331"/>
                    </a:moveTo>
                    <a:lnTo>
                      <a:pt x="458" y="254"/>
                    </a:lnTo>
                    <a:lnTo>
                      <a:pt x="490" y="216"/>
                    </a:lnTo>
                    <a:lnTo>
                      <a:pt x="485" y="178"/>
                    </a:lnTo>
                    <a:lnTo>
                      <a:pt x="451" y="139"/>
                    </a:lnTo>
                    <a:lnTo>
                      <a:pt x="446" y="106"/>
                    </a:lnTo>
                    <a:lnTo>
                      <a:pt x="384" y="20"/>
                    </a:lnTo>
                    <a:lnTo>
                      <a:pt x="380" y="28"/>
                    </a:lnTo>
                    <a:lnTo>
                      <a:pt x="367" y="42"/>
                    </a:lnTo>
                    <a:lnTo>
                      <a:pt x="341" y="11"/>
                    </a:lnTo>
                    <a:lnTo>
                      <a:pt x="303" y="0"/>
                    </a:lnTo>
                    <a:lnTo>
                      <a:pt x="301" y="11"/>
                    </a:lnTo>
                    <a:lnTo>
                      <a:pt x="301" y="28"/>
                    </a:lnTo>
                    <a:lnTo>
                      <a:pt x="286" y="44"/>
                    </a:lnTo>
                    <a:lnTo>
                      <a:pt x="255" y="74"/>
                    </a:lnTo>
                    <a:lnTo>
                      <a:pt x="221" y="74"/>
                    </a:lnTo>
                    <a:lnTo>
                      <a:pt x="207" y="97"/>
                    </a:lnTo>
                    <a:lnTo>
                      <a:pt x="195" y="97"/>
                    </a:lnTo>
                    <a:lnTo>
                      <a:pt x="171" y="122"/>
                    </a:lnTo>
                    <a:lnTo>
                      <a:pt x="157" y="122"/>
                    </a:lnTo>
                    <a:lnTo>
                      <a:pt x="129" y="150"/>
                    </a:lnTo>
                    <a:lnTo>
                      <a:pt x="111" y="154"/>
                    </a:lnTo>
                    <a:lnTo>
                      <a:pt x="74" y="212"/>
                    </a:lnTo>
                    <a:lnTo>
                      <a:pt x="50" y="177"/>
                    </a:lnTo>
                    <a:lnTo>
                      <a:pt x="23" y="159"/>
                    </a:lnTo>
                    <a:lnTo>
                      <a:pt x="11" y="172"/>
                    </a:lnTo>
                    <a:lnTo>
                      <a:pt x="26" y="250"/>
                    </a:lnTo>
                    <a:lnTo>
                      <a:pt x="13" y="276"/>
                    </a:lnTo>
                    <a:lnTo>
                      <a:pt x="0" y="315"/>
                    </a:lnTo>
                    <a:lnTo>
                      <a:pt x="37" y="339"/>
                    </a:lnTo>
                    <a:lnTo>
                      <a:pt x="57" y="342"/>
                    </a:lnTo>
                    <a:lnTo>
                      <a:pt x="83" y="380"/>
                    </a:lnTo>
                    <a:lnTo>
                      <a:pt x="102" y="368"/>
                    </a:lnTo>
                    <a:lnTo>
                      <a:pt x="133" y="331"/>
                    </a:lnTo>
                    <a:lnTo>
                      <a:pt x="164" y="278"/>
                    </a:lnTo>
                    <a:lnTo>
                      <a:pt x="217" y="267"/>
                    </a:lnTo>
                    <a:lnTo>
                      <a:pt x="250" y="300"/>
                    </a:lnTo>
                    <a:lnTo>
                      <a:pt x="225" y="353"/>
                    </a:lnTo>
                    <a:lnTo>
                      <a:pt x="195" y="402"/>
                    </a:lnTo>
                    <a:lnTo>
                      <a:pt x="223" y="421"/>
                    </a:lnTo>
                    <a:lnTo>
                      <a:pt x="221" y="445"/>
                    </a:lnTo>
                    <a:lnTo>
                      <a:pt x="198" y="467"/>
                    </a:lnTo>
                    <a:lnTo>
                      <a:pt x="203" y="477"/>
                    </a:lnTo>
                    <a:lnTo>
                      <a:pt x="243" y="457"/>
                    </a:lnTo>
                    <a:lnTo>
                      <a:pt x="298" y="384"/>
                    </a:lnTo>
                    <a:lnTo>
                      <a:pt x="379" y="337"/>
                    </a:lnTo>
                    <a:lnTo>
                      <a:pt x="406" y="331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096"/>
              <p:cNvSpPr/>
              <p:nvPr/>
            </p:nvSpPr>
            <p:spPr>
              <a:xfrm rot="356400">
                <a:off x="6003000" y="2691000"/>
                <a:ext cx="936720" cy="654840"/>
              </a:xfrm>
              <a:custGeom>
                <a:avLst/>
                <a:gdLst/>
                <a:ahLst/>
                <a:rect l="l" t="t" r="r" b="b"/>
                <a:pathLst>
                  <a:path w="709" h="488">
                    <a:moveTo>
                      <a:pt x="704" y="135"/>
                    </a:moveTo>
                    <a:lnTo>
                      <a:pt x="686" y="135"/>
                    </a:lnTo>
                    <a:lnTo>
                      <a:pt x="664" y="135"/>
                    </a:lnTo>
                    <a:lnTo>
                      <a:pt x="631" y="125"/>
                    </a:lnTo>
                    <a:lnTo>
                      <a:pt x="620" y="105"/>
                    </a:lnTo>
                    <a:lnTo>
                      <a:pt x="609" y="120"/>
                    </a:lnTo>
                    <a:lnTo>
                      <a:pt x="594" y="110"/>
                    </a:lnTo>
                    <a:lnTo>
                      <a:pt x="561" y="149"/>
                    </a:lnTo>
                    <a:lnTo>
                      <a:pt x="554" y="161"/>
                    </a:lnTo>
                    <a:lnTo>
                      <a:pt x="539" y="162"/>
                    </a:lnTo>
                    <a:lnTo>
                      <a:pt x="517" y="138"/>
                    </a:lnTo>
                    <a:lnTo>
                      <a:pt x="496" y="130"/>
                    </a:lnTo>
                    <a:lnTo>
                      <a:pt x="473" y="85"/>
                    </a:lnTo>
                    <a:lnTo>
                      <a:pt x="458" y="96"/>
                    </a:lnTo>
                    <a:lnTo>
                      <a:pt x="462" y="135"/>
                    </a:lnTo>
                    <a:lnTo>
                      <a:pt x="451" y="142"/>
                    </a:lnTo>
                    <a:lnTo>
                      <a:pt x="422" y="110"/>
                    </a:lnTo>
                    <a:lnTo>
                      <a:pt x="412" y="96"/>
                    </a:lnTo>
                    <a:lnTo>
                      <a:pt x="390" y="96"/>
                    </a:lnTo>
                    <a:lnTo>
                      <a:pt x="379" y="63"/>
                    </a:lnTo>
                    <a:lnTo>
                      <a:pt x="348" y="48"/>
                    </a:lnTo>
                    <a:lnTo>
                      <a:pt x="307" y="63"/>
                    </a:lnTo>
                    <a:lnTo>
                      <a:pt x="290" y="61"/>
                    </a:lnTo>
                    <a:lnTo>
                      <a:pt x="269" y="36"/>
                    </a:lnTo>
                    <a:lnTo>
                      <a:pt x="237" y="55"/>
                    </a:lnTo>
                    <a:lnTo>
                      <a:pt x="216" y="55"/>
                    </a:lnTo>
                    <a:lnTo>
                      <a:pt x="194" y="65"/>
                    </a:lnTo>
                    <a:lnTo>
                      <a:pt x="161" y="41"/>
                    </a:lnTo>
                    <a:lnTo>
                      <a:pt x="139" y="0"/>
                    </a:lnTo>
                    <a:lnTo>
                      <a:pt x="87" y="10"/>
                    </a:lnTo>
                    <a:lnTo>
                      <a:pt x="67" y="32"/>
                    </a:lnTo>
                    <a:lnTo>
                      <a:pt x="65" y="61"/>
                    </a:lnTo>
                    <a:lnTo>
                      <a:pt x="8" y="43"/>
                    </a:lnTo>
                    <a:lnTo>
                      <a:pt x="0" y="63"/>
                    </a:lnTo>
                    <a:lnTo>
                      <a:pt x="3" y="77"/>
                    </a:lnTo>
                    <a:lnTo>
                      <a:pt x="34" y="99"/>
                    </a:lnTo>
                    <a:lnTo>
                      <a:pt x="34" y="130"/>
                    </a:lnTo>
                    <a:lnTo>
                      <a:pt x="38" y="161"/>
                    </a:lnTo>
                    <a:lnTo>
                      <a:pt x="56" y="187"/>
                    </a:lnTo>
                    <a:lnTo>
                      <a:pt x="58" y="211"/>
                    </a:lnTo>
                    <a:lnTo>
                      <a:pt x="72" y="219"/>
                    </a:lnTo>
                    <a:lnTo>
                      <a:pt x="115" y="178"/>
                    </a:lnTo>
                    <a:lnTo>
                      <a:pt x="161" y="236"/>
                    </a:lnTo>
                    <a:lnTo>
                      <a:pt x="161" y="268"/>
                    </a:lnTo>
                    <a:lnTo>
                      <a:pt x="185" y="282"/>
                    </a:lnTo>
                    <a:lnTo>
                      <a:pt x="187" y="270"/>
                    </a:lnTo>
                    <a:lnTo>
                      <a:pt x="225" y="282"/>
                    </a:lnTo>
                    <a:lnTo>
                      <a:pt x="252" y="313"/>
                    </a:lnTo>
                    <a:lnTo>
                      <a:pt x="264" y="299"/>
                    </a:lnTo>
                    <a:lnTo>
                      <a:pt x="269" y="291"/>
                    </a:lnTo>
                    <a:lnTo>
                      <a:pt x="331" y="376"/>
                    </a:lnTo>
                    <a:lnTo>
                      <a:pt x="335" y="409"/>
                    </a:lnTo>
                    <a:lnTo>
                      <a:pt x="370" y="449"/>
                    </a:lnTo>
                    <a:lnTo>
                      <a:pt x="374" y="487"/>
                    </a:lnTo>
                    <a:lnTo>
                      <a:pt x="405" y="467"/>
                    </a:lnTo>
                    <a:lnTo>
                      <a:pt x="434" y="385"/>
                    </a:lnTo>
                    <a:lnTo>
                      <a:pt x="446" y="381"/>
                    </a:lnTo>
                    <a:lnTo>
                      <a:pt x="477" y="398"/>
                    </a:lnTo>
                    <a:lnTo>
                      <a:pt x="528" y="392"/>
                    </a:lnTo>
                    <a:lnTo>
                      <a:pt x="546" y="376"/>
                    </a:lnTo>
                    <a:lnTo>
                      <a:pt x="522" y="339"/>
                    </a:lnTo>
                    <a:lnTo>
                      <a:pt x="528" y="330"/>
                    </a:lnTo>
                    <a:lnTo>
                      <a:pt x="577" y="315"/>
                    </a:lnTo>
                    <a:lnTo>
                      <a:pt x="594" y="277"/>
                    </a:lnTo>
                    <a:lnTo>
                      <a:pt x="620" y="265"/>
                    </a:lnTo>
                    <a:lnTo>
                      <a:pt x="620" y="229"/>
                    </a:lnTo>
                    <a:lnTo>
                      <a:pt x="627" y="204"/>
                    </a:lnTo>
                    <a:lnTo>
                      <a:pt x="642" y="200"/>
                    </a:lnTo>
                    <a:lnTo>
                      <a:pt x="654" y="214"/>
                    </a:lnTo>
                    <a:lnTo>
                      <a:pt x="666" y="224"/>
                    </a:lnTo>
                    <a:lnTo>
                      <a:pt x="699" y="180"/>
                    </a:lnTo>
                    <a:lnTo>
                      <a:pt x="708" y="147"/>
                    </a:lnTo>
                    <a:lnTo>
                      <a:pt x="704" y="135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097"/>
              <p:cNvSpPr/>
              <p:nvPr/>
            </p:nvSpPr>
            <p:spPr>
              <a:xfrm rot="356400">
                <a:off x="5869080" y="1720080"/>
                <a:ext cx="1282680" cy="1189440"/>
              </a:xfrm>
              <a:custGeom>
                <a:avLst/>
                <a:gdLst/>
                <a:ahLst/>
                <a:rect l="l" t="t" r="r" b="b"/>
                <a:pathLst>
                  <a:path w="970" h="888">
                    <a:moveTo>
                      <a:pt x="244" y="734"/>
                    </a:moveTo>
                    <a:lnTo>
                      <a:pt x="297" y="724"/>
                    </a:lnTo>
                    <a:lnTo>
                      <a:pt x="318" y="766"/>
                    </a:lnTo>
                    <a:lnTo>
                      <a:pt x="351" y="790"/>
                    </a:lnTo>
                    <a:lnTo>
                      <a:pt x="373" y="779"/>
                    </a:lnTo>
                    <a:lnTo>
                      <a:pt x="394" y="779"/>
                    </a:lnTo>
                    <a:lnTo>
                      <a:pt x="426" y="761"/>
                    </a:lnTo>
                    <a:lnTo>
                      <a:pt x="447" y="785"/>
                    </a:lnTo>
                    <a:lnTo>
                      <a:pt x="463" y="787"/>
                    </a:lnTo>
                    <a:lnTo>
                      <a:pt x="505" y="772"/>
                    </a:lnTo>
                    <a:lnTo>
                      <a:pt x="535" y="787"/>
                    </a:lnTo>
                    <a:lnTo>
                      <a:pt x="547" y="821"/>
                    </a:lnTo>
                    <a:lnTo>
                      <a:pt x="569" y="821"/>
                    </a:lnTo>
                    <a:lnTo>
                      <a:pt x="579" y="835"/>
                    </a:lnTo>
                    <a:lnTo>
                      <a:pt x="607" y="867"/>
                    </a:lnTo>
                    <a:lnTo>
                      <a:pt x="619" y="860"/>
                    </a:lnTo>
                    <a:lnTo>
                      <a:pt x="614" y="821"/>
                    </a:lnTo>
                    <a:lnTo>
                      <a:pt x="629" y="809"/>
                    </a:lnTo>
                    <a:lnTo>
                      <a:pt x="652" y="854"/>
                    </a:lnTo>
                    <a:lnTo>
                      <a:pt x="674" y="862"/>
                    </a:lnTo>
                    <a:lnTo>
                      <a:pt x="695" y="887"/>
                    </a:lnTo>
                    <a:lnTo>
                      <a:pt x="710" y="885"/>
                    </a:lnTo>
                    <a:lnTo>
                      <a:pt x="717" y="874"/>
                    </a:lnTo>
                    <a:lnTo>
                      <a:pt x="750" y="835"/>
                    </a:lnTo>
                    <a:lnTo>
                      <a:pt x="765" y="845"/>
                    </a:lnTo>
                    <a:lnTo>
                      <a:pt x="777" y="830"/>
                    </a:lnTo>
                    <a:lnTo>
                      <a:pt x="787" y="850"/>
                    </a:lnTo>
                    <a:lnTo>
                      <a:pt x="820" y="860"/>
                    </a:lnTo>
                    <a:lnTo>
                      <a:pt x="842" y="860"/>
                    </a:lnTo>
                    <a:lnTo>
                      <a:pt x="860" y="860"/>
                    </a:lnTo>
                    <a:lnTo>
                      <a:pt x="849" y="845"/>
                    </a:lnTo>
                    <a:lnTo>
                      <a:pt x="844" y="790"/>
                    </a:lnTo>
                    <a:lnTo>
                      <a:pt x="805" y="730"/>
                    </a:lnTo>
                    <a:lnTo>
                      <a:pt x="827" y="708"/>
                    </a:lnTo>
                    <a:lnTo>
                      <a:pt x="849" y="669"/>
                    </a:lnTo>
                    <a:lnTo>
                      <a:pt x="921" y="669"/>
                    </a:lnTo>
                    <a:lnTo>
                      <a:pt x="937" y="657"/>
                    </a:lnTo>
                    <a:lnTo>
                      <a:pt x="930" y="628"/>
                    </a:lnTo>
                    <a:lnTo>
                      <a:pt x="947" y="600"/>
                    </a:lnTo>
                    <a:lnTo>
                      <a:pt x="941" y="585"/>
                    </a:lnTo>
                    <a:lnTo>
                      <a:pt x="947" y="558"/>
                    </a:lnTo>
                    <a:lnTo>
                      <a:pt x="947" y="419"/>
                    </a:lnTo>
                    <a:lnTo>
                      <a:pt x="969" y="375"/>
                    </a:lnTo>
                    <a:lnTo>
                      <a:pt x="942" y="349"/>
                    </a:lnTo>
                    <a:lnTo>
                      <a:pt x="947" y="331"/>
                    </a:lnTo>
                    <a:lnTo>
                      <a:pt x="937" y="315"/>
                    </a:lnTo>
                    <a:lnTo>
                      <a:pt x="908" y="327"/>
                    </a:lnTo>
                    <a:lnTo>
                      <a:pt x="875" y="365"/>
                    </a:lnTo>
                    <a:lnTo>
                      <a:pt x="842" y="380"/>
                    </a:lnTo>
                    <a:lnTo>
                      <a:pt x="810" y="426"/>
                    </a:lnTo>
                    <a:lnTo>
                      <a:pt x="729" y="452"/>
                    </a:lnTo>
                    <a:lnTo>
                      <a:pt x="691" y="426"/>
                    </a:lnTo>
                    <a:lnTo>
                      <a:pt x="695" y="408"/>
                    </a:lnTo>
                    <a:lnTo>
                      <a:pt x="678" y="380"/>
                    </a:lnTo>
                    <a:lnTo>
                      <a:pt x="667" y="349"/>
                    </a:lnTo>
                    <a:lnTo>
                      <a:pt x="636" y="349"/>
                    </a:lnTo>
                    <a:lnTo>
                      <a:pt x="581" y="320"/>
                    </a:lnTo>
                    <a:lnTo>
                      <a:pt x="559" y="327"/>
                    </a:lnTo>
                    <a:lnTo>
                      <a:pt x="535" y="315"/>
                    </a:lnTo>
                    <a:lnTo>
                      <a:pt x="497" y="320"/>
                    </a:lnTo>
                    <a:lnTo>
                      <a:pt x="463" y="309"/>
                    </a:lnTo>
                    <a:lnTo>
                      <a:pt x="444" y="283"/>
                    </a:lnTo>
                    <a:lnTo>
                      <a:pt x="426" y="261"/>
                    </a:lnTo>
                    <a:lnTo>
                      <a:pt x="418" y="238"/>
                    </a:lnTo>
                    <a:lnTo>
                      <a:pt x="394" y="209"/>
                    </a:lnTo>
                    <a:lnTo>
                      <a:pt x="375" y="187"/>
                    </a:lnTo>
                    <a:lnTo>
                      <a:pt x="341" y="137"/>
                    </a:lnTo>
                    <a:lnTo>
                      <a:pt x="330" y="110"/>
                    </a:lnTo>
                    <a:lnTo>
                      <a:pt x="291" y="59"/>
                    </a:lnTo>
                    <a:lnTo>
                      <a:pt x="279" y="33"/>
                    </a:lnTo>
                    <a:lnTo>
                      <a:pt x="229" y="6"/>
                    </a:lnTo>
                    <a:lnTo>
                      <a:pt x="196" y="18"/>
                    </a:lnTo>
                    <a:lnTo>
                      <a:pt x="167" y="11"/>
                    </a:lnTo>
                    <a:lnTo>
                      <a:pt x="105" y="0"/>
                    </a:lnTo>
                    <a:lnTo>
                      <a:pt x="19" y="28"/>
                    </a:lnTo>
                    <a:lnTo>
                      <a:pt x="4" y="44"/>
                    </a:lnTo>
                    <a:lnTo>
                      <a:pt x="21" y="66"/>
                    </a:lnTo>
                    <a:lnTo>
                      <a:pt x="0" y="126"/>
                    </a:lnTo>
                    <a:lnTo>
                      <a:pt x="5" y="132"/>
                    </a:lnTo>
                    <a:lnTo>
                      <a:pt x="43" y="155"/>
                    </a:lnTo>
                    <a:lnTo>
                      <a:pt x="62" y="122"/>
                    </a:lnTo>
                    <a:lnTo>
                      <a:pt x="98" y="143"/>
                    </a:lnTo>
                    <a:lnTo>
                      <a:pt x="95" y="158"/>
                    </a:lnTo>
                    <a:lnTo>
                      <a:pt x="108" y="199"/>
                    </a:lnTo>
                    <a:lnTo>
                      <a:pt x="131" y="225"/>
                    </a:lnTo>
                    <a:lnTo>
                      <a:pt x="174" y="232"/>
                    </a:lnTo>
                    <a:lnTo>
                      <a:pt x="187" y="216"/>
                    </a:lnTo>
                    <a:lnTo>
                      <a:pt x="213" y="214"/>
                    </a:lnTo>
                    <a:lnTo>
                      <a:pt x="265" y="170"/>
                    </a:lnTo>
                    <a:lnTo>
                      <a:pt x="330" y="221"/>
                    </a:lnTo>
                    <a:lnTo>
                      <a:pt x="308" y="309"/>
                    </a:lnTo>
                    <a:lnTo>
                      <a:pt x="313" y="375"/>
                    </a:lnTo>
                    <a:lnTo>
                      <a:pt x="313" y="415"/>
                    </a:lnTo>
                    <a:lnTo>
                      <a:pt x="294" y="423"/>
                    </a:lnTo>
                    <a:lnTo>
                      <a:pt x="294" y="525"/>
                    </a:lnTo>
                    <a:lnTo>
                      <a:pt x="289" y="522"/>
                    </a:lnTo>
                    <a:lnTo>
                      <a:pt x="270" y="501"/>
                    </a:lnTo>
                    <a:lnTo>
                      <a:pt x="262" y="501"/>
                    </a:lnTo>
                    <a:lnTo>
                      <a:pt x="258" y="508"/>
                    </a:lnTo>
                    <a:lnTo>
                      <a:pt x="203" y="592"/>
                    </a:lnTo>
                    <a:lnTo>
                      <a:pt x="177" y="625"/>
                    </a:lnTo>
                    <a:lnTo>
                      <a:pt x="179" y="635"/>
                    </a:lnTo>
                    <a:lnTo>
                      <a:pt x="234" y="676"/>
                    </a:lnTo>
                    <a:lnTo>
                      <a:pt x="265" y="666"/>
                    </a:lnTo>
                    <a:lnTo>
                      <a:pt x="268" y="676"/>
                    </a:lnTo>
                    <a:lnTo>
                      <a:pt x="262" y="684"/>
                    </a:lnTo>
                    <a:lnTo>
                      <a:pt x="234" y="698"/>
                    </a:lnTo>
                    <a:lnTo>
                      <a:pt x="231" y="722"/>
                    </a:lnTo>
                    <a:lnTo>
                      <a:pt x="244" y="734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098"/>
              <p:cNvSpPr/>
              <p:nvPr/>
            </p:nvSpPr>
            <p:spPr>
              <a:xfrm rot="356400">
                <a:off x="5601960" y="3515400"/>
                <a:ext cx="56520" cy="712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41" y="0"/>
                    </a:moveTo>
                    <a:lnTo>
                      <a:pt x="33" y="26"/>
                    </a:lnTo>
                    <a:lnTo>
                      <a:pt x="38" y="39"/>
                    </a:lnTo>
                    <a:lnTo>
                      <a:pt x="9" y="53"/>
                    </a:lnTo>
                    <a:lnTo>
                      <a:pt x="7" y="31"/>
                    </a:lnTo>
                    <a:lnTo>
                      <a:pt x="0" y="14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未知"/>
              <p:cNvSpPr/>
              <p:nvPr/>
            </p:nvSpPr>
            <p:spPr>
              <a:xfrm rot="459600">
                <a:off x="4366080" y="4522320"/>
                <a:ext cx="553320" cy="540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833" y="9043"/>
                    </a:moveTo>
                    <a:cubicBezTo>
                      <a:pt x="1569" y="8807"/>
                      <a:pt x="1139" y="8379"/>
                      <a:pt x="889" y="8117"/>
                    </a:cubicBezTo>
                    <a:lnTo>
                      <a:pt x="333" y="7469"/>
                    </a:lnTo>
                    <a:cubicBezTo>
                      <a:pt x="278" y="7160"/>
                      <a:pt x="222" y="6852"/>
                      <a:pt x="167" y="6543"/>
                    </a:cubicBezTo>
                    <a:cubicBezTo>
                      <a:pt x="111" y="6296"/>
                      <a:pt x="56" y="6049"/>
                      <a:pt x="0" y="5802"/>
                    </a:cubicBezTo>
                    <a:lnTo>
                      <a:pt x="750" y="5617"/>
                    </a:lnTo>
                    <a:lnTo>
                      <a:pt x="1667" y="5617"/>
                    </a:lnTo>
                    <a:lnTo>
                      <a:pt x="1833" y="5340"/>
                    </a:lnTo>
                    <a:lnTo>
                      <a:pt x="2500" y="5247"/>
                    </a:lnTo>
                    <a:lnTo>
                      <a:pt x="3250" y="4321"/>
                    </a:lnTo>
                    <a:lnTo>
                      <a:pt x="3583" y="4043"/>
                    </a:lnTo>
                    <a:lnTo>
                      <a:pt x="4250" y="3858"/>
                    </a:lnTo>
                    <a:lnTo>
                      <a:pt x="4750" y="3210"/>
                    </a:lnTo>
                    <a:lnTo>
                      <a:pt x="5583" y="3025"/>
                    </a:lnTo>
                    <a:lnTo>
                      <a:pt x="5583" y="2191"/>
                    </a:lnTo>
                    <a:lnTo>
                      <a:pt x="6000" y="1265"/>
                    </a:lnTo>
                    <a:cubicBezTo>
                      <a:pt x="6056" y="1018"/>
                      <a:pt x="6111" y="772"/>
                      <a:pt x="6167" y="525"/>
                    </a:cubicBezTo>
                    <a:lnTo>
                      <a:pt x="6278" y="0"/>
                    </a:lnTo>
                    <a:lnTo>
                      <a:pt x="7750" y="586"/>
                    </a:lnTo>
                    <a:lnTo>
                      <a:pt x="8056" y="1049"/>
                    </a:lnTo>
                    <a:lnTo>
                      <a:pt x="8861" y="833"/>
                    </a:lnTo>
                    <a:lnTo>
                      <a:pt x="9306" y="957"/>
                    </a:lnTo>
                    <a:lnTo>
                      <a:pt x="9861" y="1543"/>
                    </a:lnTo>
                    <a:cubicBezTo>
                      <a:pt x="9907" y="1965"/>
                      <a:pt x="9954" y="2387"/>
                      <a:pt x="10000" y="2809"/>
                    </a:cubicBezTo>
                    <a:cubicBezTo>
                      <a:pt x="9954" y="2973"/>
                      <a:pt x="9907" y="3138"/>
                      <a:pt x="9861" y="3302"/>
                    </a:cubicBezTo>
                    <a:lnTo>
                      <a:pt x="9528" y="3179"/>
                    </a:lnTo>
                    <a:lnTo>
                      <a:pt x="8611" y="3981"/>
                    </a:lnTo>
                    <a:lnTo>
                      <a:pt x="7056" y="4259"/>
                    </a:lnTo>
                    <a:lnTo>
                      <a:pt x="6639" y="4722"/>
                    </a:lnTo>
                    <a:lnTo>
                      <a:pt x="6917" y="5154"/>
                    </a:lnTo>
                    <a:cubicBezTo>
                      <a:pt x="6963" y="5473"/>
                      <a:pt x="7010" y="5792"/>
                      <a:pt x="7056" y="6111"/>
                    </a:cubicBezTo>
                    <a:lnTo>
                      <a:pt x="7417" y="6265"/>
                    </a:lnTo>
                    <a:lnTo>
                      <a:pt x="8528" y="7654"/>
                    </a:lnTo>
                    <a:cubicBezTo>
                      <a:pt x="8556" y="8282"/>
                      <a:pt x="8583" y="8909"/>
                      <a:pt x="8611" y="9537"/>
                    </a:cubicBezTo>
                    <a:lnTo>
                      <a:pt x="7833" y="10000"/>
                    </a:lnTo>
                    <a:lnTo>
                      <a:pt x="7306" y="9414"/>
                    </a:lnTo>
                    <a:lnTo>
                      <a:pt x="6639" y="8457"/>
                    </a:lnTo>
                    <a:lnTo>
                      <a:pt x="6639" y="7994"/>
                    </a:lnTo>
                    <a:lnTo>
                      <a:pt x="6167" y="7870"/>
                    </a:lnTo>
                    <a:lnTo>
                      <a:pt x="5722" y="8117"/>
                    </a:lnTo>
                    <a:lnTo>
                      <a:pt x="4833" y="7654"/>
                    </a:lnTo>
                    <a:lnTo>
                      <a:pt x="4500" y="8611"/>
                    </a:lnTo>
                    <a:lnTo>
                      <a:pt x="3861" y="8704"/>
                    </a:lnTo>
                    <a:lnTo>
                      <a:pt x="3278" y="9537"/>
                    </a:lnTo>
                    <a:lnTo>
                      <a:pt x="3028" y="9290"/>
                    </a:lnTo>
                    <a:lnTo>
                      <a:pt x="2472" y="9537"/>
                    </a:lnTo>
                    <a:lnTo>
                      <a:pt x="1833" y="9043"/>
                    </a:lnTo>
                    <a:close/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椭圆 36"/>
            <p:cNvSpPr/>
            <p:nvPr/>
          </p:nvSpPr>
          <p:spPr>
            <a:xfrm>
              <a:off x="5465880" y="3436200"/>
              <a:ext cx="141840" cy="141840"/>
            </a:xfrm>
            <a:prstGeom prst="ellipse">
              <a:avLst/>
            </a:prstGeom>
            <a:noFill/>
            <a:ln w="38160">
              <a:solidFill>
                <a:srgbClr val="c00000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椭圆 37"/>
            <p:cNvSpPr/>
            <p:nvPr/>
          </p:nvSpPr>
          <p:spPr>
            <a:xfrm>
              <a:off x="6291360" y="2502360"/>
              <a:ext cx="141840" cy="141840"/>
            </a:xfrm>
            <a:prstGeom prst="ellipse">
              <a:avLst/>
            </a:prstGeom>
            <a:noFill/>
            <a:ln w="38160">
              <a:solidFill>
                <a:srgbClr val="c00000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椭圆 38"/>
            <p:cNvSpPr/>
            <p:nvPr/>
          </p:nvSpPr>
          <p:spPr>
            <a:xfrm>
              <a:off x="6038280" y="4501440"/>
              <a:ext cx="141840" cy="141840"/>
            </a:xfrm>
            <a:prstGeom prst="ellipse">
              <a:avLst/>
            </a:prstGeom>
            <a:noFill/>
            <a:ln w="38160">
              <a:solidFill>
                <a:srgbClr val="c00000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椭圆 39"/>
            <p:cNvSpPr/>
            <p:nvPr/>
          </p:nvSpPr>
          <p:spPr>
            <a:xfrm>
              <a:off x="5254560" y="5706720"/>
              <a:ext cx="141840" cy="141840"/>
            </a:xfrm>
            <a:prstGeom prst="ellipse">
              <a:avLst/>
            </a:prstGeom>
            <a:noFill/>
            <a:ln w="38160">
              <a:solidFill>
                <a:srgbClr val="c00000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456240" y="2506680"/>
            <a:ext cx="1800360" cy="360"/>
            <a:chOff x="6456240" y="2506680"/>
            <a:chExt cx="1800360" cy="360"/>
          </a:xfrm>
        </p:grpSpPr>
        <p:sp>
          <p:nvSpPr>
            <p:cNvPr id="445" name="直接连接符 44"/>
            <p:cNvSpPr/>
            <p:nvPr/>
          </p:nvSpPr>
          <p:spPr>
            <a:xfrm>
              <a:off x="6456240" y="2506680"/>
              <a:ext cx="180036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>
              <a:off x="6456240" y="250668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746680" y="3438360"/>
            <a:ext cx="2519280" cy="1800"/>
            <a:chOff x="5746680" y="3438360"/>
            <a:chExt cx="2519280" cy="1800"/>
          </a:xfrm>
        </p:grpSpPr>
        <p:sp>
          <p:nvSpPr>
            <p:cNvPr id="448" name="直接连接符 45"/>
            <p:cNvSpPr/>
            <p:nvPr/>
          </p:nvSpPr>
          <p:spPr>
            <a:xfrm>
              <a:off x="5746680" y="3438360"/>
              <a:ext cx="2519280" cy="180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>
              <a:off x="5746680" y="3438360"/>
              <a:ext cx="2519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259680" y="4560840"/>
            <a:ext cx="1996920" cy="360"/>
            <a:chOff x="6259680" y="4560840"/>
            <a:chExt cx="1996920" cy="360"/>
          </a:xfrm>
        </p:grpSpPr>
        <p:sp>
          <p:nvSpPr>
            <p:cNvPr id="451" name="直接连接符 46"/>
            <p:cNvSpPr/>
            <p:nvPr/>
          </p:nvSpPr>
          <p:spPr>
            <a:xfrm>
              <a:off x="6259680" y="4560840"/>
              <a:ext cx="199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6259680" y="4560840"/>
              <a:ext cx="1996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460840" y="5805360"/>
            <a:ext cx="2794320" cy="360"/>
            <a:chOff x="5460840" y="5805360"/>
            <a:chExt cx="2794320" cy="360"/>
          </a:xfrm>
        </p:grpSpPr>
        <p:sp>
          <p:nvSpPr>
            <p:cNvPr id="454" name="直接连接符 47"/>
            <p:cNvSpPr/>
            <p:nvPr/>
          </p:nvSpPr>
          <p:spPr>
            <a:xfrm>
              <a:off x="5460840" y="5805360"/>
              <a:ext cx="27943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>
              <a:off x="5460840" y="5805360"/>
              <a:ext cx="279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文本框 51"/>
          <p:cNvSpPr/>
          <p:nvPr/>
        </p:nvSpPr>
        <p:spPr>
          <a:xfrm>
            <a:off x="8593200" y="220176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52"/>
          <p:cNvSpPr/>
          <p:nvPr/>
        </p:nvSpPr>
        <p:spPr>
          <a:xfrm>
            <a:off x="8661240" y="3200400"/>
            <a:ext cx="21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53"/>
          <p:cNvSpPr/>
          <p:nvPr/>
        </p:nvSpPr>
        <p:spPr>
          <a:xfrm>
            <a:off x="8661240" y="4309920"/>
            <a:ext cx="21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54"/>
          <p:cNvSpPr/>
          <p:nvPr/>
        </p:nvSpPr>
        <p:spPr>
          <a:xfrm>
            <a:off x="8663040" y="557676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组合 55"/>
          <p:cNvGrpSpPr/>
          <p:nvPr/>
        </p:nvGrpSpPr>
        <p:grpSpPr>
          <a:xfrm>
            <a:off x="11064960" y="-7920"/>
            <a:ext cx="431640" cy="647640"/>
            <a:chOff x="11064960" y="-7920"/>
            <a:chExt cx="431640" cy="647640"/>
          </a:xfrm>
        </p:grpSpPr>
        <p:sp>
          <p:nvSpPr>
            <p:cNvPr id="461" name="任意多边形 56"/>
            <p:cNvSpPr/>
            <p:nvPr/>
          </p:nvSpPr>
          <p:spPr>
            <a:xfrm>
              <a:off x="11064960" y="413640"/>
              <a:ext cx="431640" cy="226080"/>
            </a:xfrm>
            <a:custGeom>
              <a:avLst/>
              <a:gdLst/>
              <a:ahLst/>
              <a:rect l="l" t="t" r="r" b="b"/>
              <a:pathLst>
                <a:path w="432048" h="598340">
                  <a:moveTo>
                    <a:pt x="0" y="0"/>
                  </a:moveTo>
                  <a:lnTo>
                    <a:pt x="432048" y="0"/>
                  </a:lnTo>
                  <a:lnTo>
                    <a:pt x="432048" y="598340"/>
                  </a:lnTo>
                  <a:lnTo>
                    <a:pt x="216024" y="225885"/>
                  </a:lnTo>
                  <a:lnTo>
                    <a:pt x="0" y="598340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矩形 57"/>
            <p:cNvSpPr/>
            <p:nvPr/>
          </p:nvSpPr>
          <p:spPr>
            <a:xfrm>
              <a:off x="11064960" y="-7920"/>
              <a:ext cx="431640" cy="42156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B682-D605-40ED-8597-6F6EA8BA3AF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任意多边形 61"/>
          <p:cNvSpPr/>
          <p:nvPr/>
        </p:nvSpPr>
        <p:spPr>
          <a:xfrm>
            <a:off x="4203720" y="4678200"/>
            <a:ext cx="411120" cy="500400"/>
          </a:xfrm>
          <a:custGeom>
            <a:avLst/>
            <a:gdLst/>
            <a:ahLst/>
            <a:rect l="l" t="t" r="r" b="b"/>
            <a:pathLst>
              <a:path w="428039" h="461874">
                <a:moveTo>
                  <a:pt x="428039" y="0"/>
                </a:moveTo>
                <a:cubicBezTo>
                  <a:pt x="262938" y="186267"/>
                  <a:pt x="97838" y="372534"/>
                  <a:pt x="30105" y="440267"/>
                </a:cubicBezTo>
                <a:cubicBezTo>
                  <a:pt x="-37628" y="508000"/>
                  <a:pt x="31517" y="393700"/>
                  <a:pt x="21639" y="406400"/>
                </a:cubicBezTo>
              </a:path>
            </a:pathLst>
          </a:custGeom>
          <a:noFill/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组合 9"/>
          <p:cNvGrpSpPr/>
          <p:nvPr/>
        </p:nvGrpSpPr>
        <p:grpSpPr>
          <a:xfrm>
            <a:off x="4162320" y="1495440"/>
            <a:ext cx="3867120" cy="3867120"/>
            <a:chOff x="4162320" y="1495440"/>
            <a:chExt cx="3867120" cy="3867120"/>
          </a:xfrm>
        </p:grpSpPr>
        <p:sp>
          <p:nvSpPr>
            <p:cNvPr id="470" name="椭圆 10"/>
            <p:cNvSpPr/>
            <p:nvPr/>
          </p:nvSpPr>
          <p:spPr>
            <a:xfrm>
              <a:off x="4162320" y="1495440"/>
              <a:ext cx="3867120" cy="3867120"/>
            </a:xfrm>
            <a:prstGeom prst="ellipse">
              <a:avLst/>
            </a:prstGeom>
            <a:solidFill>
              <a:srgbClr val="ffffff">
                <a:alpha val="10000"/>
              </a:srgbClr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椭圆 11"/>
            <p:cNvSpPr/>
            <p:nvPr/>
          </p:nvSpPr>
          <p:spPr>
            <a:xfrm>
              <a:off x="4376520" y="1709640"/>
              <a:ext cx="3438720" cy="34387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文本框 5"/>
          <p:cNvSpPr/>
          <p:nvPr/>
        </p:nvSpPr>
        <p:spPr>
          <a:xfrm>
            <a:off x="4435560" y="2909880"/>
            <a:ext cx="333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  <a:ea typeface="Calibri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8"/>
          <p:cNvGrpSpPr/>
          <p:nvPr/>
        </p:nvGrpSpPr>
        <p:grpSpPr>
          <a:xfrm>
            <a:off x="2946240" y="3117960"/>
            <a:ext cx="1028880" cy="689040"/>
            <a:chOff x="2946240" y="3117960"/>
            <a:chExt cx="1028880" cy="689040"/>
          </a:xfrm>
        </p:grpSpPr>
        <p:sp>
          <p:nvSpPr>
            <p:cNvPr id="474" name="椭圆形标注 6"/>
            <p:cNvSpPr/>
            <p:nvPr/>
          </p:nvSpPr>
          <p:spPr>
            <a:xfrm>
              <a:off x="2946240" y="3117960"/>
              <a:ext cx="1028880" cy="689040"/>
            </a:xfrm>
            <a:prstGeom prst="wedgeEllipseCallout">
              <a:avLst>
                <a:gd name="adj1" fmla="val -19995"/>
                <a:gd name="adj2" fmla="val 64999"/>
              </a:avLst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文本框 7"/>
            <p:cNvSpPr/>
            <p:nvPr/>
          </p:nvSpPr>
          <p:spPr>
            <a:xfrm>
              <a:off x="3003480" y="3217680"/>
              <a:ext cx="914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ESIGN B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ZHUZH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组合 65"/>
          <p:cNvGrpSpPr/>
          <p:nvPr/>
        </p:nvGrpSpPr>
        <p:grpSpPr>
          <a:xfrm>
            <a:off x="3085200" y="3917160"/>
            <a:ext cx="1186200" cy="1994760"/>
            <a:chOff x="3085200" y="3917160"/>
            <a:chExt cx="1186200" cy="1994760"/>
          </a:xfrm>
        </p:grpSpPr>
        <p:grpSp>
          <p:nvGrpSpPr>
            <p:cNvPr id="477" name="组合 63"/>
            <p:cNvGrpSpPr/>
            <p:nvPr/>
          </p:nvGrpSpPr>
          <p:grpSpPr>
            <a:xfrm>
              <a:off x="3103560" y="3917160"/>
              <a:ext cx="956160" cy="986760"/>
              <a:chOff x="3103560" y="3917160"/>
              <a:chExt cx="956160" cy="986760"/>
            </a:xfrm>
          </p:grpSpPr>
          <p:sp>
            <p:nvSpPr>
              <p:cNvPr id="478" name="椭圆 49"/>
              <p:cNvSpPr/>
              <p:nvPr/>
            </p:nvSpPr>
            <p:spPr>
              <a:xfrm rot="20128800">
                <a:off x="3132000" y="3943080"/>
                <a:ext cx="164160" cy="173520"/>
              </a:xfrm>
              <a:custGeom>
                <a:avLst/>
                <a:gdLst/>
                <a:ahLst/>
                <a:rect l="l" t="t" r="r" b="b"/>
                <a:pathLst>
                  <a:path w="595548" h="665566">
                    <a:moveTo>
                      <a:pt x="2548" y="330865"/>
                    </a:moveTo>
                    <a:cubicBezTo>
                      <a:pt x="-11563" y="220743"/>
                      <a:pt x="26649" y="35775"/>
                      <a:pt x="277882" y="4731"/>
                    </a:cubicBezTo>
                    <a:cubicBezTo>
                      <a:pt x="529115" y="-26313"/>
                      <a:pt x="595548" y="98175"/>
                      <a:pt x="595548" y="296998"/>
                    </a:cubicBezTo>
                    <a:cubicBezTo>
                      <a:pt x="595548" y="495821"/>
                      <a:pt x="461381" y="659821"/>
                      <a:pt x="362548" y="665465"/>
                    </a:cubicBezTo>
                    <a:cubicBezTo>
                      <a:pt x="263715" y="671109"/>
                      <a:pt x="16659" y="440987"/>
                      <a:pt x="2548" y="33086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9" name="组合 62"/>
              <p:cNvGrpSpPr/>
              <p:nvPr/>
            </p:nvGrpSpPr>
            <p:grpSpPr>
              <a:xfrm>
                <a:off x="3103560" y="3917160"/>
                <a:ext cx="956160" cy="986760"/>
                <a:chOff x="3103560" y="3917160"/>
                <a:chExt cx="956160" cy="986760"/>
              </a:xfrm>
            </p:grpSpPr>
            <p:sp>
              <p:nvSpPr>
                <p:cNvPr id="480" name="椭圆 34"/>
                <p:cNvSpPr/>
                <p:nvPr/>
              </p:nvSpPr>
              <p:spPr>
                <a:xfrm>
                  <a:off x="3103560" y="3986640"/>
                  <a:ext cx="941400" cy="91728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1" name="组合 43"/>
                <p:cNvGrpSpPr/>
                <p:nvPr/>
              </p:nvGrpSpPr>
              <p:grpSpPr>
                <a:xfrm>
                  <a:off x="3189960" y="4250520"/>
                  <a:ext cx="367920" cy="373680"/>
                  <a:chOff x="3189960" y="4250520"/>
                  <a:chExt cx="367920" cy="373680"/>
                </a:xfrm>
              </p:grpSpPr>
              <p:sp>
                <p:nvSpPr>
                  <p:cNvPr id="482" name="椭圆 12"/>
                  <p:cNvSpPr/>
                  <p:nvPr/>
                </p:nvSpPr>
                <p:spPr>
                  <a:xfrm>
                    <a:off x="3349800" y="4413240"/>
                    <a:ext cx="48240" cy="4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椭圆 35"/>
                  <p:cNvSpPr/>
                  <p:nvPr/>
                </p:nvSpPr>
                <p:spPr>
                  <a:xfrm rot="3156600">
                    <a:off x="3233880" y="4312800"/>
                    <a:ext cx="28008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5185" h="929273">
                        <a:moveTo>
                          <a:pt x="0" y="467349"/>
                        </a:moveTo>
                        <a:cubicBezTo>
                          <a:pt x="0" y="213755"/>
                          <a:pt x="356862" y="39220"/>
                          <a:pt x="531059" y="8176"/>
                        </a:cubicBezTo>
                        <a:cubicBezTo>
                          <a:pt x="705256" y="-22868"/>
                          <a:pt x="1045185" y="27488"/>
                          <a:pt x="1045185" y="281082"/>
                        </a:cubicBezTo>
                        <a:cubicBezTo>
                          <a:pt x="1045185" y="534676"/>
                          <a:pt x="705256" y="895478"/>
                          <a:pt x="531059" y="926522"/>
                        </a:cubicBezTo>
                        <a:cubicBezTo>
                          <a:pt x="356862" y="957566"/>
                          <a:pt x="0" y="720943"/>
                          <a:pt x="0" y="467349"/>
                        </a:cubicBezTo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组合 44"/>
                <p:cNvGrpSpPr/>
                <p:nvPr/>
              </p:nvGrpSpPr>
              <p:grpSpPr>
                <a:xfrm>
                  <a:off x="3584520" y="4250520"/>
                  <a:ext cx="367560" cy="373320"/>
                  <a:chOff x="3584520" y="4250520"/>
                  <a:chExt cx="367560" cy="373320"/>
                </a:xfrm>
              </p:grpSpPr>
              <p:sp>
                <p:nvSpPr>
                  <p:cNvPr id="485" name="椭圆 45"/>
                  <p:cNvSpPr/>
                  <p:nvPr/>
                </p:nvSpPr>
                <p:spPr>
                  <a:xfrm flipH="1">
                    <a:off x="3744360" y="4413240"/>
                    <a:ext cx="48240" cy="4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椭圆 35"/>
                  <p:cNvSpPr/>
                  <p:nvPr/>
                </p:nvSpPr>
                <p:spPr>
                  <a:xfrm flipH="1" rot="18443400">
                    <a:off x="3627720" y="4312800"/>
                    <a:ext cx="28008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45185" h="929273">
                        <a:moveTo>
                          <a:pt x="0" y="467349"/>
                        </a:moveTo>
                        <a:cubicBezTo>
                          <a:pt x="0" y="213755"/>
                          <a:pt x="356862" y="39220"/>
                          <a:pt x="531059" y="8176"/>
                        </a:cubicBezTo>
                        <a:cubicBezTo>
                          <a:pt x="705256" y="-22868"/>
                          <a:pt x="1045185" y="27488"/>
                          <a:pt x="1045185" y="281082"/>
                        </a:cubicBezTo>
                        <a:cubicBezTo>
                          <a:pt x="1045185" y="534676"/>
                          <a:pt x="705256" y="895478"/>
                          <a:pt x="531059" y="926522"/>
                        </a:cubicBezTo>
                        <a:cubicBezTo>
                          <a:pt x="356862" y="957566"/>
                          <a:pt x="0" y="720943"/>
                          <a:pt x="0" y="467349"/>
                        </a:cubicBezTo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3538440" y="4479480"/>
                  <a:ext cx="72000" cy="360"/>
                  <a:chOff x="3538440" y="4479480"/>
                  <a:chExt cx="72000" cy="360"/>
                </a:xfrm>
              </p:grpSpPr>
              <p:sp>
                <p:nvSpPr>
                  <p:cNvPr id="488" name="直接连接符 48"/>
                  <p:cNvSpPr/>
                  <p:nvPr/>
                </p:nvSpPr>
                <p:spPr>
                  <a:xfrm>
                    <a:off x="3538440" y="4479480"/>
                    <a:ext cx="720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 txBox="1"/>
                  <p:nvPr/>
                </p:nvSpPr>
                <p:spPr>
                  <a:xfrm>
                    <a:off x="3538440" y="4479480"/>
                    <a:ext cx="72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0" name="椭圆 49"/>
                <p:cNvSpPr/>
                <p:nvPr/>
              </p:nvSpPr>
              <p:spPr>
                <a:xfrm flipH="1" rot="1471200">
                  <a:off x="3866400" y="3943080"/>
                  <a:ext cx="164160" cy="173520"/>
                </a:xfrm>
                <a:custGeom>
                  <a:avLst/>
                  <a:gdLst/>
                  <a:ahLst/>
                  <a:rect l="l" t="t" r="r" b="b"/>
                  <a:pathLst>
                    <a:path w="595548" h="665566">
                      <a:moveTo>
                        <a:pt x="2548" y="330865"/>
                      </a:moveTo>
                      <a:cubicBezTo>
                        <a:pt x="-11563" y="220743"/>
                        <a:pt x="26649" y="35775"/>
                        <a:pt x="277882" y="4731"/>
                      </a:cubicBezTo>
                      <a:cubicBezTo>
                        <a:pt x="529115" y="-26313"/>
                        <a:pt x="595548" y="98175"/>
                        <a:pt x="595548" y="296998"/>
                      </a:cubicBezTo>
                      <a:cubicBezTo>
                        <a:pt x="595548" y="495821"/>
                        <a:pt x="461381" y="659821"/>
                        <a:pt x="362548" y="665465"/>
                      </a:cubicBezTo>
                      <a:cubicBezTo>
                        <a:pt x="263715" y="671109"/>
                        <a:pt x="16659" y="440987"/>
                        <a:pt x="2548" y="330865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1" name="椭圆 52"/>
            <p:cNvSpPr/>
            <p:nvPr/>
          </p:nvSpPr>
          <p:spPr>
            <a:xfrm rot="20920800">
              <a:off x="3474360" y="4887000"/>
              <a:ext cx="435960" cy="62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流程图: 终止 54"/>
            <p:cNvSpPr/>
            <p:nvPr/>
          </p:nvSpPr>
          <p:spPr>
            <a:xfrm rot="1019400">
              <a:off x="3843000" y="5005440"/>
              <a:ext cx="427320" cy="71640"/>
            </a:xfrm>
            <a:prstGeom prst="flowChartTerminator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流程图: 终止 55"/>
            <p:cNvSpPr/>
            <p:nvPr/>
          </p:nvSpPr>
          <p:spPr>
            <a:xfrm rot="9236400">
              <a:off x="3079080" y="5091840"/>
              <a:ext cx="427320" cy="71640"/>
            </a:xfrm>
            <a:prstGeom prst="flowChartTerminator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流程图: 终止 56"/>
            <p:cNvSpPr/>
            <p:nvPr/>
          </p:nvSpPr>
          <p:spPr>
            <a:xfrm rot="1019400">
              <a:off x="3769920" y="5526000"/>
              <a:ext cx="427320" cy="71640"/>
            </a:xfrm>
            <a:prstGeom prst="flowChartTerminator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流程图: 终止 59"/>
            <p:cNvSpPr/>
            <p:nvPr/>
          </p:nvSpPr>
          <p:spPr>
            <a:xfrm rot="5400000">
              <a:off x="3432240" y="5662440"/>
              <a:ext cx="426960" cy="71640"/>
            </a:xfrm>
            <a:prstGeom prst="flowChartTerminator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等腰三角形 31"/>
          <p:cNvSpPr/>
          <p:nvPr/>
        </p:nvSpPr>
        <p:spPr>
          <a:xfrm rot="10800000">
            <a:off x="3257280" y="1868400"/>
            <a:ext cx="584280" cy="503280"/>
          </a:xfrm>
          <a:prstGeom prst="triangle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等腰三角形 32"/>
          <p:cNvSpPr/>
          <p:nvPr/>
        </p:nvSpPr>
        <p:spPr>
          <a:xfrm rot="8399400">
            <a:off x="3763080" y="1837800"/>
            <a:ext cx="584280" cy="50508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等腰三角形 33"/>
          <p:cNvSpPr/>
          <p:nvPr/>
        </p:nvSpPr>
        <p:spPr>
          <a:xfrm rot="8399400">
            <a:off x="3704760" y="2281320"/>
            <a:ext cx="58428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等腰三角形 36"/>
          <p:cNvSpPr/>
          <p:nvPr/>
        </p:nvSpPr>
        <p:spPr>
          <a:xfrm rot="9174000">
            <a:off x="8213040" y="4300560"/>
            <a:ext cx="58428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等腰三角形 37"/>
          <p:cNvSpPr/>
          <p:nvPr/>
        </p:nvSpPr>
        <p:spPr>
          <a:xfrm rot="10800000">
            <a:off x="8069400" y="3691080"/>
            <a:ext cx="583920" cy="504720"/>
          </a:xfrm>
          <a:prstGeom prst="triangle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等腰三角形 38"/>
          <p:cNvSpPr/>
          <p:nvPr/>
        </p:nvSpPr>
        <p:spPr>
          <a:xfrm rot="17223000">
            <a:off x="8275680" y="3855600"/>
            <a:ext cx="58716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图片 1" descr=""/>
          <p:cNvPicPr/>
          <p:nvPr/>
        </p:nvPicPr>
        <p:blipFill>
          <a:blip r:embed="rId2"/>
          <a:stretch/>
        </p:blipFill>
        <p:spPr>
          <a:xfrm>
            <a:off x="5497560" y="3881520"/>
            <a:ext cx="1197000" cy="1198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圆角矩形 2"/>
          <p:cNvSpPr/>
          <p:nvPr/>
        </p:nvSpPr>
        <p:spPr>
          <a:xfrm>
            <a:off x="5016600" y="907920"/>
            <a:ext cx="2519280" cy="530280"/>
          </a:xfrm>
          <a:prstGeom prst="roundRect">
            <a:avLst>
              <a:gd name="adj" fmla="val 16667"/>
            </a:avLst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3"/>
          <p:cNvSpPr/>
          <p:nvPr/>
        </p:nvSpPr>
        <p:spPr>
          <a:xfrm>
            <a:off x="4878360" y="896760"/>
            <a:ext cx="279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275520" y="1438200"/>
            <a:ext cx="46080" cy="4343400"/>
            <a:chOff x="6275520" y="1438200"/>
            <a:chExt cx="46080" cy="4343400"/>
          </a:xfrm>
        </p:grpSpPr>
        <p:sp>
          <p:nvSpPr>
            <p:cNvPr id="103" name="直接连接符 10"/>
            <p:cNvSpPr/>
            <p:nvPr/>
          </p:nvSpPr>
          <p:spPr>
            <a:xfrm>
              <a:off x="6275520" y="1438200"/>
              <a:ext cx="46080" cy="43434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6275520" y="1438200"/>
              <a:ext cx="46080" cy="434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圆角矩形 18"/>
          <p:cNvSpPr/>
          <p:nvPr/>
        </p:nvSpPr>
        <p:spPr>
          <a:xfrm>
            <a:off x="6743880" y="2468520"/>
            <a:ext cx="2665080" cy="5047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23"/>
          <p:cNvGrpSpPr/>
          <p:nvPr/>
        </p:nvGrpSpPr>
        <p:grpSpPr>
          <a:xfrm>
            <a:off x="6024600" y="2523960"/>
            <a:ext cx="719280" cy="409680"/>
            <a:chOff x="6024600" y="2523960"/>
            <a:chExt cx="719280" cy="409680"/>
          </a:xfrm>
        </p:grpSpPr>
        <p:sp>
          <p:nvSpPr>
            <p:cNvPr id="107" name="圆角矩形 19"/>
            <p:cNvSpPr/>
            <p:nvPr/>
          </p:nvSpPr>
          <p:spPr>
            <a:xfrm>
              <a:off x="6024600" y="2523960"/>
              <a:ext cx="719280" cy="409680"/>
            </a:xfrm>
            <a:prstGeom prst="roundRect">
              <a:avLst>
                <a:gd name="adj" fmla="val 16667"/>
              </a:avLst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21"/>
            <p:cNvSpPr/>
            <p:nvPr/>
          </p:nvSpPr>
          <p:spPr>
            <a:xfrm>
              <a:off x="6320880" y="253224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文本框 22"/>
          <p:cNvSpPr/>
          <p:nvPr/>
        </p:nvSpPr>
        <p:spPr>
          <a:xfrm>
            <a:off x="6702480" y="25336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24"/>
          <p:cNvGrpSpPr/>
          <p:nvPr/>
        </p:nvGrpSpPr>
        <p:grpSpPr>
          <a:xfrm>
            <a:off x="5880240" y="4140360"/>
            <a:ext cx="720720" cy="409320"/>
            <a:chOff x="5880240" y="4140360"/>
            <a:chExt cx="720720" cy="409320"/>
          </a:xfrm>
        </p:grpSpPr>
        <p:sp>
          <p:nvSpPr>
            <p:cNvPr id="111" name="圆角矩形 25"/>
            <p:cNvSpPr/>
            <p:nvPr/>
          </p:nvSpPr>
          <p:spPr>
            <a:xfrm flipH="1">
              <a:off x="5880240" y="4140360"/>
              <a:ext cx="720720" cy="409320"/>
            </a:xfrm>
            <a:prstGeom prst="roundRect">
              <a:avLst>
                <a:gd name="adj" fmla="val 16667"/>
              </a:avLst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26"/>
            <p:cNvSpPr/>
            <p:nvPr/>
          </p:nvSpPr>
          <p:spPr>
            <a:xfrm flipH="1">
              <a:off x="5886360" y="4160160"/>
              <a:ext cx="4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圆角矩形 27"/>
          <p:cNvSpPr/>
          <p:nvPr/>
        </p:nvSpPr>
        <p:spPr>
          <a:xfrm>
            <a:off x="3216240" y="4094280"/>
            <a:ext cx="2664000" cy="50328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8"/>
          <p:cNvSpPr/>
          <p:nvPr/>
        </p:nvSpPr>
        <p:spPr>
          <a:xfrm>
            <a:off x="3216240" y="4176720"/>
            <a:ext cx="26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圆角矩形 41"/>
          <p:cNvSpPr/>
          <p:nvPr/>
        </p:nvSpPr>
        <p:spPr>
          <a:xfrm>
            <a:off x="6743880" y="5699160"/>
            <a:ext cx="2665080" cy="5047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42"/>
          <p:cNvGrpSpPr/>
          <p:nvPr/>
        </p:nvGrpSpPr>
        <p:grpSpPr>
          <a:xfrm>
            <a:off x="6024600" y="5757840"/>
            <a:ext cx="719280" cy="409680"/>
            <a:chOff x="6024600" y="5757840"/>
            <a:chExt cx="719280" cy="409680"/>
          </a:xfrm>
        </p:grpSpPr>
        <p:sp>
          <p:nvSpPr>
            <p:cNvPr id="117" name="圆角矩形 43"/>
            <p:cNvSpPr/>
            <p:nvPr/>
          </p:nvSpPr>
          <p:spPr>
            <a:xfrm>
              <a:off x="6024600" y="5757840"/>
              <a:ext cx="719280" cy="409680"/>
            </a:xfrm>
            <a:prstGeom prst="roundRect">
              <a:avLst>
                <a:gd name="adj" fmla="val 16667"/>
              </a:avLst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本框 44"/>
            <p:cNvSpPr/>
            <p:nvPr/>
          </p:nvSpPr>
          <p:spPr>
            <a:xfrm>
              <a:off x="6320880" y="576612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文本框 45"/>
          <p:cNvSpPr/>
          <p:nvPr/>
        </p:nvSpPr>
        <p:spPr>
          <a:xfrm>
            <a:off x="6754680" y="5781600"/>
            <a:ext cx="26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48"/>
          <p:cNvSpPr/>
          <p:nvPr/>
        </p:nvSpPr>
        <p:spPr>
          <a:xfrm>
            <a:off x="3352680" y="2486160"/>
            <a:ext cx="21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9"/>
          <p:cNvSpPr/>
          <p:nvPr/>
        </p:nvSpPr>
        <p:spPr>
          <a:xfrm>
            <a:off x="7010280" y="4097160"/>
            <a:ext cx="21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50"/>
          <p:cNvSpPr/>
          <p:nvPr/>
        </p:nvSpPr>
        <p:spPr>
          <a:xfrm>
            <a:off x="3352680" y="5748480"/>
            <a:ext cx="21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14"/>
          <p:cNvSpPr/>
          <p:nvPr/>
        </p:nvSpPr>
        <p:spPr>
          <a:xfrm>
            <a:off x="4162320" y="1495440"/>
            <a:ext cx="3867120" cy="386712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15"/>
          <p:cNvSpPr/>
          <p:nvPr/>
        </p:nvSpPr>
        <p:spPr>
          <a:xfrm>
            <a:off x="4376880" y="1709640"/>
            <a:ext cx="3438360" cy="343872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5"/>
          <p:cNvSpPr/>
          <p:nvPr/>
        </p:nvSpPr>
        <p:spPr>
          <a:xfrm>
            <a:off x="4933800" y="2060640"/>
            <a:ext cx="147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Impact"/>
                <a:ea typeface="宋体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9"/>
          <p:cNvSpPr/>
          <p:nvPr/>
        </p:nvSpPr>
        <p:spPr>
          <a:xfrm>
            <a:off x="4567320" y="3573360"/>
            <a:ext cx="30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等腰三角形 12"/>
          <p:cNvSpPr/>
          <p:nvPr/>
        </p:nvSpPr>
        <p:spPr>
          <a:xfrm rot="10800000">
            <a:off x="5811480" y="4309560"/>
            <a:ext cx="585720" cy="50508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1"/>
          <p:cNvSpPr/>
          <p:nvPr/>
        </p:nvSpPr>
        <p:spPr>
          <a:xfrm>
            <a:off x="5811840" y="2463840"/>
            <a:ext cx="151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等腰三角形 10"/>
          <p:cNvSpPr/>
          <p:nvPr/>
        </p:nvSpPr>
        <p:spPr>
          <a:xfrm rot="10800000">
            <a:off x="3257280" y="1868400"/>
            <a:ext cx="584280" cy="503280"/>
          </a:xfrm>
          <a:prstGeom prst="triangle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等腰三角形 16"/>
          <p:cNvSpPr/>
          <p:nvPr/>
        </p:nvSpPr>
        <p:spPr>
          <a:xfrm rot="8399400">
            <a:off x="3763080" y="1837800"/>
            <a:ext cx="584280" cy="50508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等腰三角形 17"/>
          <p:cNvSpPr/>
          <p:nvPr/>
        </p:nvSpPr>
        <p:spPr>
          <a:xfrm rot="8399400">
            <a:off x="3704760" y="2281320"/>
            <a:ext cx="58428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等腰三角形 18"/>
          <p:cNvSpPr/>
          <p:nvPr/>
        </p:nvSpPr>
        <p:spPr>
          <a:xfrm rot="9174000">
            <a:off x="8213040" y="4300560"/>
            <a:ext cx="58428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等腰三角形 19"/>
          <p:cNvSpPr/>
          <p:nvPr/>
        </p:nvSpPr>
        <p:spPr>
          <a:xfrm rot="10800000">
            <a:off x="8069400" y="3691080"/>
            <a:ext cx="583920" cy="504720"/>
          </a:xfrm>
          <a:prstGeom prst="triangle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等腰三角形 20"/>
          <p:cNvSpPr/>
          <p:nvPr/>
        </p:nvSpPr>
        <p:spPr>
          <a:xfrm rot="17223000">
            <a:off x="8275680" y="3855600"/>
            <a:ext cx="58716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"/>
          <p:cNvSpPr/>
          <p:nvPr/>
        </p:nvSpPr>
        <p:spPr>
          <a:xfrm>
            <a:off x="6095880" y="-7920"/>
            <a:ext cx="6096240" cy="689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0" y="4581360"/>
            <a:ext cx="6095880" cy="2303640"/>
          </a:xfrm>
          <a:prstGeom prst="rect">
            <a:avLst/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2"/>
          <p:cNvGrpSpPr/>
          <p:nvPr/>
        </p:nvGrpSpPr>
        <p:grpSpPr>
          <a:xfrm>
            <a:off x="1895400" y="5143680"/>
            <a:ext cx="2305080" cy="1152360"/>
            <a:chOff x="1895400" y="5143680"/>
            <a:chExt cx="2305080" cy="1152360"/>
          </a:xfrm>
        </p:grpSpPr>
        <p:grpSp>
          <p:nvGrpSpPr>
            <p:cNvPr id="140" name=""/>
            <p:cNvGrpSpPr/>
            <p:nvPr/>
          </p:nvGrpSpPr>
          <p:grpSpPr>
            <a:xfrm>
              <a:off x="1895400" y="5143680"/>
              <a:ext cx="360" cy="1152360"/>
              <a:chOff x="1895400" y="5143680"/>
              <a:chExt cx="360" cy="1152360"/>
            </a:xfrm>
          </p:grpSpPr>
          <p:sp>
            <p:nvSpPr>
              <p:cNvPr id="141" name="直接连接符 9"/>
              <p:cNvSpPr/>
              <p:nvPr/>
            </p:nvSpPr>
            <p:spPr>
              <a:xfrm>
                <a:off x="1895400" y="5143680"/>
                <a:ext cx="0" cy="115236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1895400" y="5143680"/>
                <a:ext cx="360" cy="115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文本框 10"/>
            <p:cNvSpPr/>
            <p:nvPr/>
          </p:nvSpPr>
          <p:spPr>
            <a:xfrm>
              <a:off x="2043720" y="5143680"/>
              <a:ext cx="2156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文本框 11"/>
            <p:cNvSpPr/>
            <p:nvPr/>
          </p:nvSpPr>
          <p:spPr>
            <a:xfrm>
              <a:off x="2028960" y="5770080"/>
              <a:ext cx="2156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22"/>
          <p:cNvGrpSpPr/>
          <p:nvPr/>
        </p:nvGrpSpPr>
        <p:grpSpPr>
          <a:xfrm>
            <a:off x="7543080" y="4925160"/>
            <a:ext cx="823680" cy="896040"/>
            <a:chOff x="7543080" y="4925160"/>
            <a:chExt cx="823680" cy="896040"/>
          </a:xfrm>
        </p:grpSpPr>
        <p:sp>
          <p:nvSpPr>
            <p:cNvPr id="146" name="泪滴形 20"/>
            <p:cNvSpPr/>
            <p:nvPr/>
          </p:nvSpPr>
          <p:spPr>
            <a:xfrm rot="8035200">
              <a:off x="7657560" y="5051520"/>
              <a:ext cx="594000" cy="571680"/>
            </a:xfrm>
            <a:custGeom>
              <a:avLst/>
              <a:gdLst/>
              <a:ahLst/>
              <a:rect l="l" t="t" r="r" b="b"/>
              <a:pathLst>
                <a:path w="593894" h="571012">
                  <a:moveTo>
                    <a:pt x="0" y="285506"/>
                  </a:moveTo>
                  <a:cubicBezTo>
                    <a:pt x="0" y="127825"/>
                    <a:pt x="132948" y="0"/>
                    <a:pt x="296947" y="0"/>
                  </a:cubicBezTo>
                  <a:cubicBezTo>
                    <a:pt x="395929" y="0"/>
                    <a:pt x="494911" y="0"/>
                    <a:pt x="593894" y="0"/>
                  </a:cubicBezTo>
                  <a:cubicBezTo>
                    <a:pt x="593894" y="95168"/>
                    <a:pt x="593894" y="190337"/>
                    <a:pt x="593894" y="285506"/>
                  </a:cubicBezTo>
                  <a:cubicBezTo>
                    <a:pt x="593894" y="443187"/>
                    <a:pt x="460946" y="571012"/>
                    <a:pt x="296947" y="571012"/>
                  </a:cubicBezTo>
                  <a:cubicBezTo>
                    <a:pt x="132948" y="571012"/>
                    <a:pt x="0" y="443187"/>
                    <a:pt x="0" y="285506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椭圆 21"/>
            <p:cNvSpPr/>
            <p:nvPr/>
          </p:nvSpPr>
          <p:spPr>
            <a:xfrm>
              <a:off x="7846560" y="5749200"/>
              <a:ext cx="21636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文本框 24"/>
          <p:cNvSpPr/>
          <p:nvPr/>
        </p:nvSpPr>
        <p:spPr>
          <a:xfrm>
            <a:off x="8256600" y="514368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25"/>
          <p:cNvSpPr/>
          <p:nvPr/>
        </p:nvSpPr>
        <p:spPr>
          <a:xfrm>
            <a:off x="8256600" y="592920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7"/>
          <p:cNvGrpSpPr/>
          <p:nvPr/>
        </p:nvGrpSpPr>
        <p:grpSpPr>
          <a:xfrm>
            <a:off x="11064960" y="-7920"/>
            <a:ext cx="431640" cy="647640"/>
            <a:chOff x="11064960" y="-7920"/>
            <a:chExt cx="431640" cy="647640"/>
          </a:xfrm>
        </p:grpSpPr>
        <p:sp>
          <p:nvSpPr>
            <p:cNvPr id="151" name="任意多边形 5"/>
            <p:cNvSpPr/>
            <p:nvPr/>
          </p:nvSpPr>
          <p:spPr>
            <a:xfrm>
              <a:off x="11064960" y="413640"/>
              <a:ext cx="431640" cy="226080"/>
            </a:xfrm>
            <a:custGeom>
              <a:avLst/>
              <a:gdLst/>
              <a:ahLst/>
              <a:rect l="l" t="t" r="r" b="b"/>
              <a:pathLst>
                <a:path w="432048" h="598340">
                  <a:moveTo>
                    <a:pt x="0" y="0"/>
                  </a:moveTo>
                  <a:lnTo>
                    <a:pt x="432048" y="0"/>
                  </a:lnTo>
                  <a:lnTo>
                    <a:pt x="432048" y="598340"/>
                  </a:lnTo>
                  <a:lnTo>
                    <a:pt x="216024" y="225885"/>
                  </a:lnTo>
                  <a:lnTo>
                    <a:pt x="0" y="598340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6"/>
            <p:cNvSpPr/>
            <p:nvPr/>
          </p:nvSpPr>
          <p:spPr>
            <a:xfrm>
              <a:off x="11064960" y="-7920"/>
              <a:ext cx="431640" cy="42156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图片 28" descr=""/>
          <p:cNvPicPr/>
          <p:nvPr/>
        </p:nvPicPr>
        <p:blipFill>
          <a:blip r:embed="rId2"/>
          <a:stretch/>
        </p:blipFill>
        <p:spPr>
          <a:xfrm>
            <a:off x="6095880" y="115236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154" name="矩形 29"/>
          <p:cNvSpPr/>
          <p:nvPr/>
        </p:nvSpPr>
        <p:spPr>
          <a:xfrm>
            <a:off x="6095880" y="1152360"/>
            <a:ext cx="6096240" cy="3429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34"/>
          <p:cNvGrpSpPr/>
          <p:nvPr/>
        </p:nvGrpSpPr>
        <p:grpSpPr>
          <a:xfrm>
            <a:off x="6456240" y="1276200"/>
            <a:ext cx="4449960" cy="4305600"/>
            <a:chOff x="6456240" y="1276200"/>
            <a:chExt cx="4449960" cy="4305600"/>
          </a:xfrm>
        </p:grpSpPr>
        <p:sp>
          <p:nvSpPr>
            <p:cNvPr id="157" name="矩形 19"/>
            <p:cNvSpPr/>
            <p:nvPr/>
          </p:nvSpPr>
          <p:spPr>
            <a:xfrm>
              <a:off x="6456240" y="1276200"/>
              <a:ext cx="1944360" cy="1944720"/>
            </a:xfrm>
            <a:prstGeom prst="rect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20"/>
            <p:cNvSpPr/>
            <p:nvPr/>
          </p:nvSpPr>
          <p:spPr>
            <a:xfrm>
              <a:off x="8961840" y="1276200"/>
              <a:ext cx="1944360" cy="194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21"/>
            <p:cNvSpPr/>
            <p:nvPr/>
          </p:nvSpPr>
          <p:spPr>
            <a:xfrm>
              <a:off x="6456240" y="3637080"/>
              <a:ext cx="1944360" cy="194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22"/>
            <p:cNvSpPr/>
            <p:nvPr/>
          </p:nvSpPr>
          <p:spPr>
            <a:xfrm>
              <a:off x="8931960" y="3619080"/>
              <a:ext cx="1944360" cy="1944720"/>
            </a:xfrm>
            <a:prstGeom prst="rect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组合 15"/>
            <p:cNvGrpSpPr/>
            <p:nvPr/>
          </p:nvGrpSpPr>
          <p:grpSpPr>
            <a:xfrm>
              <a:off x="7116840" y="1652040"/>
              <a:ext cx="622440" cy="978120"/>
              <a:chOff x="7116840" y="1652040"/>
              <a:chExt cx="622440" cy="978120"/>
            </a:xfrm>
          </p:grpSpPr>
          <p:sp>
            <p:nvSpPr>
              <p:cNvPr id="162" name="椭圆 16"/>
              <p:cNvSpPr/>
              <p:nvPr/>
            </p:nvSpPr>
            <p:spPr>
              <a:xfrm>
                <a:off x="7250760" y="1652040"/>
                <a:ext cx="390960" cy="390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弧形 17"/>
              <p:cNvSpPr/>
              <p:nvPr/>
            </p:nvSpPr>
            <p:spPr>
              <a:xfrm>
                <a:off x="7116840" y="2043720"/>
                <a:ext cx="586440" cy="586440"/>
              </a:xfrm>
              <a:custGeom>
                <a:avLst/>
                <a:gdLst/>
                <a:ahLst/>
                <a:rect l="l" t="t" r="r" b="b"/>
                <a:pathLst>
                  <a:path stroke="0" w="328816" h="328816">
                    <a:moveTo>
                      <a:pt x="60" y="168850"/>
                    </a:moveTo>
                    <a:cubicBezTo>
                      <a:pt x="20" y="167375"/>
                      <a:pt x="0" y="165894"/>
                      <a:pt x="0" y="164408"/>
                    </a:cubicBezTo>
                    <a:cubicBezTo>
                      <a:pt x="0" y="73608"/>
                      <a:pt x="73608" y="0"/>
                      <a:pt x="164408" y="0"/>
                    </a:cubicBezTo>
                    <a:cubicBezTo>
                      <a:pt x="168257" y="0"/>
                      <a:pt x="172075" y="132"/>
                      <a:pt x="175817" y="390"/>
                    </a:cubicBezTo>
                    <a:lnTo>
                      <a:pt x="164408" y="164408"/>
                    </a:lnTo>
                    <a:close/>
                  </a:path>
                  <a:path fill="none" w="328816" h="328816">
                    <a:moveTo>
                      <a:pt x="60" y="168850"/>
                    </a:moveTo>
                    <a:cubicBezTo>
                      <a:pt x="20" y="167375"/>
                      <a:pt x="0" y="165894"/>
                      <a:pt x="0" y="164408"/>
                    </a:cubicBezTo>
                    <a:cubicBezTo>
                      <a:pt x="0" y="73608"/>
                      <a:pt x="73608" y="0"/>
                      <a:pt x="164408" y="0"/>
                    </a:cubicBezTo>
                    <a:cubicBezTo>
                      <a:pt x="168257" y="0"/>
                      <a:pt x="172075" y="132"/>
                      <a:pt x="175817" y="390"/>
                    </a:cubicBez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弧形 18"/>
              <p:cNvSpPr/>
              <p:nvPr/>
            </p:nvSpPr>
            <p:spPr>
              <a:xfrm flipH="1">
                <a:off x="7152480" y="2043720"/>
                <a:ext cx="586440" cy="586440"/>
              </a:xfrm>
              <a:custGeom>
                <a:avLst/>
                <a:gdLst/>
                <a:ahLst/>
                <a:rect l="l" t="t" r="r" b="b"/>
                <a:pathLst>
                  <a:path stroke="0" w="328816" h="328816">
                    <a:moveTo>
                      <a:pt x="60" y="168850"/>
                    </a:moveTo>
                    <a:cubicBezTo>
                      <a:pt x="20" y="167375"/>
                      <a:pt x="0" y="165894"/>
                      <a:pt x="0" y="164408"/>
                    </a:cubicBezTo>
                    <a:cubicBezTo>
                      <a:pt x="0" y="114736"/>
                      <a:pt x="22028" y="70209"/>
                      <a:pt x="56848" y="40063"/>
                    </a:cubicBezTo>
                    <a:lnTo>
                      <a:pt x="164408" y="164408"/>
                    </a:lnTo>
                    <a:close/>
                  </a:path>
                  <a:path fill="none" w="328816" h="328816">
                    <a:moveTo>
                      <a:pt x="60" y="168850"/>
                    </a:moveTo>
                    <a:cubicBezTo>
                      <a:pt x="20" y="167375"/>
                      <a:pt x="0" y="165894"/>
                      <a:pt x="0" y="164408"/>
                    </a:cubicBezTo>
                    <a:cubicBezTo>
                      <a:pt x="0" y="114736"/>
                      <a:pt x="22028" y="70209"/>
                      <a:pt x="56848" y="40063"/>
                    </a:cubicBez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组合 10"/>
            <p:cNvGrpSpPr/>
            <p:nvPr/>
          </p:nvGrpSpPr>
          <p:grpSpPr>
            <a:xfrm>
              <a:off x="9566280" y="4058640"/>
              <a:ext cx="735120" cy="628560"/>
              <a:chOff x="9566280" y="4058640"/>
              <a:chExt cx="735120" cy="628560"/>
            </a:xfrm>
          </p:grpSpPr>
          <p:sp>
            <p:nvSpPr>
              <p:cNvPr id="166" name="任意多边形 11"/>
              <p:cNvSpPr/>
              <p:nvPr/>
            </p:nvSpPr>
            <p:spPr>
              <a:xfrm>
                <a:off x="9566280" y="4186080"/>
                <a:ext cx="600480" cy="501120"/>
              </a:xfrm>
              <a:custGeom>
                <a:avLst/>
                <a:gdLst/>
                <a:ahLst/>
                <a:rect l="l" t="t" r="r" b="b"/>
                <a:pathLst>
                  <a:path w="384962" h="321229">
                    <a:moveTo>
                      <a:pt x="182465" y="16"/>
                    </a:moveTo>
                    <a:cubicBezTo>
                      <a:pt x="21333" y="45260"/>
                      <a:pt x="-29404" y="220983"/>
                      <a:pt x="15778" y="259572"/>
                    </a:cubicBezTo>
                    <a:cubicBezTo>
                      <a:pt x="205102" y="407834"/>
                      <a:pt x="389635" y="250048"/>
                      <a:pt x="384872" y="188135"/>
                    </a:cubicBezTo>
                    <a:cubicBezTo>
                      <a:pt x="385820" y="164339"/>
                      <a:pt x="372965" y="134160"/>
                      <a:pt x="318197" y="123842"/>
                    </a:cubicBezTo>
                    <a:cubicBezTo>
                      <a:pt x="333279" y="89711"/>
                      <a:pt x="338070" y="74583"/>
                      <a:pt x="318197" y="54785"/>
                    </a:cubicBezTo>
                    <a:cubicBezTo>
                      <a:pt x="300095" y="42771"/>
                      <a:pt x="256285" y="49229"/>
                      <a:pt x="218184" y="71453"/>
                    </a:cubicBezTo>
                    <a:cubicBezTo>
                      <a:pt x="227709" y="35735"/>
                      <a:pt x="224656" y="-885"/>
                      <a:pt x="182465" y="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组合 12"/>
              <p:cNvGrpSpPr/>
              <p:nvPr/>
            </p:nvGrpSpPr>
            <p:grpSpPr>
              <a:xfrm>
                <a:off x="9895320" y="4058640"/>
                <a:ext cx="406080" cy="406080"/>
                <a:chOff x="9895320" y="4058640"/>
                <a:chExt cx="406080" cy="406080"/>
              </a:xfrm>
            </p:grpSpPr>
            <p:sp>
              <p:nvSpPr>
                <p:cNvPr id="168" name="弧形 13"/>
                <p:cNvSpPr/>
                <p:nvPr/>
              </p:nvSpPr>
              <p:spPr>
                <a:xfrm>
                  <a:off x="9895320" y="4058640"/>
                  <a:ext cx="406080" cy="406080"/>
                </a:xfrm>
                <a:custGeom>
                  <a:avLst/>
                  <a:gdLst/>
                  <a:ahLst/>
                  <a:rect l="l" t="t" r="r" b="b"/>
                  <a:pathLst>
                    <a:path stroke="0" w="431998" h="431998">
                      <a:moveTo>
                        <a:pt x="215998" y="0"/>
                      </a:moveTo>
                      <a:cubicBezTo>
                        <a:pt x="335291" y="0"/>
                        <a:pt x="431997" y="96706"/>
                        <a:pt x="431997" y="215999"/>
                      </a:cubicBezTo>
                      <a:lnTo>
                        <a:pt x="215999" y="215999"/>
                      </a:lnTo>
                      <a:close/>
                    </a:path>
                    <a:path fill="none" w="431998" h="431998">
                      <a:moveTo>
                        <a:pt x="215998" y="0"/>
                      </a:moveTo>
                      <a:cubicBezTo>
                        <a:pt x="335291" y="0"/>
                        <a:pt x="431997" y="96706"/>
                        <a:pt x="431997" y="215999"/>
                      </a:cubicBez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弧形 14"/>
                <p:cNvSpPr/>
                <p:nvPr/>
              </p:nvSpPr>
              <p:spPr>
                <a:xfrm>
                  <a:off x="10000080" y="4163040"/>
                  <a:ext cx="196920" cy="196920"/>
                </a:xfrm>
                <a:custGeom>
                  <a:avLst/>
                  <a:gdLst/>
                  <a:ahLst/>
                  <a:rect l="l" t="t" r="r" b="b"/>
                  <a:pathLst>
                    <a:path stroke="0" w="209650" h="209650">
                      <a:moveTo>
                        <a:pt x="104824" y="0"/>
                      </a:moveTo>
                      <a:cubicBezTo>
                        <a:pt x="162717" y="0"/>
                        <a:pt x="209649" y="46932"/>
                        <a:pt x="209649" y="104825"/>
                      </a:cubicBezTo>
                      <a:lnTo>
                        <a:pt x="104825" y="104825"/>
                      </a:lnTo>
                      <a:close/>
                    </a:path>
                    <a:path fill="none" w="209650" h="209650">
                      <a:moveTo>
                        <a:pt x="104824" y="0"/>
                      </a:moveTo>
                      <a:cubicBezTo>
                        <a:pt x="162717" y="0"/>
                        <a:pt x="209649" y="46932"/>
                        <a:pt x="209649" y="104825"/>
                      </a:cubicBez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组合 9"/>
            <p:cNvGrpSpPr/>
            <p:nvPr/>
          </p:nvGrpSpPr>
          <p:grpSpPr>
            <a:xfrm>
              <a:off x="6885360" y="3977640"/>
              <a:ext cx="1000080" cy="1011960"/>
              <a:chOff x="6885360" y="3977640"/>
              <a:chExt cx="1000080" cy="1011960"/>
            </a:xfrm>
          </p:grpSpPr>
          <p:sp>
            <p:nvSpPr>
              <p:cNvPr id="171" name="等腰三角形 7"/>
              <p:cNvSpPr/>
              <p:nvPr/>
            </p:nvSpPr>
            <p:spPr>
              <a:xfrm rot="13305000">
                <a:off x="7067520" y="4088880"/>
                <a:ext cx="635760" cy="789120"/>
              </a:xfrm>
              <a:custGeom>
                <a:avLst/>
                <a:gdLst/>
                <a:ahLst/>
                <a:rect l="l" t="t" r="r" b="b"/>
                <a:pathLst>
                  <a:path w="416195" h="516727">
                    <a:moveTo>
                      <a:pt x="338020" y="456762"/>
                    </a:moveTo>
                    <a:cubicBezTo>
                      <a:pt x="248247" y="536895"/>
                      <a:pt x="117304" y="536690"/>
                      <a:pt x="45550" y="456304"/>
                    </a:cubicBezTo>
                    <a:cubicBezTo>
                      <a:pt x="-26204" y="375919"/>
                      <a:pt x="-11598" y="245792"/>
                      <a:pt x="78174" y="165659"/>
                    </a:cubicBezTo>
                    <a:cubicBezTo>
                      <a:pt x="100826" y="145440"/>
                      <a:pt x="126098" y="130335"/>
                      <a:pt x="152430" y="120475"/>
                    </a:cubicBezTo>
                    <a:lnTo>
                      <a:pt x="206983" y="0"/>
                    </a:lnTo>
                    <a:lnTo>
                      <a:pt x="257190" y="110879"/>
                    </a:lnTo>
                    <a:cubicBezTo>
                      <a:pt x="300735" y="113128"/>
                      <a:pt x="340807" y="132690"/>
                      <a:pt x="370645" y="166117"/>
                    </a:cubicBezTo>
                    <a:cubicBezTo>
                      <a:pt x="442399" y="246502"/>
                      <a:pt x="427793" y="376629"/>
                      <a:pt x="338020" y="456762"/>
                    </a:cubicBezTo>
                    <a:close/>
                  </a:path>
                </a:pathLst>
              </a:custGeom>
              <a:noFill/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椭圆 7"/>
              <p:cNvSpPr/>
              <p:nvPr/>
            </p:nvSpPr>
            <p:spPr>
              <a:xfrm>
                <a:off x="7290720" y="4345200"/>
                <a:ext cx="54720" cy="54720"/>
              </a:xfrm>
              <a:prstGeom prst="ellipse">
                <a:avLst/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椭圆 8"/>
              <p:cNvSpPr/>
              <p:nvPr/>
            </p:nvSpPr>
            <p:spPr>
              <a:xfrm>
                <a:off x="7538040" y="4345200"/>
                <a:ext cx="54720" cy="54720"/>
              </a:xfrm>
              <a:prstGeom prst="ellipse">
                <a:avLst/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任意多边形 4"/>
            <p:cNvSpPr/>
            <p:nvPr/>
          </p:nvSpPr>
          <p:spPr>
            <a:xfrm>
              <a:off x="9625320" y="1652040"/>
              <a:ext cx="617760" cy="681840"/>
            </a:xfrm>
            <a:custGeom>
              <a:avLst/>
              <a:gdLst/>
              <a:ahLst/>
              <a:rect l="l" t="t" r="r" b="b"/>
              <a:pathLst>
                <a:path w="402986" h="444927">
                  <a:moveTo>
                    <a:pt x="209727" y="930"/>
                  </a:moveTo>
                  <a:cubicBezTo>
                    <a:pt x="77172" y="-12564"/>
                    <a:pt x="44628" y="123961"/>
                    <a:pt x="45422" y="203336"/>
                  </a:cubicBezTo>
                  <a:cubicBezTo>
                    <a:pt x="-48240" y="317635"/>
                    <a:pt x="27165" y="372405"/>
                    <a:pt x="57328" y="331924"/>
                  </a:cubicBezTo>
                  <a:lnTo>
                    <a:pt x="71615" y="353355"/>
                  </a:lnTo>
                  <a:cubicBezTo>
                    <a:pt x="58121" y="364468"/>
                    <a:pt x="39865" y="368436"/>
                    <a:pt x="31134" y="386693"/>
                  </a:cubicBezTo>
                  <a:cubicBezTo>
                    <a:pt x="31135" y="429555"/>
                    <a:pt x="121621" y="477180"/>
                    <a:pt x="195440" y="415268"/>
                  </a:cubicBezTo>
                  <a:cubicBezTo>
                    <a:pt x="240684" y="438286"/>
                    <a:pt x="326408" y="477975"/>
                    <a:pt x="366890" y="391455"/>
                  </a:cubicBezTo>
                  <a:cubicBezTo>
                    <a:pt x="361334" y="371612"/>
                    <a:pt x="341490" y="366055"/>
                    <a:pt x="328790" y="353355"/>
                  </a:cubicBezTo>
                  <a:lnTo>
                    <a:pt x="347840" y="331924"/>
                  </a:lnTo>
                  <a:cubicBezTo>
                    <a:pt x="367057" y="370814"/>
                    <a:pt x="457378" y="334305"/>
                    <a:pt x="354984" y="203337"/>
                  </a:cubicBezTo>
                  <a:cubicBezTo>
                    <a:pt x="343871" y="106500"/>
                    <a:pt x="320853" y="16804"/>
                    <a:pt x="209727" y="930"/>
                  </a:cubicBezTo>
                  <a:close/>
                </a:path>
              </a:pathLst>
            </a:custGeom>
            <a:noFill/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29"/>
            <p:cNvSpPr/>
            <p:nvPr/>
          </p:nvSpPr>
          <p:spPr>
            <a:xfrm>
              <a:off x="6977880" y="2555640"/>
              <a:ext cx="8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30"/>
            <p:cNvSpPr/>
            <p:nvPr/>
          </p:nvSpPr>
          <p:spPr>
            <a:xfrm>
              <a:off x="9362160" y="2555640"/>
              <a:ext cx="12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TENC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文本框 31"/>
            <p:cNvSpPr/>
            <p:nvPr/>
          </p:nvSpPr>
          <p:spPr>
            <a:xfrm>
              <a:off x="6808680" y="4989960"/>
              <a:ext cx="12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WECH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32"/>
            <p:cNvSpPr/>
            <p:nvPr/>
          </p:nvSpPr>
          <p:spPr>
            <a:xfrm>
              <a:off x="9437400" y="4989960"/>
              <a:ext cx="8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59"/>
          <p:cNvGrpSpPr/>
          <p:nvPr/>
        </p:nvGrpSpPr>
        <p:grpSpPr>
          <a:xfrm>
            <a:off x="679320" y="1284120"/>
            <a:ext cx="4695840" cy="4305600"/>
            <a:chOff x="679320" y="1284120"/>
            <a:chExt cx="4695840" cy="4305600"/>
          </a:xfrm>
        </p:grpSpPr>
        <p:sp>
          <p:nvSpPr>
            <p:cNvPr id="180" name="矩形 35"/>
            <p:cNvSpPr/>
            <p:nvPr/>
          </p:nvSpPr>
          <p:spPr>
            <a:xfrm>
              <a:off x="679320" y="1284120"/>
              <a:ext cx="4695840" cy="4305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991800" y="4509360"/>
              <a:ext cx="4070880" cy="360"/>
              <a:chOff x="991800" y="4509360"/>
              <a:chExt cx="4070880" cy="360"/>
            </a:xfrm>
          </p:grpSpPr>
          <p:sp>
            <p:nvSpPr>
              <p:cNvPr id="182" name="直接连接符 55"/>
              <p:cNvSpPr/>
              <p:nvPr/>
            </p:nvSpPr>
            <p:spPr>
              <a:xfrm>
                <a:off x="991800" y="4509360"/>
                <a:ext cx="40708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991800" y="4509360"/>
                <a:ext cx="407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991800" y="3426120"/>
              <a:ext cx="4070880" cy="360"/>
              <a:chOff x="991800" y="3426120"/>
              <a:chExt cx="4070880" cy="360"/>
            </a:xfrm>
          </p:grpSpPr>
          <p:sp>
            <p:nvSpPr>
              <p:cNvPr id="185" name="直接连接符 57"/>
              <p:cNvSpPr/>
              <p:nvPr/>
            </p:nvSpPr>
            <p:spPr>
              <a:xfrm>
                <a:off x="991800" y="3426120"/>
                <a:ext cx="40708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991800" y="3426120"/>
                <a:ext cx="407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991800" y="2342880"/>
              <a:ext cx="4070880" cy="360"/>
              <a:chOff x="991800" y="2342880"/>
              <a:chExt cx="4070880" cy="360"/>
            </a:xfrm>
          </p:grpSpPr>
          <p:sp>
            <p:nvSpPr>
              <p:cNvPr id="188" name="直接连接符 58"/>
              <p:cNvSpPr/>
              <p:nvPr/>
            </p:nvSpPr>
            <p:spPr>
              <a:xfrm>
                <a:off x="991800" y="2342880"/>
                <a:ext cx="40708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 txBox="1"/>
              <p:nvPr/>
            </p:nvSpPr>
            <p:spPr>
              <a:xfrm>
                <a:off x="991800" y="2342880"/>
                <a:ext cx="407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组合 53"/>
          <p:cNvGrpSpPr/>
          <p:nvPr/>
        </p:nvGrpSpPr>
        <p:grpSpPr>
          <a:xfrm>
            <a:off x="1060560" y="1617840"/>
            <a:ext cx="3625920" cy="459000"/>
            <a:chOff x="1060560" y="1617840"/>
            <a:chExt cx="3625920" cy="459000"/>
          </a:xfrm>
        </p:grpSpPr>
        <p:sp>
          <p:nvSpPr>
            <p:cNvPr id="191" name="文本框 44"/>
            <p:cNvSpPr/>
            <p:nvPr/>
          </p:nvSpPr>
          <p:spPr>
            <a:xfrm>
              <a:off x="2530440" y="1617840"/>
              <a:ext cx="2156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52"/>
            <p:cNvSpPr/>
            <p:nvPr/>
          </p:nvSpPr>
          <p:spPr>
            <a:xfrm>
              <a:off x="1060560" y="1646280"/>
              <a:ext cx="14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60"/>
          <p:cNvGrpSpPr/>
          <p:nvPr/>
        </p:nvGrpSpPr>
        <p:grpSpPr>
          <a:xfrm>
            <a:off x="1060560" y="2673360"/>
            <a:ext cx="3625920" cy="459000"/>
            <a:chOff x="1060560" y="2673360"/>
            <a:chExt cx="3625920" cy="459000"/>
          </a:xfrm>
        </p:grpSpPr>
        <p:sp>
          <p:nvSpPr>
            <p:cNvPr id="194" name="文本框 61"/>
            <p:cNvSpPr/>
            <p:nvPr/>
          </p:nvSpPr>
          <p:spPr>
            <a:xfrm>
              <a:off x="2530440" y="2673360"/>
              <a:ext cx="2156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62"/>
            <p:cNvSpPr/>
            <p:nvPr/>
          </p:nvSpPr>
          <p:spPr>
            <a:xfrm>
              <a:off x="1060560" y="2701800"/>
              <a:ext cx="14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63"/>
          <p:cNvGrpSpPr/>
          <p:nvPr/>
        </p:nvGrpSpPr>
        <p:grpSpPr>
          <a:xfrm>
            <a:off x="1060560" y="3727440"/>
            <a:ext cx="3625920" cy="459000"/>
            <a:chOff x="1060560" y="3727440"/>
            <a:chExt cx="3625920" cy="459000"/>
          </a:xfrm>
        </p:grpSpPr>
        <p:sp>
          <p:nvSpPr>
            <p:cNvPr id="197" name="文本框 64"/>
            <p:cNvSpPr/>
            <p:nvPr/>
          </p:nvSpPr>
          <p:spPr>
            <a:xfrm>
              <a:off x="2530440" y="3727440"/>
              <a:ext cx="2156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65"/>
            <p:cNvSpPr/>
            <p:nvPr/>
          </p:nvSpPr>
          <p:spPr>
            <a:xfrm>
              <a:off x="1060560" y="3755880"/>
              <a:ext cx="14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66"/>
          <p:cNvGrpSpPr/>
          <p:nvPr/>
        </p:nvGrpSpPr>
        <p:grpSpPr>
          <a:xfrm>
            <a:off x="1060560" y="4829040"/>
            <a:ext cx="3625920" cy="459000"/>
            <a:chOff x="1060560" y="4829040"/>
            <a:chExt cx="3625920" cy="459000"/>
          </a:xfrm>
        </p:grpSpPr>
        <p:sp>
          <p:nvSpPr>
            <p:cNvPr id="200" name="文本框 67"/>
            <p:cNvSpPr/>
            <p:nvPr/>
          </p:nvSpPr>
          <p:spPr>
            <a:xfrm>
              <a:off x="2530440" y="4829040"/>
              <a:ext cx="2156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68"/>
            <p:cNvSpPr/>
            <p:nvPr/>
          </p:nvSpPr>
          <p:spPr>
            <a:xfrm>
              <a:off x="1060560" y="4857480"/>
              <a:ext cx="14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49"/>
          <p:cNvGrpSpPr/>
          <p:nvPr/>
        </p:nvGrpSpPr>
        <p:grpSpPr>
          <a:xfrm>
            <a:off x="11064960" y="-7920"/>
            <a:ext cx="431640" cy="647640"/>
            <a:chOff x="11064960" y="-7920"/>
            <a:chExt cx="431640" cy="647640"/>
          </a:xfrm>
        </p:grpSpPr>
        <p:sp>
          <p:nvSpPr>
            <p:cNvPr id="203" name="任意多边形 50"/>
            <p:cNvSpPr/>
            <p:nvPr/>
          </p:nvSpPr>
          <p:spPr>
            <a:xfrm>
              <a:off x="11064960" y="413640"/>
              <a:ext cx="431640" cy="226080"/>
            </a:xfrm>
            <a:custGeom>
              <a:avLst/>
              <a:gdLst/>
              <a:ahLst/>
              <a:rect l="l" t="t" r="r" b="b"/>
              <a:pathLst>
                <a:path w="432048" h="598340">
                  <a:moveTo>
                    <a:pt x="0" y="0"/>
                  </a:moveTo>
                  <a:lnTo>
                    <a:pt x="432048" y="0"/>
                  </a:lnTo>
                  <a:lnTo>
                    <a:pt x="432048" y="598340"/>
                  </a:lnTo>
                  <a:lnTo>
                    <a:pt x="216024" y="225885"/>
                  </a:lnTo>
                  <a:lnTo>
                    <a:pt x="0" y="598340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51"/>
            <p:cNvSpPr/>
            <p:nvPr/>
          </p:nvSpPr>
          <p:spPr>
            <a:xfrm>
              <a:off x="11064960" y="-7920"/>
              <a:ext cx="431640" cy="42156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18"/>
          <p:cNvSpPr/>
          <p:nvPr/>
        </p:nvSpPr>
        <p:spPr>
          <a:xfrm>
            <a:off x="4162320" y="1495440"/>
            <a:ext cx="3867120" cy="386712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19"/>
          <p:cNvSpPr/>
          <p:nvPr/>
        </p:nvSpPr>
        <p:spPr>
          <a:xfrm>
            <a:off x="4376880" y="1709640"/>
            <a:ext cx="3438360" cy="343872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9"/>
          <p:cNvSpPr/>
          <p:nvPr/>
        </p:nvSpPr>
        <p:spPr>
          <a:xfrm>
            <a:off x="4933800" y="2060640"/>
            <a:ext cx="147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Impact"/>
                <a:ea typeface="宋体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1"/>
          <p:cNvSpPr/>
          <p:nvPr/>
        </p:nvSpPr>
        <p:spPr>
          <a:xfrm>
            <a:off x="4567320" y="3573360"/>
            <a:ext cx="30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等腰三角形 12"/>
          <p:cNvSpPr/>
          <p:nvPr/>
        </p:nvSpPr>
        <p:spPr>
          <a:xfrm rot="10800000">
            <a:off x="5811480" y="4309560"/>
            <a:ext cx="585720" cy="50508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7"/>
          <p:cNvSpPr/>
          <p:nvPr/>
        </p:nvSpPr>
        <p:spPr>
          <a:xfrm>
            <a:off x="5811840" y="2463840"/>
            <a:ext cx="151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等腰三角形 15"/>
          <p:cNvSpPr/>
          <p:nvPr/>
        </p:nvSpPr>
        <p:spPr>
          <a:xfrm rot="10800000">
            <a:off x="3257280" y="1868400"/>
            <a:ext cx="584280" cy="503280"/>
          </a:xfrm>
          <a:prstGeom prst="triangle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等腰三角形 16"/>
          <p:cNvSpPr/>
          <p:nvPr/>
        </p:nvSpPr>
        <p:spPr>
          <a:xfrm rot="8399400">
            <a:off x="3763080" y="1837800"/>
            <a:ext cx="584280" cy="50508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等腰三角形 20"/>
          <p:cNvSpPr/>
          <p:nvPr/>
        </p:nvSpPr>
        <p:spPr>
          <a:xfrm rot="8399400">
            <a:off x="3704760" y="2281320"/>
            <a:ext cx="58428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等腰三角形 21"/>
          <p:cNvSpPr/>
          <p:nvPr/>
        </p:nvSpPr>
        <p:spPr>
          <a:xfrm rot="9174000">
            <a:off x="8213040" y="4300560"/>
            <a:ext cx="58428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等腰三角形 22"/>
          <p:cNvSpPr/>
          <p:nvPr/>
        </p:nvSpPr>
        <p:spPr>
          <a:xfrm rot="10800000">
            <a:off x="8069400" y="3691080"/>
            <a:ext cx="583920" cy="504720"/>
          </a:xfrm>
          <a:prstGeom prst="triangle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23"/>
          <p:cNvSpPr/>
          <p:nvPr/>
        </p:nvSpPr>
        <p:spPr>
          <a:xfrm rot="17223000">
            <a:off x="8275680" y="3855600"/>
            <a:ext cx="58716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-23760" y="-34920"/>
            <a:ext cx="6086520" cy="689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"/>
          <p:cNvSpPr/>
          <p:nvPr/>
        </p:nvSpPr>
        <p:spPr>
          <a:xfrm>
            <a:off x="6062760" y="2637000"/>
            <a:ext cx="6129360" cy="1944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组合 3"/>
          <p:cNvGrpSpPr/>
          <p:nvPr/>
        </p:nvGrpSpPr>
        <p:grpSpPr>
          <a:xfrm>
            <a:off x="6621480" y="3251160"/>
            <a:ext cx="720720" cy="716040"/>
            <a:chOff x="6621480" y="3251160"/>
            <a:chExt cx="720720" cy="716040"/>
          </a:xfrm>
        </p:grpSpPr>
        <p:sp>
          <p:nvSpPr>
            <p:cNvPr id="222" name="椭圆 64"/>
            <p:cNvSpPr/>
            <p:nvPr/>
          </p:nvSpPr>
          <p:spPr>
            <a:xfrm>
              <a:off x="6621480" y="3251160"/>
              <a:ext cx="720720" cy="716040"/>
            </a:xfrm>
            <a:custGeom>
              <a:avLst/>
              <a:gdLst/>
              <a:ahLst/>
              <a:rect l="l" t="t" r="r" b="b"/>
              <a:pathLst>
                <a:path w="431302" h="412722">
                  <a:moveTo>
                    <a:pt x="156375" y="0"/>
                  </a:moveTo>
                  <a:cubicBezTo>
                    <a:pt x="168005" y="20590"/>
                    <a:pt x="190289" y="33770"/>
                    <a:pt x="215651" y="33770"/>
                  </a:cubicBezTo>
                  <a:cubicBezTo>
                    <a:pt x="241014" y="33770"/>
                    <a:pt x="263298" y="20590"/>
                    <a:pt x="274927" y="0"/>
                  </a:cubicBezTo>
                  <a:cubicBezTo>
                    <a:pt x="309545" y="9527"/>
                    <a:pt x="340579" y="27579"/>
                    <a:pt x="363816" y="53712"/>
                  </a:cubicBezTo>
                  <a:cubicBezTo>
                    <a:pt x="352706" y="73756"/>
                    <a:pt x="352817" y="98757"/>
                    <a:pt x="365119" y="120065"/>
                  </a:cubicBezTo>
                  <a:cubicBezTo>
                    <a:pt x="377551" y="141599"/>
                    <a:pt x="399475" y="154235"/>
                    <a:pt x="422640" y="154420"/>
                  </a:cubicBezTo>
                  <a:cubicBezTo>
                    <a:pt x="429070" y="170664"/>
                    <a:pt x="431302" y="188252"/>
                    <a:pt x="431302" y="206361"/>
                  </a:cubicBezTo>
                  <a:cubicBezTo>
                    <a:pt x="431302" y="224286"/>
                    <a:pt x="429115" y="241699"/>
                    <a:pt x="424325" y="258185"/>
                  </a:cubicBezTo>
                  <a:cubicBezTo>
                    <a:pt x="400567" y="257866"/>
                    <a:pt x="377859" y="270590"/>
                    <a:pt x="365119" y="292657"/>
                  </a:cubicBezTo>
                  <a:cubicBezTo>
                    <a:pt x="352396" y="314694"/>
                    <a:pt x="352713" y="340681"/>
                    <a:pt x="364828" y="361082"/>
                  </a:cubicBezTo>
                  <a:cubicBezTo>
                    <a:pt x="340153" y="385529"/>
                    <a:pt x="309461" y="403776"/>
                    <a:pt x="274915" y="412705"/>
                  </a:cubicBezTo>
                  <a:cubicBezTo>
                    <a:pt x="263284" y="392125"/>
                    <a:pt x="241006" y="378952"/>
                    <a:pt x="215651" y="378952"/>
                  </a:cubicBezTo>
                  <a:cubicBezTo>
                    <a:pt x="190289" y="378952"/>
                    <a:pt x="168005" y="392133"/>
                    <a:pt x="156375" y="412722"/>
                  </a:cubicBezTo>
                  <a:cubicBezTo>
                    <a:pt x="121757" y="403195"/>
                    <a:pt x="90723" y="385143"/>
                    <a:pt x="67486" y="359010"/>
                  </a:cubicBezTo>
                  <a:cubicBezTo>
                    <a:pt x="78596" y="338966"/>
                    <a:pt x="78485" y="313965"/>
                    <a:pt x="66183" y="292657"/>
                  </a:cubicBezTo>
                  <a:cubicBezTo>
                    <a:pt x="53751" y="271123"/>
                    <a:pt x="31827" y="258487"/>
                    <a:pt x="8662" y="258302"/>
                  </a:cubicBezTo>
                  <a:cubicBezTo>
                    <a:pt x="2232" y="242058"/>
                    <a:pt x="0" y="224470"/>
                    <a:pt x="0" y="206361"/>
                  </a:cubicBezTo>
                  <a:lnTo>
                    <a:pt x="8662" y="154420"/>
                  </a:lnTo>
                  <a:cubicBezTo>
                    <a:pt x="31827" y="154235"/>
                    <a:pt x="53751" y="141599"/>
                    <a:pt x="66183" y="120066"/>
                  </a:cubicBezTo>
                  <a:cubicBezTo>
                    <a:pt x="78485" y="98757"/>
                    <a:pt x="78596" y="73756"/>
                    <a:pt x="67486" y="53712"/>
                  </a:cubicBezTo>
                  <a:cubicBezTo>
                    <a:pt x="90723" y="27579"/>
                    <a:pt x="121757" y="9527"/>
                    <a:pt x="156375" y="0"/>
                  </a:cubicBezTo>
                  <a:close/>
                </a:path>
              </a:pathLst>
            </a:custGeom>
            <a:noFill/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弧形 5"/>
            <p:cNvSpPr/>
            <p:nvPr/>
          </p:nvSpPr>
          <p:spPr>
            <a:xfrm>
              <a:off x="6861600" y="3484080"/>
              <a:ext cx="240480" cy="249840"/>
            </a:xfrm>
            <a:custGeom>
              <a:avLst/>
              <a:gdLst/>
              <a:ahLst/>
              <a:rect l="l" t="t" r="r" b="b"/>
              <a:pathLst>
                <a:path stroke="0" w="144016" h="144016">
                  <a:moveTo>
                    <a:pt x="98902" y="138804"/>
                  </a:moveTo>
                  <a:cubicBezTo>
                    <a:pt x="90605" y="142170"/>
                    <a:pt x="81522" y="144015"/>
                    <a:pt x="72008" y="144015"/>
                  </a:cubicBezTo>
                  <a:cubicBezTo>
                    <a:pt x="32239" y="144015"/>
                    <a:pt x="0" y="111776"/>
                    <a:pt x="0" y="72007"/>
                  </a:cubicBezTo>
                  <a:cubicBezTo>
                    <a:pt x="0" y="32238"/>
                    <a:pt x="32239" y="-1"/>
                    <a:pt x="72008" y="-1"/>
                  </a:cubicBezTo>
                  <a:cubicBezTo>
                    <a:pt x="111777" y="-1"/>
                    <a:pt x="144016" y="32238"/>
                    <a:pt x="144016" y="72007"/>
                  </a:cubicBezTo>
                  <a:lnTo>
                    <a:pt x="72008" y="72008"/>
                  </a:lnTo>
                  <a:close/>
                </a:path>
                <a:path fill="none" w="144016" h="144016">
                  <a:moveTo>
                    <a:pt x="98902" y="138804"/>
                  </a:moveTo>
                  <a:cubicBezTo>
                    <a:pt x="90605" y="142170"/>
                    <a:pt x="81522" y="144015"/>
                    <a:pt x="72008" y="144015"/>
                  </a:cubicBezTo>
                  <a:cubicBezTo>
                    <a:pt x="32239" y="144015"/>
                    <a:pt x="0" y="111776"/>
                    <a:pt x="0" y="72007"/>
                  </a:cubicBezTo>
                  <a:cubicBezTo>
                    <a:pt x="0" y="32238"/>
                    <a:pt x="32239" y="-1"/>
                    <a:pt x="72008" y="-1"/>
                  </a:cubicBezTo>
                  <a:cubicBezTo>
                    <a:pt x="111777" y="-1"/>
                    <a:pt x="144016" y="32238"/>
                    <a:pt x="144016" y="72007"/>
                  </a:cubicBezTo>
                </a:path>
              </a:pathLst>
            </a:custGeom>
            <a:noFill/>
            <a:ln cap="rnd"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文本框 7"/>
          <p:cNvSpPr/>
          <p:nvPr/>
        </p:nvSpPr>
        <p:spPr>
          <a:xfrm>
            <a:off x="7924680" y="306864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8"/>
          <p:cNvSpPr/>
          <p:nvPr/>
        </p:nvSpPr>
        <p:spPr>
          <a:xfrm>
            <a:off x="7896240" y="368784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9"/>
          <p:cNvSpPr/>
          <p:nvPr/>
        </p:nvSpPr>
        <p:spPr>
          <a:xfrm>
            <a:off x="0" y="692280"/>
            <a:ext cx="6062760" cy="1944720"/>
          </a:xfrm>
          <a:prstGeom prst="rect">
            <a:avLst/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15"/>
          <p:cNvGrpSpPr/>
          <p:nvPr/>
        </p:nvGrpSpPr>
        <p:grpSpPr>
          <a:xfrm>
            <a:off x="682560" y="1251000"/>
            <a:ext cx="827280" cy="942840"/>
            <a:chOff x="682560" y="1251000"/>
            <a:chExt cx="827280" cy="942840"/>
          </a:xfrm>
        </p:grpSpPr>
        <p:sp>
          <p:nvSpPr>
            <p:cNvPr id="228" name="弧形 16"/>
            <p:cNvSpPr/>
            <p:nvPr/>
          </p:nvSpPr>
          <p:spPr>
            <a:xfrm>
              <a:off x="908280" y="1628640"/>
              <a:ext cx="566640" cy="565200"/>
            </a:xfrm>
            <a:custGeom>
              <a:avLst/>
              <a:gdLst/>
              <a:ahLst/>
              <a:rect l="l" t="t" r="r" b="b"/>
              <a:pathLst>
                <a:path stroke="0" w="328816" h="328816">
                  <a:moveTo>
                    <a:pt x="60" y="168850"/>
                  </a:moveTo>
                  <a:cubicBezTo>
                    <a:pt x="20" y="167375"/>
                    <a:pt x="0" y="165894"/>
                    <a:pt x="0" y="164408"/>
                  </a:cubicBezTo>
                  <a:cubicBezTo>
                    <a:pt x="0" y="73608"/>
                    <a:pt x="73608" y="0"/>
                    <a:pt x="164408" y="0"/>
                  </a:cubicBezTo>
                  <a:cubicBezTo>
                    <a:pt x="168257" y="0"/>
                    <a:pt x="172075" y="132"/>
                    <a:pt x="175817" y="390"/>
                  </a:cubicBezTo>
                  <a:lnTo>
                    <a:pt x="164408" y="164408"/>
                  </a:lnTo>
                  <a:close/>
                </a:path>
                <a:path fill="none" w="328816" h="328816">
                  <a:moveTo>
                    <a:pt x="60" y="168850"/>
                  </a:moveTo>
                  <a:cubicBezTo>
                    <a:pt x="20" y="167375"/>
                    <a:pt x="0" y="165894"/>
                    <a:pt x="0" y="164408"/>
                  </a:cubicBezTo>
                  <a:cubicBezTo>
                    <a:pt x="0" y="73608"/>
                    <a:pt x="73608" y="0"/>
                    <a:pt x="164408" y="0"/>
                  </a:cubicBezTo>
                  <a:cubicBezTo>
                    <a:pt x="168257" y="0"/>
                    <a:pt x="172075" y="132"/>
                    <a:pt x="175817" y="390"/>
                  </a:cubicBezTo>
                </a:path>
              </a:pathLst>
            </a:custGeom>
            <a:noFill/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组合 17"/>
            <p:cNvGrpSpPr/>
            <p:nvPr/>
          </p:nvGrpSpPr>
          <p:grpSpPr>
            <a:xfrm>
              <a:off x="682560" y="1251000"/>
              <a:ext cx="827280" cy="942840"/>
              <a:chOff x="682560" y="1251000"/>
              <a:chExt cx="827280" cy="942840"/>
            </a:xfrm>
          </p:grpSpPr>
          <p:sp>
            <p:nvSpPr>
              <p:cNvPr id="230" name="椭圆 18"/>
              <p:cNvSpPr/>
              <p:nvPr/>
            </p:nvSpPr>
            <p:spPr>
              <a:xfrm>
                <a:off x="1037880" y="1251000"/>
                <a:ext cx="377640" cy="376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弧形 19"/>
              <p:cNvSpPr/>
              <p:nvPr/>
            </p:nvSpPr>
            <p:spPr>
              <a:xfrm>
                <a:off x="772560" y="1281600"/>
                <a:ext cx="316080" cy="315360"/>
              </a:xfrm>
              <a:custGeom>
                <a:avLst/>
                <a:gdLst/>
                <a:ahLst/>
                <a:rect l="l" t="t" r="r" b="b"/>
                <a:pathLst>
                  <a:path stroke="0" w="183498" h="183498">
                    <a:moveTo>
                      <a:pt x="95876" y="183405"/>
                    </a:moveTo>
                    <a:cubicBezTo>
                      <a:pt x="94509" y="183467"/>
                      <a:pt x="93133" y="183498"/>
                      <a:pt x="91749" y="183498"/>
                    </a:cubicBezTo>
                    <a:cubicBezTo>
                      <a:pt x="41077" y="183498"/>
                      <a:pt x="0" y="142421"/>
                      <a:pt x="0" y="91749"/>
                    </a:cubicBezTo>
                    <a:cubicBezTo>
                      <a:pt x="0" y="41704"/>
                      <a:pt x="40068" y="1017"/>
                      <a:pt x="89865" y="19"/>
                    </a:cubicBezTo>
                    <a:lnTo>
                      <a:pt x="91749" y="91749"/>
                    </a:lnTo>
                    <a:close/>
                  </a:path>
                  <a:path fill="none" w="183498" h="183498">
                    <a:moveTo>
                      <a:pt x="95876" y="183405"/>
                    </a:moveTo>
                    <a:cubicBezTo>
                      <a:pt x="94509" y="183467"/>
                      <a:pt x="93133" y="183498"/>
                      <a:pt x="91749" y="183498"/>
                    </a:cubicBezTo>
                    <a:cubicBezTo>
                      <a:pt x="41077" y="183498"/>
                      <a:pt x="0" y="142421"/>
                      <a:pt x="0" y="91749"/>
                    </a:cubicBezTo>
                    <a:cubicBezTo>
                      <a:pt x="0" y="41704"/>
                      <a:pt x="40068" y="1017"/>
                      <a:pt x="89865" y="19"/>
                    </a:cubicBez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弧形 20"/>
              <p:cNvSpPr/>
              <p:nvPr/>
            </p:nvSpPr>
            <p:spPr>
              <a:xfrm>
                <a:off x="682560" y="1594080"/>
                <a:ext cx="496080" cy="495000"/>
              </a:xfrm>
              <a:custGeom>
                <a:avLst/>
                <a:gdLst/>
                <a:ahLst/>
                <a:rect l="l" t="t" r="r" b="b"/>
                <a:pathLst>
                  <a:path stroke="0" w="287990" h="287990">
                    <a:moveTo>
                      <a:pt x="52" y="147885"/>
                    </a:moveTo>
                    <a:cubicBezTo>
                      <a:pt x="16" y="146593"/>
                      <a:pt x="-1" y="145296"/>
                      <a:pt x="-1" y="143995"/>
                    </a:cubicBezTo>
                    <a:cubicBezTo>
                      <a:pt x="-1" y="65452"/>
                      <a:pt x="62884" y="1596"/>
                      <a:pt x="141038" y="30"/>
                    </a:cubicBezTo>
                    <a:lnTo>
                      <a:pt x="143995" y="143995"/>
                    </a:lnTo>
                    <a:close/>
                  </a:path>
                  <a:path fill="none" w="287990" h="287990">
                    <a:moveTo>
                      <a:pt x="52" y="147885"/>
                    </a:moveTo>
                    <a:cubicBezTo>
                      <a:pt x="16" y="146593"/>
                      <a:pt x="-1" y="145296"/>
                      <a:pt x="-1" y="143995"/>
                    </a:cubicBezTo>
                    <a:cubicBezTo>
                      <a:pt x="-1" y="65452"/>
                      <a:pt x="62884" y="1596"/>
                      <a:pt x="141038" y="30"/>
                    </a:cubicBez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弧形 21"/>
              <p:cNvSpPr/>
              <p:nvPr/>
            </p:nvSpPr>
            <p:spPr>
              <a:xfrm flipH="1">
                <a:off x="943200" y="1628640"/>
                <a:ext cx="566640" cy="565200"/>
              </a:xfrm>
              <a:custGeom>
                <a:avLst/>
                <a:gdLst/>
                <a:ahLst/>
                <a:rect l="l" t="t" r="r" b="b"/>
                <a:pathLst>
                  <a:path stroke="0" w="328816" h="328816">
                    <a:moveTo>
                      <a:pt x="60" y="168850"/>
                    </a:moveTo>
                    <a:cubicBezTo>
                      <a:pt x="20" y="167375"/>
                      <a:pt x="0" y="165894"/>
                      <a:pt x="0" y="164408"/>
                    </a:cubicBezTo>
                    <a:cubicBezTo>
                      <a:pt x="0" y="114736"/>
                      <a:pt x="22028" y="70209"/>
                      <a:pt x="56848" y="40063"/>
                    </a:cubicBezTo>
                    <a:lnTo>
                      <a:pt x="164408" y="164408"/>
                    </a:lnTo>
                    <a:close/>
                  </a:path>
                  <a:path fill="none" w="328816" h="328816">
                    <a:moveTo>
                      <a:pt x="60" y="168850"/>
                    </a:moveTo>
                    <a:cubicBezTo>
                      <a:pt x="20" y="167375"/>
                      <a:pt x="0" y="165894"/>
                      <a:pt x="0" y="164408"/>
                    </a:cubicBezTo>
                    <a:cubicBezTo>
                      <a:pt x="0" y="114736"/>
                      <a:pt x="22028" y="70209"/>
                      <a:pt x="56848" y="40063"/>
                    </a:cubicBez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文本框 23"/>
          <p:cNvSpPr/>
          <p:nvPr/>
        </p:nvSpPr>
        <p:spPr>
          <a:xfrm>
            <a:off x="2030400" y="1117440"/>
            <a:ext cx="21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24"/>
          <p:cNvSpPr/>
          <p:nvPr/>
        </p:nvSpPr>
        <p:spPr>
          <a:xfrm>
            <a:off x="1969920" y="1733400"/>
            <a:ext cx="21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6"/>
          <p:cNvSpPr/>
          <p:nvPr/>
        </p:nvSpPr>
        <p:spPr>
          <a:xfrm>
            <a:off x="1595520" y="3413160"/>
            <a:ext cx="3421080" cy="358920"/>
          </a:xfrm>
          <a:prstGeom prst="rect">
            <a:avLst/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7"/>
          <p:cNvSpPr/>
          <p:nvPr/>
        </p:nvSpPr>
        <p:spPr>
          <a:xfrm>
            <a:off x="1595520" y="4264200"/>
            <a:ext cx="2700360" cy="358560"/>
          </a:xfrm>
          <a:prstGeom prst="rect">
            <a:avLst/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8"/>
          <p:cNvSpPr/>
          <p:nvPr/>
        </p:nvSpPr>
        <p:spPr>
          <a:xfrm>
            <a:off x="1595520" y="5113440"/>
            <a:ext cx="3779640" cy="360360"/>
          </a:xfrm>
          <a:prstGeom prst="rect">
            <a:avLst/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9"/>
          <p:cNvSpPr/>
          <p:nvPr/>
        </p:nvSpPr>
        <p:spPr>
          <a:xfrm>
            <a:off x="1595520" y="5964120"/>
            <a:ext cx="3060720" cy="360360"/>
          </a:xfrm>
          <a:prstGeom prst="rect">
            <a:avLst/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6"/>
          <p:cNvSpPr/>
          <p:nvPr/>
        </p:nvSpPr>
        <p:spPr>
          <a:xfrm>
            <a:off x="885960" y="3411360"/>
            <a:ext cx="6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33"/>
          <p:cNvSpPr/>
          <p:nvPr/>
        </p:nvSpPr>
        <p:spPr>
          <a:xfrm>
            <a:off x="852480" y="4257720"/>
            <a:ext cx="6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34"/>
          <p:cNvSpPr/>
          <p:nvPr/>
        </p:nvSpPr>
        <p:spPr>
          <a:xfrm>
            <a:off x="882720" y="5143680"/>
            <a:ext cx="6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35"/>
          <p:cNvSpPr/>
          <p:nvPr/>
        </p:nvSpPr>
        <p:spPr>
          <a:xfrm>
            <a:off x="852480" y="5954760"/>
            <a:ext cx="6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38"/>
          <p:cNvGrpSpPr/>
          <p:nvPr/>
        </p:nvGrpSpPr>
        <p:grpSpPr>
          <a:xfrm>
            <a:off x="11064960" y="-7920"/>
            <a:ext cx="431640" cy="647640"/>
            <a:chOff x="11064960" y="-7920"/>
            <a:chExt cx="431640" cy="647640"/>
          </a:xfrm>
        </p:grpSpPr>
        <p:sp>
          <p:nvSpPr>
            <p:cNvPr id="245" name="任意多边形 39"/>
            <p:cNvSpPr/>
            <p:nvPr/>
          </p:nvSpPr>
          <p:spPr>
            <a:xfrm>
              <a:off x="11064960" y="413640"/>
              <a:ext cx="431640" cy="226080"/>
            </a:xfrm>
            <a:custGeom>
              <a:avLst/>
              <a:gdLst/>
              <a:ahLst/>
              <a:rect l="l" t="t" r="r" b="b"/>
              <a:pathLst>
                <a:path w="432048" h="598340">
                  <a:moveTo>
                    <a:pt x="0" y="0"/>
                  </a:moveTo>
                  <a:lnTo>
                    <a:pt x="432048" y="0"/>
                  </a:lnTo>
                  <a:lnTo>
                    <a:pt x="432048" y="598340"/>
                  </a:lnTo>
                  <a:lnTo>
                    <a:pt x="216024" y="225885"/>
                  </a:lnTo>
                  <a:lnTo>
                    <a:pt x="0" y="598340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40"/>
            <p:cNvSpPr/>
            <p:nvPr/>
          </p:nvSpPr>
          <p:spPr>
            <a:xfrm>
              <a:off x="11064960" y="-7920"/>
              <a:ext cx="431640" cy="42156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组合 20"/>
          <p:cNvGrpSpPr/>
          <p:nvPr/>
        </p:nvGrpSpPr>
        <p:grpSpPr>
          <a:xfrm>
            <a:off x="2495520" y="1989000"/>
            <a:ext cx="7200720" cy="3888000"/>
            <a:chOff x="2495520" y="1989000"/>
            <a:chExt cx="7200720" cy="3888000"/>
          </a:xfrm>
        </p:grpSpPr>
        <p:sp>
          <p:nvSpPr>
            <p:cNvPr id="249" name="矩形 1"/>
            <p:cNvSpPr/>
            <p:nvPr/>
          </p:nvSpPr>
          <p:spPr>
            <a:xfrm>
              <a:off x="2495520" y="1989000"/>
              <a:ext cx="3600360" cy="1944000"/>
            </a:xfrm>
            <a:prstGeom prst="rect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2"/>
            <p:cNvSpPr/>
            <p:nvPr/>
          </p:nvSpPr>
          <p:spPr>
            <a:xfrm>
              <a:off x="2495520" y="3933000"/>
              <a:ext cx="3600360" cy="1944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4"/>
            <p:cNvSpPr/>
            <p:nvPr/>
          </p:nvSpPr>
          <p:spPr>
            <a:xfrm>
              <a:off x="6095880" y="1989000"/>
              <a:ext cx="3600360" cy="1944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5"/>
            <p:cNvSpPr/>
            <p:nvPr/>
          </p:nvSpPr>
          <p:spPr>
            <a:xfrm>
              <a:off x="6095880" y="3933000"/>
              <a:ext cx="3600360" cy="1944000"/>
            </a:xfrm>
            <a:prstGeom prst="rect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10"/>
            <p:cNvSpPr/>
            <p:nvPr/>
          </p:nvSpPr>
          <p:spPr>
            <a:xfrm>
              <a:off x="3225600" y="2360160"/>
              <a:ext cx="21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TRENGTH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12"/>
            <p:cNvSpPr/>
            <p:nvPr/>
          </p:nvSpPr>
          <p:spPr>
            <a:xfrm>
              <a:off x="3227760" y="2928960"/>
              <a:ext cx="2156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13"/>
            <p:cNvSpPr/>
            <p:nvPr/>
          </p:nvSpPr>
          <p:spPr>
            <a:xfrm>
              <a:off x="6796800" y="2329200"/>
              <a:ext cx="21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 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EAKNE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文本框 14"/>
            <p:cNvSpPr/>
            <p:nvPr/>
          </p:nvSpPr>
          <p:spPr>
            <a:xfrm>
              <a:off x="6798600" y="2883240"/>
              <a:ext cx="2156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文本框 15"/>
            <p:cNvSpPr/>
            <p:nvPr/>
          </p:nvSpPr>
          <p:spPr>
            <a:xfrm>
              <a:off x="3102840" y="4418280"/>
              <a:ext cx="233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OPPORTUN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16"/>
            <p:cNvSpPr/>
            <p:nvPr/>
          </p:nvSpPr>
          <p:spPr>
            <a:xfrm>
              <a:off x="3193920" y="4993920"/>
              <a:ext cx="2156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17"/>
            <p:cNvSpPr/>
            <p:nvPr/>
          </p:nvSpPr>
          <p:spPr>
            <a:xfrm>
              <a:off x="7035120" y="4413600"/>
              <a:ext cx="177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HREA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文本框 18"/>
            <p:cNvSpPr/>
            <p:nvPr/>
          </p:nvSpPr>
          <p:spPr>
            <a:xfrm>
              <a:off x="6843960" y="4993920"/>
              <a:ext cx="2156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文本框 19"/>
          <p:cNvSpPr/>
          <p:nvPr/>
        </p:nvSpPr>
        <p:spPr>
          <a:xfrm>
            <a:off x="5203800" y="911160"/>
            <a:ext cx="159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SW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25"/>
          <p:cNvGrpSpPr/>
          <p:nvPr/>
        </p:nvGrpSpPr>
        <p:grpSpPr>
          <a:xfrm>
            <a:off x="11064960" y="-7920"/>
            <a:ext cx="431640" cy="647640"/>
            <a:chOff x="11064960" y="-7920"/>
            <a:chExt cx="431640" cy="647640"/>
          </a:xfrm>
        </p:grpSpPr>
        <p:sp>
          <p:nvSpPr>
            <p:cNvPr id="263" name="任意多边形 26"/>
            <p:cNvSpPr/>
            <p:nvPr/>
          </p:nvSpPr>
          <p:spPr>
            <a:xfrm>
              <a:off x="11064960" y="413640"/>
              <a:ext cx="431640" cy="226080"/>
            </a:xfrm>
            <a:custGeom>
              <a:avLst/>
              <a:gdLst/>
              <a:ahLst/>
              <a:rect l="l" t="t" r="r" b="b"/>
              <a:pathLst>
                <a:path w="432048" h="598340">
                  <a:moveTo>
                    <a:pt x="0" y="0"/>
                  </a:moveTo>
                  <a:lnTo>
                    <a:pt x="432048" y="0"/>
                  </a:lnTo>
                  <a:lnTo>
                    <a:pt x="432048" y="598340"/>
                  </a:lnTo>
                  <a:lnTo>
                    <a:pt x="216024" y="225885"/>
                  </a:lnTo>
                  <a:lnTo>
                    <a:pt x="0" y="598340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27"/>
            <p:cNvSpPr/>
            <p:nvPr/>
          </p:nvSpPr>
          <p:spPr>
            <a:xfrm>
              <a:off x="11064960" y="-7920"/>
              <a:ext cx="431640" cy="42156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组合 14"/>
          <p:cNvGrpSpPr/>
          <p:nvPr/>
        </p:nvGrpSpPr>
        <p:grpSpPr>
          <a:xfrm>
            <a:off x="1806480" y="3429000"/>
            <a:ext cx="8578800" cy="2521080"/>
            <a:chOff x="1806480" y="3429000"/>
            <a:chExt cx="8578800" cy="2521080"/>
          </a:xfrm>
        </p:grpSpPr>
        <p:sp>
          <p:nvSpPr>
            <p:cNvPr id="267" name="矩形 1"/>
            <p:cNvSpPr/>
            <p:nvPr/>
          </p:nvSpPr>
          <p:spPr>
            <a:xfrm>
              <a:off x="1806480" y="3429000"/>
              <a:ext cx="2279520" cy="529920"/>
            </a:xfrm>
            <a:prstGeom prst="rect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2"/>
            <p:cNvSpPr/>
            <p:nvPr/>
          </p:nvSpPr>
          <p:spPr>
            <a:xfrm>
              <a:off x="1806480" y="4132440"/>
              <a:ext cx="2279520" cy="18176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3"/>
            <p:cNvSpPr/>
            <p:nvPr/>
          </p:nvSpPr>
          <p:spPr>
            <a:xfrm>
              <a:off x="4956120" y="3429000"/>
              <a:ext cx="2279520" cy="529920"/>
            </a:xfrm>
            <a:prstGeom prst="rect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4"/>
            <p:cNvSpPr/>
            <p:nvPr/>
          </p:nvSpPr>
          <p:spPr>
            <a:xfrm>
              <a:off x="4956120" y="4132440"/>
              <a:ext cx="2279520" cy="18176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5"/>
            <p:cNvSpPr/>
            <p:nvPr/>
          </p:nvSpPr>
          <p:spPr>
            <a:xfrm>
              <a:off x="8105760" y="3429000"/>
              <a:ext cx="2279520" cy="529920"/>
            </a:xfrm>
            <a:prstGeom prst="rect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6"/>
            <p:cNvSpPr/>
            <p:nvPr/>
          </p:nvSpPr>
          <p:spPr>
            <a:xfrm>
              <a:off x="8105760" y="4132440"/>
              <a:ext cx="2279520" cy="18176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文本框 7"/>
            <p:cNvSpPr/>
            <p:nvPr/>
          </p:nvSpPr>
          <p:spPr>
            <a:xfrm>
              <a:off x="1806480" y="3524400"/>
              <a:ext cx="22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文本框 8"/>
            <p:cNvSpPr/>
            <p:nvPr/>
          </p:nvSpPr>
          <p:spPr>
            <a:xfrm>
              <a:off x="4956120" y="3524400"/>
              <a:ext cx="22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文本框 9"/>
            <p:cNvSpPr/>
            <p:nvPr/>
          </p:nvSpPr>
          <p:spPr>
            <a:xfrm>
              <a:off x="8105760" y="3537720"/>
              <a:ext cx="22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文本框 10"/>
            <p:cNvSpPr/>
            <p:nvPr/>
          </p:nvSpPr>
          <p:spPr>
            <a:xfrm>
              <a:off x="1806480" y="4810320"/>
              <a:ext cx="227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11"/>
            <p:cNvSpPr/>
            <p:nvPr/>
          </p:nvSpPr>
          <p:spPr>
            <a:xfrm>
              <a:off x="4956120" y="4810320"/>
              <a:ext cx="227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2"/>
            <p:cNvSpPr/>
            <p:nvPr/>
          </p:nvSpPr>
          <p:spPr>
            <a:xfrm>
              <a:off x="8105760" y="4827960"/>
              <a:ext cx="227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20"/>
          <p:cNvGrpSpPr/>
          <p:nvPr/>
        </p:nvGrpSpPr>
        <p:grpSpPr>
          <a:xfrm>
            <a:off x="11064960" y="-7920"/>
            <a:ext cx="431640" cy="647640"/>
            <a:chOff x="11064960" y="-7920"/>
            <a:chExt cx="431640" cy="647640"/>
          </a:xfrm>
        </p:grpSpPr>
        <p:sp>
          <p:nvSpPr>
            <p:cNvPr id="280" name="任意多边形 21"/>
            <p:cNvSpPr/>
            <p:nvPr/>
          </p:nvSpPr>
          <p:spPr>
            <a:xfrm>
              <a:off x="11064960" y="413640"/>
              <a:ext cx="431640" cy="226080"/>
            </a:xfrm>
            <a:custGeom>
              <a:avLst/>
              <a:gdLst/>
              <a:ahLst/>
              <a:rect l="l" t="t" r="r" b="b"/>
              <a:pathLst>
                <a:path w="432048" h="598340">
                  <a:moveTo>
                    <a:pt x="0" y="0"/>
                  </a:moveTo>
                  <a:lnTo>
                    <a:pt x="432048" y="0"/>
                  </a:lnTo>
                  <a:lnTo>
                    <a:pt x="432048" y="598340"/>
                  </a:lnTo>
                  <a:lnTo>
                    <a:pt x="216024" y="225885"/>
                  </a:lnTo>
                  <a:lnTo>
                    <a:pt x="0" y="598340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22"/>
            <p:cNvSpPr/>
            <p:nvPr/>
          </p:nvSpPr>
          <p:spPr>
            <a:xfrm>
              <a:off x="11064960" y="-7920"/>
              <a:ext cx="431640" cy="42156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饼形 26"/>
          <p:cNvSpPr/>
          <p:nvPr/>
        </p:nvSpPr>
        <p:spPr>
          <a:xfrm>
            <a:off x="1973160" y="1386000"/>
            <a:ext cx="1800360" cy="1800000"/>
          </a:xfrm>
          <a:custGeom>
            <a:avLst/>
            <a:gdLst/>
            <a:ahLst/>
            <a:rect l="l" t="t" r="r" b="b"/>
            <a:pathLst>
              <a:path w="2835" h="2835">
                <a:moveTo>
                  <a:pt x="2218" y="2587"/>
                </a:moveTo>
                <a:cubicBezTo>
                  <a:pt x="1991" y="2744"/>
                  <a:pt x="1715" y="2835"/>
                  <a:pt x="1418" y="2835"/>
                </a:cubicBezTo>
                <a:cubicBezTo>
                  <a:pt x="635" y="2835"/>
                  <a:pt x="1" y="2201"/>
                  <a:pt x="1" y="1418"/>
                </a:cubicBezTo>
                <a:cubicBezTo>
                  <a:pt x="1" y="635"/>
                  <a:pt x="635" y="1"/>
                  <a:pt x="1418" y="1"/>
                </a:cubicBezTo>
                <a:lnTo>
                  <a:pt x="1417" y="1417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饼形 27"/>
          <p:cNvSpPr/>
          <p:nvPr/>
        </p:nvSpPr>
        <p:spPr>
          <a:xfrm>
            <a:off x="5048280" y="1335240"/>
            <a:ext cx="1800360" cy="1800000"/>
          </a:xfrm>
          <a:custGeom>
            <a:avLst/>
            <a:gdLst/>
            <a:ahLst/>
            <a:rect l="l" t="t" r="r" b="b"/>
            <a:pathLst>
              <a:path w="2835" h="2835">
                <a:moveTo>
                  <a:pt x="958" y="2758"/>
                </a:moveTo>
                <a:cubicBezTo>
                  <a:pt x="400" y="2567"/>
                  <a:pt x="0" y="2039"/>
                  <a:pt x="0" y="1417"/>
                </a:cubicBezTo>
                <a:cubicBezTo>
                  <a:pt x="0" y="675"/>
                  <a:pt x="570" y="66"/>
                  <a:pt x="1296" y="5"/>
                </a:cubicBezTo>
                <a:lnTo>
                  <a:pt x="1417" y="1417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饼形 28"/>
          <p:cNvSpPr/>
          <p:nvPr/>
        </p:nvSpPr>
        <p:spPr>
          <a:xfrm>
            <a:off x="8123400" y="1438200"/>
            <a:ext cx="1800000" cy="1800360"/>
          </a:xfrm>
          <a:custGeom>
            <a:avLst/>
            <a:gdLst/>
            <a:ahLst/>
            <a:rect l="l" t="t" r="r" b="b"/>
            <a:pathLst>
              <a:path w="2835" h="2835">
                <a:moveTo>
                  <a:pt x="2835" y="1417"/>
                </a:moveTo>
                <a:cubicBezTo>
                  <a:pt x="2835" y="2200"/>
                  <a:pt x="2201" y="2834"/>
                  <a:pt x="1418" y="2834"/>
                </a:cubicBezTo>
                <a:cubicBezTo>
                  <a:pt x="635" y="2834"/>
                  <a:pt x="1" y="2200"/>
                  <a:pt x="1" y="1417"/>
                </a:cubicBezTo>
                <a:cubicBezTo>
                  <a:pt x="1" y="634"/>
                  <a:pt x="635" y="0"/>
                  <a:pt x="1418" y="0"/>
                </a:cubicBezTo>
                <a:cubicBezTo>
                  <a:pt x="1793" y="0"/>
                  <a:pt x="2134" y="145"/>
                  <a:pt x="2387" y="383"/>
                </a:cubicBezTo>
                <a:lnTo>
                  <a:pt x="1417" y="1417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饼形 29"/>
          <p:cNvSpPr/>
          <p:nvPr/>
        </p:nvSpPr>
        <p:spPr>
          <a:xfrm>
            <a:off x="2046240" y="1378080"/>
            <a:ext cx="1800360" cy="1800000"/>
          </a:xfrm>
          <a:custGeom>
            <a:avLst/>
            <a:gdLst/>
            <a:ahLst/>
            <a:rect l="l" t="t" r="r" b="b"/>
            <a:pathLst>
              <a:path w="2835" h="2835">
                <a:moveTo>
                  <a:pt x="1382" y="0"/>
                </a:moveTo>
                <a:cubicBezTo>
                  <a:pt x="1394" y="0"/>
                  <a:pt x="1405" y="0"/>
                  <a:pt x="1417" y="0"/>
                </a:cubicBezTo>
                <a:cubicBezTo>
                  <a:pt x="2200" y="0"/>
                  <a:pt x="2834" y="634"/>
                  <a:pt x="2834" y="1417"/>
                </a:cubicBezTo>
                <a:cubicBezTo>
                  <a:pt x="2834" y="1907"/>
                  <a:pt x="2585" y="2339"/>
                  <a:pt x="2207" y="2594"/>
                </a:cubicBezTo>
                <a:lnTo>
                  <a:pt x="1417" y="1417"/>
                </a:lnTo>
                <a:close/>
              </a:path>
            </a:pathLst>
          </a:cu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饼形 30"/>
          <p:cNvSpPr/>
          <p:nvPr/>
        </p:nvSpPr>
        <p:spPr>
          <a:xfrm>
            <a:off x="5099040" y="1335240"/>
            <a:ext cx="1800360" cy="1800000"/>
          </a:xfrm>
          <a:custGeom>
            <a:avLst/>
            <a:gdLst/>
            <a:ahLst/>
            <a:rect l="l" t="t" r="r" b="b"/>
            <a:pathLst>
              <a:path w="2835" h="2835">
                <a:moveTo>
                  <a:pt x="1334" y="2"/>
                </a:moveTo>
                <a:cubicBezTo>
                  <a:pt x="1361" y="1"/>
                  <a:pt x="1389" y="0"/>
                  <a:pt x="1417" y="0"/>
                </a:cubicBezTo>
                <a:cubicBezTo>
                  <a:pt x="2200" y="0"/>
                  <a:pt x="2834" y="634"/>
                  <a:pt x="2834" y="1417"/>
                </a:cubicBezTo>
                <a:cubicBezTo>
                  <a:pt x="2834" y="2200"/>
                  <a:pt x="2200" y="2834"/>
                  <a:pt x="1417" y="2834"/>
                </a:cubicBezTo>
                <a:cubicBezTo>
                  <a:pt x="1272" y="2834"/>
                  <a:pt x="1132" y="2812"/>
                  <a:pt x="1001" y="2772"/>
                </a:cubicBezTo>
                <a:lnTo>
                  <a:pt x="1417" y="1417"/>
                </a:lnTo>
                <a:close/>
              </a:path>
            </a:pathLst>
          </a:cu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饼形 31"/>
          <p:cNvSpPr/>
          <p:nvPr/>
        </p:nvSpPr>
        <p:spPr>
          <a:xfrm>
            <a:off x="8256600" y="1395360"/>
            <a:ext cx="1800360" cy="1800360"/>
          </a:xfrm>
          <a:custGeom>
            <a:avLst/>
            <a:gdLst/>
            <a:ahLst/>
            <a:rect l="l" t="t" r="r" b="b"/>
            <a:pathLst>
              <a:path w="2835" h="2835">
                <a:moveTo>
                  <a:pt x="2397" y="393"/>
                </a:moveTo>
                <a:cubicBezTo>
                  <a:pt x="2666" y="651"/>
                  <a:pt x="2834" y="1015"/>
                  <a:pt x="2834" y="1417"/>
                </a:cubicBezTo>
                <a:lnTo>
                  <a:pt x="1417" y="1417"/>
                </a:lnTo>
                <a:close/>
              </a:path>
            </a:pathLst>
          </a:cu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7F6D-EE56-4EF7-89CB-7BA8D81A02A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08:2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11Z</dcterms:modified>
  <cp:revision>4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