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A67-7F0B-4C28-B257-50C47326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F12-0018-4F7B-A5BB-9DA89F01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0349-FD72-4D03-874E-709EE17DFB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7DCD-245E-4004-AD53-9587228D5D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72AF-1905-4BCB-98B7-B950BF4834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11AD7-FEF8-4D7A-927E-F3D3DA1F29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0852-54AC-44EB-A97B-EA9A5A4105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41C5-E9DE-4DF6-A542-CC7B8A1B19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BFEB-7AE7-48F9-979D-AD4DA13DC2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4724-D1BE-453A-A039-9C469115C01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1220-0D5A-4E90-9595-E793E2C8984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5A27A-EBD1-48F4-9DBB-F66E5BA03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B4D-344A-4E98-A993-AB5E1FA9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1ECB1-7C29-4C1C-BD53-A17564A74D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24D4A-D7A2-45F8-A90A-0323BE794F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412D2-882B-4FBA-8525-4E7532556C8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2DD64-D0F4-419C-8168-9B00BEC978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C4A79-E208-469D-AC62-BFD66A84D1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A949F-7532-44E8-8FDC-EA09345CD9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6C652-44BD-41D6-AE24-D6AA16B922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7F006-842D-4E61-9A14-E6AC211714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25BB4-36A0-48B9-98F4-D4BDDACC57D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CAC9A-0ED5-4E64-B0AE-6F1A9A06E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493-31AF-4B63-8194-0BFEE5FF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4F56E-F952-436F-AAE9-F151E6BE04F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C9645F-B28C-47DC-90B1-7A05999EFD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BF0901-40C6-44BD-939C-8DCF865AC0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6177F-DC82-42CF-A53E-EFA0C09A28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21BAA-E968-40EE-AD8C-6A3462A03D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A34FD8-EAEF-41B6-A01A-F9F49BFAE0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13EAB-582C-4C90-A6B3-B1D6B33EE7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BD6F3-5F74-4634-AD11-59A4A18775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0329D-391D-446D-9A03-D709EAAB6F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1D6425-4D5A-45D8-9DD9-8154D80D9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846D6-A0B7-4A88-AC82-559B99BCB31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6BA90-26B8-4F0C-B99B-8485E1C2F6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95D74-7F5B-4713-9EDF-7642749695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E65D65-E0E4-4C6D-A713-5CC891F629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4F52-3430-4A52-AA81-22A262F390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EC33-9E20-49FE-845F-0CB69A6EFDE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0F52-DE53-4BFF-B5BD-1ACBBEEB5E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AB218-525A-4F8C-9DFB-10DAA85181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CFFE3-CC32-4E63-8E5D-0DC9723E08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A5D5-E650-4A33-97EF-54ED4D21BD0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A36B-BAD6-4366-82FF-6AD944C04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8120-344F-47CB-97E2-1FB3990824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C2AA0-A4D6-414D-B5CE-0631037AF9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16A1-96D8-46BB-9575-6849B223B3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88A39-2171-48C9-A05F-B4207DF2014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C566-E9B2-41E2-BB11-8B8E5E7B752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01ED-E093-4B5C-8CFB-B16035CE42E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26D8-0013-48B9-95C2-2477DB316D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1AB1-3490-4B32-8848-06077181A8E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5F3E-B7A7-4B9D-AED5-A75DA68859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174DE-38EB-4FD8-B674-3A6289B7787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E875-A446-4688-89AD-FF434F15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276E2-A1F2-4325-9638-355654D9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1AE1B-9F4D-4A52-9A15-A96AF9E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08C2A-F2B7-492A-8CC2-79A43EC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7DAB1-0ECD-4B0D-A365-275AA3D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C5657-6FA1-4A66-B565-E18CB6D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BF15-0EBF-411D-942C-2888E71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0117-A9BB-4F7C-857E-29C13C5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1A99-758A-41CE-879B-8F3D73A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92999-8FC0-4EC5-8C7C-6FE3D49E034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6B62-048E-436A-81EA-67EDD34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3095-A8D4-4379-A1F4-FA609D89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D1F72-FEDE-484E-8D5F-3202F93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071-B51E-498D-AF1F-D5689EA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5676-5D91-422F-A6D7-48B565BF47D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5000F-6B40-41FD-9931-61C94B0D3B2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38F75-000F-45F1-B610-348EC114187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FFCEE-16AD-494A-864A-0F17EC7FA6E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99B21D-32AA-4BD5-B7BF-C9294F0130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BBA51-3559-4199-943A-04BB7DEA5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FE15-5629-49B4-B577-27421B330EC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F915A-A6B9-4D3D-B368-8D1345F6CD2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4F7183-5B68-444F-A65E-33F415D07F3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C0E049-CC7D-4F4E-A768-EA3EB7E4344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DA41F-8949-41C8-ACCE-85385A8BB29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A5DE7-65C0-4606-B13D-B18010BC0BE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A41B2D-C4CD-4D8D-A824-0267AC8754A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A3B3B-F13F-469E-BA13-DBD41B9BE99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48D6F-1C50-45B3-A5B6-6B40E6C1E2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D8241-DB71-4EF7-B132-091758957D9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5BF41-6E49-40A7-A83A-59995CBDAE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89C8-DE32-413A-A710-E1E0A6A992C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6C64B-889C-46EF-8DE6-416C7BE558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65CA4-2B75-405B-BFB7-84DD1770515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3B991-4149-4119-883B-D706AEBC8F0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6B7FE-449B-4E66-81B5-9E2422C398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216C8-DC57-49D0-9AAF-3DA76475C8C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7C44D-48E2-4CA9-9E53-B3DF8F0AD2B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F0C9-A8FB-47CC-9916-1A3F0BB1AC8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5D8BE-2894-430D-95BD-F128038759A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54746-57F0-4947-97DC-5254257CA8E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8C0E-225B-4906-BC75-83FD169BD8A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88EF-A8A8-4903-8F0C-1E5B8C702EE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FF8F9-1C40-45A9-B0DD-6B0A12C593B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DDEDE-4D1B-41B4-8081-0349FD2B2E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6A922-3C9D-40BC-8240-882AB103243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7DB3-ECA6-4F87-A7EF-947D29D6BB4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4B711-1B8E-440D-BCAE-8E315C21EF0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963D-B59D-4B3D-B95D-7DC0355D604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E4306-6ADD-4AA8-81AE-F1000D04413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F0A80-97B2-4612-A303-ED41DB785C9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EB89-9088-4A5E-B354-E89FAE94E9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E201F-4870-49F2-8234-6AC450F0A0F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34B44-E343-4360-B9A5-C41C7000349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6EC16-E0DD-492B-B9DF-2E63DCEB2FD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44E09-44AD-4726-8991-FB20102C920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0420A-933A-466D-BA86-137A30703AC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33C921-87DD-4600-8AD2-23516559BA8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851ADB-A0DF-4A94-BDF3-3F14AC29261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D6FAE6-E5FD-4942-9F0D-95E8D0A53A6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AFC093-B22B-4AB8-97C4-1F899B85979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5F0A79-4F7D-4518-B917-C2A979C57D3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07E50-033C-4B7D-9D2D-8A907DF17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8CEA9-31DA-43E8-A4C1-AA4E42C877B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3AF10-536F-4AC3-82C2-690620498F4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1A1711-C3BB-4B18-93DE-87A348B24EC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F85254-958B-4AA8-B4BE-C65D67E8324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FE0F63-330C-44FE-A48E-940314A07F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A9AD4-CD83-488C-BFFC-F1D16922828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3CBD1-BCC0-44B1-B2F2-7B132F06913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3FF02-4741-4F1A-BF2A-5871874A87F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2E2C7-96E0-4232-9817-4BC86093EC8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CA6E7-7E77-4ADC-A91F-DC01FF7CFF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03C48-9ED3-461B-8DA3-FF792290D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D6AEB-5E36-43A1-BD02-07A81B6ADED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0DB8B-D27B-480A-9AA9-DDFF7671B7D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BA2E3-4918-4D40-94DD-EA74AAC4E7D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D29EA-E588-43C4-B2B7-B22C706FEC1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B52A9-1AB4-4ECA-B148-C761D149EC3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CBD26-BE9F-471A-BB55-0070F9F1FBB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93B50-E60D-4F03-932B-22282751DD6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DC9C6-A471-422B-B2FC-D9C866D3275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859BA-63C9-40E7-8BDD-79AEEF6024A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04D64-C23A-4FB1-86B0-01F497FEFA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7C827-5E48-435E-9E06-FC036EEE3B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408F6-3793-4B84-A6DA-36A3163FD6B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3233-1FC9-4EE6-933E-002241C8198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3CC2E-2308-4E6F-9E4D-B4E5BB5A44E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E02A6-7AB5-4A36-9DAD-3210CB4AF34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D3FCE-50BF-4ECB-9DD0-C80DF2BEBE5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636A7-525E-49C1-ADEE-F3E282725D5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34A16-4C7D-4234-BD7B-72BC5CDD163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9310B-F45B-4E52-9624-048D2AD191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032A-C561-428A-B5F5-0A1DB8BFB4C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5B059-74CE-4117-AF8A-DA8056E8F9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D41A13-E95D-4149-B788-F00A42CBAE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B25BE-55EF-49E8-8E65-112A13F0613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EF1B9E-3AA7-4A4F-827D-896A6A864F3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2E6006-B19C-461F-873E-00BDE09F51F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DBB7C8-0AF0-4CB4-9F5A-46F9497D9B3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C737E7-4F43-4319-8EF0-47A3D268ECA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47193-8C40-4DAD-BBF2-BBF4F555BC0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1F8EE-A5CA-46C3-B2E6-E876178FF3E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35DDFF-AA0F-4C03-9D3E-98FD6DBE80D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5A0EA6-059C-4A2C-9B2A-E180E4817C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B5C15-9277-4F49-A21B-6F277947D1B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CDF83E-9AA3-44B8-873B-6291693EF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678-16C7-4074-8ED2-BEF75CD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950CF-D18A-483D-AFD1-4A7D23224A8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DCEED-0137-4FB9-B7D4-AD34A53A3B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66A59-BE51-4404-A364-912492C8372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F18BB-E024-4DCD-A58B-F8DD1B55A78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741B5-10CE-4CBD-BDB6-BEA15A3F35C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BB8CD5-9843-412B-910F-07BC3EE1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637868-7B67-44EE-ADF3-D5324F8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7DE15C-FF23-4D18-95DA-11D8622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7ADE6-DB22-40A2-A1E8-56F40F3EA78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D574CB-7F89-46F4-B588-F5660F4F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B59D36-074A-4B66-AA54-43B6402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BBC988-6ADD-436D-A5F7-E737254C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0D5C8A-3403-4930-99A1-B2FEFCD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18E6F0-F213-4CF4-95F8-E56E993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3D68A9-1F96-4248-8C5F-0E09BBE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B078F4-0C39-40CA-8E48-A0248A3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86D101-F3DF-497A-8EBC-ACD5CA65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1CBDCF-B64C-40DC-BE7F-47C29D8F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6A6A1-38C1-49FA-BB7B-1658F5097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847BA-87F5-40F7-9F17-8ABC078BCA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BB2-F7C3-4CEE-8936-6A28CAB9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CD69-D561-4673-9BA6-B42ABF6CD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8AE-2B07-4A0C-938C-79715F4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4077-66B3-4B88-BC7C-C6E19E83FA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683E-68A0-43F6-BE29-56EC9C274B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1247-AC0A-4780-A374-64056C85E7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2331-1FFF-445C-A88B-4D6DD8D986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4617-61C1-4A5F-B86A-EA5DDB1987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26B1-3E09-4CB0-9055-A034A14BFC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B3B8-7E2C-4A52-9E7F-9BBF83051A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5570-4C04-4244-B787-3AE6AE3770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5CD18-0B16-47C6-9357-B77010F4A8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618B-A8C1-4D24-AA37-FD1916195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D17-BFEC-41CD-8FDE-D0B846F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4688-28E3-4A46-88C0-3B601D665B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1D312-8C29-4023-AE69-54AD2E0204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75A59-B8DA-4BBF-930C-9F2AD17224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11A8B-077F-447F-B3D5-1ED32331E5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68E39-CAE7-4EA2-9C3A-8BC4CE67DA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36857-EDD2-467F-8D34-8B69A81505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69F87-FF2E-4ECA-9BFD-CB8D58A0B6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3ED99-B5F3-4C44-9805-0838191A96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E42C9-B9F9-4168-93ED-7A5040F668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8686A-44B0-4DA3-8678-7C4F3C0BB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03E-8A60-47B1-8D98-FAC0589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D0CD8-374F-4594-901F-29AF25206B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770F5-086F-4055-BEB0-B097E74FC4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9F83B-99CE-407C-98A3-4CF2238DAA4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920-31A2-440E-B6CF-4114579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48C4B-D737-40E8-AF02-9032A896AD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86A27-D464-471C-A71F-CF979BBBA1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627F6A-0659-4D24-81D1-B020D3DBA3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21A51-DCE4-4019-A1A2-BE54EDC867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A510E4-2D66-43E1-9B32-5195C8962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60D-E6F6-4E96-B7BF-15684A1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DDF4C0-8B0F-4408-9C5B-953E714E89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76C2B9-BFF0-434C-91B4-E3E6C89ABD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2A403-B190-4E1F-A062-FEC8782525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B907D-1560-486C-97AC-AACCF4DCCE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9018F-36DB-49E6-888F-CC549AFFF2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C4B9B-0BC7-4DD8-BD95-3692EEE78E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940913-1229-4C00-B931-F93C6DA91C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B15F-78C3-467C-949C-0A65B46675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42DE-0BDC-49FD-96C0-EC19A7D939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1CEA-F5E6-478C-9EBF-EB536CA13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86C-FBAF-4CF9-AA30-2D333C207E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8A1-3402-4D70-A846-04F7343CE56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575-7B38-414A-8C97-FE56880EA87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E4B-EC00-42F9-9E34-5AEFA7F220D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B096-0F12-457C-BA60-E9C117E128D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25E-CD31-4DCD-82BA-C76D0925DE0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EEE-35A9-42F2-ACAE-2843D8C4CF7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1E9B-154E-4319-888E-010E21331EB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F53-2DC8-40F2-BE67-D82BF423EFB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482-0A7B-462F-9482-4256D6B88C8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CEC-DD2B-477D-8BC3-3DCA6D3B8F4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FA19-7635-4C44-8E68-7CD69DD8D23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C01-B7EA-4A11-93B8-60C2EC0791D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F97C-3F54-4848-9587-84609C90C7F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6FE7-F0FF-4C41-94EA-E8530BD1302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42D-5313-4AF6-829F-AB22980C0F0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5586-202B-4FDF-A50C-A7014205916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138-12C9-413A-9E5F-F1FD71C7358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3964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08A5-D12B-4ED1-9B26-82F2C4F337F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/>
          <p:nvPr/>
        </p:nvSpPr>
        <p:spPr>
          <a:xfrm>
            <a:off x="2167920" y="44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安全教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四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"/>
          <p:cNvSpPr/>
          <p:nvPr/>
        </p:nvSpPr>
        <p:spPr>
          <a:xfrm>
            <a:off x="1260360" y="602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1" descr="D:\卫国小学\map01.jpg"/>
          <p:cNvPicPr/>
          <p:nvPr/>
        </p:nvPicPr>
        <p:blipFill>
          <a:blip r:embed="rId2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200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7DF-E875-452C-A9E4-91E9534AF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12:57Z</dcterms:modified>
  <cp:revision>2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