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F7D-0587-44EE-A60F-AF35360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3BD-BD75-4B26-97F6-931C3C56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DC2-8D4F-4925-8A76-BCB43823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39C-BCEB-4DAE-A31F-85C8E439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F8C-33BA-4714-AF10-CBF01D86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98A-9669-4D0A-A783-81E10827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964-F368-45C5-BE22-AF47AF4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DA0-8A07-488D-8413-7A928BBE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2D6-FD0F-4BAF-AE55-DF2A80E8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856-211E-4C0F-8A50-A01D6C92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282-328B-45B4-B8DA-1A7B3EFB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8E8-5B82-40E4-9619-6780CCB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3AF-DBEC-4CE1-8EF6-6B31AE5157E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3B4-0FB1-4AC7-B7D4-4515E69D4D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879080" y="3090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d83e2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001PPT\100作品\03燕京公益\pic\MP900438521.JPG"/>
          <p:cNvPicPr/>
          <p:nvPr/>
        </p:nvPicPr>
        <p:blipFill>
          <a:blip r:embed="rId2"/>
          <a:stretch/>
        </p:blipFill>
        <p:spPr>
          <a:xfrm>
            <a:off x="2743200" y="3790800"/>
            <a:ext cx="6400800" cy="306720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0" y="2133720"/>
            <a:ext cx="9144000" cy="1657080"/>
          </a:xfrm>
          <a:prstGeom prst="rect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8040" y="2319120"/>
            <a:ext cx="5440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d8a6"/>
                </a:solidFill>
                <a:latin typeface="造字工房悦黑演示版常规体"/>
                <a:ea typeface="造字工房悦黑演示版常规体"/>
              </a:rPr>
              <a:t>心</a:t>
            </a:r>
            <a:r>
              <a:rPr b="0" lang="en-US" sz="4400" spc="-1" strike="noStrike">
                <a:solidFill>
                  <a:srgbClr val="fed8a6"/>
                </a:solidFill>
                <a:latin typeface="造字工房悦黑演示版常规体"/>
                <a:ea typeface="造字工房悦黑演示版常规体"/>
              </a:rPr>
              <a:t> 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你 </a:t>
            </a:r>
            <a:r>
              <a:rPr b="0" lang="en-US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+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我</a:t>
            </a:r>
            <a:r>
              <a:rPr b="0" lang="en-US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+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266920" y="34210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17576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520" y="6432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29920" y="216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心公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D:\001PPT\103燕京公益\pic\MP900439423.JPG"/>
          <p:cNvPicPr/>
          <p:nvPr/>
        </p:nvPicPr>
        <p:blipFill>
          <a:blip r:embed="rId1"/>
          <a:srcRect l="10697" t="10726" r="8825" b="7705"/>
          <a:stretch/>
        </p:blipFill>
        <p:spPr>
          <a:xfrm>
            <a:off x="2406600" y="914400"/>
            <a:ext cx="5153040" cy="5222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187280" y="5384880"/>
            <a:ext cx="28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公益事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-41400" y="6021360"/>
            <a:ext cx="3748680" cy="71640"/>
            <a:chOff x="-41400" y="6021360"/>
            <a:chExt cx="3748680" cy="71640"/>
          </a:xfrm>
        </p:grpSpPr>
        <p:sp>
          <p:nvSpPr>
            <p:cNvPr id="52" name="直接连接符 7"/>
            <p:cNvSpPr/>
            <p:nvPr/>
          </p:nvSpPr>
          <p:spPr>
            <a:xfrm>
              <a:off x="-41400" y="6021360"/>
              <a:ext cx="3741840" cy="0"/>
            </a:xfrm>
            <a:prstGeom prst="line">
              <a:avLst/>
            </a:prstGeom>
            <a:ln w="93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8"/>
            <p:cNvSpPr/>
            <p:nvPr/>
          </p:nvSpPr>
          <p:spPr>
            <a:xfrm>
              <a:off x="-34560" y="6093000"/>
              <a:ext cx="3741840" cy="0"/>
            </a:xfrm>
            <a:prstGeom prst="line">
              <a:avLst/>
            </a:prstGeom>
            <a:ln w="255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 rot="20866200">
            <a:off x="3977640" y="2363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爱心公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83e2c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2"/>
          <p:cNvSpPr/>
          <p:nvPr/>
        </p:nvSpPr>
        <p:spPr>
          <a:xfrm>
            <a:off x="4879080" y="3090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d83e2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刘慧玲\Pictures\Flickr Images\4504112515_128060f355 渴望的眼�_M.jpg"/>
          <p:cNvPicPr/>
          <p:nvPr/>
        </p:nvPicPr>
        <p:blipFill>
          <a:blip r:embed="rId2"/>
          <a:stretch/>
        </p:blipFill>
        <p:spPr>
          <a:xfrm>
            <a:off x="4557600" y="0"/>
            <a:ext cx="458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-41400" y="6021360"/>
            <a:ext cx="3748680" cy="71640"/>
            <a:chOff x="-41400" y="6021360"/>
            <a:chExt cx="3748680" cy="71640"/>
          </a:xfrm>
        </p:grpSpPr>
        <p:sp>
          <p:nvSpPr>
            <p:cNvPr id="59" name="直接连接符 5"/>
            <p:cNvSpPr/>
            <p:nvPr/>
          </p:nvSpPr>
          <p:spPr>
            <a:xfrm>
              <a:off x="-41400" y="6021360"/>
              <a:ext cx="3741840" cy="0"/>
            </a:xfrm>
            <a:prstGeom prst="line">
              <a:avLst/>
            </a:prstGeom>
            <a:ln w="93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6"/>
            <p:cNvSpPr/>
            <p:nvPr/>
          </p:nvSpPr>
          <p:spPr>
            <a:xfrm>
              <a:off x="-34560" y="6093000"/>
              <a:ext cx="3741840" cy="0"/>
            </a:xfrm>
            <a:prstGeom prst="line">
              <a:avLst/>
            </a:prstGeom>
            <a:ln w="255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3"/>
          <p:cNvSpPr/>
          <p:nvPr/>
        </p:nvSpPr>
        <p:spPr>
          <a:xfrm>
            <a:off x="877320" y="557064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儿童…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2"/>
          <p:cNvSpPr/>
          <p:nvPr/>
        </p:nvSpPr>
        <p:spPr>
          <a:xfrm>
            <a:off x="-41400" y="0"/>
            <a:ext cx="9185400" cy="685800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359800" y="2612880"/>
            <a:ext cx="48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2016"/>
                </a:solidFill>
                <a:latin typeface="Kozuka Gothic Pr6N H"/>
                <a:ea typeface="Kozuka Gothic Pr6N H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83e2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E0A-D2CD-4512-8633-EACC5DFECE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7:4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08:32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