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E54-3C29-4D65-B6F3-4278ABB0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2D5-4E43-4B79-B2CD-D31C7A58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626-7327-4D56-BB92-2E7DCD17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5EF-9380-450F-90FB-D9E5179E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93E9-D790-44EF-B0AE-B625BEA0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49F1-14ED-4927-AFFB-8168659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EF01-0593-40C6-A3DF-5F227EA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3E0-EAE5-4288-8D73-0C4E73F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B3CA-3FB3-4B7A-B1A4-FA443AF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03640" y="189000"/>
            <a:ext cx="45943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4D63-BCD4-4FFD-A93A-BF1A5775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880E-3AC6-4834-9AAF-11C3D8D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4DE-55FE-4156-8ABF-E4686D6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5ED3-25D8-4FD2-BAB8-EA2ACD1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5FF-6C7E-4365-90E7-D101F35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C463-C878-4091-83FA-E131A34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0D0B-03A7-4739-A9AF-C377DED0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ACDF-70AE-497D-A75F-BCF62975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998-B0F4-4520-BFAA-A3DBB87F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9BD-FE9E-4853-B0AE-96B4944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685-FB76-4137-94BC-EB2CDD0E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03640" y="189000"/>
            <a:ext cx="459432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1AB-5887-4A20-8791-6673377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E28-0AF4-471B-9E18-E79E872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BAD-F8D9-4559-AFFD-C37ADB4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A9C-BF53-45C4-B6BD-19DE808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B29-3D95-4434-9631-A391C373F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3840" y="260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公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及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275"/>
          <a:stretch/>
        </p:blipFill>
        <p:spPr>
          <a:xfrm>
            <a:off x="0" y="836640"/>
            <a:ext cx="9144000" cy="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DEA-8CE3-45A0-B7D9-37C65E5B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336640"/>
            <a:ext cx="64008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8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部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03280" y="2133720"/>
            <a:ext cx="432000" cy="287280"/>
          </a:xfrm>
          <a:custGeom>
            <a:avLst/>
            <a:gdLst>
              <a:gd name="textAreaLeft" fmla="*/ 67320 w 432000"/>
              <a:gd name="textAreaRight" fmla="*/ 378000 w 43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916280"/>
            <a:ext cx="194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添加小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03280" y="2492280"/>
            <a:ext cx="6337440" cy="73080"/>
            <a:chOff x="1403280" y="2492280"/>
            <a:chExt cx="6337440" cy="73080"/>
          </a:xfrm>
        </p:grpSpPr>
        <p:sp>
          <p:nvSpPr>
            <p:cNvPr id="92" name=""/>
            <p:cNvSpPr/>
            <p:nvPr/>
          </p:nvSpPr>
          <p:spPr>
            <a:xfrm>
              <a:off x="1403280" y="2492280"/>
              <a:ext cx="63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3280" y="2565360"/>
              <a:ext cx="633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题标题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79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3640" y="189000"/>
            <a:ext cx="459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700360" y="3860640"/>
            <a:ext cx="38196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谢谢大家</a:t>
            </a:r>
            <a:r>
              <a:rPr b="1" lang="en-US" sz="6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!</a:t>
            </a:r>
            <a:endParaRPr b="1" lang="en-US" sz="66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E35-F20D-406B-907D-C894F8342D42}" type="slidenum">
              <a:t>5</a:t>
            </a:fld>
          </a:p>
        </p:txBody>
      </p:sp>
    </p:spTree>
  </p:cSld>
  <p:transition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5:4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9:14:0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