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9.gif" ContentType="image/gif"/>
  <Override PartName="/ppt/media/image1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6F1-B623-4C41-AEC2-A50C2496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4582-DA08-4059-8C50-98CD87A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1EA-9544-4160-AB4D-CB04C1D9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223-E119-40EB-8A0C-6B239ABC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D678-3883-4A20-8837-9DB49C3A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DAEB-AAF5-4836-A03C-26B272F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CB6-1D2B-4D91-A166-3F087B41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C6C0-409C-4203-94F7-8FCE3F99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248-5266-46DD-BF18-05867C9E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1B24-FAAB-485B-ABCD-4A80ACFE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97B1-CF5C-4A89-8C56-BD1BE053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A23A-8768-4869-BCC8-F8B81E78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C6CC-296F-465A-AC78-CF00F7A5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6736-F6A7-417E-8325-84268137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2D4E-A4CD-4AAF-9491-98C9B74C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AFD6-89A3-49FA-9405-AA8CF0C8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63CF-A48E-4E8F-8835-12A25664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170-2453-4144-9DBD-68AD6063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4F2-2C2F-4D32-A5BB-4CA2C6AB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754-364F-4702-A5CA-82206850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157-0EA7-41D2-93DA-6D852466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031-9440-4E94-8C6D-1A6E8F90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126-E738-4A4C-B3A9-D28A724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994-94E7-47A6-A109-3C3497DD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3232-ECBA-481D-8BC3-0FA9E68DD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E371-8A6E-48F1-9652-844B3C201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页脚占位符 2"/>
          <p:cNvSpPr/>
          <p:nvPr/>
        </p:nvSpPr>
        <p:spPr>
          <a:xfrm>
            <a:off x="31212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rcRect l="199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2284560" y="685800"/>
            <a:ext cx="45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09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4428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半截蜡烛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7"/>
          <p:cNvSpPr/>
          <p:nvPr/>
        </p:nvSpPr>
        <p:spPr>
          <a:xfrm>
            <a:off x="0" y="2205000"/>
            <a:ext cx="9144000" cy="16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第二次世界大战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）是迄今为止，人类社会所进行的规模最大，伤亡最惨重，造成破坏最大的全球性战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后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国家和地区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以上的人口被卷入战争，军民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（军队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，居民死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万人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4"/>
          <p:cNvPicPr/>
          <p:nvPr/>
        </p:nvPicPr>
        <p:blipFill>
          <a:blip r:embed="rId2"/>
          <a:stretch/>
        </p:blipFill>
        <p:spPr>
          <a:xfrm>
            <a:off x="3132000" y="0"/>
            <a:ext cx="2957760" cy="2276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5"/>
          <p:cNvPicPr/>
          <p:nvPr/>
        </p:nvPicPr>
        <p:blipFill>
          <a:blip r:embed="rId3"/>
          <a:stretch/>
        </p:blipFill>
        <p:spPr>
          <a:xfrm>
            <a:off x="6372360" y="0"/>
            <a:ext cx="2555640" cy="2309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6"/>
          <p:cNvPicPr/>
          <p:nvPr/>
        </p:nvPicPr>
        <p:blipFill>
          <a:blip r:embed="rId4"/>
          <a:stretch/>
        </p:blipFill>
        <p:spPr>
          <a:xfrm>
            <a:off x="0" y="4437000"/>
            <a:ext cx="3059280" cy="2208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7"/>
          <p:cNvPicPr/>
          <p:nvPr/>
        </p:nvPicPr>
        <p:blipFill>
          <a:blip r:embed="rId5"/>
          <a:stretch/>
        </p:blipFill>
        <p:spPr>
          <a:xfrm>
            <a:off x="3203640" y="4437000"/>
            <a:ext cx="2946240" cy="2160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8"/>
          <p:cNvPicPr/>
          <p:nvPr/>
        </p:nvPicPr>
        <p:blipFill>
          <a:blip r:embed="rId6"/>
          <a:stretch/>
        </p:blipFill>
        <p:spPr>
          <a:xfrm>
            <a:off x="6443640" y="4292640"/>
            <a:ext cx="270036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2"/>
          <p:cNvPicPr/>
          <p:nvPr/>
        </p:nvPicPr>
        <p:blipFill>
          <a:blip r:embed="rId1"/>
          <a:stretch/>
        </p:blipFill>
        <p:spPr>
          <a:xfrm>
            <a:off x="611280" y="333360"/>
            <a:ext cx="808812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9"/>
          <p:cNvPicPr/>
          <p:nvPr/>
        </p:nvPicPr>
        <p:blipFill>
          <a:blip r:embed="rId1"/>
          <a:stretch/>
        </p:blipFill>
        <p:spPr>
          <a:xfrm>
            <a:off x="2484360" y="404640"/>
            <a:ext cx="41338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18129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3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3505320" y="-146160"/>
            <a:ext cx="6476760" cy="78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满怀浓浓的爱国情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托了对和平的强烈愿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无怨无悔地浴血奋战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承着坚强不屈的民族精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们默默无闻的生死付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拯救了全人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挽救了世界文明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热血筑英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命塑丰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名英雄将永留青史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3" descr="ban la"/>
          <p:cNvPicPr/>
          <p:nvPr/>
        </p:nvPicPr>
        <p:blipFill>
          <a:blip r:embed="rId1"/>
          <a:stretch/>
        </p:blipFill>
        <p:spPr>
          <a:xfrm>
            <a:off x="0" y="1700280"/>
            <a:ext cx="3452760" cy="403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835280" y="1052280"/>
            <a:ext cx="568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40000"/>
                </a:solidFill>
                <a:latin typeface="Arial"/>
                <a:ea typeface="华文新魏"/>
              </a:rPr>
              <a:t>奖章应该给谁呢？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049040" y="2271600"/>
            <a:ext cx="3995640" cy="36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伯诺德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杰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杰奎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lp1"/>
          <p:cNvPicPr/>
          <p:nvPr/>
        </p:nvPicPr>
        <p:blipFill>
          <a:blip r:embed="rId1"/>
          <a:stretch/>
        </p:blipFill>
        <p:spPr>
          <a:xfrm>
            <a:off x="5403960" y="2349360"/>
            <a:ext cx="2560680" cy="35006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star5"/>
          <p:cNvPicPr/>
          <p:nvPr/>
        </p:nvPicPr>
        <p:blipFill>
          <a:blip r:embed="rId2"/>
          <a:stretch/>
        </p:blipFill>
        <p:spPr>
          <a:xfrm>
            <a:off x="755640" y="112536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900000" y="549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3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42920" y="1341360"/>
            <a:ext cx="900108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1" lang="zh-CN" sz="4100" spc="-1" strike="noStrike">
                <a:solidFill>
                  <a:srgbClr val="333333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个小女孩，用可爱和智慧保住了半截蜡烛，挽救了许多人的生命。她年纪虽小，但懂事、机智、聪明，她用孩童的天真可爱为国家立了大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95280" y="342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他只是个孩子，当秘密马上就要暴露时，他急中生智端走蜡烛，虽然失败，但搬柴照旧，显得那么从容，为后面杰奎琳端走蜡烛上楼做好掩护，那颗爱国之心令人饱含敬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97164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2994480" y="471600"/>
            <a:ext cx="24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颁　奖　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图片1常常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87844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114336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0000"/>
                </a:solidFill>
                <a:latin typeface="Arial"/>
                <a:ea typeface="华文新魏"/>
              </a:rPr>
              <a:t>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华文新魏"/>
              </a:rPr>
              <a:t>作业：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今天，我们通过合作、探究的方式抓住人物的动作、语言、及心理活动，感受到了当时紧张的气氛、人物的机智、勇敢和镇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在二战期间，还有许多年幼的孩子立下了大功，比如放牛郎王二小，你还知道哪些少年英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请同学们把本课编成课本剧演一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exclam"/>
          <p:cNvPicPr/>
          <p:nvPr/>
        </p:nvPicPr>
        <p:blipFill>
          <a:blip r:embed="rId2"/>
          <a:stretch/>
        </p:blipFill>
        <p:spPr>
          <a:xfrm>
            <a:off x="611280" y="1052640"/>
            <a:ext cx="685800" cy="674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FF5-3B8A-47E2-BA7B-4267E8F639D4}" type="slidenum">
              <a:t>18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685800" y="3519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子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1066680" y="2438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伯诺德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685800" y="29718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杰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828800" y="2971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杰奎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685800" y="1725480"/>
            <a:ext cx="84978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二次世界大战期间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法国有一位家庭妇女，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895480" y="24526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身边只有两个幼小的儿女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1447920" y="29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　　　  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-301680" y="2971800"/>
            <a:ext cx="9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了把德国强盗赶出自己的祖国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2133720" y="351936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都参加了秘密情报的传递工作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4537080" y="4038480"/>
            <a:ext cx="457200" cy="76320"/>
            <a:chOff x="4537080" y="4038480"/>
            <a:chExt cx="457200" cy="76320"/>
          </a:xfrm>
        </p:grpSpPr>
        <p:sp>
          <p:nvSpPr>
            <p:cNvPr id="518" name="Oval 12"/>
            <p:cNvSpPr/>
            <p:nvPr/>
          </p:nvSpPr>
          <p:spPr>
            <a:xfrm>
              <a:off x="4537080" y="40384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3"/>
            <p:cNvSpPr/>
            <p:nvPr/>
          </p:nvSpPr>
          <p:spPr>
            <a:xfrm>
              <a:off x="4917960" y="4038480"/>
              <a:ext cx="7632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Text Box 14"/>
          <p:cNvSpPr/>
          <p:nvPr/>
        </p:nvSpPr>
        <p:spPr>
          <a:xfrm>
            <a:off x="2484360" y="765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截蜡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75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图片1"/>
          <p:cNvPicPr/>
          <p:nvPr/>
        </p:nvPicPr>
        <p:blipFill>
          <a:blip r:embed="rId1"/>
          <a:stretch/>
        </p:blipFill>
        <p:spPr>
          <a:xfrm>
            <a:off x="-225360" y="0"/>
            <a:ext cx="2228760" cy="70102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3"/>
          <p:cNvSpPr/>
          <p:nvPr/>
        </p:nvSpPr>
        <p:spPr>
          <a:xfrm>
            <a:off x="1908000" y="404640"/>
            <a:ext cx="723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装有情报的小金属管藏在半截蜡烛中，然后把它插在一个烛台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2050920" y="2133720"/>
            <a:ext cx="70930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蜡烛摆在显眼的桌子上，反而骗过了前来搜查的德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979640" y="3789360"/>
            <a:ext cx="69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一蜡烛燃烧到金属管处就会自动熄灭，秘密就会暴露，情报站就会遭到破坏，也意味着他们一家三口生命的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"/>
          <p:cNvSpPr/>
          <p:nvPr/>
        </p:nvSpPr>
        <p:spPr>
          <a:xfrm>
            <a:off x="7308720" y="4292640"/>
            <a:ext cx="1297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7"/>
          <p:cNvSpPr/>
          <p:nvPr/>
        </p:nvSpPr>
        <p:spPr>
          <a:xfrm>
            <a:off x="2268360" y="4724280"/>
            <a:ext cx="288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"/>
          <p:cNvSpPr/>
          <p:nvPr/>
        </p:nvSpPr>
        <p:spPr>
          <a:xfrm>
            <a:off x="5651640" y="4724280"/>
            <a:ext cx="2881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9"/>
          <p:cNvSpPr/>
          <p:nvPr/>
        </p:nvSpPr>
        <p:spPr>
          <a:xfrm>
            <a:off x="2268360" y="5157720"/>
            <a:ext cx="6264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2050920" y="5589720"/>
            <a:ext cx="936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</a:rPr>
              <a:t>　　　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划出描写伯诺德夫人一家人的动作、神情、语言及心理活动的有关词句。（小组同学合作，试着将故事编成课本剧演一演。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伯诺德夫人一家在危急关头是怎样与敌人周旋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你认为谁的表现最出色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dddd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dddddd"/>
                </a:solidFill>
                <a:latin typeface="Arial"/>
                <a:ea typeface="楷体_GB2312"/>
              </a:rPr>
              <a:t>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一天晚上，屋里闯进了三个德国军官。他们坐下后，一个中尉顺手拿过藏有情报的蜡烛点燃，放到少校军官面前。伯诺德夫人知道，万一蜡烛燃烧到金属管处就会自动熄灭，秘密就会暴露，情报站就会遭到破坏，同时也意味着他们一家三口生命的结束。她看着两个脸色苍白的孩子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急忙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从厨房里取出一盏油灯放在桌上。</a:t>
            </a:r>
            <a:r>
              <a:rPr b="0" lang="en-US" sz="3200" spc="-1" strike="noStrike">
                <a:solidFill>
                  <a:srgbClr val="070d09"/>
                </a:solidFill>
                <a:latin typeface="Garamond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瞧，先生们，这盏灯亮些。</a:t>
            </a:r>
            <a:r>
              <a:rPr b="0" lang="en-US" sz="3200" spc="-1" strike="noStrike">
                <a:solidFill>
                  <a:srgbClr val="070d09"/>
                </a:solidFill>
                <a:latin typeface="Garamond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说着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轻轻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把蜡烛吹熄。一场危机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似乎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过去了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时间一分一秒地过去。这时候，大儿子杰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慢慢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站起来，“天真冷。我到柴房去搬些柴生个火吧。”说着，伸手端起烛台朝门口走去，屋子顿时暗了许多。中尉快步赶上前，一把夺回烛台，厉声喝道：“你不用蜡烛就不行吗？”孩子是懂事的，他知道，厄运即将到来了。在斗争的最后时刻，他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从容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地搬回一捆木柴，生了火，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默默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坐着。</a:t>
            </a:r>
            <a:r>
              <a:rPr b="0" i="1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烛焰摇曳，发出微弱的光，此时此刻，它仿佛成了屋子里最可怕的东西。伯诺德夫人的心提到了嗓子眼上，她</a:t>
            </a:r>
            <a:r>
              <a:rPr b="0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似乎</a:t>
            </a:r>
            <a:r>
              <a:rPr b="0" i="1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感到德国军官那几双恶狼般的眼睛正盯在越来越短的蜡烛上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{49EAF8C8-2AE1-4C2C-9595-B527A9A9186B}"/>
          <p:cNvPicPr/>
          <p:nvPr/>
        </p:nvPicPr>
        <p:blipFill>
          <a:blip r:embed="rId1"/>
          <a:srcRect l="1562" t="0" r="0" b="0"/>
          <a:stretch/>
        </p:blipFill>
        <p:spPr>
          <a:xfrm>
            <a:off x="0" y="333360"/>
            <a:ext cx="8785080" cy="59752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gif0012"/>
          <p:cNvPicPr/>
          <p:nvPr/>
        </p:nvPicPr>
        <p:blipFill>
          <a:blip r:embed="rId2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1979640" y="17002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</a:t>
            </a:r>
            <a:r>
              <a:rPr b="0" lang="zh-CN" sz="4000" spc="-1" strike="noStrike">
                <a:solidFill>
                  <a:srgbClr val="070d09"/>
                </a:solidFill>
                <a:latin typeface="Times New Roman"/>
                <a:ea typeface="楷体_GB2312"/>
              </a:rPr>
              <a:t>烛焰摇曳，发出微弱的光，此时此刻，它仿佛成了屋子里最可怕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gif001"/>
          <p:cNvPicPr/>
          <p:nvPr/>
        </p:nvPicPr>
        <p:blipFill>
          <a:blip r:embed="rId3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"/>
          <p:cNvSpPr/>
          <p:nvPr/>
        </p:nvSpPr>
        <p:spPr>
          <a:xfrm>
            <a:off x="2700360" y="3573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命悬于一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烛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91920" y="1771560"/>
            <a:ext cx="8070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dddd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突然，小女儿杰奎琳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娇声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对德国人说道：“司令官先生，天晚了，楼上黑，我可以拿一盏灯上楼睡觉吗？”少校瞧了瞧这位可爱的小姑娘，说：“当然可以。我家也有一个像你这么大的小女儿。”杰奎琳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镇定地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把烛台端起来，向几位军官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道过晚安</a:t>
            </a:r>
            <a:r>
              <a:rPr b="0" lang="zh-CN" sz="3200" spc="-1" strike="noStrike">
                <a:solidFill>
                  <a:srgbClr val="070d09"/>
                </a:solidFill>
                <a:latin typeface="Arial"/>
                <a:ea typeface="楷体_GB2312"/>
              </a:rPr>
              <a:t>，上楼去了。</a:t>
            </a:r>
            <a:r>
              <a:rPr b="0" lang="en-US" sz="3200" spc="-1" strike="noStrike">
                <a:solidFill>
                  <a:srgbClr val="070d0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3:35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7:50:21Z</dcterms:modified>
  <cp:revision>1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