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58AC-6498-453C-9275-9C570ED7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22BE-FD53-4A5F-A067-76FBF08D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29B8-68BD-4C7C-9665-81538394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15D5-C89F-4554-ADD7-CD446A7BE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F7A1-3610-47C8-B99D-85F5D4D76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3B29-EE4D-4A29-90FF-0AB15378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46EA-E28C-466C-A400-E1B75B68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F78F-4C10-47B9-AEEF-A7873C18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660D-381B-428D-8BEE-0E2463CF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797C-86B9-4662-9272-145BC3D3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60E6-9132-4BB9-B164-642D387B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D4B1-F0CC-4BAB-8C35-B75DDADA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C1BD-6434-4E0B-8815-AB3D6A1F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7261-A91B-4E39-B80D-F27670D8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5AC3-2E0A-4F2A-A84E-20776A85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EA2B-85D3-4D75-B7D9-029A8791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4814-160B-4981-9300-73A539537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A1E76-AD26-4991-B4DB-559044DA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ED80D-40AF-4A9F-A51C-84FDE34D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296C1-77A3-469D-B3A1-850D2E8F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90D63-15A6-4AD0-B0C2-389F6C36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CDA33-A10C-4D4C-8704-FBEDC710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5BDA-9DA9-45BC-945B-A1B5A370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8A171-01A5-4AD6-B8F2-D7BED19B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3E8DA-FF89-4236-8D71-5E29751E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30559-968F-4A7A-B3A2-93F2785B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D5B89-14C7-4EBE-A1C1-ABF72830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54395-F740-4A35-8D2C-9F8268F1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7C572-A455-4674-9544-0B99EC9B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1A8AB-FD71-41F1-8B26-7B43094E7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829E8-3BCF-4B80-A5C3-AA8A9E7B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EE1B7-796F-4281-A2E6-C603B83F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006A3-0894-4205-8FAA-10459273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B2D3-D0AD-41A3-AC72-6AFF2E33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F2E4B-D998-42D3-91C3-8E106C44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E0275-C812-4E99-829D-5FA39896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6FC1A-B2CD-4399-AF1E-348D9180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C789F-D539-453E-8269-2271BD9B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9A57D-E1EC-4D6D-8A83-93D41DD1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4570F-A450-463E-8683-42C04EA3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95488-710B-459A-BD6B-92ED1616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E7AE2-25E5-43E7-844E-670ADE48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7386C-0080-4C91-ABEF-C109C64D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E88EE-AA5B-457A-8CEF-A2F2BC55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A140-984A-47FE-921B-6FBC982D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0C484-D658-41B2-9A9D-B1C77203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F2A4A-E577-4A65-9085-C939DE45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C864C-99AD-474A-85A3-02CCA52E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A8B40-FE7C-44F3-9582-E95D9BCA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378E6-8AAF-4AA3-8288-056C799E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6B4F8-EEAD-4233-AF33-E8E65C23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0CCEC-2F27-4C3E-8D4C-0DBE05C6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31C95-E196-4E0D-9AFD-FF52D17E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3211A-E6C4-471C-8CF4-5FF8503F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FBFD7-6D9E-43E9-BE6C-8E0FE68BD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531B-087D-4466-88C9-509E3876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91C63-FB4F-4A5A-8A48-6B3E561B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D15A6-B7E0-4CB4-B0F1-95CEBF2F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1ECE7-212A-461F-A681-74E9A7E2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12E71-B0DF-4EC5-9674-E00333AF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3AB23-AFB9-44B2-8706-B48966B5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47BE2-08E8-41A7-8C6A-5DD206DF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C6D7E-8108-458A-B96F-454828B4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1E7B6-EF31-4D97-B0E1-1D60C216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F1D89-3021-40A6-93D7-0AF135D2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43A26-6F70-4AC9-A8EC-D2B0AE1B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1B72-8AD7-4E2B-AC9C-5CF591A6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A3948-A047-4A85-8FB2-257BDAA4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3BB6E-05D7-485A-842F-6B94E43DC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86E04-4CBD-4224-9E96-1D7C143E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23BAF-479E-41F9-9CEE-D3B36C7D9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84E66-2AA7-4C0B-8A52-3F99A5F3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C0871-174D-4FAB-9D89-F761CD3A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CB832-6235-45E0-B828-C38552C5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DD29F-755A-4980-B00E-358EDA74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A98D2-C970-4306-B0A3-08F833AD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2C325-555B-416D-A6D3-1ACE1528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785E-4153-4AC1-BAD3-1EE0AABC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4B060-A554-40FC-AB82-7DE6513E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7CE82-0785-449C-8D64-08FB7DA1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17547-7196-41EC-AA76-BE2617BA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7D082-9D13-4769-A983-A0CFB094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62755-4398-4339-935E-3329D60E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875E-69AF-44BD-9DC2-2AF2CECC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993A-844C-4897-BE15-A1C2F08CE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5855-35CA-4149-96D1-995FD47E9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9886-BFFF-40AD-AE8C-CF1360EF7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0DA3-3C1D-4EC8-A0EE-AF93E8ABA3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12AF-2FB0-43C2-8230-B65A89CB4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9e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9e9ff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E11C-6381-42BA-9D68-CF41F7ADF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9e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9e9ff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0950-A460-48F2-986B-D744E7A1C1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http://www.starcoo.com/AI/Aridi13_Certificates_Awards_Frames/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256,5,&#24187;&#28783;&#29255; 5" TargetMode="External"/><Relationship Id="rId4" Type="http://schemas.openxmlformats.org/officeDocument/2006/relationships/hyperlink" Target="275,8,&#24187;&#28783;&#29255; 8" TargetMode="External"/><Relationship Id="rId5" Type="http://schemas.openxmlformats.org/officeDocument/2006/relationships/hyperlink" Target="269,10,&#24187;&#28783;&#29255; 10" TargetMode="External"/><Relationship Id="rId6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7" descr="1097893787"/>
          <p:cNvPicPr/>
          <p:nvPr/>
        </p:nvPicPr>
        <p:blipFill>
          <a:blip r:embed="rId2"/>
          <a:stretch/>
        </p:blipFill>
        <p:spPr>
          <a:xfrm>
            <a:off x="-108000" y="-17136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10800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24760" y="2349360"/>
            <a:ext cx="434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半截蜡烛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2"/>
          <a:srcRect l="1990" t="0" r="0" b="0"/>
          <a:stretch/>
        </p:blipFill>
        <p:spPr>
          <a:xfrm>
            <a:off x="5867280" y="4343400"/>
            <a:ext cx="2743200" cy="251460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3"/>
          <p:cNvSpPr/>
          <p:nvPr/>
        </p:nvSpPr>
        <p:spPr>
          <a:xfrm>
            <a:off x="2284560" y="685800"/>
            <a:ext cx="45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468360" y="1413000"/>
            <a:ext cx="71629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0bb7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她看着两个脸色苍白的孩子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急忙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从厨房取出一盏油灯放在桌上。“瞧，先生们，这盏灯亮些。”说着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轻轻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把蜡烛吹灭。一场危机似乎过去了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9e9ff"/>
                </a:solidFill>
                <a:uFillTx/>
                <a:latin typeface="Times New Roman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2"/>
          <a:srcRect l="1990" t="0" r="0" b="0"/>
          <a:stretch/>
        </p:blipFill>
        <p:spPr>
          <a:xfrm>
            <a:off x="5867280" y="4343400"/>
            <a:ext cx="2743200" cy="25146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2284560" y="685800"/>
            <a:ext cx="45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80880" y="228600"/>
            <a:ext cx="6705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这时候，大儿子杰克慢慢地站起来，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天真冷。我到柴房去搬些柴来生个火吧。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说着伸手端起烛台朝门口走去，屋子顿时暗了许多。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”</a:t>
            </a:r>
            <a:r>
              <a:rPr b="0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380880" y="35053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0bb7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孩子是懂事的，他知道，厄运即将到来了。在斗争的最后时刻，他从容地搬回一捆木柴，生了火，默默地坐待着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2"/>
          <a:srcRect l="1990" t="0" r="0" b="0"/>
          <a:stretch/>
        </p:blipFill>
        <p:spPr>
          <a:xfrm>
            <a:off x="5867280" y="4343400"/>
            <a:ext cx="2743200" cy="25146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"/>
          <p:cNvSpPr/>
          <p:nvPr/>
        </p:nvSpPr>
        <p:spPr>
          <a:xfrm>
            <a:off x="2284560" y="685800"/>
            <a:ext cx="45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80880" y="228600"/>
            <a:ext cx="6705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这时候，大儿子杰克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慢慢地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站起来，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天真冷。我到柴房去搬些柴来生个火吧。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说着伸手端起烛台朝门口走去，屋子顿时暗了许多。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”</a:t>
            </a:r>
            <a:r>
              <a:rPr b="0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380880" y="35053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0bb7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孩子是懂事的，他知道，厄运即将到来了。在斗争的最后时刻，他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从容地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搬回一捆木柴，生了火，默默地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坐待着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AutoShape 6"/>
          <p:cNvSpPr/>
          <p:nvPr/>
        </p:nvSpPr>
        <p:spPr>
          <a:xfrm>
            <a:off x="990720" y="6477120"/>
            <a:ext cx="457200" cy="380880"/>
          </a:xfrm>
          <a:custGeom>
            <a:avLst/>
            <a:gdLst>
              <a:gd name="textAreaLeft" fmla="*/ 23760 w 457200"/>
              <a:gd name="textAreaRight" fmla="*/ 433440 w 45720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74" y="1350"/>
                </a:lnTo>
                <a:lnTo>
                  <a:pt x="1350" y="135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74" y="20250"/>
                </a:lnTo>
                <a:lnTo>
                  <a:pt x="24574" y="135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574" y="2025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2"/>
          <a:srcRect l="1990" t="0" r="0" b="0"/>
          <a:stretch/>
        </p:blipFill>
        <p:spPr>
          <a:xfrm>
            <a:off x="5867280" y="4343400"/>
            <a:ext cx="2743200" cy="25146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3"/>
          <p:cNvSpPr/>
          <p:nvPr/>
        </p:nvSpPr>
        <p:spPr>
          <a:xfrm>
            <a:off x="2284560" y="685800"/>
            <a:ext cx="45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914400" y="457200"/>
            <a:ext cx="7696080" cy="22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突然，小女儿杰奎琳娇声地对德国人说道：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司令官先生，天晚了，楼上黑，我可以拿一盏等上楼睡觉吗？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少校瞧了瞧这位可爱的小姑娘，说：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当然可以。我家也有一个你这么大的小女儿。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  杰奎琳镇定地把烛台端起来，向几位军官道过晚安，上楼去了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650b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2"/>
          <a:srcRect l="1990" t="0" r="0" b="0"/>
          <a:stretch/>
        </p:blipFill>
        <p:spPr>
          <a:xfrm>
            <a:off x="5867280" y="4343400"/>
            <a:ext cx="2743200" cy="251460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2284560" y="685800"/>
            <a:ext cx="45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914400" y="457200"/>
            <a:ext cx="7696080" cy="22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突然，小女儿杰奎琳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娇声地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对德国人说道：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司令官先生，天晚了，楼上黑，我可以拿一盏等上楼睡觉吗？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少校瞧了瞧这位可爱的小姑娘，说：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当然可以。我家也有一个你这么大的小女儿。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  杰奎琳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镇定地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把烛台端起来，向几位军官道过晚安，上楼去了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650b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AutoShape 5"/>
          <p:cNvSpPr/>
          <p:nvPr/>
        </p:nvSpPr>
        <p:spPr>
          <a:xfrm>
            <a:off x="1143000" y="6400800"/>
            <a:ext cx="533520" cy="457200"/>
          </a:xfrm>
          <a:custGeom>
            <a:avLst/>
            <a:gdLst>
              <a:gd name="textAreaLeft" fmla="*/ 28440 w 533520"/>
              <a:gd name="textAreaRight" fmla="*/ 505080 w 53352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53" y="1350"/>
                </a:lnTo>
                <a:lnTo>
                  <a:pt x="1350" y="135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53" y="20250"/>
                </a:lnTo>
                <a:lnTo>
                  <a:pt x="23853" y="135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853" y="2025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"/>
          <p:cNvPicPr/>
          <p:nvPr/>
        </p:nvPicPr>
        <p:blipFill>
          <a:blip r:embed="rId2"/>
          <a:srcRect l="1990" t="0" r="0" b="0"/>
          <a:stretch/>
        </p:blipFill>
        <p:spPr>
          <a:xfrm>
            <a:off x="5867280" y="4343400"/>
            <a:ext cx="2743200" cy="25146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3"/>
          <p:cNvSpPr/>
          <p:nvPr/>
        </p:nvSpPr>
        <p:spPr>
          <a:xfrm>
            <a:off x="2284560" y="685800"/>
            <a:ext cx="45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2" name="Picture 4" descr="Borders_080BOR-C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466560"/>
            <a:ext cx="5410440" cy="402912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1454040" y="847800"/>
            <a:ext cx="304812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0bb7"/>
                </a:solidFill>
                <a:latin typeface="Arial"/>
                <a:ea typeface="隶书"/>
              </a:rPr>
              <a:t>   </a:t>
            </a:r>
            <a:r>
              <a:rPr b="0" lang="zh-CN" sz="4400" spc="-1" strike="noStrike">
                <a:solidFill>
                  <a:srgbClr val="650bb7"/>
                </a:solidFill>
                <a:latin typeface="Arial"/>
                <a:ea typeface="隶书"/>
              </a:rPr>
              <a:t>荣誉奖状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50bb7"/>
                </a:solidFill>
                <a:latin typeface="Arial"/>
                <a:ea typeface="隶书"/>
              </a:rPr>
              <a:t>    </a:t>
            </a:r>
            <a:r>
              <a:rPr b="0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鉴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特授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92812-0F40-4622-AC60-964B73FF20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ff00"/>
                </a:solidFill>
                <a:latin typeface="Arial"/>
                <a:ea typeface="华文彩云"/>
              </a:rPr>
              <a:t>生字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650bb7"/>
                </a:solidFill>
                <a:latin typeface="Arial"/>
              </a:rPr>
              <a:t>烛  诺  熄  遭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650bb7"/>
                </a:solidFill>
                <a:latin typeface="Arial"/>
              </a:rPr>
              <a:t>厄  盯  琳  梯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50bb7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ff00"/>
                </a:solidFill>
                <a:latin typeface="Arial"/>
                <a:ea typeface="华文彩云"/>
              </a:rPr>
              <a:t>生词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160" y="2276280"/>
            <a:ext cx="9144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0bb7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650bb7"/>
                </a:solidFill>
                <a:latin typeface="楷体_GB2312"/>
                <a:ea typeface="楷体_GB2312"/>
              </a:rPr>
              <a:t>蜡烛   强盗   秘密   厄运   点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50bb7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650bb7"/>
                </a:solidFill>
                <a:latin typeface="楷体_GB2312"/>
                <a:ea typeface="楷体_GB2312"/>
              </a:rPr>
              <a:t>绝妙   微弱   绝密   镇定   熄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3360" y="2276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50bb7"/>
                </a:solidFill>
                <a:latin typeface="Arial"/>
              </a:rPr>
              <a:t>烛（   ） 熄（   ） 镇（   ） 梯（   ） </a:t>
            </a:r>
            <a:br>
              <a:rPr sz="4000"/>
            </a:br>
            <a:r>
              <a:rPr b="0" lang="zh-CN" sz="4000" spc="-1" strike="noStrike">
                <a:solidFill>
                  <a:srgbClr val="650bb7"/>
                </a:solidFill>
                <a:latin typeface="Arial"/>
              </a:rPr>
              <a:t>浊（   ） 息（   ） 慎（   ） 递（   ）</a:t>
            </a:r>
            <a:br>
              <a:rPr sz="4000"/>
            </a:br>
            <a:r>
              <a:rPr b="0" lang="zh-CN" sz="4000" spc="-1" strike="noStrike">
                <a:solidFill>
                  <a:srgbClr val="650bb7"/>
                </a:solidFill>
                <a:latin typeface="Arial"/>
              </a:rPr>
              <a:t>盯（   ） 钉（   ） 琳（   ） 淋（   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50bb7"/>
                </a:solidFill>
                <a:latin typeface="Arial"/>
              </a:rPr>
              <a:t>（    ）的情报         一（  ）油灯</a:t>
            </a:r>
            <a:br>
              <a:rPr sz="4000"/>
            </a:br>
            <a:r>
              <a:rPr b="0" lang="zh-CN" sz="4000" spc="-1" strike="noStrike">
                <a:solidFill>
                  <a:srgbClr val="650bb7"/>
                </a:solidFill>
                <a:latin typeface="Arial"/>
              </a:rPr>
              <a:t>（    ）的主意         一（  ）危机</a:t>
            </a:r>
            <a:br>
              <a:rPr sz="4000"/>
            </a:br>
            <a:r>
              <a:rPr b="0" lang="zh-CN" sz="4000" spc="-1" strike="noStrike">
                <a:solidFill>
                  <a:srgbClr val="650bb7"/>
                </a:solidFill>
                <a:latin typeface="Arial"/>
              </a:rPr>
              <a:t>（    ）的心情         一（  ）烛台</a:t>
            </a:r>
            <a:br>
              <a:rPr sz="4000"/>
            </a:br>
            <a:r>
              <a:rPr b="0" lang="zh-CN" sz="4000" spc="-1" strike="noStrike">
                <a:solidFill>
                  <a:srgbClr val="650bb7"/>
                </a:solidFill>
                <a:latin typeface="Arial"/>
              </a:rPr>
              <a:t>（    ）的姑娘         一（  ）晚上</a:t>
            </a:r>
            <a:br>
              <a:rPr sz="4000"/>
            </a:br>
            <a:r>
              <a:rPr b="0" lang="zh-CN" sz="4000" spc="-1" strike="noStrike">
                <a:solidFill>
                  <a:srgbClr val="650bb7"/>
                </a:solidFill>
                <a:latin typeface="Arial"/>
              </a:rPr>
              <a:t>（    ）的东西         一（  ）木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50bb7"/>
                </a:solidFill>
                <a:latin typeface="Arial"/>
              </a:rPr>
              <a:t>问答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077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9e9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0bb7"/>
                </a:solidFill>
                <a:latin typeface="Arial"/>
              </a:rPr>
              <a:t>            </a:t>
            </a:r>
            <a:r>
              <a:rPr b="0" lang="zh-CN" sz="5400" spc="-1" strike="noStrike">
                <a:solidFill>
                  <a:srgbClr val="650bb7"/>
                </a:solidFill>
                <a:latin typeface="Arial"/>
              </a:rPr>
              <a:t>说说伯诺德夫人一家在危急关头是怎样与德军周旋的？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页脚占位符 4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问答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默读课文，圈出描写伯诺德夫人全家人的动作、神情、语言及心理活动的有关词句先读一读，再和小组同学合作将故事编成课本剧演一演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2"/>
          <a:srcRect l="1990" t="0" r="0" b="0"/>
          <a:stretch/>
        </p:blipFill>
        <p:spPr>
          <a:xfrm>
            <a:off x="5867280" y="4343400"/>
            <a:ext cx="2743200" cy="251460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3"/>
          <p:cNvSpPr/>
          <p:nvPr/>
        </p:nvSpPr>
        <p:spPr>
          <a:xfrm>
            <a:off x="2284560" y="685800"/>
            <a:ext cx="45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1676520" y="1219320"/>
            <a:ext cx="586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380880" y="762120"/>
            <a:ext cx="853452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当 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_____ 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时，伯</a:t>
            </a:r>
            <a:r>
              <a:rPr b="0" lang="zh-CN" sz="3600" spc="-1" strike="noStrike" u="sng">
                <a:solidFill>
                  <a:srgbClr val="e9e9ff"/>
                </a:solidFill>
                <a:uFillTx/>
                <a:latin typeface="隶书"/>
                <a:ea typeface="隶书"/>
                <a:hlinkClick r:id="rId3"/>
              </a:rPr>
              <a:t>诺德夫人 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_____ (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怎么做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) _____ (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结果怎样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当 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_____ 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时，</a:t>
            </a:r>
            <a:r>
              <a:rPr b="0" lang="zh-CN" sz="3600" spc="-1" strike="noStrike" u="sng">
                <a:solidFill>
                  <a:srgbClr val="e9e9ff"/>
                </a:solidFill>
                <a:uFillTx/>
                <a:latin typeface="隶书"/>
                <a:ea typeface="隶书"/>
                <a:hlinkClick r:id="rId4"/>
              </a:rPr>
              <a:t>杰克 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_____ (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怎么做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) _____ (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结果怎样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当 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_____ 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时，</a:t>
            </a:r>
            <a:r>
              <a:rPr b="0" lang="zh-CN" sz="3600" spc="-1" strike="noStrike" u="sng">
                <a:solidFill>
                  <a:srgbClr val="e9e9ff"/>
                </a:solidFill>
                <a:uFillTx/>
                <a:latin typeface="隶书"/>
                <a:ea typeface="隶书"/>
                <a:hlinkClick r:id="rId5"/>
              </a:rPr>
              <a:t>杰奎琳 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_____ (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怎么做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) _____(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结果怎样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)</a:t>
            </a:r>
            <a:r>
              <a:rPr b="0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2"/>
          <a:srcRect l="1990" t="0" r="0" b="0"/>
          <a:stretch/>
        </p:blipFill>
        <p:spPr>
          <a:xfrm>
            <a:off x="5867280" y="4343400"/>
            <a:ext cx="2743200" cy="25146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3"/>
          <p:cNvSpPr/>
          <p:nvPr/>
        </p:nvSpPr>
        <p:spPr>
          <a:xfrm>
            <a:off x="2284560" y="685800"/>
            <a:ext cx="45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990720" y="838080"/>
            <a:ext cx="71625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0bb7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她看着两个脸色苍白的孩子，急忙从厨房取出一盏油灯放在桌上。“瞧，先生们，这盏灯亮些。”说着，轻轻把蜡烛吹灭。一场危机似乎过去了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12:2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7:56:32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