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D425-92B9-4D50-9755-23B36FB6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8C7C-CC19-43BD-B414-6344E6FF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5268-1178-40D6-92F4-11BA47E8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5015-64F0-461E-99A9-28C7B059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DB4A-F9FE-428D-AE46-1334DD9A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B735-A2DB-430D-9332-954E9EA0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8B84-DAF8-4A12-8146-E9920F11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7D4C-AA3B-494F-BE78-E3D17015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8DD0-8BD5-4EB1-A39B-9672A607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D9D8-8FAF-4574-B043-7A2BCB29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D6A1-DCF2-4E53-8767-0E0C590F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4661-FDE2-413C-BD70-DA08C787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9237-C306-4417-A6E6-26A786BD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7BC6-E475-466B-8D84-B7442496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968E-6E0C-4309-B642-2224AA73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33A6-62CA-4423-AF44-0CC2987C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7E87-FEC0-429B-81EB-61BEE6E6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C2D6-93FA-46A3-8ED4-99D157C9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01FF-FEDD-494D-9C46-961B6487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927D-DAF8-4AE3-9E19-B24491EB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428C-F9EE-4C0A-935F-D2627781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7BD3-4845-45C2-AB63-26FDF8D6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8E0F-B8A8-403C-B820-BFF98929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E18C-58D0-453E-ADC3-1E3F21FC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3E455E06-15D7-431E-8972-BFE15D4DE3BC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素彩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ttp://www.sc115.com-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模板免费下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6D4B-F79F-43D4-8B45-C3D7B5EF04DD}" type="slidenum">
              <a:rPr b="0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4FB055EA-1B10-4155-B76C-8152A61A3179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CAD5-4809-4216-858F-4EDAF0FACDCC}" type="slidenum">
              <a:rPr b="0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Grafik 3" descr="Abstract1.jpg"/>
          <p:cNvPicPr/>
          <p:nvPr/>
        </p:nvPicPr>
        <p:blipFill>
          <a:blip r:embed="rId1"/>
          <a:stretch/>
        </p:blipFill>
        <p:spPr>
          <a:xfrm>
            <a:off x="27000" y="-66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14360" y="62514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03320" y="112392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标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\\Diskstation\PresentationLoad\PRESENTATIONLOAD\4_PRODUKTION\0_BILDERBIBLIOTHEK\_Texturen -Hintergründe\Abstract1_grey.jpg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29520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  <a:ea typeface="宋体"/>
              </a:rPr>
              <a:t>Abstract Backgro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9520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  <a:ea typeface="宋体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Grafik 5" descr="Abstract1_gre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Grafik 2" descr="Abstrac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29520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  <a:ea typeface="宋体"/>
              </a:rPr>
              <a:t>Abstract Backgro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9520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  <a:ea typeface="宋体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2240" y="615780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20760" y="33480"/>
            <a:ext cx="8520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  <a:ea typeface="宋体"/>
              </a:rPr>
              <a:t>Head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760" y="10126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  <a:ea typeface="宋体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Grafik 220" descr="Hintergrund button.png"/>
          <p:cNvPicPr/>
          <p:nvPr/>
        </p:nvPicPr>
        <p:blipFill>
          <a:blip r:embed="rId1"/>
          <a:stretch/>
        </p:blipFill>
        <p:spPr>
          <a:xfrm>
            <a:off x="6566040" y="3619440"/>
            <a:ext cx="1974600" cy="1960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6000"/>
              </a:srgbClr>
            </a:outerShdw>
          </a:effectLst>
        </p:spPr>
      </p:pic>
      <p:pic>
        <p:nvPicPr>
          <p:cNvPr id="98" name="Grafik 8" descr="Abstrac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0008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262626"/>
            </a:outerShdw>
          </a:effectLst>
        </p:spPr>
      </p:pic>
      <p:grpSp>
        <p:nvGrpSpPr>
          <p:cNvPr id="99" name="Gruppieren 224"/>
          <p:cNvGrpSpPr/>
          <p:nvPr/>
        </p:nvGrpSpPr>
        <p:grpSpPr>
          <a:xfrm>
            <a:off x="4645080" y="3495960"/>
            <a:ext cx="2111400" cy="2136960"/>
            <a:chOff x="4645080" y="3495960"/>
            <a:chExt cx="2111400" cy="2136960"/>
          </a:xfrm>
        </p:grpSpPr>
        <p:pic>
          <p:nvPicPr>
            <p:cNvPr id="100" name="Grafik 223" descr="Hintergrund button.png"/>
            <p:cNvPicPr/>
            <p:nvPr/>
          </p:nvPicPr>
          <p:blipFill>
            <a:blip r:embed="rId3"/>
            <a:stretch/>
          </p:blipFill>
          <p:spPr>
            <a:xfrm>
              <a:off x="4718160" y="3629160"/>
              <a:ext cx="1974600" cy="1960560"/>
            </a:xfrm>
            <a:prstGeom prst="rect">
              <a:avLst/>
            </a:prstGeom>
            <a:ln w="0">
              <a:noFill/>
            </a:ln>
            <a:effectLst>
              <a:outerShdw dist="0" dir="0" blurRad="0" rotWithShape="0">
                <a:srgbClr val="000000">
                  <a:alpha val="66000"/>
                </a:srgbClr>
              </a:outerShdw>
            </a:effectLst>
          </p:spPr>
        </p:pic>
        <p:sp>
          <p:nvSpPr>
            <p:cNvPr id="101" name="Freeform 165"/>
            <p:cNvSpPr/>
            <p:nvPr/>
          </p:nvSpPr>
          <p:spPr>
            <a:xfrm rot="20704200">
              <a:off x="4982760" y="4762440"/>
              <a:ext cx="1717560" cy="660240"/>
            </a:xfrm>
            <a:prstGeom prst="pie">
              <a:avLst/>
            </a:prstGeom>
            <a:solidFill>
              <a:srgbClr val="558ed5"/>
            </a:solidFill>
            <a:ln w="0">
              <a:noFill/>
            </a:ln>
            <a:effectLst>
              <a:outerShdw dist="50760" dir="5400000" blurRad="0" rotWithShape="0">
                <a:srgbClr val="26262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66"/>
            <p:cNvSpPr/>
            <p:nvPr/>
          </p:nvSpPr>
          <p:spPr>
            <a:xfrm rot="20704200">
              <a:off x="4702320" y="3706560"/>
              <a:ext cx="1724040" cy="671400"/>
            </a:xfrm>
            <a:prstGeom prst="pie">
              <a:avLst/>
            </a:prstGeom>
            <a:solidFill>
              <a:srgbClr val="17375e"/>
            </a:solidFill>
            <a:ln w="38160">
              <a:solidFill>
                <a:srgbClr val="558ed5">
                  <a:alpha val="18000"/>
                </a:srgbClr>
              </a:solidFill>
              <a:miter/>
            </a:ln>
            <a:effectLst>
              <a:outerShdw dist="50760" dir="54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feld 207"/>
          <p:cNvSpPr/>
          <p:nvPr/>
        </p:nvSpPr>
        <p:spPr>
          <a:xfrm rot="20700000">
            <a:off x="4914720" y="435240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uppieren 31"/>
          <p:cNvGrpSpPr/>
          <p:nvPr/>
        </p:nvGrpSpPr>
        <p:grpSpPr>
          <a:xfrm>
            <a:off x="2444760" y="3476880"/>
            <a:ext cx="2111760" cy="2137320"/>
            <a:chOff x="2444760" y="3476880"/>
            <a:chExt cx="2111760" cy="2137320"/>
          </a:xfrm>
        </p:grpSpPr>
        <p:pic>
          <p:nvPicPr>
            <p:cNvPr id="105" name="Grafik 212" descr="Hintergrund button.png"/>
            <p:cNvPicPr/>
            <p:nvPr/>
          </p:nvPicPr>
          <p:blipFill>
            <a:blip r:embed="rId4"/>
            <a:stretch/>
          </p:blipFill>
          <p:spPr>
            <a:xfrm>
              <a:off x="2517840" y="3610080"/>
              <a:ext cx="1974960" cy="1960560"/>
            </a:xfrm>
            <a:prstGeom prst="rect">
              <a:avLst/>
            </a:prstGeom>
            <a:ln w="0">
              <a:noFill/>
            </a:ln>
            <a:effectLst>
              <a:outerShdw dist="0" dir="0" blurRad="0" rotWithShape="0">
                <a:srgbClr val="000000">
                  <a:alpha val="66000"/>
                </a:srgbClr>
              </a:outerShdw>
            </a:effectLst>
          </p:spPr>
        </p:pic>
        <p:sp>
          <p:nvSpPr>
            <p:cNvPr id="106" name="Freeform 165"/>
            <p:cNvSpPr/>
            <p:nvPr/>
          </p:nvSpPr>
          <p:spPr>
            <a:xfrm rot="20704200">
              <a:off x="2782440" y="4743720"/>
              <a:ext cx="1717920" cy="660240"/>
            </a:xfrm>
            <a:prstGeom prst="pie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6294000"/>
            </a:gradFill>
            <a:ln w="0">
              <a:noFill/>
            </a:ln>
            <a:effectLst>
              <a:outerShdw dist="50760" dir="5400000" blurRad="0" rotWithShape="0">
                <a:srgbClr val="26262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66"/>
            <p:cNvSpPr/>
            <p:nvPr/>
          </p:nvSpPr>
          <p:spPr>
            <a:xfrm rot="20704200">
              <a:off x="2502000" y="3687480"/>
              <a:ext cx="1724040" cy="671400"/>
            </a:xfrm>
            <a:prstGeom prst="pie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6294000"/>
            </a:gradFill>
            <a:ln w="38160">
              <a:solidFill>
                <a:srgbClr val="558ed5">
                  <a:alpha val="18000"/>
                </a:srgbClr>
              </a:solidFill>
              <a:miter/>
            </a:ln>
            <a:effectLst>
              <a:outerShdw dist="50760" dir="54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feld 215"/>
          <p:cNvSpPr/>
          <p:nvPr/>
        </p:nvSpPr>
        <p:spPr>
          <a:xfrm rot="20700000">
            <a:off x="2743200" y="43621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Gruppieren 227" descr=""/>
          <p:cNvPicPr/>
          <p:nvPr/>
        </p:nvPicPr>
        <p:blipFill>
          <a:blip r:embed="rId5"/>
          <a:stretch/>
        </p:blipFill>
        <p:spPr>
          <a:xfrm>
            <a:off x="6497640" y="3376440"/>
            <a:ext cx="2732040" cy="2408400"/>
          </a:xfrm>
          <a:prstGeom prst="rect">
            <a:avLst/>
          </a:prstGeom>
          <a:ln w="0">
            <a:noFill/>
          </a:ln>
        </p:spPr>
      </p:pic>
      <p:sp>
        <p:nvSpPr>
          <p:cNvPr id="110" name="Textfeld 222"/>
          <p:cNvSpPr/>
          <p:nvPr/>
        </p:nvSpPr>
        <p:spPr>
          <a:xfrm rot="20700000">
            <a:off x="7058160" y="42764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29520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  <a:ea typeface="宋体"/>
              </a:rPr>
              <a:t>Button - 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9520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uppieren 30"/>
          <p:cNvGrpSpPr/>
          <p:nvPr/>
        </p:nvGrpSpPr>
        <p:grpSpPr>
          <a:xfrm>
            <a:off x="412920" y="3056040"/>
            <a:ext cx="1911240" cy="1847880"/>
            <a:chOff x="412920" y="3056040"/>
            <a:chExt cx="1911240" cy="1847880"/>
          </a:xfrm>
        </p:grpSpPr>
        <p:pic>
          <p:nvPicPr>
            <p:cNvPr id="114" name="Grafik 23" descr="Hintergrund button.png"/>
            <p:cNvPicPr/>
            <p:nvPr/>
          </p:nvPicPr>
          <p:blipFill>
            <a:blip r:embed="rId6"/>
            <a:stretch/>
          </p:blipFill>
          <p:spPr>
            <a:xfrm>
              <a:off x="412920" y="3056040"/>
              <a:ext cx="191124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Freeform 165"/>
            <p:cNvSpPr/>
            <p:nvPr/>
          </p:nvSpPr>
          <p:spPr>
            <a:xfrm rot="20704200">
              <a:off x="763560" y="4113360"/>
              <a:ext cx="1453680" cy="542880"/>
            </a:xfrm>
            <a:prstGeom prst="pie">
              <a:avLst/>
            </a:prstGeom>
            <a:gradFill rotWithShape="0">
              <a:gsLst>
                <a:gs pos="0">
                  <a:srgbClr val="a20000"/>
                </a:gs>
                <a:gs pos="100000">
                  <a:srgbClr val="d2201c"/>
                </a:gs>
              </a:gsLst>
              <a:lin ang="6294000"/>
            </a:gradFill>
            <a:ln w="0">
              <a:noFill/>
            </a:ln>
            <a:effectLst>
              <a:outerShdw dist="50760" dir="5400000" blurRad="0" rotWithShape="0">
                <a:srgbClr val="26262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66"/>
            <p:cNvSpPr/>
            <p:nvPr/>
          </p:nvSpPr>
          <p:spPr>
            <a:xfrm rot="20704200">
              <a:off x="519120" y="3256560"/>
              <a:ext cx="1459440" cy="554040"/>
            </a:xfrm>
            <a:prstGeom prst="pie">
              <a:avLst/>
            </a:prstGeom>
            <a:gradFill rotWithShape="0">
              <a:gsLst>
                <a:gs pos="0">
                  <a:srgbClr val="a20000"/>
                </a:gs>
                <a:gs pos="100000">
                  <a:srgbClr val="d2201c"/>
                </a:gs>
              </a:gsLst>
              <a:lin ang="6294000"/>
            </a:gradFill>
            <a:ln w="0">
              <a:noFill/>
            </a:ln>
            <a:effectLst>
              <a:outerShdw dist="50760" dir="5400000" blurRad="0" rotWithShape="0">
                <a:srgbClr val="26262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feld 28"/>
          <p:cNvSpPr/>
          <p:nvPr/>
        </p:nvSpPr>
        <p:spPr>
          <a:xfrm rot="20700000">
            <a:off x="590040" y="376704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\\Diskstation\PresentationLoad\PRESENTATIONLOAD\4_PRODUKTION\0_BILDERBIBLIOTHEK\_Texturen -Hintergründe\Abstract1_grey.jpg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29520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ticky notes - 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9520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  <a:ea typeface="宋体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Grafik 7" descr="Post-it.png"/>
          <p:cNvPicPr/>
          <p:nvPr/>
        </p:nvPicPr>
        <p:blipFill>
          <a:blip r:embed="rId2"/>
          <a:stretch/>
        </p:blipFill>
        <p:spPr>
          <a:xfrm>
            <a:off x="3602160" y="1103400"/>
            <a:ext cx="2616120" cy="2670120"/>
          </a:xfrm>
          <a:prstGeom prst="rect">
            <a:avLst/>
          </a:prstGeom>
          <a:ln w="0">
            <a:noFill/>
          </a:ln>
        </p:spPr>
      </p:pic>
      <p:pic>
        <p:nvPicPr>
          <p:cNvPr id="122" name="Grafik 8" descr="Post-it.png"/>
          <p:cNvPicPr/>
          <p:nvPr/>
        </p:nvPicPr>
        <p:blipFill>
          <a:blip r:embed="rId3"/>
          <a:stretch/>
        </p:blipFill>
        <p:spPr>
          <a:xfrm>
            <a:off x="6083280" y="785880"/>
            <a:ext cx="2822760" cy="3414600"/>
          </a:xfrm>
          <a:prstGeom prst="rect">
            <a:avLst/>
          </a:prstGeom>
          <a:ln w="0">
            <a:noFill/>
          </a:ln>
        </p:spPr>
      </p:pic>
      <p:pic>
        <p:nvPicPr>
          <p:cNvPr id="123" name="Grafik 9" descr="Pagepeel.png"/>
          <p:cNvPicPr/>
          <p:nvPr/>
        </p:nvPicPr>
        <p:blipFill>
          <a:blip r:embed="rId4"/>
          <a:stretch/>
        </p:blipFill>
        <p:spPr>
          <a:xfrm rot="21253800">
            <a:off x="4196880" y="3661920"/>
            <a:ext cx="2243160" cy="2144880"/>
          </a:xfrm>
          <a:prstGeom prst="rect">
            <a:avLst/>
          </a:prstGeom>
          <a:ln w="0">
            <a:noFill/>
          </a:ln>
        </p:spPr>
      </p:pic>
      <p:pic>
        <p:nvPicPr>
          <p:cNvPr id="124" name="Grafik 11" descr="Post-it.png"/>
          <p:cNvPicPr/>
          <p:nvPr/>
        </p:nvPicPr>
        <p:blipFill>
          <a:blip r:embed="rId5"/>
          <a:stretch/>
        </p:blipFill>
        <p:spPr>
          <a:xfrm>
            <a:off x="60480" y="1182600"/>
            <a:ext cx="3682800" cy="2760840"/>
          </a:xfrm>
          <a:prstGeom prst="rect">
            <a:avLst/>
          </a:prstGeom>
          <a:ln w="0">
            <a:noFill/>
          </a:ln>
        </p:spPr>
      </p:pic>
      <p:pic>
        <p:nvPicPr>
          <p:cNvPr id="125" name="Grafik 19" descr="Pagepeel_hochkant.png"/>
          <p:cNvPicPr/>
          <p:nvPr/>
        </p:nvPicPr>
        <p:blipFill>
          <a:blip r:embed="rId6"/>
          <a:stretch/>
        </p:blipFill>
        <p:spPr>
          <a:xfrm>
            <a:off x="1366920" y="3562200"/>
            <a:ext cx="2181240" cy="2857680"/>
          </a:xfrm>
          <a:prstGeom prst="rect">
            <a:avLst/>
          </a:prstGeom>
          <a:ln w="0">
            <a:noFill/>
          </a:ln>
        </p:spPr>
      </p:pic>
      <p:sp>
        <p:nvSpPr>
          <p:cNvPr id="126" name="Textfeld 20"/>
          <p:cNvSpPr/>
          <p:nvPr/>
        </p:nvSpPr>
        <p:spPr>
          <a:xfrm rot="21268200">
            <a:off x="590040" y="2009880"/>
            <a:ext cx="24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Placeholder for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feld 21"/>
          <p:cNvSpPr/>
          <p:nvPr/>
        </p:nvSpPr>
        <p:spPr>
          <a:xfrm rot="21268200">
            <a:off x="6696720" y="1406160"/>
            <a:ext cx="151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This is a placeholder text. This text can be replaced with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feld 22"/>
          <p:cNvSpPr/>
          <p:nvPr/>
        </p:nvSpPr>
        <p:spPr>
          <a:xfrm rot="21268200">
            <a:off x="4172760" y="2255400"/>
            <a:ext cx="151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This is a placeholder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feld 23"/>
          <p:cNvSpPr/>
          <p:nvPr/>
        </p:nvSpPr>
        <p:spPr>
          <a:xfrm rot="21268200">
            <a:off x="4553640" y="3922560"/>
            <a:ext cx="1517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All phrases can be replaced with y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feld 24"/>
          <p:cNvSpPr/>
          <p:nvPr/>
        </p:nvSpPr>
        <p:spPr>
          <a:xfrm rot="21268200">
            <a:off x="1708920" y="4361040"/>
            <a:ext cx="14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宋体"/>
              </a:rPr>
              <a:t>Placeholder for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页脚占位符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Grafik 8" descr="Abstract3.jpg"/>
          <p:cNvPicPr/>
          <p:nvPr/>
        </p:nvPicPr>
        <p:blipFill>
          <a:blip r:embed="rId1">
            <a:grayscl/>
            <a:lum bright="20000"/>
          </a:blip>
          <a:stretch/>
        </p:blipFill>
        <p:spPr>
          <a:xfrm>
            <a:off x="0" y="0"/>
            <a:ext cx="9144000" cy="6000840"/>
          </a:xfrm>
          <a:prstGeom prst="rect">
            <a:avLst/>
          </a:prstGeom>
          <a:ln w="0">
            <a:noFill/>
          </a:ln>
        </p:spPr>
      </p:pic>
      <p:pic>
        <p:nvPicPr>
          <p:cNvPr id="133" name="Grafik 10" descr="Head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34" name="Rechteck 12"/>
          <p:cNvSpPr/>
          <p:nvPr/>
        </p:nvSpPr>
        <p:spPr>
          <a:xfrm>
            <a:off x="1095480" y="1590840"/>
            <a:ext cx="2962080" cy="3514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uppieren 23"/>
          <p:cNvGrpSpPr/>
          <p:nvPr/>
        </p:nvGrpSpPr>
        <p:grpSpPr>
          <a:xfrm>
            <a:off x="2109960" y="990720"/>
            <a:ext cx="699480" cy="976320"/>
            <a:chOff x="2109960" y="990720"/>
            <a:chExt cx="699480" cy="976320"/>
          </a:xfrm>
        </p:grpSpPr>
        <p:pic>
          <p:nvPicPr>
            <p:cNvPr id="136" name="Picture 3" descr="\\Diskstation\PresentationLoad\PRESENTATIONLOAD\4_PRODUKTION\3_CHARTS &amp; DIAGRAMME\Sortieren\paper scraps\pin\pin_rot.png"/>
            <p:cNvPicPr/>
            <p:nvPr/>
          </p:nvPicPr>
          <p:blipFill>
            <a:blip r:embed="rId3"/>
            <a:srcRect l="22310" t="0" r="46844" b="37976"/>
            <a:stretch/>
          </p:blipFill>
          <p:spPr>
            <a:xfrm flipH="1">
              <a:off x="2196360" y="990720"/>
              <a:ext cx="613080" cy="92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Ellipse 15"/>
            <p:cNvGrpSpPr/>
            <p:nvPr/>
          </p:nvGrpSpPr>
          <p:grpSpPr>
            <a:xfrm>
              <a:off x="2109960" y="1634760"/>
              <a:ext cx="501120" cy="332280"/>
              <a:chOff x="2109960" y="1634760"/>
              <a:chExt cx="501120" cy="332280"/>
            </a:xfrm>
          </p:grpSpPr>
          <p:pic>
            <p:nvPicPr>
              <p:cNvPr id="138" name="Ellips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109960" y="1634760"/>
                <a:ext cx="501120" cy="33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2188440" y="1688760"/>
                <a:ext cx="34704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0" name="Picture 4" descr="\\Diskstation\PresentationLoad\PRESENTATIONLOAD\4_PRODUKTION\3_CHARTS &amp; DIAGRAMME\Sortieren\paper scraps\scraps\scraps-13.emf"/>
          <p:cNvPicPr/>
          <p:nvPr/>
        </p:nvPicPr>
        <p:blipFill>
          <a:blip r:embed="rId5"/>
          <a:stretch/>
        </p:blipFill>
        <p:spPr>
          <a:xfrm>
            <a:off x="5587920" y="1743120"/>
            <a:ext cx="2351160" cy="2813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7f7f7f"/>
            </a:outerShdw>
          </a:effectLst>
        </p:spPr>
      </p:pic>
      <p:grpSp>
        <p:nvGrpSpPr>
          <p:cNvPr id="141" name="Gruppieren 24"/>
          <p:cNvGrpSpPr/>
          <p:nvPr/>
        </p:nvGrpSpPr>
        <p:grpSpPr>
          <a:xfrm>
            <a:off x="6681960" y="1440000"/>
            <a:ext cx="671400" cy="947520"/>
            <a:chOff x="6681960" y="1440000"/>
            <a:chExt cx="671400" cy="947520"/>
          </a:xfrm>
        </p:grpSpPr>
        <p:pic>
          <p:nvPicPr>
            <p:cNvPr id="142" name="Picture 3" descr="\\Diskstation\PresentationLoad\PRESENTATIONLOAD\4_PRODUKTION\3_CHARTS &amp; DIAGRAMME\Sortieren\paper scraps\pin\pin_rot.png"/>
            <p:cNvPicPr/>
            <p:nvPr/>
          </p:nvPicPr>
          <p:blipFill>
            <a:blip r:embed="rId6"/>
            <a:srcRect l="22310" t="0" r="46844" b="37976"/>
            <a:stretch/>
          </p:blipFill>
          <p:spPr>
            <a:xfrm flipH="1">
              <a:off x="6739920" y="1440000"/>
              <a:ext cx="613440" cy="92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3" name="Ellipse 18"/>
            <p:cNvGrpSpPr/>
            <p:nvPr/>
          </p:nvGrpSpPr>
          <p:grpSpPr>
            <a:xfrm>
              <a:off x="6681960" y="2055240"/>
              <a:ext cx="501120" cy="332280"/>
              <a:chOff x="6681960" y="2055240"/>
              <a:chExt cx="501120" cy="332280"/>
            </a:xfrm>
          </p:grpSpPr>
          <p:pic>
            <p:nvPicPr>
              <p:cNvPr id="144" name="Ellipse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6681960" y="2055240"/>
                <a:ext cx="501120" cy="33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6760440" y="2109240"/>
                <a:ext cx="34704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Rectangle 7"/>
          <p:cNvSpPr/>
          <p:nvPr/>
        </p:nvSpPr>
        <p:spPr>
          <a:xfrm>
            <a:off x="29520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  <a:ea typeface="宋体"/>
              </a:rPr>
              <a:t>Notes - 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95200" y="541980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  <a:ea typeface="宋体"/>
              </a:rPr>
              <a:t>Placeholder for your own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Grafik 22" descr="schatten.png"/>
          <p:cNvPicPr/>
          <p:nvPr/>
        </p:nvPicPr>
        <p:blipFill>
          <a:blip r:embed="rId8"/>
          <a:stretch/>
        </p:blipFill>
        <p:spPr>
          <a:xfrm>
            <a:off x="0" y="878040"/>
            <a:ext cx="9144000" cy="1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de-DE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de-DE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de-DE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de-DE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de-DE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de-DE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de-DE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de-DE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de-DE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de-DE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de-DE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de-DE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de-DE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de-DE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de-DE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de-DE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de-DE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de-DE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de-DE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de-DE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de-DE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4F37-68C2-4CD5-A290-63D5A763FD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2:04:5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1:29:44Z</dcterms:modified>
  <cp:revision>10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