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0DC-DCFF-446A-98F9-E606CAC0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3B2-B224-45A5-97D5-CD66060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805-443C-4066-80EC-B390FD30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569-A0F5-4761-ABCF-F4E85CD4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106-F753-4E12-AA24-7F85C6B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41B-B04D-488D-A2C8-FD9BA37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133-2B92-49AC-9667-1DCBE92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14C-D913-4FD7-A777-96B14C4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915-84B6-47F3-AAFB-6E8FB6C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525-145A-4591-ACFB-CA6CA63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FFF-412F-4BEE-8485-CC425F7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312-E98C-4EA7-BD49-A2572E2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A115-5A50-4DF4-A4A5-FED1E4205E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C8B3-571E-497F-9C51-02C54B8F57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5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6600" cy="588024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5"/>
          <p:cNvSpPr/>
          <p:nvPr/>
        </p:nvSpPr>
        <p:spPr>
          <a:xfrm>
            <a:off x="4211640" y="220500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588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B45-B1DD-4638-A484-28F76708A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29:07Z</dcterms:modified>
  <cp:revision>9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