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1" i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1" i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1" i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1" i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1" i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1" i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1" i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1" i="1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1" i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1" i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-412920" y="-27000"/>
            <a:ext cx="11017440" cy="74692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-378000" y="4184640"/>
            <a:ext cx="1019196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396720" y="7102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i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2421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标签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下载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6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2:5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26:11Z</dcterms:modified>
  <cp:revision>34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