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8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7.gif" ContentType="image/gif"/>
  <Override PartName="/ppt/media/image15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E50-AC29-47E5-8A8A-98E9DB08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852-C0B9-4065-91EE-B6C3C37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2C5-80A9-4C97-9926-6D25FE6B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E19-79A1-4A76-BADB-ED17F8F0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AF3-7BAD-4893-B39B-A683E73A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146-4D3A-4084-84B1-6AD09E3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D29-DCDD-43BD-90B8-174D383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8A9-D972-43CB-A4FF-F7C5546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8EA-7ADE-4F6F-AAF5-6AA12E1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B7D-95A3-4943-A3D9-7A2E405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1C2-118F-4D95-89D8-7AA0332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A76-9BF5-4F1A-9895-7F15CD9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2092-2CBA-4665-9201-627D28E7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57600" y="5600880"/>
            <a:ext cx="3657600" cy="2514600"/>
            <a:chOff x="-3657600" y="5600880"/>
            <a:chExt cx="3657600" cy="2514600"/>
          </a:xfrm>
        </p:grpSpPr>
        <p:sp>
          <p:nvSpPr>
            <p:cNvPr id="42" name=""/>
            <p:cNvSpPr/>
            <p:nvPr/>
          </p:nvSpPr>
          <p:spPr>
            <a:xfrm flipV="1">
              <a:off x="-1905120" y="5600880"/>
              <a:ext cx="1905120" cy="129528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>
              <a:lum bright="28000"/>
            </a:blip>
            <a:stretch/>
          </p:blipFill>
          <p:spPr>
            <a:xfrm>
              <a:off x="-3657600" y="6677280"/>
              <a:ext cx="2048040" cy="14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-3657600" y="6858000"/>
            <a:ext cx="3657600" cy="2514600"/>
            <a:chOff x="-3657600" y="6858000"/>
            <a:chExt cx="3657600" cy="2514600"/>
          </a:xfrm>
        </p:grpSpPr>
        <p:sp>
          <p:nvSpPr>
            <p:cNvPr id="45" name=""/>
            <p:cNvSpPr/>
            <p:nvPr/>
          </p:nvSpPr>
          <p:spPr>
            <a:xfrm flipV="1">
              <a:off x="-1905120" y="6858000"/>
              <a:ext cx="1905120" cy="129528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>
              <a:lum bright="28000"/>
            </a:blip>
            <a:stretch/>
          </p:blipFill>
          <p:spPr>
            <a:xfrm>
              <a:off x="-3657600" y="7934400"/>
              <a:ext cx="2048040" cy="14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2860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4200" y="228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悲伤感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3064E-006 L 1.23333 -0.9988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68208E-006 L 1.15833 -1.09318 E">
                                      <p:cBhvr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400" y="175248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命运靠自己 掌握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71800" y="411480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一个寂寞的我。。。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426708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面对 死亡 我无言以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5562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981000">
            <a:off x="3428640" y="106668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念！另一边世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09680" y="3733920"/>
            <a:ext cx="4496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分手可能是一种解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19320" y="2819520"/>
            <a:ext cx="3886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明天会更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AF6-10AF-4C6B-8B6D-A8EDF3E349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514600"/>
            <a:ext cx="4191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1900" spc="-1" strike="noStrike">
                <a:solidFill>
                  <a:srgbClr val="ffffff"/>
                </a:solidFill>
                <a:latin typeface="黑体"/>
                <a:ea typeface="黑体"/>
              </a:rPr>
              <a:t>有太多太多的东西不想放弃啊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1900" spc="-1" strike="noStrike">
                <a:solidFill>
                  <a:srgbClr val="ffffff"/>
                </a:solidFill>
                <a:latin typeface="黑体"/>
                <a:ea typeface="黑体"/>
              </a:rPr>
              <a:t>有太多太多的东西想拥有啊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1900" spc="-1" strike="noStrike">
                <a:solidFill>
                  <a:srgbClr val="ffffff"/>
                </a:solidFill>
                <a:latin typeface="黑体"/>
                <a:ea typeface="黑体"/>
              </a:rPr>
              <a:t>有太多太多的东西想抛弃啊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5638680" cy="331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905120"/>
            <a:ext cx="4114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我的另一半何时会出现呢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0" y="-533520"/>
            <a:ext cx="1295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期待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7 0.08301 C -0.22865 0.25688 -0.37292 0.43099 -0.45729 0.51214 C -0.54167 0.5933 -0.56684 0.55862 -0.59062 0.56925 C -0.61441 0.57989 -0.60729 0.57758 -0.60017 0.5755 E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486400" y="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回忆从前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429000" y="1371600"/>
            <a:ext cx="20574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遇见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525780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寂寞似乎永远的伴随着我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7:19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03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f60f000000000001024140</vt:lpwstr>
  </property>
  <property fmtid="{D5CDD505-2E9C-101B-9397-08002B2CF9AE}" pid="4" name="Version">
    <vt:r8>1</vt:r8>
  </property>
</Properties>
</file>