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4F9-D754-411F-B139-F51E8935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6B9-7392-4482-B21F-82F30756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81B-7CE9-4EF2-ABC6-46F5CB95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6B7-7D83-4330-8BBF-AD2A87C2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CE8-AAFB-432B-A343-8BCC99AA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898-03DD-4485-A55A-05251B7F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A8B-A801-4C30-B6D0-A35D08B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3CA-8693-441F-BDDF-71081D58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92F-3102-494A-88C1-5F24B16A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46C-5491-4F6C-A3E9-EC13B762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671-985F-4678-8520-3D3443F6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972-DF47-4449-919B-0179E3C8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85AC-509D-49F8-BA83-4D20A740A2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AFE7-0389-4FEF-8A8B-805A41FEFA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3"/>
          <p:cNvSpPr/>
          <p:nvPr/>
        </p:nvSpPr>
        <p:spPr>
          <a:xfrm>
            <a:off x="0" y="4329000"/>
            <a:ext cx="9144000" cy="25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rcRect l="8532" t="25999" r="2037" b="10873"/>
          <a:stretch/>
        </p:blipFill>
        <p:spPr>
          <a:xfrm>
            <a:off x="1187280" y="-27000"/>
            <a:ext cx="7929720" cy="43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五边形 1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7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3800" y="4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表彰大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内容占位符 3" descr=""/>
          <p:cNvPicPr/>
          <p:nvPr/>
        </p:nvPicPr>
        <p:blipFill>
          <a:blip r:embed="rId1"/>
          <a:srcRect l="21848" t="0" r="9654" b="0"/>
          <a:stretch/>
        </p:blipFill>
        <p:spPr>
          <a:xfrm>
            <a:off x="0" y="0"/>
            <a:ext cx="9144000" cy="6986520"/>
          </a:xfrm>
          <a:prstGeom prst="rect">
            <a:avLst/>
          </a:prstGeom>
          <a:ln w="0">
            <a:noFill/>
          </a:ln>
        </p:spPr>
      </p:pic>
      <p:sp>
        <p:nvSpPr>
          <p:cNvPr id="48" name="副标题 2"/>
          <p:cNvSpPr/>
          <p:nvPr/>
        </p:nvSpPr>
        <p:spPr>
          <a:xfrm>
            <a:off x="641520" y="105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2012</a:t>
            </a:r>
            <a:r>
              <a:rPr b="0" lang="zh-CN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年度评优颁奖大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五边形 54"/>
          <p:cNvSpPr/>
          <p:nvPr/>
        </p:nvSpPr>
        <p:spPr>
          <a:xfrm>
            <a:off x="7524720" y="2805120"/>
            <a:ext cx="105732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38606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2781360"/>
            <a:ext cx="568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2012</a:t>
            </a:r>
            <a:r>
              <a:rPr b="0" lang="zh-CN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年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评优颁奖大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rcRect l="17091" t="0" r="16825" b="5286"/>
          <a:stretch/>
        </p:blipFill>
        <p:spPr>
          <a:xfrm>
            <a:off x="5759280" y="0"/>
            <a:ext cx="3384720" cy="5600880"/>
          </a:xfrm>
          <a:prstGeom prst="rect">
            <a:avLst/>
          </a:prstGeom>
          <a:ln w="0">
            <a:noFill/>
          </a:ln>
        </p:spPr>
      </p:pic>
      <p:sp>
        <p:nvSpPr>
          <p:cNvPr id="54" name="正五边形 56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D91-A7F9-4684-8FD7-0822B6AADF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"/>
          <p:cNvPicPr/>
          <p:nvPr/>
        </p:nvPicPr>
        <p:blipFill>
          <a:blip r:embed="rId1"/>
          <a:srcRect l="0" t="15827" r="22586" b="6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副标题 2"/>
          <p:cNvSpPr/>
          <p:nvPr/>
        </p:nvSpPr>
        <p:spPr>
          <a:xfrm>
            <a:off x="-54000" y="2852640"/>
            <a:ext cx="4194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2012</a:t>
            </a:r>
            <a:r>
              <a:rPr b="1" lang="zh-CN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年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评优颁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大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五边形 54"/>
          <p:cNvSpPr/>
          <p:nvPr/>
        </p:nvSpPr>
        <p:spPr>
          <a:xfrm>
            <a:off x="6012000" y="3645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3D7-7299-432A-8859-AB348918F5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2:2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9:12:2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