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 flipH="1">
            <a:off x="7615080" y="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0120" y="5757840"/>
            <a:ext cx="1523880" cy="110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0791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  <a:ea typeface="宋体"/>
              </a:rPr>
              <a:t>#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478480" y="0"/>
            <a:ext cx="3665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9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946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aster PowerPoint Templat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5684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66"/>
                </a:solidFill>
                <a:latin typeface="Arial"/>
              </a:rPr>
              <a:t>Presenter Name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28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97600" y="18900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Times New Roman"/>
              </a:rPr>
              <a:t>彩虹糖果</a:t>
            </a:r>
            <a:r>
              <a:rPr b="0" lang="en-US" sz="4000" spc="-1" strike="noStrike">
                <a:solidFill>
                  <a:srgbClr val="cc0066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cc0066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Two column bullet points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s go in here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And also in here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of a tabl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40000" y="1916280"/>
          <a:ext cx="7080120" cy="3278160"/>
        </p:xfrm>
        <a:graphic>
          <a:graphicData uri="http://schemas.openxmlformats.org/drawingml/2006/table">
            <a:tbl>
              <a:tblPr/>
              <a:tblGrid>
                <a:gridCol w="3540240"/>
                <a:gridCol w="3539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Data</a:t>
                      </a: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4572000" y="5624640"/>
            <a:ext cx="38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PowerPoint does not allow have nice default tables – but you can cut and paste this one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Sample Graph (3 colours)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873080"/>
            <a:ext cx="792000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Picture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0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32360" y="1952640"/>
            <a:ext cx="2093760" cy="3529080"/>
          </a:xfrm>
          <a:prstGeom prst="rect">
            <a:avLst/>
          </a:prstGeom>
          <a:ln w="38160">
            <a:solidFill>
              <a:srgbClr val="663366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s of default styles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131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0033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1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180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7480" y="2146320"/>
          <a:ext cx="2994120" cy="1467000"/>
        </p:xfrm>
        <a:graphic>
          <a:graphicData uri="http://schemas.openxmlformats.org/drawingml/2006/table">
            <a:tbl>
              <a:tblPr/>
              <a:tblGrid>
                <a:gridCol w="1496880"/>
                <a:gridCol w="1497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cc0066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13680">
                      <a:solidFill>
                        <a:srgbClr val="cc0066"/>
                      </a:solidFill>
                    </a:lnT>
                    <a:lnB w="5760">
                      <a:solidFill>
                        <a:srgbClr val="cc0066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66"/>
                      </a:solidFill>
                    </a:lnL>
                    <a:lnR w="576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cc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66"/>
                      </a:solidFill>
                    </a:lnL>
                    <a:lnR w="13680">
                      <a:solidFill>
                        <a:srgbClr val="cc0066"/>
                      </a:solidFill>
                    </a:lnR>
                    <a:lnT w="5760">
                      <a:solidFill>
                        <a:srgbClr val="cc0066"/>
                      </a:solidFill>
                    </a:lnT>
                    <a:lnB w="13680">
                      <a:solidFill>
                        <a:srgbClr val="cc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448000" y="4568760"/>
            <a:ext cx="223200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4000" y="4568760"/>
            <a:ext cx="2232000" cy="136836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66"/>
            </a:solidFill>
            <a:miter/>
          </a:ln>
          <a:effectLst>
            <a:outerShdw dist="107932" dir="2700000" blurRad="0" rotWithShape="0">
              <a:srgbClr val="99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Colour schem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solidFill>
            <a:srgbClr val="fffffe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30280" y="3178080"/>
            <a:ext cx="827280" cy="61128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6680" y="3178080"/>
            <a:ext cx="826920" cy="61128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5360" y="3178080"/>
            <a:ext cx="827280" cy="61128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3840" y="3178080"/>
            <a:ext cx="827280" cy="611280"/>
          </a:xfrm>
          <a:prstGeom prst="rect">
            <a:avLst/>
          </a:prstGeom>
          <a:solidFill>
            <a:srgbClr val="6633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2320" y="3178080"/>
            <a:ext cx="826920" cy="611280"/>
          </a:xfrm>
          <a:prstGeom prst="rect">
            <a:avLst/>
          </a:prstGeom>
          <a:solidFill>
            <a:srgbClr val="cc00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42240" y="3178080"/>
            <a:ext cx="826920" cy="611280"/>
          </a:xfrm>
          <a:prstGeom prst="rect">
            <a:avLst/>
          </a:prstGeom>
          <a:solidFill>
            <a:srgbClr val="ff01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7240" y="3178080"/>
            <a:ext cx="826920" cy="611280"/>
          </a:xfrm>
          <a:prstGeom prst="rect">
            <a:avLst/>
          </a:prstGeom>
          <a:solidFill>
            <a:srgbClr val="cc00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800" y="31780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000" y="25383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62320" y="24163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ext &amp;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ine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12000" y="25383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hadow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92880" y="24163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77920" y="2538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ills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5440" y="2538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nt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24163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ccent &amp;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2414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ollowed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yperlink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548172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33"/>
                </a:solidFill>
                <a:uFillTx/>
                <a:latin typeface="Times New Roman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cc0066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66"/>
                </a:solidFill>
                <a:latin typeface="Arial"/>
              </a:rPr>
              <a:t>Example Bullet Point Slide</a:t>
            </a:r>
            <a:endParaRPr b="0" lang="en-US" sz="44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Arial"/>
              </a:rPr>
              <a:t>You can find many more free PowerPoint templates on the Presentation Helper</a:t>
            </a:r>
            <a:endParaRPr b="0" lang="en-US" sz="28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1:00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10:12:53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7a01000000000001024140</vt:lpwstr>
  </property>
</Properties>
</file>