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1D2-5A18-435E-A9BF-5F2389B2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E6A-25A0-49A4-B4C7-CFEE65F4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CFA2-DF22-4723-A2C3-C1D4578F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4EA6-38FF-4B18-8B3C-30F0AC35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8E5-7F84-4E7B-93C8-DCE866C0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B3D-E66F-4CA8-9573-5F445639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304-4D35-4043-9874-A26E5C93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5E6C-A316-4DCA-9CA0-5137757A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EFC-89B1-417D-93EE-4FFD6A8B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C4E-9584-4ACC-AEC9-D9199A86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07D-FEEE-4F81-AF48-66538A16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45C-FD30-4B8A-9C21-695468FA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CCC0-35D3-453A-8EE8-A2706ED308D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4D5D-F92B-45E2-8974-A4B62CF202E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6360" y="476280"/>
            <a:ext cx="919008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矩形 25"/>
          <p:cNvSpPr/>
          <p:nvPr/>
        </p:nvSpPr>
        <p:spPr>
          <a:xfrm>
            <a:off x="6480" y="4149720"/>
            <a:ext cx="9144000" cy="18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26"/>
          <p:cNvSpPr/>
          <p:nvPr/>
        </p:nvSpPr>
        <p:spPr>
          <a:xfrm>
            <a:off x="4651200" y="1289160"/>
            <a:ext cx="0" cy="4498920"/>
          </a:xfrm>
          <a:prstGeom prst="line">
            <a:avLst/>
          </a:prstGeom>
          <a:ln w="9360">
            <a:solidFill>
              <a:srgbClr val="d8d8d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277920" y="1197000"/>
            <a:ext cx="4206600" cy="552600"/>
          </a:xfrm>
          <a:prstGeom prst="rect">
            <a:avLst/>
          </a:prstGeom>
          <a:solidFill>
            <a:srgbClr val="ffc000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4753080" y="1197000"/>
            <a:ext cx="4140000" cy="552600"/>
          </a:xfrm>
          <a:prstGeom prst="rect">
            <a:avLst/>
          </a:prstGeom>
          <a:solidFill>
            <a:srgbClr val="43bbe1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表 9" descr=""/>
          <p:cNvPicPr/>
          <p:nvPr/>
        </p:nvPicPr>
        <p:blipFill>
          <a:blip r:embed="rId2"/>
          <a:stretch/>
        </p:blipFill>
        <p:spPr>
          <a:xfrm>
            <a:off x="-181080" y="2563920"/>
            <a:ext cx="4708800" cy="3458880"/>
          </a:xfrm>
          <a:prstGeom prst="rect">
            <a:avLst/>
          </a:prstGeom>
          <a:ln w="0">
            <a:noFill/>
          </a:ln>
        </p:spPr>
      </p:pic>
      <p:pic>
        <p:nvPicPr>
          <p:cNvPr id="47" name="图表 12" descr=""/>
          <p:cNvPicPr/>
          <p:nvPr/>
        </p:nvPicPr>
        <p:blipFill>
          <a:blip r:embed="rId3"/>
          <a:stretch/>
        </p:blipFill>
        <p:spPr>
          <a:xfrm>
            <a:off x="4894200" y="2924280"/>
            <a:ext cx="3857760" cy="338436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4500720" y="3549600"/>
            <a:ext cx="461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16f70"/>
                </a:solidFill>
                <a:latin typeface="微软雅黑"/>
                <a:ea typeface="微软雅黑"/>
              </a:rPr>
              <a:t>季度达标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219640" y="2084400"/>
            <a:ext cx="2190960" cy="2338920"/>
          </a:xfrm>
          <a:prstGeom prst="wedgeRoundRectCallout">
            <a:avLst>
              <a:gd name="adj1" fmla="val -20004"/>
              <a:gd name="adj2" fmla="val 18694"/>
              <a:gd name="adj3" fmla="val 16667"/>
            </a:avLst>
          </a:prstGeom>
          <a:solidFill>
            <a:srgbClr val="43bbe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平均得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83.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1038240" y="2008080"/>
            <a:ext cx="2158920" cy="2338920"/>
          </a:xfrm>
          <a:prstGeom prst="wedgeRoundRectCallout">
            <a:avLst>
              <a:gd name="adj1" fmla="val -20009"/>
              <a:gd name="adj2" fmla="val 18694"/>
              <a:gd name="adj3" fmla="val 16667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平均得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82.7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3440" y="40464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对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B4B9-FB28-4187-AAF8-2F0F4C8BB1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0:20:57Z</dcterms:modified>
  <cp:revision>10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